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DA85-0571-419C-9C77-D2C8B2039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16EB-5DE7-4233-AA21-3FCCF0E82A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F22A-EABD-4BB3-9156-0C8EF7603A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1AAC-914E-4169-B6A8-0E653707C4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A29-CEB8-472C-84FA-CAA8575C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ECF-E213-4E6E-874D-FEB431B0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00C-88FD-4F1A-97B1-E4367C11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9CD-D2A8-4B6E-B2E4-00B4D4CE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A97-503C-4E4E-9E95-59B00D89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907-B3C9-48E5-99A9-181A88EF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B65-C48A-4D1C-89BE-ADCDEFBD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4FA-53A9-4576-807A-70BEE730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BD9-AABD-401A-88F5-F1ACEFBA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5CC-5FFB-4D18-99D0-B1542C7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C14-E59F-4676-9715-E1CBB508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92B-DE11-4FB5-A571-FB705173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499A-FF6E-4793-8396-80EA10DC81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373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ahoma"/>
              </a:rPr>
              <a:t>Во владениях королевы статистики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1640" y="620280"/>
            <a:ext cx="67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Tahoma"/>
              </a:rPr>
              <a:t>Размах и центральные тенденции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Размах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(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R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ри организации питания необходимо учитывать разницу энергопотребления отдыхающих различных возраст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одростки – 2400кКал/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Юноши – 2700кКал/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Мужчины среднего возраста – 2500кКал/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Женщины среднего возраста – 2100кКал/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Пожилые люди – 1600кКал/де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  1600, 2100, 2400, 2500, 27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2700 – 1600 = 1100 кКал/де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зница в энергопотреблении 1100кКал/день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j0240719"/>
          <p:cNvPicPr/>
          <p:nvPr/>
        </p:nvPicPr>
        <p:blipFill>
          <a:blip r:embed="rId1"/>
          <a:stretch/>
        </p:blipFill>
        <p:spPr>
          <a:xfrm>
            <a:off x="7524720" y="4437000"/>
            <a:ext cx="1438200" cy="2259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0" y="33336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23104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В книгах по статистике моду, медиану и среднее арифметическое объединяют одним термином – </a:t>
            </a:r>
            <a:r>
              <a:rPr b="0" i="1" lang="ru-RU" sz="4000" spc="-1" strike="noStrike">
                <a:solidFill>
                  <a:srgbClr val="ff3300"/>
                </a:solidFill>
                <a:latin typeface="Tahoma"/>
              </a:rPr>
              <a:t>меры центральной тенденции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( или, короче, </a:t>
            </a:r>
            <a:r>
              <a:rPr b="0" i="1" lang="ru-RU" sz="4000" spc="-1" strike="noStrike">
                <a:solidFill>
                  <a:srgbClr val="ff3300"/>
                </a:solidFill>
                <a:latin typeface="Tahoma"/>
              </a:rPr>
              <a:t>центральные тенденции</a:t>
            </a:r>
            <a:r>
              <a:rPr b="0" i="1" lang="ru-RU" sz="4000" spc="-1" strike="noStrike">
                <a:solidFill>
                  <a:srgbClr val="ffff66"/>
                </a:solidFill>
                <a:latin typeface="Tahoma"/>
              </a:rPr>
              <a:t>).</a:t>
            </a:r>
            <a:r>
              <a:rPr b="0" lang="ru-RU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4" descr="интеллектуал"/>
          <p:cNvPicPr/>
          <p:nvPr/>
        </p:nvPicPr>
        <p:blipFill>
          <a:blip r:embed="rId1"/>
          <a:stretch/>
        </p:blipFill>
        <p:spPr>
          <a:xfrm>
            <a:off x="6300720" y="4941720"/>
            <a:ext cx="2016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91636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полнит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Коля, Петя, Саша и Антон ловили крабов. Коля поймал 10 крабов, Петя – 5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аша – 9, а Антон поймал лягушку. Сколько в среднем крабов поймал каждый мальчи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826920" y="4653000"/>
            <a:ext cx="734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(5 + 9 + 10 + 0) : 4 =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6 крабов в среднем поймал каждый мальч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2" descr="ученики"/>
          <p:cNvPicPr/>
          <p:nvPr/>
        </p:nvPicPr>
        <p:blipFill>
          <a:blip r:embed="rId1"/>
          <a:stretch/>
        </p:blipFill>
        <p:spPr>
          <a:xfrm>
            <a:off x="900000" y="33336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91636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полнит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2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2. Обуви какого размера должно быть больше в магазине, если дана выборка размеров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39, 41, 35, 36, 38, 40,38, 42, 3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826920" y="400536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35, 36, 37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3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3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39, 40, 41, 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Больше должно быть обуви 38 разм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7" descr="учат"/>
          <p:cNvPicPr/>
          <p:nvPr/>
        </p:nvPicPr>
        <p:blipFill>
          <a:blip r:embed="rId1"/>
          <a:stretch/>
        </p:blipFill>
        <p:spPr>
          <a:xfrm>
            <a:off x="684360" y="260280"/>
            <a:ext cx="154116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291636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полнит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3.      Найди медиану числового ря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77, 83, 75, 90, 69, 73, 85, 91, 79, 7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26920" y="4005360"/>
            <a:ext cx="77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69, 73, 75, 75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77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79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83, 85, 90, 9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М</a:t>
            </a: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е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=</a:t>
            </a:r>
            <a:r>
              <a:rPr b="0" lang="ru-RU" sz="12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(77 + 79) : 2 = 7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10" descr="ученики"/>
          <p:cNvPicPr/>
          <p:nvPr/>
        </p:nvPicPr>
        <p:blipFill>
          <a:blip r:embed="rId1"/>
          <a:stretch/>
        </p:blipFill>
        <p:spPr>
          <a:xfrm>
            <a:off x="684360" y="476280"/>
            <a:ext cx="136656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916360" y="40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полнит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16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4.  Найди размах числового ря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22, 7, 18, 6, 13, 29, 34, 1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4005360"/>
            <a:ext cx="770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 6, 7, 13, 16, 18, 22, 29, 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 =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 34 – 6 = 2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7" descr="учат"/>
          <p:cNvPicPr/>
          <p:nvPr/>
        </p:nvPicPr>
        <p:blipFill>
          <a:blip r:embed="rId1"/>
          <a:stretch/>
        </p:blipFill>
        <p:spPr>
          <a:xfrm>
            <a:off x="755640" y="333360"/>
            <a:ext cx="16556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татистические величи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19700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Среднее арифметическ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– 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умма величин деленная на их количе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Мо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чаще всех повторяющаяся велич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Медиана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ередина упорядоченного ряда велич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Разм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азность между наибольшей и наименьше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ариант 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Найти среднее арифметическое, размах, моду, медиану ряда чисел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32, 26, 18, 26, 15, 2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ариант 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Найти среднее арифметическое, размах, моду, медиану ряда чисел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16, 26, 16, 13, 20, 1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Проверь себя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ариант 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Ср. арифм. – 2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R = 1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М</a:t>
                      </a: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о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= 2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М</a:t>
                      </a: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е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= 23,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ариант 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Ср. арифм. – 18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R =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М</a:t>
                      </a: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о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= 1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М</a:t>
                      </a: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е  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Tahoma"/>
                        </a:rPr>
                        <a:t>= 16,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Задания ГИ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765000"/>
            <a:ext cx="854064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1.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Имеется 5 бочек с водой объёмом 42, 58, 64, 62, 74 литров соответственно. Насколько отличается среднее арифметическое этого набора чисел от его медиан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Записан вес (в кг) пяти человек: 65, 70, 84, 68, 120. Выясните, насколько среднее арифметическое этих чисел больше их медиан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Записано количество присутствующих работников офиса в течении недели: 43; 39; 41; 40; х. Найдите х, если известно, что медиана этого набора совпадает с его средним арифметическим и  х </a:t>
            </a:r>
            <a:r>
              <a:rPr b="0" lang="en-US" sz="2000" spc="-1" strike="noStrike" u="sng">
                <a:solidFill>
                  <a:srgbClr val="660033"/>
                </a:solidFill>
                <a:uFillTx/>
                <a:latin typeface="Tahoma"/>
              </a:rPr>
              <a:t>&lt;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40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           </a:t>
            </a:r>
            <a:r>
              <a:rPr b="0" lang="ru-RU" sz="20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ru-RU" sz="2000" spc="-1" strike="noStrike">
                <a:solidFill>
                  <a:srgbClr val="660033"/>
                </a:solidFill>
                <a:latin typeface="Tahoma"/>
              </a:rPr>
              <a:t> В ходе наблюдения за изменением температуры в течении суток были выписаны значения нескольких замеров: -5; -2; 0; 4; 1; -2; -6. Насколько медиана полученного набора чисел отличается от его моды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17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533320"/>
            <a:ext cx="50166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татистика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– раздел математики, который помогает накапливать и анализировать информацию и предсказывать вероятность различных событ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4" descr="j0174195"/>
          <p:cNvPicPr/>
          <p:nvPr/>
        </p:nvPicPr>
        <p:blipFill>
          <a:blip r:embed="rId1"/>
          <a:stretch/>
        </p:blipFill>
        <p:spPr>
          <a:xfrm>
            <a:off x="5794200" y="2467080"/>
            <a:ext cx="2664000" cy="329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4360" y="260280"/>
            <a:ext cx="828036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На диаграмме показано распредел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итательных веществ в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ивочных сухарях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пределите по диаграмме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одержание каких веществ преобладает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5003640" y="2349360"/>
          <a:ext cx="3888000" cy="34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2349360"/>
                    <a:ext cx="388800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5"/>
          <p:cNvSpPr/>
          <p:nvPr/>
        </p:nvSpPr>
        <p:spPr>
          <a:xfrm>
            <a:off x="900000" y="2205000"/>
            <a:ext cx="2952720" cy="466920"/>
          </a:xfrm>
          <a:custGeom>
            <a:avLst/>
            <a:gdLst>
              <a:gd name="textAreaLeft" fmla="*/ 30240 w 2952720"/>
              <a:gd name="textAreaRight" fmla="*/ 2922480 w 2952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136506" h="21600">
                <a:moveTo>
                  <a:pt x="0" y="0"/>
                </a:moveTo>
                <a:lnTo>
                  <a:pt x="136506" y="0"/>
                </a:lnTo>
                <a:lnTo>
                  <a:pt x="136506" y="21600"/>
                </a:lnTo>
                <a:lnTo>
                  <a:pt x="0" y="21600"/>
                </a:lnTo>
                <a:close/>
              </a:path>
              <a:path fill="lightenLess" w="136506" h="21600">
                <a:moveTo>
                  <a:pt x="0" y="0"/>
                </a:moveTo>
                <a:lnTo>
                  <a:pt x="136506" y="0"/>
                </a:lnTo>
                <a:lnTo>
                  <a:pt x="135106" y="1400"/>
                </a:lnTo>
                <a:lnTo>
                  <a:pt x="1400" y="1400"/>
                </a:lnTo>
                <a:close/>
              </a:path>
              <a:path fill="darken" w="136506" h="21600">
                <a:moveTo>
                  <a:pt x="136506" y="0"/>
                </a:moveTo>
                <a:lnTo>
                  <a:pt x="136506" y="21600"/>
                </a:lnTo>
                <a:lnTo>
                  <a:pt x="135106" y="20200"/>
                </a:lnTo>
                <a:lnTo>
                  <a:pt x="135106" y="1400"/>
                </a:lnTo>
                <a:close/>
              </a:path>
              <a:path fill="darkenLess" w="136506" h="21600">
                <a:moveTo>
                  <a:pt x="136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06" y="20200"/>
                </a:lnTo>
                <a:close/>
              </a:path>
              <a:path fill="lighten" w="136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900000" y="3357720"/>
            <a:ext cx="2952720" cy="466560"/>
          </a:xfrm>
          <a:custGeom>
            <a:avLst/>
            <a:gdLst>
              <a:gd name="textAreaLeft" fmla="*/ 30240 w 2952720"/>
              <a:gd name="textAreaRight" fmla="*/ 2922480 w 295272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136611" h="21600">
                <a:moveTo>
                  <a:pt x="0" y="0"/>
                </a:moveTo>
                <a:lnTo>
                  <a:pt x="136611" y="0"/>
                </a:lnTo>
                <a:lnTo>
                  <a:pt x="136611" y="21600"/>
                </a:lnTo>
                <a:lnTo>
                  <a:pt x="0" y="21600"/>
                </a:lnTo>
                <a:close/>
              </a:path>
              <a:path fill="lightenLess" w="136611" h="21600">
                <a:moveTo>
                  <a:pt x="0" y="0"/>
                </a:moveTo>
                <a:lnTo>
                  <a:pt x="136611" y="0"/>
                </a:lnTo>
                <a:lnTo>
                  <a:pt x="135211" y="1400"/>
                </a:lnTo>
                <a:lnTo>
                  <a:pt x="1400" y="1400"/>
                </a:lnTo>
                <a:close/>
              </a:path>
              <a:path fill="darken" w="136611" h="21600">
                <a:moveTo>
                  <a:pt x="136611" y="0"/>
                </a:moveTo>
                <a:lnTo>
                  <a:pt x="136611" y="21600"/>
                </a:lnTo>
                <a:lnTo>
                  <a:pt x="135211" y="20200"/>
                </a:lnTo>
                <a:lnTo>
                  <a:pt x="135211" y="1400"/>
                </a:lnTo>
                <a:close/>
              </a:path>
              <a:path fill="darkenLess" w="136611" h="21600">
                <a:moveTo>
                  <a:pt x="136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211" y="20200"/>
                </a:lnTo>
                <a:close/>
              </a:path>
              <a:path fill="lighten" w="136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900000" y="4581360"/>
            <a:ext cx="2952720" cy="466920"/>
          </a:xfrm>
          <a:custGeom>
            <a:avLst/>
            <a:gdLst>
              <a:gd name="textAreaLeft" fmla="*/ 30240 w 2952720"/>
              <a:gd name="textAreaRight" fmla="*/ 2922480 w 295272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136506" h="21600">
                <a:moveTo>
                  <a:pt x="0" y="0"/>
                </a:moveTo>
                <a:lnTo>
                  <a:pt x="136506" y="0"/>
                </a:lnTo>
                <a:lnTo>
                  <a:pt x="136506" y="21600"/>
                </a:lnTo>
                <a:lnTo>
                  <a:pt x="0" y="21600"/>
                </a:lnTo>
                <a:close/>
              </a:path>
              <a:path fill="lightenLess" w="136506" h="21600">
                <a:moveTo>
                  <a:pt x="0" y="0"/>
                </a:moveTo>
                <a:lnTo>
                  <a:pt x="136506" y="0"/>
                </a:lnTo>
                <a:lnTo>
                  <a:pt x="135106" y="1400"/>
                </a:lnTo>
                <a:lnTo>
                  <a:pt x="1400" y="1400"/>
                </a:lnTo>
                <a:close/>
              </a:path>
              <a:path fill="darken" w="136506" h="21600">
                <a:moveTo>
                  <a:pt x="136506" y="0"/>
                </a:moveTo>
                <a:lnTo>
                  <a:pt x="136506" y="21600"/>
                </a:lnTo>
                <a:lnTo>
                  <a:pt x="135106" y="20200"/>
                </a:lnTo>
                <a:lnTo>
                  <a:pt x="135106" y="1400"/>
                </a:lnTo>
                <a:close/>
              </a:path>
              <a:path fill="darkenLess" w="136506" h="21600">
                <a:moveTo>
                  <a:pt x="136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06" y="20200"/>
                </a:lnTo>
                <a:close/>
              </a:path>
              <a:path fill="lighten" w="136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900000" y="5734080"/>
            <a:ext cx="2951280" cy="466560"/>
          </a:xfrm>
          <a:custGeom>
            <a:avLst/>
            <a:gdLst>
              <a:gd name="textAreaLeft" fmla="*/ 30240 w 2951280"/>
              <a:gd name="textAreaRight" fmla="*/ 2921040 w 2951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136545" h="21600">
                <a:moveTo>
                  <a:pt x="0" y="0"/>
                </a:moveTo>
                <a:lnTo>
                  <a:pt x="136545" y="0"/>
                </a:lnTo>
                <a:lnTo>
                  <a:pt x="136545" y="21600"/>
                </a:lnTo>
                <a:lnTo>
                  <a:pt x="0" y="21600"/>
                </a:lnTo>
                <a:close/>
              </a:path>
              <a:path fill="lightenLess" w="136545" h="21600">
                <a:moveTo>
                  <a:pt x="0" y="0"/>
                </a:moveTo>
                <a:lnTo>
                  <a:pt x="136545" y="0"/>
                </a:lnTo>
                <a:lnTo>
                  <a:pt x="135145" y="1400"/>
                </a:lnTo>
                <a:lnTo>
                  <a:pt x="1400" y="1400"/>
                </a:lnTo>
                <a:close/>
              </a:path>
              <a:path fill="darken" w="136545" h="21600">
                <a:moveTo>
                  <a:pt x="136545" y="0"/>
                </a:moveTo>
                <a:lnTo>
                  <a:pt x="136545" y="21600"/>
                </a:lnTo>
                <a:lnTo>
                  <a:pt x="135145" y="20200"/>
                </a:lnTo>
                <a:lnTo>
                  <a:pt x="135145" y="1400"/>
                </a:lnTo>
                <a:close/>
              </a:path>
              <a:path fill="darkenLess" w="136545" h="21600">
                <a:moveTo>
                  <a:pt x="136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45" y="20200"/>
                </a:lnTo>
                <a:close/>
              </a:path>
              <a:path fill="lighten" w="136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5f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948360" y="2565360"/>
            <a:ext cx="93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7524720" y="3213000"/>
            <a:ext cx="936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6084720" y="2637000"/>
            <a:ext cx="93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6300720" y="4653000"/>
            <a:ext cx="93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826920" y="6066000"/>
            <a:ext cx="7921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прочему относятся вода, витамины и минеральные веществ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4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6280200" y="5729400"/>
                <a:ext cx="1477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Rectangle 5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" name="Group 6"/>
          <p:cNvGrpSpPr/>
          <p:nvPr/>
        </p:nvGrpSpPr>
        <p:grpSpPr>
          <a:xfrm>
            <a:off x="2876400" y="1846440"/>
            <a:ext cx="3357720" cy="674280"/>
            <a:chOff x="2876400" y="1846440"/>
            <a:chExt cx="3357720" cy="674280"/>
          </a:xfrm>
        </p:grpSpPr>
        <p:sp>
          <p:nvSpPr>
            <p:cNvPr id="126" name="Rectangle 7"/>
            <p:cNvSpPr/>
            <p:nvPr/>
          </p:nvSpPr>
          <p:spPr>
            <a:xfrm>
              <a:off x="3348360" y="1847520"/>
              <a:ext cx="2518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Object 8"/>
                <p:cNvSpPr txBox="1"/>
                <p:nvPr/>
              </p:nvSpPr>
              <p:spPr>
                <a:xfrm>
                  <a:off x="2876400" y="1846440"/>
                  <a:ext cx="33577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Group 11"/>
          <p:cNvGrpSpPr/>
          <p:nvPr/>
        </p:nvGrpSpPr>
        <p:grpSpPr>
          <a:xfrm>
            <a:off x="2892600" y="2998800"/>
            <a:ext cx="3244680" cy="647640"/>
            <a:chOff x="2892600" y="2998800"/>
            <a:chExt cx="3244680" cy="647640"/>
          </a:xfrm>
        </p:grpSpPr>
        <p:sp>
          <p:nvSpPr>
            <p:cNvPr id="129" name="Rectangle 12"/>
            <p:cNvSpPr/>
            <p:nvPr/>
          </p:nvSpPr>
          <p:spPr>
            <a:xfrm>
              <a:off x="3132000" y="2998800"/>
              <a:ext cx="2880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Object 13"/>
                <p:cNvSpPr txBox="1"/>
                <p:nvPr/>
              </p:nvSpPr>
              <p:spPr>
                <a:xfrm>
                  <a:off x="2892600" y="2998800"/>
                  <a:ext cx="32446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Group 14"/>
          <p:cNvGrpSpPr/>
          <p:nvPr/>
        </p:nvGrpSpPr>
        <p:grpSpPr>
          <a:xfrm>
            <a:off x="3132000" y="4273560"/>
            <a:ext cx="3146400" cy="719280"/>
            <a:chOff x="3132000" y="4273560"/>
            <a:chExt cx="3146400" cy="719280"/>
          </a:xfrm>
        </p:grpSpPr>
        <p:sp>
          <p:nvSpPr>
            <p:cNvPr id="132" name="Rectangle 15"/>
            <p:cNvSpPr/>
            <p:nvPr/>
          </p:nvSpPr>
          <p:spPr>
            <a:xfrm>
              <a:off x="3132000" y="427356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Object 16"/>
                <p:cNvSpPr txBox="1"/>
                <p:nvPr/>
              </p:nvSpPr>
              <p:spPr>
                <a:xfrm>
                  <a:off x="3901680" y="4273560"/>
                  <a:ext cx="147636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" name="Line 17"/>
          <p:cNvSpPr/>
          <p:nvPr/>
        </p:nvSpPr>
        <p:spPr>
          <a:xfrm>
            <a:off x="755640" y="5405400"/>
            <a:ext cx="395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Oval 18"/>
          <p:cNvSpPr/>
          <p:nvPr/>
        </p:nvSpPr>
        <p:spPr>
          <a:xfrm>
            <a:off x="3780000" y="5334120"/>
            <a:ext cx="144360" cy="144360"/>
          </a:xfrm>
          <a:prstGeom prst="ellipse">
            <a:avLst/>
          </a:prstGeom>
          <a:solidFill>
            <a:srgbClr val="2b5481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971640" y="5262480"/>
            <a:ext cx="280836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4573080" y="490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635280" y="54450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24000" y="333360"/>
            <a:ext cx="85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50920" y="260280"/>
            <a:ext cx="8893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1197000"/>
            <a:ext cx="2809800" cy="57456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fffff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1141560" y="1700280"/>
            <a:ext cx="6629400" cy="760320"/>
            <a:chOff x="1141560" y="1700280"/>
            <a:chExt cx="6629400" cy="760320"/>
          </a:xfrm>
        </p:grpSpPr>
        <p:sp>
          <p:nvSpPr>
            <p:cNvPr id="143" name="Rectangle 7"/>
            <p:cNvSpPr/>
            <p:nvPr/>
          </p:nvSpPr>
          <p:spPr>
            <a:xfrm>
              <a:off x="3247200" y="174924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8"/>
                <p:cNvSpPr txBox="1"/>
                <p:nvPr/>
              </p:nvSpPr>
              <p:spPr>
                <a:xfrm>
                  <a:off x="1141560" y="1700280"/>
                  <a:ext cx="66294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t xml:space="preserve">&gt;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Group 9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146" name="Rectangle 10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Object 11"/>
                <p:cNvSpPr txBox="1"/>
                <p:nvPr/>
              </p:nvSpPr>
              <p:spPr>
                <a:xfrm>
                  <a:off x="2062800" y="3693960"/>
                  <a:ext cx="216684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" name="Group 12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149" name="Rectangle 13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" name="Object 14"/>
                <p:cNvSpPr txBox="1"/>
                <p:nvPr/>
              </p:nvSpPr>
              <p:spPr>
                <a:xfrm>
                  <a:off x="4907880" y="3621240"/>
                  <a:ext cx="176832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1" name="Line 15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2b5481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60804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,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2"/>
          <p:cNvSpPr/>
          <p:nvPr/>
        </p:nvSpPr>
        <p:spPr>
          <a:xfrm>
            <a:off x="4572000" y="5661000"/>
            <a:ext cx="4321080" cy="865080"/>
          </a:xfrm>
          <a:prstGeom prst="rect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3"/>
              <p:cNvSpPr txBox="1"/>
              <p:nvPr/>
            </p:nvSpPr>
            <p:spPr>
              <a:xfrm>
                <a:off x="4694400" y="5734080"/>
                <a:ext cx="4044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,6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8" name="Group 24"/>
          <p:cNvGrpSpPr/>
          <p:nvPr/>
        </p:nvGrpSpPr>
        <p:grpSpPr>
          <a:xfrm>
            <a:off x="2484360" y="2997360"/>
            <a:ext cx="3646440" cy="760320"/>
            <a:chOff x="2484360" y="2997360"/>
            <a:chExt cx="3646440" cy="760320"/>
          </a:xfrm>
        </p:grpSpPr>
        <p:sp>
          <p:nvSpPr>
            <p:cNvPr id="159" name="Rectangle 25"/>
            <p:cNvSpPr/>
            <p:nvPr/>
          </p:nvSpPr>
          <p:spPr>
            <a:xfrm>
              <a:off x="3103560" y="3045240"/>
              <a:ext cx="2515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" name="Object 26"/>
                <p:cNvSpPr txBox="1"/>
                <p:nvPr/>
              </p:nvSpPr>
              <p:spPr>
                <a:xfrm>
                  <a:off x="2484360" y="2997360"/>
                  <a:ext cx="3646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" name="Oval 27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2b5481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rc 29"/>
          <p:cNvSpPr/>
          <p:nvPr/>
        </p:nvSpPr>
        <p:spPr>
          <a:xfrm rot="19410600">
            <a:off x="2376360" y="4206600"/>
            <a:ext cx="2051280" cy="1631880"/>
          </a:xfrm>
          <a:custGeom>
            <a:avLst/>
            <a:gdLst>
              <a:gd name="textAreaLeft" fmla="*/ 0 w 2051280"/>
              <a:gd name="textAreaRight" fmla="*/ 2051640 w 205128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fill="none" w="29074" h="22523">
                <a:moveTo>
                  <a:pt x="0" y="1334"/>
                </a:moveTo>
                <a:cubicBezTo>
                  <a:pt x="2393" y="451"/>
                  <a:pt x="4923" y="-1"/>
                  <a:pt x="7474" y="0"/>
                </a:cubicBezTo>
                <a:cubicBezTo>
                  <a:pt x="19403" y="0"/>
                  <a:pt x="29074" y="9670"/>
                  <a:pt x="29074" y="21600"/>
                </a:cubicBezTo>
                <a:cubicBezTo>
                  <a:pt x="29074" y="21907"/>
                  <a:pt x="29067" y="22215"/>
                  <a:pt x="29054" y="22523"/>
                </a:cubicBezTo>
              </a:path>
              <a:path stroke="0" w="29074" h="22523">
                <a:moveTo>
                  <a:pt x="0" y="1334"/>
                </a:moveTo>
                <a:cubicBezTo>
                  <a:pt x="2393" y="451"/>
                  <a:pt x="4923" y="-1"/>
                  <a:pt x="7474" y="0"/>
                </a:cubicBezTo>
                <a:cubicBezTo>
                  <a:pt x="19403" y="0"/>
                  <a:pt x="29074" y="9670"/>
                  <a:pt x="29074" y="21600"/>
                </a:cubicBezTo>
                <a:cubicBezTo>
                  <a:pt x="29074" y="21907"/>
                  <a:pt x="29067" y="22215"/>
                  <a:pt x="29054" y="22523"/>
                </a:cubicBezTo>
                <a:lnTo>
                  <a:pt x="7474" y="21600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rc 30"/>
          <p:cNvSpPr/>
          <p:nvPr/>
        </p:nvSpPr>
        <p:spPr>
          <a:xfrm flipH="1">
            <a:off x="4713120" y="4486320"/>
            <a:ext cx="1533600" cy="554040"/>
          </a:xfrm>
          <a:custGeom>
            <a:avLst/>
            <a:gdLst>
              <a:gd name="textAreaLeft" fmla="*/ 360 w 1533600"/>
              <a:gd name="textAreaRight" fmla="*/ 1534320 w 153360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rc 31"/>
          <p:cNvSpPr/>
          <p:nvPr/>
        </p:nvSpPr>
        <p:spPr>
          <a:xfrm>
            <a:off x="608040" y="4486320"/>
            <a:ext cx="1490760" cy="55404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32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33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34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35"/>
          <p:cNvSpPr/>
          <p:nvPr/>
        </p:nvSpPr>
        <p:spPr>
          <a:xfrm>
            <a:off x="478476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0" name="Group 36"/>
          <p:cNvGrpSpPr/>
          <p:nvPr/>
        </p:nvGrpSpPr>
        <p:grpSpPr>
          <a:xfrm>
            <a:off x="2505240" y="2349360"/>
            <a:ext cx="3646440" cy="760680"/>
            <a:chOff x="2505240" y="2349360"/>
            <a:chExt cx="3646440" cy="760680"/>
          </a:xfrm>
        </p:grpSpPr>
        <p:sp>
          <p:nvSpPr>
            <p:cNvPr id="171" name="Rectangle 37"/>
            <p:cNvSpPr/>
            <p:nvPr/>
          </p:nvSpPr>
          <p:spPr>
            <a:xfrm>
              <a:off x="3119760" y="2398320"/>
              <a:ext cx="2520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Object 38"/>
                <p:cNvSpPr txBox="1"/>
                <p:nvPr/>
              </p:nvSpPr>
              <p:spPr>
                <a:xfrm>
                  <a:off x="2505240" y="2349360"/>
                  <a:ext cx="36464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00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7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8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85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5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468360" y="260280"/>
            <a:ext cx="849636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угол (в градусах) образу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утная и часовая стрелки часов в 5 ч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3708360" y="1916280"/>
            <a:ext cx="4752720" cy="4752360"/>
            <a:chOff x="3708360" y="1916280"/>
            <a:chExt cx="4752720" cy="4752360"/>
          </a:xfrm>
        </p:grpSpPr>
        <p:sp>
          <p:nvSpPr>
            <p:cNvPr id="175" name="Oval 5"/>
            <p:cNvSpPr/>
            <p:nvPr/>
          </p:nvSpPr>
          <p:spPr>
            <a:xfrm>
              <a:off x="4019040" y="2177280"/>
              <a:ext cx="4208040" cy="420768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AutoShape 6"/>
            <p:cNvSpPr/>
            <p:nvPr/>
          </p:nvSpPr>
          <p:spPr>
            <a:xfrm>
              <a:off x="3708360" y="1916280"/>
              <a:ext cx="4752720" cy="4752360"/>
            </a:xfrm>
            <a:custGeom>
              <a:avLst/>
              <a:gdLst>
                <a:gd name="textAreaLeft" fmla="*/ 695880 w 4752720"/>
                <a:gd name="textAreaRight" fmla="*/ 4056840 w 4752720"/>
                <a:gd name="textAreaTop" fmla="*/ 695880 h 4752360"/>
                <a:gd name="textAreaBottom" fmla="*/ 4056480 h 47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80" y="10800"/>
                  </a:moveTo>
                  <a:cubicBezTo>
                    <a:pt x="1780" y="15782"/>
                    <a:pt x="5818" y="19820"/>
                    <a:pt x="10800" y="19820"/>
                  </a:cubicBezTo>
                  <a:cubicBezTo>
                    <a:pt x="15782" y="19820"/>
                    <a:pt x="19820" y="15782"/>
                    <a:pt x="19820" y="10800"/>
                  </a:cubicBezTo>
                  <a:cubicBezTo>
                    <a:pt x="19820" y="5818"/>
                    <a:pt x="15782" y="1780"/>
                    <a:pt x="10800" y="1780"/>
                  </a:cubicBezTo>
                  <a:cubicBezTo>
                    <a:pt x="5818" y="1780"/>
                    <a:pt x="1780" y="5818"/>
                    <a:pt x="1780" y="108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7" name="Oval 7"/>
          <p:cNvSpPr/>
          <p:nvPr/>
        </p:nvSpPr>
        <p:spPr>
          <a:xfrm>
            <a:off x="4932360" y="256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4284720" y="4941720"/>
            <a:ext cx="431640" cy="41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4356000" y="3213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4932360" y="5589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6804000" y="558972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7451640" y="4869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7380360" y="314172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6732720" y="256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4140360" y="407664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Oval 16"/>
          <p:cNvSpPr/>
          <p:nvPr/>
        </p:nvSpPr>
        <p:spPr>
          <a:xfrm>
            <a:off x="7596360" y="4005360"/>
            <a:ext cx="43164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Oval 17"/>
          <p:cNvSpPr/>
          <p:nvPr/>
        </p:nvSpPr>
        <p:spPr>
          <a:xfrm>
            <a:off x="5867280" y="587700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Oval 18"/>
          <p:cNvSpPr/>
          <p:nvPr/>
        </p:nvSpPr>
        <p:spPr>
          <a:xfrm>
            <a:off x="5867280" y="2276640"/>
            <a:ext cx="432000" cy="41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Freeform 19"/>
          <p:cNvSpPr/>
          <p:nvPr/>
        </p:nvSpPr>
        <p:spPr>
          <a:xfrm>
            <a:off x="6095880" y="4254480"/>
            <a:ext cx="723960" cy="1168560"/>
          </a:xfrm>
          <a:custGeom>
            <a:avLst/>
            <a:gdLst>
              <a:gd name="textAreaLeft" fmla="*/ 0 w 723960"/>
              <a:gd name="textAreaRight" fmla="*/ 724320 w 72396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456" h="736">
                <a:moveTo>
                  <a:pt x="0" y="0"/>
                </a:moveTo>
                <a:lnTo>
                  <a:pt x="216" y="568"/>
                </a:lnTo>
                <a:lnTo>
                  <a:pt x="456" y="736"/>
                </a:lnTo>
                <a:lnTo>
                  <a:pt x="384" y="46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386088"/>
              </a:gs>
              <a:gs pos="50000">
                <a:srgbClr val="003366"/>
              </a:gs>
              <a:gs pos="100000">
                <a:srgbClr val="386088"/>
              </a:gs>
            </a:gsLst>
            <a:lin ang="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0" name="Freeform 20"/>
          <p:cNvGrpSpPr/>
          <p:nvPr/>
        </p:nvGrpSpPr>
        <p:grpSpPr>
          <a:xfrm>
            <a:off x="5883120" y="2451240"/>
            <a:ext cx="389160" cy="1809720"/>
            <a:chOff x="5883120" y="2451240"/>
            <a:chExt cx="389160" cy="1809720"/>
          </a:xfrm>
        </p:grpSpPr>
        <p:pic>
          <p:nvPicPr>
            <p:cNvPr id="191" name="Freeform 20" descr=""/>
            <p:cNvPicPr/>
            <p:nvPr/>
          </p:nvPicPr>
          <p:blipFill>
            <a:blip r:embed="rId2"/>
            <a:stretch/>
          </p:blipFill>
          <p:spPr>
            <a:xfrm>
              <a:off x="5883120" y="2451240"/>
              <a:ext cx="38916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892840" y="2463840"/>
              <a:ext cx="36828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" name="AutoShape 21"/>
          <p:cNvSpPr/>
          <p:nvPr/>
        </p:nvSpPr>
        <p:spPr>
          <a:xfrm rot="9534000">
            <a:off x="6156360" y="3860280"/>
            <a:ext cx="311040" cy="59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560" y="990"/>
                  <a:pt x="5519" y="5080"/>
                  <a:pt x="5519" y="10800"/>
                </a:cubicBezTo>
                <a:cubicBezTo>
                  <a:pt x="5519" y="16520"/>
                  <a:pt x="13560" y="2061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6372360" y="357336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324000" y="4292640"/>
            <a:ext cx="2808000" cy="865080"/>
          </a:xfrm>
          <a:prstGeom prst="rect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1333440" y="443700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150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Oval 25"/>
          <p:cNvSpPr/>
          <p:nvPr/>
        </p:nvSpPr>
        <p:spPr>
          <a:xfrm>
            <a:off x="5940360" y="4149720"/>
            <a:ext cx="287280" cy="28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260280"/>
            <a:ext cx="896472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0f0f0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точек, отмеченных на координатно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, соответствует числу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это точка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95280" y="3070080"/>
            <a:ext cx="626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1187280" y="29988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3419640" y="299880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5580000" y="2997360"/>
            <a:ext cx="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042920" y="30700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276720" y="3070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5435640" y="3070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Oval 12"/>
          <p:cNvSpPr/>
          <p:nvPr/>
        </p:nvSpPr>
        <p:spPr>
          <a:xfrm>
            <a:off x="1547640" y="2998800"/>
            <a:ext cx="71640" cy="142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3059280" y="2997360"/>
            <a:ext cx="71280" cy="142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Oval 14"/>
          <p:cNvSpPr/>
          <p:nvPr/>
        </p:nvSpPr>
        <p:spPr>
          <a:xfrm>
            <a:off x="3924360" y="2997360"/>
            <a:ext cx="71280" cy="1425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Oval 15"/>
          <p:cNvSpPr/>
          <p:nvPr/>
        </p:nvSpPr>
        <p:spPr>
          <a:xfrm>
            <a:off x="5292720" y="2998800"/>
            <a:ext cx="71280" cy="1429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6300720" y="25671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2917800" y="2565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3710520" y="256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5078160" y="25653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404360" y="256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7885080" y="198900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23"/>
          <p:cNvSpPr/>
          <p:nvPr/>
        </p:nvSpPr>
        <p:spPr>
          <a:xfrm>
            <a:off x="7885080" y="263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24"/>
          <p:cNvSpPr/>
          <p:nvPr/>
        </p:nvSpPr>
        <p:spPr>
          <a:xfrm>
            <a:off x="7885080" y="3284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25"/>
          <p:cNvSpPr/>
          <p:nvPr/>
        </p:nvSpPr>
        <p:spPr>
          <a:xfrm>
            <a:off x="7885080" y="3933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9"/>
              <p:cNvSpPr txBox="1"/>
              <p:nvPr/>
            </p:nvSpPr>
            <p:spPr>
              <a:xfrm>
                <a:off x="7236000" y="765000"/>
                <a:ext cx="731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 txBox="1"/>
          <p:nvPr/>
        </p:nvSpPr>
        <p:spPr>
          <a:xfrm>
            <a:off x="324000" y="429228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8360" y="1171080"/>
            <a:ext cx="8184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В коробке 4 синих, 3 белых и 2 желтых фишки. Они тщательно перемешиваются, и наудачу извлекается одна из них. Найдите вероятность того, что она окажется: а) белой; б) желтой.</a:t>
            </a:r>
            <a:r>
              <a:rPr b="0" lang="ru-RU" sz="3600" spc="-1" strike="noStrike">
                <a:solidFill>
                  <a:srgbClr val="ff66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68360" y="641520"/>
            <a:ext cx="8184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В коробке лежат 10 одинаковых шаров, на каждом из которых написан его номер от 1 до 10. Найдите вероятность следующих событий: а) извлекли шар № 7; 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б) номер извлеченного шара – четное число; в) номер извлеченного шара кратен 3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Новый материал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33320"/>
            <a:ext cx="404172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татистики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– специалисты, получающие информацию путем сбора различных да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1028" descr="AMBUSY"/>
          <p:cNvPicPr/>
          <p:nvPr/>
        </p:nvPicPr>
        <p:blipFill>
          <a:blip r:embed="rId1"/>
          <a:stretch/>
        </p:blipFill>
        <p:spPr>
          <a:xfrm>
            <a:off x="4702320" y="1341360"/>
            <a:ext cx="3651120" cy="44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44863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ыборка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– группа людей, значений или событий, которые представляют все интересующие статистиков вопро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j0297749"/>
          <p:cNvPicPr/>
          <p:nvPr/>
        </p:nvPicPr>
        <p:blipFill>
          <a:blip r:embed="rId1"/>
          <a:stretch/>
        </p:blipFill>
        <p:spPr>
          <a:xfrm>
            <a:off x="5076720" y="2349360"/>
            <a:ext cx="3218040" cy="3063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355640" y="691920"/>
            <a:ext cx="419436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5157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реднее арифметическо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Для организации отдыха в санатории необходимо знать средний возраст отдыхающих. Проведя выборку получили следующие результа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38 лет, 25 лет, 46 лет, 51 год, 18 лет, 13 лет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      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31 год, 49 лет, 27 лет, 32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13, 18, 25, 27, 31, 32, 38, 46, 49, 5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(13+27+18+32+49+51+25+31+38+46) : 10 = 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Средний возраст отдыхающих 33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j0195384"/>
          <p:cNvPicPr/>
          <p:nvPr/>
        </p:nvPicPr>
        <p:blipFill>
          <a:blip r:embed="rId1"/>
          <a:stretch/>
        </p:blipFill>
        <p:spPr>
          <a:xfrm>
            <a:off x="7020000" y="458136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5157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Мода (М</a:t>
            </a:r>
            <a:r>
              <a:rPr b="0" lang="ru-RU" sz="1600" spc="-1" strike="noStrike">
                <a:solidFill>
                  <a:srgbClr val="ff3300"/>
                </a:solidFill>
                <a:latin typeface="Tahoma"/>
              </a:rPr>
              <a:t>о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541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В пункте проката снаряжений для плавания важно знать самый распространенный размер одежды, чтобы иметь как можно больше гидрокостюмов именно этого разме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Выборка дала следующие разме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66"/>
                </a:solidFill>
                <a:latin typeface="Tahoma"/>
              </a:rPr>
              <a:t>46, 48, 42, 50, 48, 52, 44, 48, 46, 5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Реш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42, 44, 46, 46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4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4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48</a:t>
            </a: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, 50, 52, 5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ahoma"/>
              </a:rPr>
              <a:t>Чаще всего встречается размер 4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j0292152"/>
          <p:cNvPicPr/>
          <p:nvPr/>
        </p:nvPicPr>
        <p:blipFill>
          <a:blip r:embed="rId1"/>
          <a:stretch/>
        </p:blipFill>
        <p:spPr>
          <a:xfrm>
            <a:off x="7093080" y="3645000"/>
            <a:ext cx="1800000" cy="24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508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Медиана (М</a:t>
            </a:r>
            <a:r>
              <a:rPr b="0" lang="ru-RU" sz="1600" spc="-1" strike="noStrike">
                <a:solidFill>
                  <a:srgbClr val="ff3300"/>
                </a:solidFill>
                <a:latin typeface="Tahoma"/>
              </a:rPr>
              <a:t>е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)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541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66"/>
                </a:solidFill>
                <a:latin typeface="Tahoma"/>
              </a:rPr>
              <a:t>Активность отдыхающих определяется по среднему значению количества посещенных мероприятий. В ходе опроса получены данные о количестве посещенных мероприятий:                    3, 7, 1, 5, 3, 6, 1, 4,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Решение: 1, 1, 3, 3, 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, 5, 6, 6,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Активность высокая, если посещаемость больше 4, низкая - если меньше 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4" descr="j0297551"/>
          <p:cNvPicPr/>
          <p:nvPr/>
        </p:nvPicPr>
        <p:blipFill>
          <a:blip r:embed="rId1"/>
          <a:stretch/>
        </p:blipFill>
        <p:spPr>
          <a:xfrm>
            <a:off x="7308720" y="4221000"/>
            <a:ext cx="1621080" cy="24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7:39:36Z</dcterms:created>
  <dc:creator>User</dc:creator>
  <dc:description/>
  <dc:language>en-US</dc:language>
  <cp:lastModifiedBy>пк</cp:lastModifiedBy>
  <dcterms:modified xsi:type="dcterms:W3CDTF">2013-01-10T10:24:03Z</dcterms:modified>
  <cp:revision>20</cp:revision>
  <dc:subject/>
  <dc:title>Слайд 1</dc:title>
</cp:coreProperties>
</file>