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9232-0F5F-4E2D-BCF4-326395822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B277-B089-4844-A36B-3F31397FD3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1916-502F-47EB-BA41-3AA79424AB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155A-922E-4CD3-9375-8DFDA6F94A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85B-EC0C-421C-9920-DFFB1E59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408-34AE-4C7F-B0F4-AA40C64E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8FB-78A9-4E98-94A1-662A48C9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B94-F99A-43D3-B127-B3401622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BAE-57E0-45FA-B417-09145A8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D29-09E2-4339-BA89-FB8788B2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CE7-49C0-43FF-AA65-9B860D4A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993-3F85-4C92-877F-49F563F2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EF6-236C-4E3C-AA13-241113EC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58C-CF54-4F45-B5D9-C450E8AD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5F1-7429-4D78-9780-0A87F4AB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61C-27B3-4E2A-83F2-FA88B24F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41FB-C95D-4771-B32F-4C8E883003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373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Tahoma"/>
              </a:rPr>
              <a:t>Во владениях королевы статистики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1640" y="620280"/>
            <a:ext cx="67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Tahoma"/>
              </a:rPr>
              <a:t>Размах и центральные тенденци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Размах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(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R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При организации питания необходимо учитывать разницу энергопотребления отдыхающих различных возраст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Подростки – 2400кКал/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Юноши – 2700кКал/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Мужчины среднего возраста – 2500кКал/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Женщины среднего возраста – 2100кКал/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Пожилые люди – 1600кКал/ден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   1600, 2100, 2400, 2500, 27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2700 – 1600 = 1100 кКал/ден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зница в энергопотреблении 1100кКал/день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j0240719"/>
          <p:cNvPicPr/>
          <p:nvPr/>
        </p:nvPicPr>
        <p:blipFill>
          <a:blip r:embed="rId1"/>
          <a:stretch/>
        </p:blipFill>
        <p:spPr>
          <a:xfrm>
            <a:off x="7524720" y="4437000"/>
            <a:ext cx="1438200" cy="2259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0" y="33336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2310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В книгах по статистике моду, медиану и среднее арифметическое объединяют одним термином – </a:t>
            </a:r>
            <a:r>
              <a:rPr b="0" i="1" lang="ru-RU" sz="4000" spc="-1" strike="noStrike">
                <a:solidFill>
                  <a:srgbClr val="ff3300"/>
                </a:solidFill>
                <a:latin typeface="Tahoma"/>
              </a:rPr>
              <a:t>меры центральной тенденции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( или, короче, </a:t>
            </a:r>
            <a:r>
              <a:rPr b="0" i="1" lang="ru-RU" sz="4000" spc="-1" strike="noStrike">
                <a:solidFill>
                  <a:srgbClr val="ff3300"/>
                </a:solidFill>
                <a:latin typeface="Tahoma"/>
              </a:rPr>
              <a:t>центральные тенденции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).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интеллектуал"/>
          <p:cNvPicPr/>
          <p:nvPr/>
        </p:nvPicPr>
        <p:blipFill>
          <a:blip r:embed="rId1"/>
          <a:stretch/>
        </p:blipFill>
        <p:spPr>
          <a:xfrm>
            <a:off x="6300720" y="4941720"/>
            <a:ext cx="2016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2916360" y="40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ыполните задани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Коля, Петя, Саша и Антон ловили крабов. Коля поймал 10 крабов, Петя – 5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Саша – 9, а Антон поймал лягушку. Сколько в среднем крабов поймал каждый мальчи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826920" y="4653000"/>
            <a:ext cx="734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 (5 + 9 + 10 + 0) : 4 =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6 крабов в среднем поймал каждый мальч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12" descr="ученики"/>
          <p:cNvPicPr/>
          <p:nvPr/>
        </p:nvPicPr>
        <p:blipFill>
          <a:blip r:embed="rId1"/>
          <a:stretch/>
        </p:blipFill>
        <p:spPr>
          <a:xfrm>
            <a:off x="900000" y="33336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916360" y="40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ыполните задани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2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2. Обуви какого размера должно быть больше в магазине, если дана выборка размер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39, 41, 35, 36, 38, 40,38, 42, 3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826920" y="400536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 35, 36, 37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38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38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39, 40, 41, 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Больше должно быть обуви 38 разм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учат"/>
          <p:cNvPicPr/>
          <p:nvPr/>
        </p:nvPicPr>
        <p:blipFill>
          <a:blip r:embed="rId1"/>
          <a:stretch/>
        </p:blipFill>
        <p:spPr>
          <a:xfrm>
            <a:off x="684360" y="260280"/>
            <a:ext cx="154116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2916360" y="40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ыполните задани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4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3.      Найди медиану числового ря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77, 83, 75, 90, 69, 73, 85, 91, 79, 7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26920" y="4005360"/>
            <a:ext cx="770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 69, 73, 75, 75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77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79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83, 85, 90, 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М</a:t>
            </a: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е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=</a:t>
            </a: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(77 + 79) : 2 = 7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0" descr="ученики"/>
          <p:cNvPicPr/>
          <p:nvPr/>
        </p:nvPicPr>
        <p:blipFill>
          <a:blip r:embed="rId1"/>
          <a:stretch/>
        </p:blipFill>
        <p:spPr>
          <a:xfrm>
            <a:off x="684360" y="476280"/>
            <a:ext cx="136656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916360" y="40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ыполните задани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16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4.  Найди размах числового ря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22, 7, 18, 6, 13, 29, 34, 1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6920" y="4005360"/>
            <a:ext cx="770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 6, 7, 13, 16, 18, 22, 29, 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 =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34 – 6 = 2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7" descr="учат"/>
          <p:cNvPicPr/>
          <p:nvPr/>
        </p:nvPicPr>
        <p:blipFill>
          <a:blip r:embed="rId1"/>
          <a:stretch/>
        </p:blipFill>
        <p:spPr>
          <a:xfrm>
            <a:off x="755640" y="333360"/>
            <a:ext cx="16556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Статистические величи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19700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Среднее арифметическ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–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умма величин деленная на их количе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М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чаще всех повторяющаяся велич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Медиана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ередина упорядоченного ряда велич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Разм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зность между наибольшей и наименьше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ариант 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Найти среднее арифметическое, размах, моду, медиану ряда чисел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32, 26, 18, 26, 15, 2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ариант 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Найти среднее арифметическое, размах, моду, медиану ряда чисел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16, 26, 16, 13, 20, 17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Проверь себ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ариант 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Ср. арифм. – 2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R = 17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М</a:t>
                      </a: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о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= 26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М</a:t>
                      </a: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е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= 23,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ариант 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Ср. арифм. – 18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R =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М</a:t>
                      </a: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о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= 16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М</a:t>
                      </a: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е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= 16,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Задания ГИ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765000"/>
            <a:ext cx="85406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1.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Имеется 5 бочек с водой объёмом 42, 58, 64, 62, 74 литров соответственно. Насколько отличается среднее арифметическое этого набора чисел от его медиан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Записан вес (в кг) пяти человек: 65, 70, 84, 68, 120. Выясните, насколько среднее арифметическое этих чисел больше их медиан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Записано количество присутствующих работников офиса в течении недели: 43; 39; 41; 40; х. Найдите х, если известно, что медиана этого набора совпадает с его средним арифметическим и  х </a:t>
            </a:r>
            <a:r>
              <a:rPr b="0" lang="en-US" sz="2000" spc="-1" strike="noStrike" u="sng">
                <a:solidFill>
                  <a:srgbClr val="660033"/>
                </a:solidFill>
                <a:uFillTx/>
                <a:latin typeface="Tahoma"/>
              </a:rPr>
              <a:t>&lt;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40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4.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В ходе наблюдения за изменением температуры в течении суток были выписаны значения нескольких замеров: -5; -2; 0; 4; 1; -2; -6. Насколько медиана полученного набора чисел отличается от его мод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17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2533320"/>
            <a:ext cx="50166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татистика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– раздел математики, который помогает накапливать и анализировать информацию и предсказывать вероятность различных событ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j0174195"/>
          <p:cNvPicPr/>
          <p:nvPr/>
        </p:nvPicPr>
        <p:blipFill>
          <a:blip r:embed="rId1"/>
          <a:stretch/>
        </p:blipFill>
        <p:spPr>
          <a:xfrm>
            <a:off x="5794200" y="2467080"/>
            <a:ext cx="2664000" cy="32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4360" y="260280"/>
            <a:ext cx="828036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а диаграмме показано распредел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итательных веществ в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ивочных сухарях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Определите по диаграмм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одержание каких веществ преобладает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5003640" y="2349360"/>
          <a:ext cx="3888000" cy="34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349360"/>
                    <a:ext cx="388800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5"/>
          <p:cNvSpPr/>
          <p:nvPr/>
        </p:nvSpPr>
        <p:spPr>
          <a:xfrm>
            <a:off x="900000" y="2205000"/>
            <a:ext cx="2952720" cy="466920"/>
          </a:xfrm>
          <a:custGeom>
            <a:avLst/>
            <a:gdLst>
              <a:gd name="textAreaLeft" fmla="*/ 30240 w 2952720"/>
              <a:gd name="textAreaRight" fmla="*/ 2922480 w 2952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136506" h="21600">
                <a:moveTo>
                  <a:pt x="0" y="0"/>
                </a:moveTo>
                <a:lnTo>
                  <a:pt x="136506" y="0"/>
                </a:lnTo>
                <a:lnTo>
                  <a:pt x="136506" y="21600"/>
                </a:lnTo>
                <a:lnTo>
                  <a:pt x="0" y="21600"/>
                </a:lnTo>
                <a:close/>
              </a:path>
              <a:path fill="lightenLess" w="136506" h="21600">
                <a:moveTo>
                  <a:pt x="0" y="0"/>
                </a:moveTo>
                <a:lnTo>
                  <a:pt x="136506" y="0"/>
                </a:lnTo>
                <a:lnTo>
                  <a:pt x="135106" y="1400"/>
                </a:lnTo>
                <a:lnTo>
                  <a:pt x="1400" y="1400"/>
                </a:lnTo>
                <a:close/>
              </a:path>
              <a:path fill="darken" w="136506" h="21600">
                <a:moveTo>
                  <a:pt x="136506" y="0"/>
                </a:moveTo>
                <a:lnTo>
                  <a:pt x="136506" y="21600"/>
                </a:lnTo>
                <a:lnTo>
                  <a:pt x="135106" y="20200"/>
                </a:lnTo>
                <a:lnTo>
                  <a:pt x="135106" y="1400"/>
                </a:lnTo>
                <a:close/>
              </a:path>
              <a:path fill="darkenLess" w="136506" h="21600">
                <a:moveTo>
                  <a:pt x="136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06" y="20200"/>
                </a:lnTo>
                <a:close/>
              </a:path>
              <a:path fill="lighten" w="136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900000" y="3357720"/>
            <a:ext cx="2952720" cy="466560"/>
          </a:xfrm>
          <a:custGeom>
            <a:avLst/>
            <a:gdLst>
              <a:gd name="textAreaLeft" fmla="*/ 30240 w 2952720"/>
              <a:gd name="textAreaRight" fmla="*/ 2922480 w 29527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136611" h="21600">
                <a:moveTo>
                  <a:pt x="0" y="0"/>
                </a:moveTo>
                <a:lnTo>
                  <a:pt x="136611" y="0"/>
                </a:lnTo>
                <a:lnTo>
                  <a:pt x="136611" y="21600"/>
                </a:lnTo>
                <a:lnTo>
                  <a:pt x="0" y="21600"/>
                </a:lnTo>
                <a:close/>
              </a:path>
              <a:path fill="lightenLess" w="136611" h="21600">
                <a:moveTo>
                  <a:pt x="0" y="0"/>
                </a:moveTo>
                <a:lnTo>
                  <a:pt x="136611" y="0"/>
                </a:lnTo>
                <a:lnTo>
                  <a:pt x="135211" y="1400"/>
                </a:lnTo>
                <a:lnTo>
                  <a:pt x="1400" y="1400"/>
                </a:lnTo>
                <a:close/>
              </a:path>
              <a:path fill="darken" w="136611" h="21600">
                <a:moveTo>
                  <a:pt x="136611" y="0"/>
                </a:moveTo>
                <a:lnTo>
                  <a:pt x="136611" y="21600"/>
                </a:lnTo>
                <a:lnTo>
                  <a:pt x="135211" y="20200"/>
                </a:lnTo>
                <a:lnTo>
                  <a:pt x="135211" y="1400"/>
                </a:lnTo>
                <a:close/>
              </a:path>
              <a:path fill="darkenLess" w="136611" h="21600">
                <a:moveTo>
                  <a:pt x="136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211" y="20200"/>
                </a:lnTo>
                <a:close/>
              </a:path>
              <a:path fill="lighten" w="136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900000" y="4581360"/>
            <a:ext cx="2952720" cy="466920"/>
          </a:xfrm>
          <a:custGeom>
            <a:avLst/>
            <a:gdLst>
              <a:gd name="textAreaLeft" fmla="*/ 30240 w 2952720"/>
              <a:gd name="textAreaRight" fmla="*/ 2922480 w 2952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136506" h="21600">
                <a:moveTo>
                  <a:pt x="0" y="0"/>
                </a:moveTo>
                <a:lnTo>
                  <a:pt x="136506" y="0"/>
                </a:lnTo>
                <a:lnTo>
                  <a:pt x="136506" y="21600"/>
                </a:lnTo>
                <a:lnTo>
                  <a:pt x="0" y="21600"/>
                </a:lnTo>
                <a:close/>
              </a:path>
              <a:path fill="lightenLess" w="136506" h="21600">
                <a:moveTo>
                  <a:pt x="0" y="0"/>
                </a:moveTo>
                <a:lnTo>
                  <a:pt x="136506" y="0"/>
                </a:lnTo>
                <a:lnTo>
                  <a:pt x="135106" y="1400"/>
                </a:lnTo>
                <a:lnTo>
                  <a:pt x="1400" y="1400"/>
                </a:lnTo>
                <a:close/>
              </a:path>
              <a:path fill="darken" w="136506" h="21600">
                <a:moveTo>
                  <a:pt x="136506" y="0"/>
                </a:moveTo>
                <a:lnTo>
                  <a:pt x="136506" y="21600"/>
                </a:lnTo>
                <a:lnTo>
                  <a:pt x="135106" y="20200"/>
                </a:lnTo>
                <a:lnTo>
                  <a:pt x="135106" y="1400"/>
                </a:lnTo>
                <a:close/>
              </a:path>
              <a:path fill="darkenLess" w="136506" h="21600">
                <a:moveTo>
                  <a:pt x="136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06" y="20200"/>
                </a:lnTo>
                <a:close/>
              </a:path>
              <a:path fill="lighten" w="136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900000" y="5734080"/>
            <a:ext cx="2951280" cy="466560"/>
          </a:xfrm>
          <a:custGeom>
            <a:avLst/>
            <a:gdLst>
              <a:gd name="textAreaLeft" fmla="*/ 30240 w 2951280"/>
              <a:gd name="textAreaRight" fmla="*/ 2921040 w 29512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136545" h="21600">
                <a:moveTo>
                  <a:pt x="0" y="0"/>
                </a:moveTo>
                <a:lnTo>
                  <a:pt x="136545" y="0"/>
                </a:lnTo>
                <a:lnTo>
                  <a:pt x="136545" y="21600"/>
                </a:lnTo>
                <a:lnTo>
                  <a:pt x="0" y="21600"/>
                </a:lnTo>
                <a:close/>
              </a:path>
              <a:path fill="lightenLess" w="136545" h="21600">
                <a:moveTo>
                  <a:pt x="0" y="0"/>
                </a:moveTo>
                <a:lnTo>
                  <a:pt x="136545" y="0"/>
                </a:lnTo>
                <a:lnTo>
                  <a:pt x="135145" y="1400"/>
                </a:lnTo>
                <a:lnTo>
                  <a:pt x="1400" y="1400"/>
                </a:lnTo>
                <a:close/>
              </a:path>
              <a:path fill="darken" w="136545" h="21600">
                <a:moveTo>
                  <a:pt x="136545" y="0"/>
                </a:moveTo>
                <a:lnTo>
                  <a:pt x="136545" y="21600"/>
                </a:lnTo>
                <a:lnTo>
                  <a:pt x="135145" y="20200"/>
                </a:lnTo>
                <a:lnTo>
                  <a:pt x="135145" y="1400"/>
                </a:lnTo>
                <a:close/>
              </a:path>
              <a:path fill="darkenLess" w="136545" h="21600">
                <a:moveTo>
                  <a:pt x="136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45" y="20200"/>
                </a:lnTo>
                <a:close/>
              </a:path>
              <a:path fill="lighten" w="136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f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948360" y="2565360"/>
            <a:ext cx="93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7524720" y="3213000"/>
            <a:ext cx="936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6084720" y="2637000"/>
            <a:ext cx="93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6300720" y="4653000"/>
            <a:ext cx="93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826920" y="6066000"/>
            <a:ext cx="7921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прочему относятся вода, витамины и минеральные веще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2b548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6280200" y="5729400"/>
                <a:ext cx="14778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Rectangle 5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2876400" y="1846440"/>
            <a:ext cx="3357720" cy="674280"/>
            <a:chOff x="2876400" y="1846440"/>
            <a:chExt cx="3357720" cy="674280"/>
          </a:xfrm>
        </p:grpSpPr>
        <p:sp>
          <p:nvSpPr>
            <p:cNvPr id="126" name="Rectangle 7"/>
            <p:cNvSpPr/>
            <p:nvPr/>
          </p:nvSpPr>
          <p:spPr>
            <a:xfrm>
              <a:off x="3348360" y="1847520"/>
              <a:ext cx="2518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Object 8"/>
                <p:cNvSpPr txBox="1"/>
                <p:nvPr/>
              </p:nvSpPr>
              <p:spPr>
                <a:xfrm>
                  <a:off x="2876400" y="1846440"/>
                  <a:ext cx="335772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Group 11"/>
          <p:cNvGrpSpPr/>
          <p:nvPr/>
        </p:nvGrpSpPr>
        <p:grpSpPr>
          <a:xfrm>
            <a:off x="2892600" y="2998800"/>
            <a:ext cx="3244680" cy="647640"/>
            <a:chOff x="2892600" y="2998800"/>
            <a:chExt cx="3244680" cy="647640"/>
          </a:xfrm>
        </p:grpSpPr>
        <p:sp>
          <p:nvSpPr>
            <p:cNvPr id="129" name="Rectangle 12"/>
            <p:cNvSpPr/>
            <p:nvPr/>
          </p:nvSpPr>
          <p:spPr>
            <a:xfrm>
              <a:off x="3132000" y="2998800"/>
              <a:ext cx="2880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Object 13"/>
                <p:cNvSpPr txBox="1"/>
                <p:nvPr/>
              </p:nvSpPr>
              <p:spPr>
                <a:xfrm>
                  <a:off x="2892600" y="2998800"/>
                  <a:ext cx="324468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Group 14"/>
          <p:cNvGrpSpPr/>
          <p:nvPr/>
        </p:nvGrpSpPr>
        <p:grpSpPr>
          <a:xfrm>
            <a:off x="3132000" y="4273560"/>
            <a:ext cx="3146400" cy="719280"/>
            <a:chOff x="3132000" y="4273560"/>
            <a:chExt cx="3146400" cy="719280"/>
          </a:xfrm>
        </p:grpSpPr>
        <p:sp>
          <p:nvSpPr>
            <p:cNvPr id="132" name="Rectangle 15"/>
            <p:cNvSpPr/>
            <p:nvPr/>
          </p:nvSpPr>
          <p:spPr>
            <a:xfrm>
              <a:off x="3132000" y="4273560"/>
              <a:ext cx="3146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16"/>
                <p:cNvSpPr txBox="1"/>
                <p:nvPr/>
              </p:nvSpPr>
              <p:spPr>
                <a:xfrm>
                  <a:off x="3901680" y="4273560"/>
                  <a:ext cx="147636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" name="Line 17"/>
          <p:cNvSpPr/>
          <p:nvPr/>
        </p:nvSpPr>
        <p:spPr>
          <a:xfrm>
            <a:off x="755640" y="5405400"/>
            <a:ext cx="395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Oval 18"/>
          <p:cNvSpPr/>
          <p:nvPr/>
        </p:nvSpPr>
        <p:spPr>
          <a:xfrm>
            <a:off x="3780000" y="5334120"/>
            <a:ext cx="144360" cy="144360"/>
          </a:xfrm>
          <a:prstGeom prst="ellipse">
            <a:avLst/>
          </a:prstGeom>
          <a:solidFill>
            <a:srgbClr val="2b5481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971640" y="5262480"/>
            <a:ext cx="280836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4573080" y="490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635280" y="544500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324000" y="333360"/>
            <a:ext cx="85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50920" y="260280"/>
            <a:ext cx="8893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1197000"/>
            <a:ext cx="2809800" cy="57456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fffff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1141560" y="1700280"/>
            <a:ext cx="6629400" cy="760320"/>
            <a:chOff x="1141560" y="1700280"/>
            <a:chExt cx="6629400" cy="760320"/>
          </a:xfrm>
        </p:grpSpPr>
        <p:sp>
          <p:nvSpPr>
            <p:cNvPr id="143" name="Rectangle 7"/>
            <p:cNvSpPr/>
            <p:nvPr/>
          </p:nvSpPr>
          <p:spPr>
            <a:xfrm>
              <a:off x="3247200" y="174924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8"/>
                <p:cNvSpPr txBox="1"/>
                <p:nvPr/>
              </p:nvSpPr>
              <p:spPr>
                <a:xfrm>
                  <a:off x="1141560" y="1700280"/>
                  <a:ext cx="66294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t xml:space="preserve">&gt;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Group 9"/>
          <p:cNvGrpSpPr/>
          <p:nvPr/>
        </p:nvGrpSpPr>
        <p:grpSpPr>
          <a:xfrm>
            <a:off x="1760400" y="3693960"/>
            <a:ext cx="2881440" cy="776520"/>
            <a:chOff x="1760400" y="3693960"/>
            <a:chExt cx="2881440" cy="776520"/>
          </a:xfrm>
        </p:grpSpPr>
        <p:sp>
          <p:nvSpPr>
            <p:cNvPr id="146" name="Rectangle 10"/>
            <p:cNvSpPr/>
            <p:nvPr/>
          </p:nvSpPr>
          <p:spPr>
            <a:xfrm>
              <a:off x="1760400" y="37620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Object 11"/>
                <p:cNvSpPr txBox="1"/>
                <p:nvPr/>
              </p:nvSpPr>
              <p:spPr>
                <a:xfrm>
                  <a:off x="2062800" y="3693960"/>
                  <a:ext cx="216684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" name="Group 12"/>
          <p:cNvGrpSpPr/>
          <p:nvPr/>
        </p:nvGrpSpPr>
        <p:grpSpPr>
          <a:xfrm>
            <a:off x="4281480" y="3621240"/>
            <a:ext cx="3146400" cy="863280"/>
            <a:chOff x="4281480" y="3621240"/>
            <a:chExt cx="3146400" cy="863280"/>
          </a:xfrm>
        </p:grpSpPr>
        <p:sp>
          <p:nvSpPr>
            <p:cNvPr id="149" name="Rectangle 13"/>
            <p:cNvSpPr/>
            <p:nvPr/>
          </p:nvSpPr>
          <p:spPr>
            <a:xfrm>
              <a:off x="4281480" y="3697920"/>
              <a:ext cx="314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Object 14"/>
                <p:cNvSpPr txBox="1"/>
                <p:nvPr/>
              </p:nvSpPr>
              <p:spPr>
                <a:xfrm>
                  <a:off x="4907880" y="3621240"/>
                  <a:ext cx="176832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1" name="Line 15"/>
          <p:cNvSpPr/>
          <p:nvPr/>
        </p:nvSpPr>
        <p:spPr>
          <a:xfrm>
            <a:off x="608040" y="5133960"/>
            <a:ext cx="5832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2048040" y="5060880"/>
            <a:ext cx="144360" cy="144360"/>
          </a:xfrm>
          <a:prstGeom prst="ellipse">
            <a:avLst/>
          </a:prstGeom>
          <a:solidFill>
            <a:srgbClr val="2b5481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60804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225840" y="45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1760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4572000" y="5661000"/>
            <a:ext cx="4321080" cy="865080"/>
          </a:xfrm>
          <a:prstGeom prst="rect">
            <a:avLst/>
          </a:prstGeom>
          <a:solidFill>
            <a:srgbClr val="2b548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3"/>
              <p:cNvSpPr txBox="1"/>
              <p:nvPr/>
            </p:nvSpPr>
            <p:spPr>
              <a:xfrm>
                <a:off x="4694400" y="5734080"/>
                <a:ext cx="4044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,6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8" name="Group 24"/>
          <p:cNvGrpSpPr/>
          <p:nvPr/>
        </p:nvGrpSpPr>
        <p:grpSpPr>
          <a:xfrm>
            <a:off x="2484360" y="2997360"/>
            <a:ext cx="3646440" cy="760320"/>
            <a:chOff x="2484360" y="2997360"/>
            <a:chExt cx="3646440" cy="760320"/>
          </a:xfrm>
        </p:grpSpPr>
        <p:sp>
          <p:nvSpPr>
            <p:cNvPr id="159" name="Rectangle 25"/>
            <p:cNvSpPr/>
            <p:nvPr/>
          </p:nvSpPr>
          <p:spPr>
            <a:xfrm>
              <a:off x="3103560" y="3045240"/>
              <a:ext cx="2515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Object 26"/>
                <p:cNvSpPr txBox="1"/>
                <p:nvPr/>
              </p:nvSpPr>
              <p:spPr>
                <a:xfrm>
                  <a:off x="2484360" y="2997360"/>
                  <a:ext cx="36464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1" name="Oval 27"/>
          <p:cNvSpPr/>
          <p:nvPr/>
        </p:nvSpPr>
        <p:spPr>
          <a:xfrm>
            <a:off x="4640400" y="5060880"/>
            <a:ext cx="144360" cy="144360"/>
          </a:xfrm>
          <a:prstGeom prst="ellipse">
            <a:avLst/>
          </a:prstGeom>
          <a:solidFill>
            <a:srgbClr val="2b5481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4424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rc 29"/>
          <p:cNvSpPr/>
          <p:nvPr/>
        </p:nvSpPr>
        <p:spPr>
          <a:xfrm rot="19410600">
            <a:off x="2376360" y="4206600"/>
            <a:ext cx="2051280" cy="1631880"/>
          </a:xfrm>
          <a:custGeom>
            <a:avLst/>
            <a:gdLst>
              <a:gd name="textAreaLeft" fmla="*/ 0 w 2051280"/>
              <a:gd name="textAreaRight" fmla="*/ 2051640 w 205128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fill="none" w="29074" h="22523">
                <a:moveTo>
                  <a:pt x="0" y="1334"/>
                </a:moveTo>
                <a:cubicBezTo>
                  <a:pt x="2393" y="451"/>
                  <a:pt x="4923" y="-1"/>
                  <a:pt x="7474" y="0"/>
                </a:cubicBezTo>
                <a:cubicBezTo>
                  <a:pt x="19403" y="0"/>
                  <a:pt x="29074" y="9670"/>
                  <a:pt x="29074" y="21600"/>
                </a:cubicBezTo>
                <a:cubicBezTo>
                  <a:pt x="29074" y="21907"/>
                  <a:pt x="29067" y="22215"/>
                  <a:pt x="29054" y="22523"/>
                </a:cubicBezTo>
              </a:path>
              <a:path stroke="0" w="29074" h="22523">
                <a:moveTo>
                  <a:pt x="0" y="1334"/>
                </a:moveTo>
                <a:cubicBezTo>
                  <a:pt x="2393" y="451"/>
                  <a:pt x="4923" y="-1"/>
                  <a:pt x="7474" y="0"/>
                </a:cubicBezTo>
                <a:cubicBezTo>
                  <a:pt x="19403" y="0"/>
                  <a:pt x="29074" y="9670"/>
                  <a:pt x="29074" y="21600"/>
                </a:cubicBezTo>
                <a:cubicBezTo>
                  <a:pt x="29074" y="21907"/>
                  <a:pt x="29067" y="22215"/>
                  <a:pt x="29054" y="22523"/>
                </a:cubicBezTo>
                <a:lnTo>
                  <a:pt x="7474" y="21600"/>
                </a:lnTo>
                <a:close/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rc 30"/>
          <p:cNvSpPr/>
          <p:nvPr/>
        </p:nvSpPr>
        <p:spPr>
          <a:xfrm flipH="1">
            <a:off x="4713120" y="4486320"/>
            <a:ext cx="1533600" cy="554040"/>
          </a:xfrm>
          <a:custGeom>
            <a:avLst/>
            <a:gdLst>
              <a:gd name="textAreaLeft" fmla="*/ 360 w 1533600"/>
              <a:gd name="textAreaRight" fmla="*/ 1534320 w 153360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rc 31"/>
          <p:cNvSpPr/>
          <p:nvPr/>
        </p:nvSpPr>
        <p:spPr>
          <a:xfrm>
            <a:off x="608040" y="4486320"/>
            <a:ext cx="1490760" cy="55404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32"/>
          <p:cNvSpPr/>
          <p:nvPr/>
        </p:nvSpPr>
        <p:spPr>
          <a:xfrm flipV="1">
            <a:off x="3129120" y="4772880"/>
            <a:ext cx="57600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33"/>
          <p:cNvSpPr/>
          <p:nvPr/>
        </p:nvSpPr>
        <p:spPr>
          <a:xfrm>
            <a:off x="550548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34"/>
          <p:cNvSpPr/>
          <p:nvPr/>
        </p:nvSpPr>
        <p:spPr>
          <a:xfrm>
            <a:off x="89676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35"/>
          <p:cNvSpPr/>
          <p:nvPr/>
        </p:nvSpPr>
        <p:spPr>
          <a:xfrm>
            <a:off x="478476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0" name="Group 36"/>
          <p:cNvGrpSpPr/>
          <p:nvPr/>
        </p:nvGrpSpPr>
        <p:grpSpPr>
          <a:xfrm>
            <a:off x="2505240" y="2349360"/>
            <a:ext cx="3646440" cy="760680"/>
            <a:chOff x="2505240" y="2349360"/>
            <a:chExt cx="3646440" cy="760680"/>
          </a:xfrm>
        </p:grpSpPr>
        <p:sp>
          <p:nvSpPr>
            <p:cNvPr id="171" name="Rectangle 37"/>
            <p:cNvSpPr/>
            <p:nvPr/>
          </p:nvSpPr>
          <p:spPr>
            <a:xfrm>
              <a:off x="3119760" y="2398320"/>
              <a:ext cx="2520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Object 38"/>
                <p:cNvSpPr txBox="1"/>
                <p:nvPr/>
              </p:nvSpPr>
              <p:spPr>
                <a:xfrm>
                  <a:off x="2505240" y="2349360"/>
                  <a:ext cx="364644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00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8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50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468360" y="260280"/>
            <a:ext cx="849636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угол (в градусах) образу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утная и часовая стрелки часов в 5 ч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3708360" y="1916280"/>
            <a:ext cx="4752720" cy="4752360"/>
            <a:chOff x="3708360" y="1916280"/>
            <a:chExt cx="4752720" cy="4752360"/>
          </a:xfrm>
        </p:grpSpPr>
        <p:sp>
          <p:nvSpPr>
            <p:cNvPr id="175" name="Oval 5"/>
            <p:cNvSpPr/>
            <p:nvPr/>
          </p:nvSpPr>
          <p:spPr>
            <a:xfrm>
              <a:off x="4019040" y="2177280"/>
              <a:ext cx="4208040" cy="420768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AutoShape 6"/>
            <p:cNvSpPr/>
            <p:nvPr/>
          </p:nvSpPr>
          <p:spPr>
            <a:xfrm>
              <a:off x="3708360" y="1916280"/>
              <a:ext cx="4752720" cy="4752360"/>
            </a:xfrm>
            <a:custGeom>
              <a:avLst/>
              <a:gdLst>
                <a:gd name="textAreaLeft" fmla="*/ 695880 w 4752720"/>
                <a:gd name="textAreaRight" fmla="*/ 4056840 w 4752720"/>
                <a:gd name="textAreaTop" fmla="*/ 695880 h 4752360"/>
                <a:gd name="textAreaBottom" fmla="*/ 4056480 h 47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80" y="10800"/>
                  </a:moveTo>
                  <a:cubicBezTo>
                    <a:pt x="1780" y="15782"/>
                    <a:pt x="5818" y="19820"/>
                    <a:pt x="10800" y="19820"/>
                  </a:cubicBezTo>
                  <a:cubicBezTo>
                    <a:pt x="15782" y="19820"/>
                    <a:pt x="19820" y="15782"/>
                    <a:pt x="19820" y="10800"/>
                  </a:cubicBezTo>
                  <a:cubicBezTo>
                    <a:pt x="19820" y="5818"/>
                    <a:pt x="15782" y="1780"/>
                    <a:pt x="10800" y="1780"/>
                  </a:cubicBezTo>
                  <a:cubicBezTo>
                    <a:pt x="5818" y="1780"/>
                    <a:pt x="1780" y="5818"/>
                    <a:pt x="1780" y="108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7" name="Oval 7"/>
          <p:cNvSpPr/>
          <p:nvPr/>
        </p:nvSpPr>
        <p:spPr>
          <a:xfrm>
            <a:off x="4932360" y="256536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4284720" y="4941720"/>
            <a:ext cx="431640" cy="41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4356000" y="3213000"/>
            <a:ext cx="43200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4932360" y="5589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6804000" y="5589720"/>
            <a:ext cx="43200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7451640" y="4869000"/>
            <a:ext cx="43200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7380360" y="3141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6732720" y="256536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4140360" y="407664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Oval 16"/>
          <p:cNvSpPr/>
          <p:nvPr/>
        </p:nvSpPr>
        <p:spPr>
          <a:xfrm>
            <a:off x="7596360" y="400536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Oval 17"/>
          <p:cNvSpPr/>
          <p:nvPr/>
        </p:nvSpPr>
        <p:spPr>
          <a:xfrm>
            <a:off x="5867280" y="5877000"/>
            <a:ext cx="43200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Oval 18"/>
          <p:cNvSpPr/>
          <p:nvPr/>
        </p:nvSpPr>
        <p:spPr>
          <a:xfrm>
            <a:off x="5867280" y="2276640"/>
            <a:ext cx="43200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Freeform 19"/>
          <p:cNvSpPr/>
          <p:nvPr/>
        </p:nvSpPr>
        <p:spPr>
          <a:xfrm>
            <a:off x="6095880" y="4254480"/>
            <a:ext cx="723960" cy="1168560"/>
          </a:xfrm>
          <a:custGeom>
            <a:avLst/>
            <a:gdLst>
              <a:gd name="textAreaLeft" fmla="*/ 0 w 723960"/>
              <a:gd name="textAreaRight" fmla="*/ 724320 w 72396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456" h="736">
                <a:moveTo>
                  <a:pt x="0" y="0"/>
                </a:moveTo>
                <a:lnTo>
                  <a:pt x="216" y="568"/>
                </a:lnTo>
                <a:lnTo>
                  <a:pt x="456" y="736"/>
                </a:lnTo>
                <a:lnTo>
                  <a:pt x="384" y="46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386088"/>
              </a:gs>
              <a:gs pos="50000">
                <a:srgbClr val="003366"/>
              </a:gs>
              <a:gs pos="100000">
                <a:srgbClr val="386088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0" name="Freeform 20"/>
          <p:cNvGrpSpPr/>
          <p:nvPr/>
        </p:nvGrpSpPr>
        <p:grpSpPr>
          <a:xfrm>
            <a:off x="5883120" y="2451240"/>
            <a:ext cx="389160" cy="1809720"/>
            <a:chOff x="5883120" y="2451240"/>
            <a:chExt cx="389160" cy="1809720"/>
          </a:xfrm>
        </p:grpSpPr>
        <p:pic>
          <p:nvPicPr>
            <p:cNvPr id="191" name="Freeform 20" descr=""/>
            <p:cNvPicPr/>
            <p:nvPr/>
          </p:nvPicPr>
          <p:blipFill>
            <a:blip r:embed="rId2"/>
            <a:stretch/>
          </p:blipFill>
          <p:spPr>
            <a:xfrm>
              <a:off x="5883120" y="2451240"/>
              <a:ext cx="3891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892840" y="2463840"/>
              <a:ext cx="36828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3" name="AutoShape 21"/>
          <p:cNvSpPr/>
          <p:nvPr/>
        </p:nvSpPr>
        <p:spPr>
          <a:xfrm rot="9534000">
            <a:off x="6156360" y="3860280"/>
            <a:ext cx="311040" cy="59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60" y="990"/>
                  <a:pt x="5519" y="5080"/>
                  <a:pt x="5519" y="10800"/>
                </a:cubicBezTo>
                <a:cubicBezTo>
                  <a:pt x="5519" y="16520"/>
                  <a:pt x="13560" y="206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6372360" y="357336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2b548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1333440" y="44370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150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Oval 25"/>
          <p:cNvSpPr/>
          <p:nvPr/>
        </p:nvSpPr>
        <p:spPr>
          <a:xfrm>
            <a:off x="5940360" y="4149720"/>
            <a:ext cx="28728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260280"/>
            <a:ext cx="896472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точек, отмеченных на координат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, соответствует числу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это точк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95280" y="3070080"/>
            <a:ext cx="626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1187280" y="29988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3419640" y="29988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5580000" y="299736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042920" y="30700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276720" y="3070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5435640" y="3070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1547640" y="2998800"/>
            <a:ext cx="71640" cy="142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3059280" y="2997360"/>
            <a:ext cx="71280" cy="142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3924360" y="2997360"/>
            <a:ext cx="71280" cy="142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Oval 15"/>
          <p:cNvSpPr/>
          <p:nvPr/>
        </p:nvSpPr>
        <p:spPr>
          <a:xfrm>
            <a:off x="5292720" y="2998800"/>
            <a:ext cx="71280" cy="142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300720" y="25671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917800" y="2565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3710520" y="256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5078160" y="25653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1404360" y="256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7885080" y="198900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23"/>
          <p:cNvSpPr/>
          <p:nvPr/>
        </p:nvSpPr>
        <p:spPr>
          <a:xfrm>
            <a:off x="7885080" y="263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24"/>
          <p:cNvSpPr/>
          <p:nvPr/>
        </p:nvSpPr>
        <p:spPr>
          <a:xfrm>
            <a:off x="788508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25"/>
          <p:cNvSpPr/>
          <p:nvPr/>
        </p:nvSpPr>
        <p:spPr>
          <a:xfrm>
            <a:off x="7885080" y="3933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9"/>
              <p:cNvSpPr txBox="1"/>
              <p:nvPr/>
            </p:nvSpPr>
            <p:spPr>
              <a:xfrm>
                <a:off x="7236000" y="765000"/>
                <a:ext cx="731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 txBox="1"/>
          <p:nvPr/>
        </p:nvSpPr>
        <p:spPr>
          <a:xfrm>
            <a:off x="324000" y="429228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171080"/>
            <a:ext cx="8184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В коробке 4 синих, 3 белых и 2 желтых фишки. Они тщательно перемешиваются, и наудачу извлекается одна из них. Найдите вероятность того, что она окажется: а) белой; б) желтой.</a:t>
            </a:r>
            <a:r>
              <a:rPr b="0" lang="ru-RU" sz="36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68360" y="641520"/>
            <a:ext cx="8184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В коробке лежат 10 одинаковых шаров, на каждом из которых написан его номер от 1 до 10. Найдите вероятность следующих событий: а) извлекли шар № 7; 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б) номер извлеченного шара – четное число; в) номер извлеченного шара кратен 3.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Новый материа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33320"/>
            <a:ext cx="404172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татистики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 – специалисты, получающие информацию путем сбора различных да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28" descr="AMBUSY"/>
          <p:cNvPicPr/>
          <p:nvPr/>
        </p:nvPicPr>
        <p:blipFill>
          <a:blip r:embed="rId1"/>
          <a:stretch/>
        </p:blipFill>
        <p:spPr>
          <a:xfrm>
            <a:off x="4702320" y="1341360"/>
            <a:ext cx="3651120" cy="44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44863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ыборка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– группа людей, значений или событий, которые представляют все интересующие статистиков вопро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j0297749"/>
          <p:cNvPicPr/>
          <p:nvPr/>
        </p:nvPicPr>
        <p:blipFill>
          <a:blip r:embed="rId1"/>
          <a:stretch/>
        </p:blipFill>
        <p:spPr>
          <a:xfrm>
            <a:off x="5076720" y="2349360"/>
            <a:ext cx="3218040" cy="3063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355640" y="691920"/>
            <a:ext cx="419436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5157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Среднее арифметическо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Для организации отдыха в санатории необходимо знать средний возраст отдыхающих. Проведя выборку получили следующие результа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38 лет, 25 лет, 46 лет, 51 год, 18 лет, 13 ле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31 год, 49 лет, 27 лет, 32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13, 18, 25, 27, 31, 32, 38, 46, 49, 5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(13+27+18+32+49+51+25+31+38+46) : 10 = 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редний возраст отдыхающих 33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j0195384"/>
          <p:cNvPicPr/>
          <p:nvPr/>
        </p:nvPicPr>
        <p:blipFill>
          <a:blip r:embed="rId1"/>
          <a:stretch/>
        </p:blipFill>
        <p:spPr>
          <a:xfrm>
            <a:off x="7020000" y="458136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5157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Мода (М</a:t>
            </a:r>
            <a:r>
              <a:rPr b="0" lang="ru-RU" sz="1600" spc="-1" strike="noStrike">
                <a:solidFill>
                  <a:srgbClr val="ff3300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541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В пункте проката снаряжений для плавания важно знать самый распространенный размер одежды, чтобы иметь как можно больше гидрокостюмов именно этого разм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Выборка дала следующие разме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46, 48, 42, 50, 48, 52, 44, 48, 46, 5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42, 44, 46, 46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48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48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48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50, 52, 5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Чаще всего встречается размер 4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j0292152"/>
          <p:cNvPicPr/>
          <p:nvPr/>
        </p:nvPicPr>
        <p:blipFill>
          <a:blip r:embed="rId1"/>
          <a:stretch/>
        </p:blipFill>
        <p:spPr>
          <a:xfrm>
            <a:off x="7093080" y="3645000"/>
            <a:ext cx="1800000" cy="24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08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Медиана (М</a:t>
            </a:r>
            <a:r>
              <a:rPr b="0" lang="ru-RU" sz="1600" spc="-1" strike="noStrike">
                <a:solidFill>
                  <a:srgbClr val="ff3300"/>
                </a:solidFill>
                <a:latin typeface="Tahoma"/>
              </a:rPr>
              <a:t>е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)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541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Активность отдыхающих определяется по среднему значению количества посещенных мероприятий. В ходе опроса получены данные о количестве посещенных мероприятий:                    3, 7, 1, 5, 3, 6, 1, 4,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ешение: 1, 1, 3, 3,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, 5, 6, 6,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Активность высокая, если посещаемость больше 4, низкая - если меньше 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j0297551"/>
          <p:cNvPicPr/>
          <p:nvPr/>
        </p:nvPicPr>
        <p:blipFill>
          <a:blip r:embed="rId1"/>
          <a:stretch/>
        </p:blipFill>
        <p:spPr>
          <a:xfrm>
            <a:off x="7308720" y="4221000"/>
            <a:ext cx="1621080" cy="24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7:39:36Z</dcterms:created>
  <dc:creator>User</dc:creator>
  <dc:description/>
  <dc:language>en-US</dc:language>
  <cp:lastModifiedBy>пк</cp:lastModifiedBy>
  <dcterms:modified xsi:type="dcterms:W3CDTF">2013-01-10T10:24:03Z</dcterms:modified>
  <cp:revision>20</cp:revision>
  <dc:subject/>
  <dc:title>Слайд 1</dc:title>
</cp:coreProperties>
</file>