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27.jpeg" ContentType="image/jpeg"/>
  <Override PartName="/ppt/media/image2.wmf" ContentType="image/x-wmf"/>
  <Override PartName="/ppt/media/image23.jpeg" ContentType="image/jpeg"/>
  <Override PartName="/ppt/media/image4.wmf" ContentType="image/x-wmf"/>
  <Override PartName="/ppt/media/image24.jpeg" ContentType="image/jpe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28.jpeg" ContentType="image/jpeg"/>
  <Override PartName="/ppt/media/image20.png" ContentType="image/png"/>
  <Override PartName="/ppt/media/image19.wmf" ContentType="image/x-wmf"/>
  <Override PartName="/ppt/media/image26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6966-0C64-4B0E-87F1-CC49E92342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CFE8-6D63-4B4A-96A6-BC64A563B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36FF-B290-4993-AB18-C2E448C3D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нализ результатов. За каждый правильный ответ дается 1 балл, за неправильный - 0 баллов. Внутренняя позиция считается сформированной, если ребенок набрал 5 баллов и больше. Если в результате анализа результатов обнаружатся слабые, неточные представления ребенка о школе, то необходимо провести работу по формированию у ребенка мотивационной готовности к школе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602-DC21-401E-8990-5699F014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138-72B4-44C8-AE76-B30D1F54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01E6-C18C-435F-8E40-E7AA0829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B35-DAF1-4166-B3EC-4C7483E9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544A-D96E-4057-BAB6-09D49D4E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7742-1CEE-4556-A456-6C42FCEB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F51C-36E3-4E12-9226-2D0E4C94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8DD8-782F-43C5-8E15-0B14D342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80CF-DCC4-4917-85FD-10C472A8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E1A4-A5E2-41FA-8309-0A5E849B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C524-5E4B-4B08-962C-9D81A6CE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F21-EC6A-48E1-BBE7-13650D06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BCDF-E32F-462E-BD85-82258D8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7B3D-15FE-4110-A593-C993E805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ED2C-A17A-463F-B2BE-03B207C3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64A6-CD20-4AA7-AB83-8477166B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6FB3-A16D-4C73-916A-BB35D246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B7E-0CE8-4212-9171-105A3B39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71D-9F5B-4336-9E19-6506D74D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7DE-6D54-45C0-8B3D-90492A51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BCE-23CD-41EF-807B-CBCD0A8C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938-1F7A-46EA-85E4-3DF89DE1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D30-740C-488D-9693-88125C30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8CA6-A5DE-468D-9218-86F01F5C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8A4C-9152-4150-B4BF-6F960715E2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CC7B-2D6B-4C34-811B-B68776ABB61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Родительское собрание для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родителей будущих первокласснико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427640" y="3068640"/>
            <a:ext cx="4176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g_1" descr="80063647"/>
          <p:cNvPicPr/>
          <p:nvPr/>
        </p:nvPicPr>
        <p:blipFill>
          <a:blip r:embed="rId1"/>
          <a:stretch/>
        </p:blipFill>
        <p:spPr>
          <a:xfrm>
            <a:off x="1042920" y="3716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33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0033"/>
                </a:solidFill>
                <a:latin typeface="Times New Roman"/>
              </a:rPr>
              <a:t>Завтра ты идешь в школу, давай  сложим в портфель те предметы, которые тебе понадобятся на уроке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3" descr="Edu003"/>
          <p:cNvPicPr/>
          <p:nvPr/>
        </p:nvPicPr>
        <p:blipFill>
          <a:blip r:embed="rId1"/>
          <a:stretch/>
        </p:blipFill>
        <p:spPr>
          <a:xfrm>
            <a:off x="6227640" y="162864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du005"/>
          <p:cNvPicPr/>
          <p:nvPr/>
        </p:nvPicPr>
        <p:blipFill>
          <a:blip r:embed="rId2"/>
          <a:stretch/>
        </p:blipFill>
        <p:spPr>
          <a:xfrm>
            <a:off x="7020000" y="3789360"/>
            <a:ext cx="182880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Edu008"/>
          <p:cNvPicPr/>
          <p:nvPr/>
        </p:nvPicPr>
        <p:blipFill>
          <a:blip r:embed="rId3"/>
          <a:stretch/>
        </p:blipFill>
        <p:spPr>
          <a:xfrm>
            <a:off x="7316640" y="503064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Edu007"/>
          <p:cNvPicPr/>
          <p:nvPr/>
        </p:nvPicPr>
        <p:blipFill>
          <a:blip r:embed="rId4"/>
          <a:stretch/>
        </p:blipFill>
        <p:spPr>
          <a:xfrm>
            <a:off x="4643280" y="566100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Edu023"/>
          <p:cNvPicPr/>
          <p:nvPr/>
        </p:nvPicPr>
        <p:blipFill>
          <a:blip r:embed="rId5"/>
          <a:stretch/>
        </p:blipFill>
        <p:spPr>
          <a:xfrm>
            <a:off x="2627280" y="162864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Edu006"/>
          <p:cNvPicPr/>
          <p:nvPr/>
        </p:nvPicPr>
        <p:blipFill>
          <a:blip r:embed="rId6"/>
          <a:stretch/>
        </p:blipFill>
        <p:spPr>
          <a:xfrm>
            <a:off x="395280" y="3429000"/>
            <a:ext cx="1828800" cy="109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Edctn120"/>
          <p:cNvPicPr/>
          <p:nvPr/>
        </p:nvPicPr>
        <p:blipFill>
          <a:blip r:embed="rId7"/>
          <a:stretch/>
        </p:blipFill>
        <p:spPr>
          <a:xfrm>
            <a:off x="179280" y="5013360"/>
            <a:ext cx="2403720" cy="1528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MCj04326380000[1]"/>
          <p:cNvPicPr/>
          <p:nvPr/>
        </p:nvPicPr>
        <p:blipFill>
          <a:blip r:embed="rId8"/>
          <a:stretch/>
        </p:blipFill>
        <p:spPr>
          <a:xfrm>
            <a:off x="5435640" y="4437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MCj02508620000[1]"/>
          <p:cNvPicPr/>
          <p:nvPr/>
        </p:nvPicPr>
        <p:blipFill>
          <a:blip r:embed="rId9"/>
          <a:stretch/>
        </p:blipFill>
        <p:spPr>
          <a:xfrm>
            <a:off x="2411280" y="4941720"/>
            <a:ext cx="2001960" cy="174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MCj04241880000[1]"/>
          <p:cNvPicPr/>
          <p:nvPr/>
        </p:nvPicPr>
        <p:blipFill>
          <a:blip r:embed="rId10"/>
          <a:stretch/>
        </p:blipFill>
        <p:spPr>
          <a:xfrm>
            <a:off x="684360" y="1628640"/>
            <a:ext cx="179388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олевая готов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наличие у ребе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ей ставить перед собой це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ять решение о начале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етить план действ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ь его, проявив определенные усил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ть результат своей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акже умения длительно выполнять не очень привлекательную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MCj04357430000[1]"/>
          <p:cNvPicPr/>
          <p:nvPr/>
        </p:nvPicPr>
        <p:blipFill>
          <a:blip r:embed="rId1"/>
          <a:stretch/>
        </p:blipFill>
        <p:spPr>
          <a:xfrm>
            <a:off x="7524720" y="1628640"/>
            <a:ext cx="11714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Коммуникатив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ется в умении ребенка подчинять свое поведение законам детских групп и нормам поведения, установленным в кла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ях развития коммуникативной компетентности следует поддерживать доброжелательные отношения вашего сына или дочери с окружающими. Личный пример терпимости во взаимоотношениях с друзьями, родными, соседями также играет большую роль в формировании этого вида готовности к школ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MCj02921100000[1]"/>
          <p:cNvPicPr/>
          <p:nvPr/>
        </p:nvPicPr>
        <p:blipFill>
          <a:blip r:embed="rId1"/>
          <a:stretch/>
        </p:blipFill>
        <p:spPr>
          <a:xfrm>
            <a:off x="7164360" y="4365720"/>
            <a:ext cx="19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«Портрет» первоклассника, неготового к школ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ая игрив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таточная самостояте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пульсивность, бесконтрольность поведения, гиперактив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мение общаться со сверстник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ность контактов с незнакомыми взрослыми (стойкое нежелание контактировать) или, наоборот, непонимание своего стату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мение сосредоточиться на задании, трудность восприятия словесной или иной инструк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ий уровень знаний об окружающем мире, неумение сделать обобщение, классифицировать, выделить сходство, различ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хое развитие тонко координированных движений руки, зрительно-моторных координации (неумение выполнять различные графические задания, манипулировать мелкими предметами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таточное развитие произвольной памя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ержка речевого развития (это может быть и неправильное произношение, и бедный словарный запас, и неумение выразить свои мысли и т. п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MCj04357450000[1]"/>
          <p:cNvPicPr/>
          <p:nvPr/>
        </p:nvPicPr>
        <p:blipFill>
          <a:blip r:embed="rId1"/>
          <a:stretch/>
        </p:blipFill>
        <p:spPr>
          <a:xfrm>
            <a:off x="7118280" y="260280"/>
            <a:ext cx="20257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ак помочь дошкольнику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Выбор шко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ребёнок в детстве часто болел, если ему трудно долгое время удерживать внимание на чём-то одном, если вы видите, что он морально не готов стать первоклассником - посоветуйтесь с психологом. Возможно, ему было полезно бы полезно ещё один год посидеть дома или походить на подготовительные занятия. Или же вам нужно серьёзно подойти к выбору школы: нагрузка в первый год учёбы должна быть посильной для ребё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амостоя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бы ребёнок быстрее смог адаптироваться в школе, он должен быть достаточно самостоятельным. Постарайтесь меньше опекать его, дайте ему возможность принимать самостоятельные решения и отвечать за них. Поручите ему какие-нибудь домашние дела, он научился выполнять свою работу без помощи взросл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Коллекти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ребёнок никогда не ходил в детский сад, постарайтесь, чтобы оставшееся время перед школой он пообщался со сверстниками. Иначе одновременно привыкать и к урокам и к большому коллективу ему будет очень тяжело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ВЕТЫ РОДИТЕЛЯМ </a:t>
            </a:r>
            <a:br>
              <a:rPr sz="3800"/>
            </a:b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Как подготовить малыша к школ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чадо различать право-ле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жите, как правильно укладывать в портфель книжки и тетрад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ерите пенал. В нем должны лежать две простые шариковые синие ручки, одна красная, одна зеленая, два заточенных карандаша, набор из пяти цветных карандашей, линейка и ласти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учите с малышом ваш домашний адрес и телефон, объясните ему, как звонить, если он потеряет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будущего первоклассника писать мелом (можно даже купить маленькую доску и устроить тренировочный урок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часто боятся или стесняются просить у строгого учителя разрешения выйти во время урока, так что проговорите с чадом этот момен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у вашего ребенка есть логопедические проблемы, постарайтесь решить их до начала учеб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ьте расписание и попробуйте прорепетировать школьный день - 40 - 45 минут за чтением и азбукой, потом перемена 10 минут и следующий урок. Проследите, чтобы ребенок научился выдерживать утомительное сидение за стол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йте вашего первоклассника во всем. Хвалите за дело, говорите, как здорово у него получается выводить буквы (считать, рисовать и т. д.). Это придаст ему уверенности в се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ите ребенку, что он сам несет ответственность за свою учебу. Если мама и папа зарабатывают деньги на работе, то его работа - ходить в школу и "зарабатывать" хорошие отмет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рьте, умеет ли ваше чадо самостоятельно завязывать шнурки, застегивать пуговицы и молнии, переодеваться без вашей помощи в спортивный костюм, складывать аккуратно свои вещ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Готов ли ребенок к школе?</a:t>
            </a:r>
            <a:br>
              <a:rPr sz="3400"/>
            </a:b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Тест для родителей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013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ет ли Ваш ребенок идти в школ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лекает ли Вашего ребенка в школе то, что в ней будет интересно учиться, и он многое узнает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заниматься самостоятельно каким-либо делом, требующим сосредоточенности в течение 30 минут (например, собирать конструктор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но ли, что Ваш ребенок в присутствии незнакомых нисколько не стесняетс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составлять рассказы по картинке не короче чем из 5 предлож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рассказать наизусть несколько стихотвор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он изменять существительные по числа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читать по слогам или, что еще лучше, целыми словам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считать до 10 и обратн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но ли, что Ваш ребенок имеет твердую рук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решать простые задачи на вычитание или прибавление единицы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ит ли он рисовать и раскрашивать картин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пользоваться ножницами и клеем (например, делать аппликации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собрать разрезанную картинку из 5 частей за 1 минут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ет ли ребенок названия диких и домашних животных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понимать и точно выполнять словесные инструкц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обобщать понятия (например, назвать одним словом “овощи” помидоры, морковь, лук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ит ли Ваш ребенок заниматься самостоятельно рисовать, собирать мозаику и т. д.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дсчитайте количество положительных ответов на вопросы теста. Если оно со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5-18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жно считать, что ребенок вполне готов к тому, чтобы идти в школу. Вы не напрасно много с ним занимались, а школьные трудности, если и возникнут, будут легко преодолимы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-14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Вы на правильном пути, ребенок многому научился, а содержание вопросов, на которые Вы ответили отрицанием, подскажет Вам точки приложения дальнейших ус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ньше 9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ебенку нужна ваша помощь, почитайте другую специальную литературу, постарайтесь уделять больше времени занятиям с ребенком и обратите особое внимание на то, чего он не умеет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MCBD07208_0000[1]"/>
          <p:cNvPicPr/>
          <p:nvPr/>
        </p:nvPicPr>
        <p:blipFill>
          <a:blip r:embed="rId1"/>
          <a:stretch/>
        </p:blipFill>
        <p:spPr>
          <a:xfrm>
            <a:off x="7329600" y="0"/>
            <a:ext cx="1814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Картинка 18 из 97"/>
          <p:cNvPicPr/>
          <p:nvPr/>
        </p:nvPicPr>
        <p:blipFill>
          <a:blip r:embed="rId2"/>
          <a:stretch/>
        </p:blipFill>
        <p:spPr>
          <a:xfrm>
            <a:off x="5940360" y="3645000"/>
            <a:ext cx="2362320" cy="3063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Картинка 82 из 125"/>
          <p:cNvPicPr/>
          <p:nvPr/>
        </p:nvPicPr>
        <p:blipFill>
          <a:blip r:embed="rId3"/>
          <a:stretch/>
        </p:blipFill>
        <p:spPr>
          <a:xfrm>
            <a:off x="5148360" y="1341360"/>
            <a:ext cx="1512720" cy="2129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Картинка 97 из 125"/>
          <p:cNvPicPr/>
          <p:nvPr/>
        </p:nvPicPr>
        <p:blipFill>
          <a:blip r:embed="rId4"/>
          <a:stretch/>
        </p:blipFill>
        <p:spPr>
          <a:xfrm>
            <a:off x="468360" y="3645000"/>
            <a:ext cx="2362320" cy="30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Картинка 107 из 332"/>
          <p:cNvPicPr/>
          <p:nvPr/>
        </p:nvPicPr>
        <p:blipFill>
          <a:blip r:embed="rId5"/>
          <a:stretch/>
        </p:blipFill>
        <p:spPr>
          <a:xfrm>
            <a:off x="6948360" y="333360"/>
            <a:ext cx="2016360" cy="301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Картинка 115 из 332"/>
          <p:cNvPicPr/>
          <p:nvPr/>
        </p:nvPicPr>
        <p:blipFill>
          <a:blip r:embed="rId6"/>
          <a:stretch/>
        </p:blipFill>
        <p:spPr>
          <a:xfrm>
            <a:off x="250920" y="1341360"/>
            <a:ext cx="1428480" cy="21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7" descr="Картинка 276 из 332"/>
          <p:cNvPicPr/>
          <p:nvPr/>
        </p:nvPicPr>
        <p:blipFill>
          <a:blip r:embed="rId7"/>
          <a:stretch/>
        </p:blipFill>
        <p:spPr>
          <a:xfrm>
            <a:off x="3564000" y="1341360"/>
            <a:ext cx="1368360" cy="21589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9"/>
          <p:cNvSpPr/>
          <p:nvPr/>
        </p:nvSpPr>
        <p:spPr>
          <a:xfrm>
            <a:off x="0" y="-12600"/>
            <a:ext cx="142884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оветуем прочитать…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2" name="Picture 24" descr="Картинка 279 из 458"/>
          <p:cNvPicPr/>
          <p:nvPr/>
        </p:nvPicPr>
        <p:blipFill>
          <a:blip r:embed="rId8"/>
          <a:stretch/>
        </p:blipFill>
        <p:spPr>
          <a:xfrm>
            <a:off x="1979640" y="1341360"/>
            <a:ext cx="1428840" cy="2190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6" descr="Картинка 212 из 458"/>
          <p:cNvPicPr/>
          <p:nvPr/>
        </p:nvPicPr>
        <p:blipFill>
          <a:blip r:embed="rId9"/>
          <a:stretch/>
        </p:blipFill>
        <p:spPr>
          <a:xfrm>
            <a:off x="3203640" y="3716280"/>
            <a:ext cx="244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Тест “Готовы ли вы отдавать своего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ребенка</a:t>
            </a: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 в школу?”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кажется, что мой ребенок будет учиться хуже других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Я опасаюсь, что мой ребенок часто будет обижать других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На мой взгляд, четыре урока — непомерная нагрузка для маленько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Трудно быть уверенным, что учителя младших классов хорошо понимают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Ребенок может спокойно учиться только в том случае, если учительница — его собственная мам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Трудно представить, что первоклассник может быстро научиться читать, считать и писа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Мне кажется, что дети в этом возрасте еще не способны друж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Боюсь даже думать о том, как мой ребенок будет обходиться без дневного с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Мой ребенок часто плачет, когда к нему обращается незнакомый взрослый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Мой ребенок не ходит в детский сад и никогда не расстается с матер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. Начальная школа, по-моему, редко способна чему-либо научить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. Я опасаюсь, что дети будут дразнить мое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. Мой малыш, по-моему, значительно слабее своих сверстни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. Боюсь, что учительница не имеет возможности оценить успехи каждо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5. Мой ребенок часто говорит: “Мама, мы пойдем в школу вместе!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Cj03432970000[1]"/>
          <p:cNvPicPr/>
          <p:nvPr/>
        </p:nvPicPr>
        <p:blipFill>
          <a:blip r:embed="rId1"/>
          <a:stretch/>
        </p:blipFill>
        <p:spPr>
          <a:xfrm>
            <a:off x="7323120" y="5016600"/>
            <a:ext cx="18208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Занесите свои ответы в табличку: 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если Вы согласны с утверждением, поставьте крестик после косой черты, если не согласны, оставьте клетку пустой. 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03280" y="2060640"/>
          <a:ext cx="6346800" cy="4525920"/>
        </p:xfrm>
        <a:graphic>
          <a:graphicData uri="http://schemas.openxmlformats.org/drawingml/2006/table">
            <a:tbl>
              <a:tblPr/>
              <a:tblGrid>
                <a:gridCol w="1270080"/>
                <a:gridCol w="1268280"/>
                <a:gridCol w="1270080"/>
                <a:gridCol w="1268280"/>
                <a:gridCol w="12700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зультаты тестир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4 бал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означает, что у Вас есть все основания оптимистично ждать первого сентября — по крайней мере, сами вполне готовы к школьной жизни Ваше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-10 бал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лучше подготовиться к возможным трудностям заран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баллов и больш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было бы неплохо посоветоваться детским психоло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А теперь обратим внимание на то, в каких столбц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получено 2 или 3 кре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— необходимо больше заниматься играми и заданиями, развивающими память, внимание, тонкую мотори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— нужно обратить внимание на то, умеет ли Ваш ребенок общаться с другими деть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— предвидятся сложности, связанные со здоровьем ребенка, но еще есть время заняться закаливанием и общеукрепляющими упражн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— есть опасения, что ребенок не найдет контакта с учительницей, надо обратить внимание на сюжетны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 – ваш ребенок недостаточно самостоятелен, вероятно, он излишне привязан к мат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s_1sentebrja"/>
          <p:cNvPicPr/>
          <p:nvPr/>
        </p:nvPicPr>
        <p:blipFill>
          <a:blip r:embed="rId1"/>
          <a:stretch/>
        </p:blipFill>
        <p:spPr>
          <a:xfrm>
            <a:off x="7812000" y="333360"/>
            <a:ext cx="9241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ак помочь ребенку подготовиться к школе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обенно внимательно необходимо готовится к школе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менность и роды протекали с осложнени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перенёс родовую травму или родился недоношенны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страдает желудочно-кишечными заболеваниями, энурезом, подвержен частым простудам, есть нарушение с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с трудом находит контакт со сверстниками, эмоционально не устойчи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 замечаете двигательную заторможенность или гиперактив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Психологическая готовность </a:t>
            </a:r>
            <a:br>
              <a:rPr sz="3400"/>
            </a:b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к обучению в школе включает </a:t>
            </a:r>
            <a:br>
              <a:rPr sz="3400"/>
            </a:b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в себя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тивацион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ев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тивную готов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MCj04357730000[1]"/>
          <p:cNvPicPr/>
          <p:nvPr/>
        </p:nvPicPr>
        <p:blipFill>
          <a:blip r:embed="rId1"/>
          <a:stretch/>
        </p:blipFill>
        <p:spPr>
          <a:xfrm>
            <a:off x="6659640" y="2997360"/>
            <a:ext cx="216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Интеллектуальная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т развитие внимания, памяти, сформированные мыслительные операции анализа, синтеза, обобщения, умение устанавливать связи между явлениями и событ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 6–7-и годам ребенок должен зна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й адрес и название города, в котором он живе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страны и ее столиц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а и отчества своих родителей, информацию о местах их работ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а года, их последовательность и основные призна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я месяцев, дней недел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виды деревьев и цв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му следует уметь различать домашних и диких животных, понимать, что бабушка — это мама отца или мат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ыми словами, он должен ориентироваться во времени, пространстве и своем ближайшем окру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CBD07205_0000[1]"/>
          <p:cNvPicPr/>
          <p:nvPr/>
        </p:nvPicPr>
        <p:blipFill>
          <a:blip r:embed="rId1"/>
          <a:stretch/>
        </p:blipFill>
        <p:spPr>
          <a:xfrm>
            <a:off x="7164360" y="189000"/>
            <a:ext cx="182088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Мотивацион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разумевает наличие у ребенка желания принять новую социальную р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 школьни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этой целью родителям необходимо объяснить своему ребе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то дети ходят учиться для получения знаний, которые необходимы каждому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ует давать ребенку только позитивную информацию о школе. Помните, что ваши оценки с легкостью заимствуются деть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бенок должен видеть, что родители спокойно и уверенно смотрят на его предстоящее поступление в шк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чиной нежелания идти в школу может быть и то, что ребенок “не наигрался”. Но в возрасте 6–7 лет психическое развитие очень пластично, и дети, которые “не наигрались”, придя в класс, скоро начинают испытывать удовольствие от процесса уче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м не обязательно до начала учебного года формировать любовь к школе, поскольку невозможно полюбить то, с чем еще не сталкивался. Достаточно дать понять ребе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чеба — это обязанность каждого человека и от того, насколько он будет успешен в учении, зависит отношение к нему многих из окружающих ребенка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Тест «Мотивационная готовность»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бор вопросов, предлагающих ребенку выбор одного из вариантов повед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Если бы было две школы - одна с уроками русского языка, математики, чтения, пения, рисования и физкультуры, а другая - только с уроками пения, рисования и физкультуры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Если бы было две школы - одна с уроками и переменками, а другая только с переменками и никаких уроков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Если бы было две школы - в одной ставили бы за хорошие ответы пятерки и четверки, а в другой давали бы сладости и игрушки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Если бы было две школы - в одной можно вставать только с разрешения учительницы и поднимать руку, если ты хочешь что-то спросить, а в другой можно делать на уроке все, что хочешь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Если бы было две школы - в одной задавали бы уроки на дом, а в другой нет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Если бы у вас в классе заболела учительница и директор предложил ее заменить другой учительницей или мамой, то кого бы ты выбрал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 Если бы мама сказала: "Ты у меня еще маленький, тебе трудно вставать, делать уроки. Останься в детском саду, а в школу пойдешь на будущий год", то согласился бы ты с таким предложением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 Если бы мама сказала: "Я договорилась с учительницей, что она будет ходить к нам домой и заниматься с тобой. Теперь тебе не придется ходить по утрам в школу", то согласился бы ты с таким предложением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. Если бы соседский мальчик спросил тебя: "Что тебе больше всего нравится в школе?", то что бы ты ответил 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4:05:29Z</dcterms:created>
  <dc:creator>Мама</dc:creator>
  <dc:description/>
  <dc:language>en-US</dc:language>
  <cp:lastModifiedBy>1</cp:lastModifiedBy>
  <dcterms:modified xsi:type="dcterms:W3CDTF">2013-04-08T06:29:24Z</dcterms:modified>
  <cp:revision>80</cp:revision>
  <dc:subject/>
  <dc:title>Родительское собрание для родителей будущих первоклассников</dc:title>
</cp:coreProperties>
</file>