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1A4-8034-4827-A081-24847CD3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DF77-27A2-4B0A-8302-533D61E8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D20-633A-4ABC-A18D-4A808879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989-BF10-4255-BA4E-0A735782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8E04-DB94-47C0-A1BF-32414FDF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7CD4-4847-442A-9E1F-E5B4305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482-23EB-4A44-8618-0637CCF9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CEE1-5D04-416D-9200-A0440AEA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D458-4A9F-4EE3-BE2C-7534DACA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FC7-4BEE-4145-85FC-E8B55993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ACC4-00F5-4828-8C0B-DF7178E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B00-33C2-4314-A6E7-B5B314E5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9A1A-5C48-452E-A87C-23839BC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D779-EFFA-4F85-BC16-5C34371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1306-C79C-4C9E-84B4-D3D203E2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7DAD-2733-4C62-B424-98DFD3F8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673A-60EC-4576-AE9E-91CF95C0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AF9E-2E0F-4C1F-8649-410B528E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E1B41-A5AA-4932-976B-F701CCDD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3F17-E5A4-40ED-BF62-42598CB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11AF-AE72-4886-88B5-21A7E335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B512B-7187-416C-8A5E-00F5569E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87E-A036-4D0B-B343-8B5D803C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43497-F383-4DC7-A28F-E21831B5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985B-85D1-46F4-87CD-51FEE78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A54E-ACAC-40AB-9EFA-A70E634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D7CC-CDC6-496D-9ECE-510BFBFE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A7EE-CC5B-4006-AE9A-D06A580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94B3-35DA-4A78-84C5-AD5E5A77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C6FC-7E11-478C-AF9B-6C1743E1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8129A-31A6-485A-9E51-958EDA2F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CA556-90CD-455A-B9C4-AB9D1285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9927-0857-4477-A38F-0F0D5E57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A8C-C0D5-496F-B6AE-E16ED90A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68B2-CC71-40FB-B958-DFDAA88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0969E-5F21-4922-8B00-89BC4FC6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81038-59EA-4CED-B7B0-BBADFA10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01D16-50DB-49F3-93F6-A840D575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E785-9960-411A-8625-FC30A579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9011-4E50-46DB-B9A9-7F1926D9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214D5-2782-4702-9CD5-BB295166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6DE4-BBE1-479A-9D7E-ABC36C60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9FFD-A720-4F6A-AC6A-A7138886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11A3F-9C6B-4072-99E7-51A56F76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7C6-BEE1-4321-9C7B-4878F482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C074-E7B4-4CD7-9408-DB6E3D0C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6CE58-D6FE-4A2E-91DD-92C24C0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9334-E8AB-438A-8399-E575D624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DA732-FF07-4956-8AB7-2D61ACF5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0579-3B8E-40A7-8FD4-E491BA2F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9FE51-7837-45FF-8AEC-BFE716F2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D2E0E-6223-47C9-B817-0CA2C880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BD8DD-7F75-4B4F-9ABD-BC11E1A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A008-24BD-4A6C-87C1-550D9069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641B3-1F74-41A4-8096-8D87CACD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325-F298-49C5-8080-A014FBE4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08639-FA51-49D3-BEDB-A01CA531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475-8C27-4286-A036-3E0188D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AD7-6678-4404-8DC3-EC3682C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1E8-FB90-4D67-9AFE-62793FB5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95122D-197B-4120-AE4F-204C732D97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BB6DDF-09A5-4691-B58C-7BF46170B0F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31A61E-49F4-420A-BFD2-50B9D00123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EFF829-3AE8-402C-8628-61FBCB4937B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36CA18-EE28-423E-BDD6-63B014DCF78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n.kak.ru/news/illustrator/a13273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3"/>
          <p:cNvSpPr/>
          <p:nvPr/>
        </p:nvSpPr>
        <p:spPr>
          <a:xfrm>
            <a:off x="5775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324000" y="47628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Рождественский рассказ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« Душа в холоде»"/>
          <p:cNvPicPr/>
          <p:nvPr/>
        </p:nvPicPr>
        <p:blipFill>
          <a:blip r:embed="rId1"/>
          <a:stretch/>
        </p:blipFill>
        <p:spPr>
          <a:xfrm>
            <a:off x="468360" y="260280"/>
            <a:ext cx="849636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Огромный холодный город"/>
          <p:cNvPicPr/>
          <p:nvPr/>
        </p:nvPicPr>
        <p:blipFill>
          <a:blip r:embed="rId1"/>
          <a:stretch/>
        </p:blipFill>
        <p:spPr>
          <a:xfrm>
            <a:off x="900000" y="55440"/>
            <a:ext cx="755964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281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Душевная «мёртвость» людей"/>
          <p:cNvPicPr/>
          <p:nvPr/>
        </p:nvPicPr>
        <p:blipFill>
          <a:blip r:embed="rId1"/>
          <a:stretch/>
        </p:blipFill>
        <p:spPr>
          <a:xfrm>
            <a:off x="900000" y="115920"/>
            <a:ext cx="7632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3" name="Picture 2" descr="D:\ангелы\1281516073430.jpg"/>
          <p:cNvPicPr/>
          <p:nvPr/>
        </p:nvPicPr>
        <p:blipFill>
          <a:blip r:embed="rId1"/>
          <a:stretch/>
        </p:blipFill>
        <p:spPr>
          <a:xfrm>
            <a:off x="684360" y="404640"/>
            <a:ext cx="7632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D:\ангелы\98916_image_large.jpg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6" descr="Chehov011.jpg"/>
          <p:cNvPicPr/>
          <p:nvPr/>
        </p:nvPicPr>
        <p:blipFill>
          <a:blip r:embed="rId1"/>
          <a:stretch/>
        </p:blipFill>
        <p:spPr>
          <a:xfrm>
            <a:off x="2484360" y="606600"/>
            <a:ext cx="4829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http://wwwn.kak.ru/vimg/article/e63c6566d30f301ee5d822d20ca1b4d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115920"/>
            <a:ext cx="5472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1" descr="larina_anq.jpg"/>
          <p:cNvPicPr/>
          <p:nvPr/>
        </p:nvPicPr>
        <p:blipFill>
          <a:blip r:embed="rId1"/>
          <a:stretch/>
        </p:blipFill>
        <p:spPr>
          <a:xfrm>
            <a:off x="1214280" y="928800"/>
            <a:ext cx="6786720" cy="57229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3"/>
          <p:cNvSpPr/>
          <p:nvPr/>
        </p:nvSpPr>
        <p:spPr>
          <a:xfrm>
            <a:off x="1214280" y="928800"/>
            <a:ext cx="6786720" cy="57150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17" descr="larina_anq.jpg"/>
          <p:cNvPicPr/>
          <p:nvPr/>
        </p:nvPicPr>
        <p:blipFill>
          <a:blip r:embed="rId2"/>
          <a:stretch/>
        </p:blipFill>
        <p:spPr>
          <a:xfrm>
            <a:off x="1214280" y="928800"/>
            <a:ext cx="6786720" cy="57229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8"/>
          <p:cNvSpPr/>
          <p:nvPr/>
        </p:nvSpPr>
        <p:spPr>
          <a:xfrm>
            <a:off x="1214280" y="928800"/>
            <a:ext cx="6786720" cy="571500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6087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Рисунок 4" descr="img005.jpg"/>
          <p:cNvPicPr/>
          <p:nvPr/>
        </p:nvPicPr>
        <p:blipFill>
          <a:blip r:embed="rId1"/>
          <a:stretch/>
        </p:blipFill>
        <p:spPr>
          <a:xfrm>
            <a:off x="1785960" y="581040"/>
            <a:ext cx="55720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197000"/>
            <a:ext cx="7024680" cy="998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820880" y="534960"/>
            <a:ext cx="5500800" cy="5788080"/>
          </a:xfrm>
          <a:prstGeom prst="rect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Рисунок 8" descr="192285.jpg"/>
          <p:cNvPicPr/>
          <p:nvPr/>
        </p:nvPicPr>
        <p:blipFill>
          <a:blip r:embed="rId1"/>
          <a:stretch/>
        </p:blipFill>
        <p:spPr>
          <a:xfrm>
            <a:off x="1692360" y="534960"/>
            <a:ext cx="5832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Рождественский подарок"/>
          <p:cNvPicPr/>
          <p:nvPr/>
        </p:nvPicPr>
        <p:blipFill>
          <a:blip r:embed="rId1"/>
          <a:stretch/>
        </p:blipFill>
        <p:spPr>
          <a:xfrm>
            <a:off x="971640" y="115920"/>
            <a:ext cx="70563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Ночь младенцев"/>
          <p:cNvPicPr/>
          <p:nvPr/>
        </p:nvPicPr>
        <p:blipFill>
          <a:blip r:embed="rId1"/>
          <a:stretch/>
        </p:blipFill>
        <p:spPr>
          <a:xfrm>
            <a:off x="468360" y="115920"/>
            <a:ext cx="84963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6:14:07Z</dcterms:created>
  <dc:creator>Солнышко</dc:creator>
  <dc:description/>
  <dc:language>en-US</dc:language>
  <cp:lastModifiedBy>Александр</cp:lastModifiedBy>
  <dcterms:modified xsi:type="dcterms:W3CDTF">2013-04-07T15:36:29Z</dcterms:modified>
  <cp:revision>136</cp:revision>
  <dc:subject/>
  <dc:title>Шолохов</dc:title>
</cp:coreProperties>
</file>