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E21-CD8E-4E3D-9F5B-FFA6D516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102-242D-4FCD-8D2A-06199A11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747-203D-4DFF-A81D-3F638FCD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886-E0D0-4C0B-93E2-630643F2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D44B-93CE-4075-A756-A4121574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A242-FB54-400D-B11E-425F657D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C857-1A40-4504-8805-5B8B4211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0B64-99C3-46DD-8838-B3068174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0AD8-746E-4425-B4C5-BE8BE42B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DBE3-3ACF-4A74-AF43-BC9585BD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E395-37ED-44EC-A9A1-E58F7850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106-ACF6-4B9A-94AC-1E3DA433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B0DA-F32B-43A2-A4C9-AA7EEB2F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1E06-D082-4F8C-A6D9-471669ED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5EBF-DBF8-4902-873B-099143DC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96FC-B238-4C09-B569-D8368562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7493-0BC9-46FD-BA06-1F7E8D41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0CCC-7C53-42A1-BCD3-6BE4A802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8A55-C9A9-45DE-A3AA-630B07B0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DB73-8575-46F8-9F70-018CC9D7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D9D4-539B-4E0A-BB7B-21BA8BD4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51201-9D6D-425D-BD2C-17C1A667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73A-DB3D-4149-B81A-716185BA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C512-7B2B-463B-A059-440A7F8D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16FB-26E0-4B6C-B633-CC6ED74B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EDDE8-CE2E-4697-B8F0-2AD7CF26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87E7-202E-4C74-B52E-D6D276DF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5237-F91D-420B-ABF3-160B9783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797B-39ED-4783-B96E-228FAB34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D9F7-8301-49B3-B3B0-E404D9D4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7AA2-6B63-404F-BA01-A8FD47D8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D64E-EA2D-455B-804A-72CBE2B0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EFDB-4DD1-4112-B4C7-9B7C6251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26F-636F-4C40-8ECD-C8CEF680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048CA-F01D-4488-9CCA-2E75D7FF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6B2C0-4F0F-4E56-9BE9-FA7C20C2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9952-E67E-41BA-A4E9-D78B78D6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0DE31-5F59-4F08-9BCD-8EA27B66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EAADB-7D3A-46C1-93CC-70B04686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C2858-BAF4-4B20-A346-0CCD34F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2A89-B473-4F2F-9552-296BD907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37C7-5279-440E-A4D7-A7B97307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BB9E0-1826-47EE-B9AC-1CCB6847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CB94C-9525-4CE1-8C76-6620BEB6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D0F-196E-4FB5-AF0E-97CD5B4C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08A83-A904-49DD-A972-078E1FE0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9876A-4726-492F-A8A3-7245059F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759BA-57A3-4271-B53B-8E46E353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47234-E4A3-4903-905E-3779B668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27DA3-793C-4CFD-8CF7-6D44DC7F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AC3A6-10D8-4F07-9260-A382D696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D5A75-5256-4F5A-8ECD-7E38CCC7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3B8F7-35A4-45E2-A5D1-59CD38F6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6B114-7D69-4E08-89C0-F0ADFA59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A449D-4575-4C22-A78E-D9060333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560-934D-4E8C-AA16-E2EA8177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9AFAE-3CFF-48DF-80D5-55F41B04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A12-4A3B-4757-9095-98B0D32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3BA-DA32-4E2B-A680-F833320B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A06-6D3C-4A65-A990-033B434A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6B4EF1-F1D8-4B30-BBF9-B557C2E6C1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08BF2C-12E4-43C9-9696-AAFBDFC83A8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844546-9B74-4D84-8AC8-6D9BA1F7578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DF126C-0E32-4F21-B855-E6E05F4E4D5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37E6EC-F0AB-4E25-B28D-E89F0F34908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n.kak.ru/news/illustrator/a13273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5775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324000" y="47628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Рождественский рассказ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« Душа в холоде»"/>
          <p:cNvPicPr/>
          <p:nvPr/>
        </p:nvPicPr>
        <p:blipFill>
          <a:blip r:embed="rId1"/>
          <a:stretch/>
        </p:blipFill>
        <p:spPr>
          <a:xfrm>
            <a:off x="468360" y="260280"/>
            <a:ext cx="84963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Огромный холодный город"/>
          <p:cNvPicPr/>
          <p:nvPr/>
        </p:nvPicPr>
        <p:blipFill>
          <a:blip r:embed="rId1"/>
          <a:stretch/>
        </p:blipFill>
        <p:spPr>
          <a:xfrm>
            <a:off x="900000" y="55440"/>
            <a:ext cx="755964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281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Душевная «мёртвость» людей"/>
          <p:cNvPicPr/>
          <p:nvPr/>
        </p:nvPicPr>
        <p:blipFill>
          <a:blip r:embed="rId1"/>
          <a:stretch/>
        </p:blipFill>
        <p:spPr>
          <a:xfrm>
            <a:off x="900000" y="115920"/>
            <a:ext cx="76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3" name="Picture 2" descr="D:\ангелы\1281516073430.jpg"/>
          <p:cNvPicPr/>
          <p:nvPr/>
        </p:nvPicPr>
        <p:blipFill>
          <a:blip r:embed="rId1"/>
          <a:stretch/>
        </p:blipFill>
        <p:spPr>
          <a:xfrm>
            <a:off x="684360" y="404640"/>
            <a:ext cx="7632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:\ангелы\98916_image_large.jpg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6" descr="Chehov011.jpg"/>
          <p:cNvPicPr/>
          <p:nvPr/>
        </p:nvPicPr>
        <p:blipFill>
          <a:blip r:embed="rId1"/>
          <a:stretch/>
        </p:blipFill>
        <p:spPr>
          <a:xfrm>
            <a:off x="2484360" y="606600"/>
            <a:ext cx="4829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http://wwwn.kak.ru/vimg/article/e63c6566d30f301ee5d822d20ca1b4d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15920"/>
            <a:ext cx="54723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1" descr="larina_anq.jpg"/>
          <p:cNvPicPr/>
          <p:nvPr/>
        </p:nvPicPr>
        <p:blipFill>
          <a:blip r:embed="rId1"/>
          <a:stretch/>
        </p:blipFill>
        <p:spPr>
          <a:xfrm>
            <a:off x="1214280" y="928800"/>
            <a:ext cx="6786720" cy="57229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3"/>
          <p:cNvSpPr/>
          <p:nvPr/>
        </p:nvSpPr>
        <p:spPr>
          <a:xfrm>
            <a:off x="1214280" y="928800"/>
            <a:ext cx="6786720" cy="571500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17" descr="larina_anq.jpg"/>
          <p:cNvPicPr/>
          <p:nvPr/>
        </p:nvPicPr>
        <p:blipFill>
          <a:blip r:embed="rId2"/>
          <a:stretch/>
        </p:blipFill>
        <p:spPr>
          <a:xfrm>
            <a:off x="1214280" y="928800"/>
            <a:ext cx="6786720" cy="57229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8"/>
          <p:cNvSpPr/>
          <p:nvPr/>
        </p:nvSpPr>
        <p:spPr>
          <a:xfrm>
            <a:off x="1214280" y="928800"/>
            <a:ext cx="6786720" cy="571500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6087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4" descr="img005.jpg"/>
          <p:cNvPicPr/>
          <p:nvPr/>
        </p:nvPicPr>
        <p:blipFill>
          <a:blip r:embed="rId1"/>
          <a:stretch/>
        </p:blipFill>
        <p:spPr>
          <a:xfrm>
            <a:off x="1785960" y="581040"/>
            <a:ext cx="55720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197000"/>
            <a:ext cx="7024680" cy="998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820880" y="534960"/>
            <a:ext cx="5500800" cy="578808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Рисунок 8" descr="192285.jpg"/>
          <p:cNvPicPr/>
          <p:nvPr/>
        </p:nvPicPr>
        <p:blipFill>
          <a:blip r:embed="rId1"/>
          <a:stretch/>
        </p:blipFill>
        <p:spPr>
          <a:xfrm>
            <a:off x="1692360" y="534960"/>
            <a:ext cx="5832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Рождественский подарок"/>
          <p:cNvPicPr/>
          <p:nvPr/>
        </p:nvPicPr>
        <p:blipFill>
          <a:blip r:embed="rId1"/>
          <a:stretch/>
        </p:blipFill>
        <p:spPr>
          <a:xfrm>
            <a:off x="971640" y="115920"/>
            <a:ext cx="70563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Ночь младенцев"/>
          <p:cNvPicPr/>
          <p:nvPr/>
        </p:nvPicPr>
        <p:blipFill>
          <a:blip r:embed="rId1"/>
          <a:stretch/>
        </p:blipFill>
        <p:spPr>
          <a:xfrm>
            <a:off x="468360" y="115920"/>
            <a:ext cx="84963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6:14:07Z</dcterms:created>
  <dc:creator>Солнышко</dc:creator>
  <dc:description/>
  <dc:language>en-US</dc:language>
  <cp:lastModifiedBy>Александр</cp:lastModifiedBy>
  <dcterms:modified xsi:type="dcterms:W3CDTF">2013-04-07T15:36:29Z</dcterms:modified>
  <cp:revision>136</cp:revision>
  <dc:subject/>
  <dc:title>Шолохов</dc:title>
</cp:coreProperties>
</file>