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12.png" ContentType="image/png"/>
  <Override PartName="/ppt/media/image35.png" ContentType="image/png"/>
  <Override PartName="/ppt/media/image39.png" ContentType="image/png"/>
  <Override PartName="/ppt/media/image4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37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5.jpeg" ContentType="image/jpeg"/>
  <Override PartName="/ppt/media/image50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051-A6AC-4209-AE9E-5A8C9804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241-837F-49BF-8146-CCF86966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D5F-64AE-42AA-8B31-A65E56C0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694-F7A2-4DEC-B413-36E1D163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2A9F-E254-4D5B-907A-E3706F95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AD77-BA92-4AE8-9960-22A74882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ACE7-B479-4693-98BA-34A6D73E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B834-9B4F-4778-9555-2CB8922A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6647-DE25-49C6-B3BD-211620D3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CBDB-8118-4BA1-AA9B-A6135E70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C041-B8DB-40E4-9356-3F3D1E1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81E-F6A8-491F-8FBD-5E62ADEA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CFCF-B2A1-45FB-90A5-AFD66137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9475-753F-4964-BD5C-7F6A5D5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139B-A745-4E63-A148-C16109EA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E95A-8875-4B9B-8D5F-4F0370D0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CD05-082A-4838-920A-1FA7E47E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7A31-0CBD-4615-91D4-5D2B9A94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82D6-AFE2-4318-9CE3-B5ED5539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1AC0-F11D-4916-8921-28DAC142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7E24-3E5A-4558-9270-55848F92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A257-1022-4BED-A4E6-A615F0F8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7CE-75EE-4F22-948C-72B3C07E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FAE1-4951-459B-ABEA-8AC8C591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32135-6808-48B4-A8D8-1118E212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D1B3-1808-4491-9F81-13647CB7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D010-C1CA-4412-8DAA-E47AE118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0B6C-C824-467A-9CE9-E0430543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822E-C4F4-41E9-BE8A-158111C9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D212-B029-4BE0-BCB4-5DE85811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C723-66AC-412E-8702-0FD344EE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9BEDC-2BFA-41CF-8E9D-914C5225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7EED-C4D0-427E-8F25-C7E65ACA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257-7E4E-4CFD-8CB6-99B2D8D7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2FCA-5217-4A62-96F2-201C4413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965D-BAD5-483F-99F5-0743AE9F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745B-F135-46A4-A6A4-EBE699B1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9B99-4D19-4428-B13E-DF50276B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D06B0-35B2-4B47-9C74-FD15933D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C36F1-2974-4649-9E64-4E460880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CA6A6-6AB9-4657-87AE-70A8988B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A3A32-0849-447F-BA1F-3CC917BB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D774-1EFA-4A1C-BA5F-691F1ED4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F8F14-790E-476F-A96A-7594F08A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681-F5B2-442B-BCB1-07283670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DBC91-4E7F-4522-87A2-249E71B0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77DAC-9215-451D-8CD3-DD4352A9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C2267-29BF-435F-A562-96417457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23DF-3AFB-4F38-9554-82EF20E3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4ACD8-827A-484E-B099-15EDDA8B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0695A-DA75-49D2-A292-111EF792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1834A-6A9B-4A2E-A0C4-E25838A2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23CE-593E-4D9E-A5C3-58067992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1DDA4-707A-4AFF-BC04-FF02C957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6E39B-1EEB-453C-A08E-EE5C9EB2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8A0-3A3E-47B9-9FF8-048C8C2C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43130-0E1E-4263-8B3A-2063F59B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19DD-EADB-4EFE-B58B-1417301E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60A95-8C6D-4538-8A6E-482BF05E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79520-0E32-478B-AC48-047A9623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1F7AC-FFE5-40EF-B534-92730A62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B4A40-B324-4AAE-810D-10113FD2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7BB68-E618-45AB-8174-DA1576C3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271AA-3F6F-4A03-B2B5-803B239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ADDD7-B28C-4726-BD4B-3D068691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07AA3-2ED8-482B-96A1-2A144961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AF9-E996-4660-8C77-2BBE0AF9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6A5BF-215D-40E4-932D-2CC708E0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7BB61-FB15-42F6-960A-E612B119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65413-9081-411E-BD55-D37981F9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4840C-65FC-4F6D-8291-CF9B512C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534F9-3DB0-4DD4-8132-220AC84B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190D4-1838-4101-89BF-0B0CBBBF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D8808-76C9-4B16-B194-6EE371C5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CCAD0-B631-462D-804E-6A36EF30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99516-939F-4371-8E77-F57FE381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73A39-334F-45B0-91CC-B2E503BE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95E-034F-44B7-8215-35CE97C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2742-0ADA-4807-AA07-C655B451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2C3A1-EA14-4826-948D-930B1486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3293C-9E64-481E-A477-39366E84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1E7F7-6514-41D8-A71D-64EFDF53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2DA6C-E167-40A3-8E6F-29EAF30D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E2A-36A9-49A1-A373-4FECBF5E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2898-E159-4FAE-9D9B-B7ECE3D3040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37DA-5116-4BBC-A6C2-F46B6AC58DB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2AFD-F6E4-404F-96BF-11EC412BF31F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67AB-BEF1-41DD-AD79-196D2217816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2AD1-285D-422B-BD8D-1BEF6229242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BDA0-A078-4474-907A-48C958C7586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96D9-F041-4BB2-A4F5-95DDAAB3879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682560" y="3108240"/>
            <a:ext cx="8089920" cy="19274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 к уроку изобразительного искусства  в 6 классе по программе  Б.М. Неменского  подготовлена учителем второй квалификационной категории МБОУ «Юркинская СОШ» Ивановой Н.С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648320" y="416376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ХХ веке яркий образец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я силуэта можн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идеть в африканской живопис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нгатинга, которая получил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е название по имен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теля направления –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дуардо Саиди Тингатинг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"/>
          <p:cNvPicPr/>
          <p:nvPr/>
        </p:nvPicPr>
        <p:blipFill>
          <a:blip r:embed="rId3"/>
          <a:stretch/>
        </p:blipFill>
        <p:spPr>
          <a:xfrm>
            <a:off x="1692360" y="4365720"/>
            <a:ext cx="1833480" cy="1833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"/>
          <p:cNvPicPr/>
          <p:nvPr/>
        </p:nvPicPr>
        <p:blipFill>
          <a:blip r:embed="rId4"/>
          <a:stretch/>
        </p:blipFill>
        <p:spPr>
          <a:xfrm>
            <a:off x="3851280" y="1916280"/>
            <a:ext cx="1774800" cy="1774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"/>
          <p:cNvPicPr/>
          <p:nvPr/>
        </p:nvPicPr>
        <p:blipFill>
          <a:blip r:embed="rId5"/>
          <a:stretch/>
        </p:blipFill>
        <p:spPr>
          <a:xfrm>
            <a:off x="6875640" y="1916280"/>
            <a:ext cx="17618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пись тингатинг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ась в Танзании (Африка) 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-х годах ХХ века. Сейчас эт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активно развиваетс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льзуется популярностью 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. Первые картины рисовались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оне, а прежде того – н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ах домо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здания картин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акриловые 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алевые краски, иногда с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ием мас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236680" cy="2236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46" name="Picture 3" descr=""/>
          <p:cNvPicPr/>
          <p:nvPr/>
        </p:nvPicPr>
        <p:blipFill>
          <a:blip r:embed="rId3"/>
          <a:stretch/>
        </p:blipFill>
        <p:spPr>
          <a:xfrm>
            <a:off x="4427640" y="4292640"/>
            <a:ext cx="1751040" cy="22366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347" name="Picture 4" descr=""/>
          <p:cNvPicPr/>
          <p:nvPr/>
        </p:nvPicPr>
        <p:blipFill>
          <a:blip r:embed="rId4"/>
          <a:stretch/>
        </p:blipFill>
        <p:spPr>
          <a:xfrm>
            <a:off x="6516720" y="4292640"/>
            <a:ext cx="2263680" cy="2265480"/>
          </a:xfrm>
          <a:prstGeom prst="rect">
            <a:avLst/>
          </a:prstGeom>
          <a:ln w="76320">
            <a:solidFill>
              <a:srgbClr val="47924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5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2614680" cy="993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68120" y="1730520"/>
            <a:ext cx="38275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XX веке силуэт практически перестал существовать, как искусство. Редко можно было встретить это направление в иллюстрациях книжных изданий, на выставках или других мероприятиях. Но сегодня, благодаря современным художникам, искусство вырезания силуэта переживает свое возрождение, и притягивает к себе все больше профессионалов и любителе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2754000" cy="4559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3"/>
          <a:stretch/>
        </p:blipFill>
        <p:spPr>
          <a:xfrm>
            <a:off x="6588000" y="1916280"/>
            <a:ext cx="21528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91" descr=""/>
          <p:cNvPicPr/>
          <p:nvPr/>
        </p:nvPicPr>
        <p:blipFill>
          <a:blip r:embed="rId2"/>
          <a:stretch/>
        </p:blipFill>
        <p:spPr>
          <a:xfrm>
            <a:off x="4984920" y="1774800"/>
            <a:ext cx="3365280" cy="2236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94" descr=""/>
          <p:cNvPicPr/>
          <p:nvPr/>
        </p:nvPicPr>
        <p:blipFill>
          <a:blip r:embed="rId3"/>
          <a:stretch/>
        </p:blipFill>
        <p:spPr>
          <a:xfrm>
            <a:off x="5548320" y="4164120"/>
            <a:ext cx="2236680" cy="2236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"/>
          <p:cNvPicPr/>
          <p:nvPr/>
        </p:nvPicPr>
        <p:blipFill>
          <a:blip r:embed="rId4"/>
          <a:stretch/>
        </p:blipFill>
        <p:spPr>
          <a:xfrm>
            <a:off x="971640" y="1700280"/>
            <a:ext cx="3092400" cy="2130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56" name="Picture 11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31287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648320" y="416376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о силуэта и сегодн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отеряло свой статус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инки силуэты используютс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кламе, в геральдике, в значках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блемах фирм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Рисунок 70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1919160" cy="18763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67" descr=""/>
          <p:cNvPicPr/>
          <p:nvPr/>
        </p:nvPicPr>
        <p:blipFill>
          <a:blip r:embed="rId3"/>
          <a:stretch/>
        </p:blipFill>
        <p:spPr>
          <a:xfrm>
            <a:off x="2195640" y="1916280"/>
            <a:ext cx="1636560" cy="1947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"/>
          <p:cNvPicPr/>
          <p:nvPr/>
        </p:nvPicPr>
        <p:blipFill>
          <a:blip r:embed="rId4"/>
          <a:stretch/>
        </p:blipFill>
        <p:spPr>
          <a:xfrm>
            <a:off x="1547640" y="4440240"/>
            <a:ext cx="2055960" cy="20620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416376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6" descr=""/>
          <p:cNvPicPr/>
          <p:nvPr/>
        </p:nvPicPr>
        <p:blipFill>
          <a:blip r:embed="rId2"/>
          <a:stretch/>
        </p:blipFill>
        <p:spPr>
          <a:xfrm>
            <a:off x="782640" y="1774800"/>
            <a:ext cx="3387600" cy="223668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7" descr=""/>
          <p:cNvPicPr/>
          <p:nvPr/>
        </p:nvPicPr>
        <p:blipFill>
          <a:blip r:embed="rId3"/>
          <a:stretch/>
        </p:blipFill>
        <p:spPr>
          <a:xfrm>
            <a:off x="5094360" y="1774800"/>
            <a:ext cx="3146400" cy="2236680"/>
          </a:xfrm>
          <a:prstGeom prst="rect">
            <a:avLst/>
          </a:prstGeom>
          <a:ln w="0">
            <a:noFill/>
          </a:ln>
        </p:spPr>
      </p:pic>
      <p:pic>
        <p:nvPicPr>
          <p:cNvPr id="366" name="Содержимое 8" descr=""/>
          <p:cNvPicPr/>
          <p:nvPr/>
        </p:nvPicPr>
        <p:blipFill>
          <a:blip r:embed="rId4"/>
          <a:stretch/>
        </p:blipFill>
        <p:spPr>
          <a:xfrm>
            <a:off x="871560" y="4164120"/>
            <a:ext cx="3209760" cy="2236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5"/>
          <a:stretch/>
        </p:blipFill>
        <p:spPr>
          <a:xfrm>
            <a:off x="5176800" y="4164120"/>
            <a:ext cx="29815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К какому виду искусства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носится искусство силуэ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Где и когда появилось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кусство силуэ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Способы создания силуэ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Где и как  в наше время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тся силуэт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WordArt 4"/>
          <p:cNvSpPr txBox="1"/>
          <p:nvPr/>
        </p:nvSpPr>
        <p:spPr>
          <a:xfrm>
            <a:off x="2556000" y="2924280"/>
            <a:ext cx="4268520" cy="19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3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уэ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франц. silhouette) - очертание предмета, подобное его тени; вид графической техники, плоскостное однотонное изображение фигур и предметов. Силуэты рисуются (тушью или белилами) или вырезаются из бумаги и наклеиваются на фо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иклопедический словар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3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1420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силуэт» происходи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фамилии Этьена де Силуэтта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ого министра финанс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я Людовика 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илуэтт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л огромное негодова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скаредностью, в отместку  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9 году на него сделал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икатуру – ненавистную тен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огущего министр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Содержимое 6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241800" cy="378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53880" y="146160"/>
            <a:ext cx="8466120" cy="126180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85" descr=""/>
          <p:cNvPicPr/>
          <p:nvPr/>
        </p:nvPicPr>
        <p:blipFill>
          <a:blip r:embed="rId2"/>
          <a:stretch/>
        </p:blipFill>
        <p:spPr>
          <a:xfrm>
            <a:off x="1487520" y="1774800"/>
            <a:ext cx="61675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55160" cy="1261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64832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луэт как вид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образительного искус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 в глубокой древност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VI в. до н. э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реции родилась легенда 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м, как дочь горшечника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бутара увидела на стене тень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его возлюбленного и обвел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о профиль кинжалом. Благодар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му рисунку её отец изобрё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иль росписи, украшающ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еческие вазы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4" name="Рисунок 1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1412640" cy="2305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7" descr=""/>
          <p:cNvPicPr/>
          <p:nvPr/>
        </p:nvPicPr>
        <p:blipFill>
          <a:blip r:embed="rId3"/>
          <a:stretch/>
        </p:blipFill>
        <p:spPr>
          <a:xfrm>
            <a:off x="2682720" y="1628640"/>
            <a:ext cx="1643040" cy="230508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0" descr=""/>
          <p:cNvPicPr/>
          <p:nvPr/>
        </p:nvPicPr>
        <p:blipFill>
          <a:blip r:embed="rId4"/>
          <a:stretch/>
        </p:blipFill>
        <p:spPr>
          <a:xfrm>
            <a:off x="1476360" y="4221000"/>
            <a:ext cx="16812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55160" cy="126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уэт издревле был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ен в Китае 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онезии («Китайск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ни»), а также в Пер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нем Китае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понии культивирова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о вырез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уэтов из черной бумаги 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атр тене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Рисунок 16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1868400" cy="14572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34" descr=""/>
          <p:cNvPicPr/>
          <p:nvPr/>
        </p:nvPicPr>
        <p:blipFill>
          <a:blip r:embed="rId3"/>
          <a:stretch/>
        </p:blipFill>
        <p:spPr>
          <a:xfrm>
            <a:off x="4643280" y="4221000"/>
            <a:ext cx="1771920" cy="16671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37" descr=""/>
          <p:cNvPicPr/>
          <p:nvPr/>
        </p:nvPicPr>
        <p:blipFill>
          <a:blip r:embed="rId4"/>
          <a:stretch/>
        </p:blipFill>
        <p:spPr>
          <a:xfrm>
            <a:off x="6804000" y="3141720"/>
            <a:ext cx="210672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334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648320" y="416376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чуан-хуа ил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оконные узоры», си-хуа ил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здничные украшения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фареты, образцы для вышивок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туальные предметы, символы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агопожелания на разны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учаи жизни и т.д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52" descr=""/>
          <p:cNvPicPr/>
          <p:nvPr/>
        </p:nvPicPr>
        <p:blipFill>
          <a:blip r:embed="rId2"/>
          <a:stretch/>
        </p:blipFill>
        <p:spPr>
          <a:xfrm>
            <a:off x="5508720" y="1628640"/>
            <a:ext cx="1903320" cy="251784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5" descr=""/>
          <p:cNvPicPr/>
          <p:nvPr/>
        </p:nvPicPr>
        <p:blipFill>
          <a:blip r:embed="rId3"/>
          <a:stretch/>
        </p:blipFill>
        <p:spPr>
          <a:xfrm>
            <a:off x="539640" y="2384280"/>
            <a:ext cx="2880000" cy="3513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44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648320" y="416376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ас в России интерес 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луэту возник в эпоху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катерины II, когда в Петербург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ся парижский силуэтист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до, работы которого донын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ились в некоторых домах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76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2928960" cy="22366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79" descr=""/>
          <p:cNvPicPr/>
          <p:nvPr/>
        </p:nvPicPr>
        <p:blipFill>
          <a:blip r:embed="rId3"/>
          <a:stretch/>
        </p:blipFill>
        <p:spPr>
          <a:xfrm>
            <a:off x="5524560" y="20350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73" descr=""/>
          <p:cNvPicPr/>
          <p:nvPr/>
        </p:nvPicPr>
        <p:blipFill>
          <a:blip r:embed="rId4"/>
          <a:stretch/>
        </p:blipFill>
        <p:spPr>
          <a:xfrm>
            <a:off x="1795320" y="4164120"/>
            <a:ext cx="13608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5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2676600" cy="993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5580000" y="1699920"/>
            <a:ext cx="3400560" cy="4559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половин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в. Крупнейши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ом силуэта был граф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р  Петрович Толстой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рмитаже хранятся 50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уэтов его работы, 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м Русском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е 20 силуэтов, стольк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 в Историческом музе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ы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68120" y="1730520"/>
            <a:ext cx="2468880" cy="4572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2879640" cy="25225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3"/>
          <a:stretch/>
        </p:blipFill>
        <p:spPr>
          <a:xfrm>
            <a:off x="3348000" y="3860640"/>
            <a:ext cx="205920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3-04-06T20:23:15Z</dcterms:modified>
  <cp:revision>54</cp:revision>
  <dc:subject/>
  <dc:title>СИЛУЭТ</dc:title>
</cp:coreProperties>
</file>