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2.png" ContentType="image/png"/>
  <Override PartName="/ppt/media/image35.png" ContentType="image/png"/>
  <Override PartName="/ppt/media/image39.png" ContentType="image/png"/>
  <Override PartName="/ppt/media/image41.jpeg" ContentType="image/jpeg"/>
  <Override PartName="/ppt/media/image30.png" ContentType="image/png"/>
  <Override PartName="/ppt/media/image28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5.jpeg" ContentType="image/jpeg"/>
  <Override PartName="/ppt/media/image5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4DC-8E14-4DA9-B4D0-A4CCA391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459-66BB-450F-B9E2-6616A110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879-2A3D-4383-9CEA-D45072A7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E38-DA02-44EE-A779-B1FAF189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A2B4-B6C6-47DB-9FE3-A73A5FB2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AA40-124F-41B8-BCE2-8B6BD40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3C18-E7E8-4197-BD3D-B42B124B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D406-A87D-4523-9E43-B13BDB05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593F-E3A4-4D79-8A67-2E820703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E0BD-188A-4E42-801B-B0F2CCA5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F0D2-094D-44A5-BA88-C824805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4D1-96DD-4F53-9EC4-968FADC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73B5-33E2-4469-98F2-6F17FCE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51B4-D78C-48AC-9551-5C6E7D41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874A-10F8-4887-833D-EE1A003C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84E5-0228-4139-B41E-F54FB2B44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FF4F-AB25-4BB6-BD2A-EA30E4F0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91B0-C2B8-427A-AFB8-DD3DA753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BD62-ADC8-49B1-BEB3-4FB9CA56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7E0E6-FF32-4D17-A975-A3FBFB63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F45D9-7267-417D-9415-075221D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4B1A-3441-4B03-B0FE-DAB98328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407-2603-43DC-BA8A-DD7F1227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9913-91E4-4F85-A517-47EF6725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217DA-1AA1-4ABA-B4AC-1F5ADD2E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A35D-9731-4D0E-810A-4F7504A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2F5B5-A1A1-41DE-A0D7-0C04ED92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0685-5E30-44B1-9166-E2614244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4766-0CEE-4BF2-84D7-5EE5DB50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0515-6177-4ECD-BD22-BD5B7B9A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39872-4619-4163-B6DB-D71E4AF6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8ED65-ED54-4E58-9481-F20299E4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3830-55F0-4820-B272-4B89EB9D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5EE-673C-4AA1-8451-10778A8E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FE0F0-3996-4530-99EF-12133177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AC70-98A1-4E72-B8F4-712E4AF0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0160-10AD-4C68-8F36-B9D1E82C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18461-F500-4060-B89B-854E728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A51C-CBF4-4424-88E2-6E41EEE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F824-22CF-49AD-9DAC-367915C1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622C-AFCE-48A5-8345-959AA0A0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15E87-CA49-4723-BA29-328B4D37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9C44B-BD17-412C-A0AF-C5AD893E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58DC-E3E5-4376-8346-B502CB18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5D4-AD18-421F-86C4-8669EB4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4C556-197E-468D-B76B-18A307CA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5285A-D6FA-4530-B7EC-E7D9FF9E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EE6C-C4F9-4BA8-9992-58DD23F1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D268-8FF9-46E4-A7C8-BEF2E3D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DD2D8-E839-4975-A070-653A5AD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9FDD1-8BA1-4003-A993-8941A61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80293-6755-4DB9-AA16-36F0C11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42AD-ED26-448F-A155-621C8C7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E4BE-54C8-46FC-8588-D51D14AE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9C63A-5046-4000-9585-83830DFA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B6C-0AD9-407E-9C20-9CE55722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26EA-D94C-4F2F-9E34-CE3BA841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B945-952E-48DF-89EF-4C25E6FD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4548-0982-4CB1-A71F-B0471B27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C5BED-FD3F-4F8F-8DB0-88E653A0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872FA-1C74-4582-A739-7C2EE15E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70FCC-9A08-45CC-885C-2C6BF93D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6C0BC-8F30-44F7-B29B-AE490521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3F2C4-1EBE-4960-9CB2-72EC7C30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8C11E-30E8-482B-BB60-00EA37C4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0E6D5-F022-4314-A792-2CDFF41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112-145D-4E8C-8BF2-6E6CB1B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0DC02-8647-478D-BCB1-37584F86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5B6CA-3020-4795-A0AE-59D00CF2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7D162-6B60-4451-8B35-D1963529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1E06B-4DF7-4315-9CB8-3DA58F8F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8C40F-DE7C-433E-BE38-FA9DAB43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5E3F-CB66-4D77-A042-67AC408A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EC2AD-A051-472C-923A-46DA9495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E0E13-B492-4171-858E-07DDEC74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80421-311E-4E38-B6A5-E19F4062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041D0-5BA2-4AA3-9928-807DB46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019-10C8-42F1-B73E-E11D8C9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2099A-1F51-4BF3-AAE6-B6B70DFE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5EDD0-C93E-4600-B896-B0036DD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7B9B-0A6C-4FA8-9160-0079B2AE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B374E-4492-4F41-B467-E1D7D855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B6591-0632-42A5-9AFE-4AE11FD6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844-3698-471C-B2D3-D89F480F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362E-2ED3-448A-A33B-4E066823C8E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4FD6-1128-4AAB-955A-162118088E5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D86B-2080-41F7-A427-DD1DCDE585D2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A59C-BA04-4315-A300-C4422CA20BE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4CC2-7A89-4F96-BA8D-B5732EA220D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50CE-48B7-4307-8A47-D23A251C64E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E912-F17C-49D7-983C-4F984DE06D8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682560" y="3108240"/>
            <a:ext cx="8089920" cy="19274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 к уроку изобразительного искусства  в 6 классе по программе  Б.М. Неменского  подготовлена учителем второй квалификационной категории МБОУ «Юркинская СОШ» Ивановой Н.С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64832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Х веке яркий образец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ования силуэта можн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идеть в африканской живопис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нгатинга, которая получил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е название по имен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теля направления –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дуардо Саиди Тингатинг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8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1" descr=""/>
          <p:cNvPicPr/>
          <p:nvPr/>
        </p:nvPicPr>
        <p:blipFill>
          <a:blip r:embed="rId3"/>
          <a:stretch/>
        </p:blipFill>
        <p:spPr>
          <a:xfrm>
            <a:off x="1692360" y="4365720"/>
            <a:ext cx="1833480" cy="18334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"/>
          <p:cNvPicPr/>
          <p:nvPr/>
        </p:nvPicPr>
        <p:blipFill>
          <a:blip r:embed="rId4"/>
          <a:stretch/>
        </p:blipFill>
        <p:spPr>
          <a:xfrm>
            <a:off x="3851280" y="1916280"/>
            <a:ext cx="1774800" cy="1774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3" descr=""/>
          <p:cNvPicPr/>
          <p:nvPr/>
        </p:nvPicPr>
        <p:blipFill>
          <a:blip r:embed="rId5"/>
          <a:stretch/>
        </p:blipFill>
        <p:spPr>
          <a:xfrm>
            <a:off x="6875640" y="1916280"/>
            <a:ext cx="17618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пись тингатинг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лась в Танзании (Африка) 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-х годах ХХ века. Сейчас эт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активно развиваетс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льзуется популярностью 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. Первые картины рисовалис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оне, а прежде того – н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ах домов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здания картин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акриловые 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алевые краски, иногда с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ием мас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5219640" y="1700280"/>
            <a:ext cx="2236680" cy="2236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46" name="Picture 3" descr=""/>
          <p:cNvPicPr/>
          <p:nvPr/>
        </p:nvPicPr>
        <p:blipFill>
          <a:blip r:embed="rId3"/>
          <a:stretch/>
        </p:blipFill>
        <p:spPr>
          <a:xfrm>
            <a:off x="4427640" y="4292640"/>
            <a:ext cx="1751040" cy="223668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pic>
        <p:nvPicPr>
          <p:cNvPr id="347" name="Picture 4" descr=""/>
          <p:cNvPicPr/>
          <p:nvPr/>
        </p:nvPicPr>
        <p:blipFill>
          <a:blip r:embed="rId4"/>
          <a:stretch/>
        </p:blipFill>
        <p:spPr>
          <a:xfrm>
            <a:off x="6516720" y="4292640"/>
            <a:ext cx="2263680" cy="2265480"/>
          </a:xfrm>
          <a:prstGeom prst="rect">
            <a:avLst/>
          </a:prstGeom>
          <a:ln w="76320">
            <a:solidFill>
              <a:srgbClr val="47924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5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2614680" cy="993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68120" y="1730520"/>
            <a:ext cx="38275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XX веке силуэт практически перестал существовать, как искусство. Редко можно было встретить это направление в иллюстрациях книжных изданий, на выставках или других мероприятиях. Но сегодня, благодаря современным художникам, искусство вырезания силуэта переживает свое возрождение, и притягивает к себе все больше профессионалов и любителей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2754000" cy="4559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2152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91" descr=""/>
          <p:cNvPicPr/>
          <p:nvPr/>
        </p:nvPicPr>
        <p:blipFill>
          <a:blip r:embed="rId2"/>
          <a:stretch/>
        </p:blipFill>
        <p:spPr>
          <a:xfrm>
            <a:off x="4984920" y="1774800"/>
            <a:ext cx="3365280" cy="223668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94" descr=""/>
          <p:cNvPicPr/>
          <p:nvPr/>
        </p:nvPicPr>
        <p:blipFill>
          <a:blip r:embed="rId3"/>
          <a:stretch/>
        </p:blipFill>
        <p:spPr>
          <a:xfrm>
            <a:off x="5548320" y="4164120"/>
            <a:ext cx="2236680" cy="2236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0" descr=""/>
          <p:cNvPicPr/>
          <p:nvPr/>
        </p:nvPicPr>
        <p:blipFill>
          <a:blip r:embed="rId4"/>
          <a:stretch/>
        </p:blipFill>
        <p:spPr>
          <a:xfrm>
            <a:off x="971640" y="1700280"/>
            <a:ext cx="3092400" cy="2130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56" name="Picture 11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31287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4832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кусство силуэта и сегодн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отеряло свой статус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ки силуэты используютс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кламе, в геральдике, в значках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блемах фирм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70" descr=""/>
          <p:cNvPicPr/>
          <p:nvPr/>
        </p:nvPicPr>
        <p:blipFill>
          <a:blip r:embed="rId2"/>
          <a:stretch/>
        </p:blipFill>
        <p:spPr>
          <a:xfrm>
            <a:off x="5148360" y="2060640"/>
            <a:ext cx="1919160" cy="18763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67" descr=""/>
          <p:cNvPicPr/>
          <p:nvPr/>
        </p:nvPicPr>
        <p:blipFill>
          <a:blip r:embed="rId3"/>
          <a:stretch/>
        </p:blipFill>
        <p:spPr>
          <a:xfrm>
            <a:off x="2195640" y="1916280"/>
            <a:ext cx="1636560" cy="1947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"/>
          <p:cNvPicPr/>
          <p:nvPr/>
        </p:nvPicPr>
        <p:blipFill>
          <a:blip r:embed="rId4"/>
          <a:stretch/>
        </p:blipFill>
        <p:spPr>
          <a:xfrm>
            <a:off x="1547640" y="4440240"/>
            <a:ext cx="2055960" cy="2062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6" descr=""/>
          <p:cNvPicPr/>
          <p:nvPr/>
        </p:nvPicPr>
        <p:blipFill>
          <a:blip r:embed="rId2"/>
          <a:stretch/>
        </p:blipFill>
        <p:spPr>
          <a:xfrm>
            <a:off x="782640" y="1774800"/>
            <a:ext cx="3387600" cy="223668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7" descr=""/>
          <p:cNvPicPr/>
          <p:nvPr/>
        </p:nvPicPr>
        <p:blipFill>
          <a:blip r:embed="rId3"/>
          <a:stretch/>
        </p:blipFill>
        <p:spPr>
          <a:xfrm>
            <a:off x="5094360" y="1774800"/>
            <a:ext cx="3146400" cy="223668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8" descr=""/>
          <p:cNvPicPr/>
          <p:nvPr/>
        </p:nvPicPr>
        <p:blipFill>
          <a:blip r:embed="rId4"/>
          <a:stretch/>
        </p:blipFill>
        <p:spPr>
          <a:xfrm>
            <a:off x="871560" y="4164120"/>
            <a:ext cx="3209760" cy="22366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5"/>
          <a:stretch/>
        </p:blipFill>
        <p:spPr>
          <a:xfrm>
            <a:off x="5176800" y="4164120"/>
            <a:ext cx="29815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К какому виду искусства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тносится искусство силуэ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Где и когда появилось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сство силуэ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Способы создания силуэт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 Где и как  в наше время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тся силуэт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WordArt 4"/>
          <p:cNvSpPr txBox="1"/>
          <p:nvPr/>
        </p:nvSpPr>
        <p:spPr>
          <a:xfrm>
            <a:off x="2556000" y="2924280"/>
            <a:ext cx="4268520" cy="193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3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э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(франц. silhouette) - очертание предмета, подобное его тени; вид графической техники, плоскостное однотонное изображение фигур и предметов. Силуэты рисуются (тушью или белилами) или вырезаются из бумаги и наклеиваются на фо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циклопедический словар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3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242560" cy="14205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силуэт» происходит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фамилии Этьена де Силуэтта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узского министра финансо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я Людовика 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илуэт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л огромное негодовани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й скаредностью, в отместку  в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9 году на него сделали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икатуру – ненавистную тен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огущего министр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Содержимое 6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241800" cy="3780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53880" y="146160"/>
            <a:ext cx="8466120" cy="126180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85" descr=""/>
          <p:cNvPicPr/>
          <p:nvPr/>
        </p:nvPicPr>
        <p:blipFill>
          <a:blip r:embed="rId2"/>
          <a:stretch/>
        </p:blipFill>
        <p:spPr>
          <a:xfrm>
            <a:off x="1487520" y="1774800"/>
            <a:ext cx="61675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55160" cy="1261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64832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луэт как вид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образительного искусст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ник в глубокой древност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VI в. до н. э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реции родилась легенда о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м, как дочь горшечника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бутара увидела на стене тень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его возлюбленного и обвела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го профиль кинжалом. Благодаря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му рисунку её отец изобрёл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иль росписи, украшающий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еческие ваз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1412640" cy="2305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7" descr=""/>
          <p:cNvPicPr/>
          <p:nvPr/>
        </p:nvPicPr>
        <p:blipFill>
          <a:blip r:embed="rId3"/>
          <a:stretch/>
        </p:blipFill>
        <p:spPr>
          <a:xfrm>
            <a:off x="2682720" y="1628640"/>
            <a:ext cx="1643040" cy="230508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10" descr=""/>
          <p:cNvPicPr/>
          <p:nvPr/>
        </p:nvPicPr>
        <p:blipFill>
          <a:blip r:embed="rId4"/>
          <a:stretch/>
        </p:blipFill>
        <p:spPr>
          <a:xfrm>
            <a:off x="1476360" y="4221000"/>
            <a:ext cx="168120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55160" cy="12618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уэт издревле был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ен в Китае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онезии («Китайск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ни»), а также в Перс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нем Китае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понии культивировал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о вырез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уэтов из черной бумаги 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атр тене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Рисунок 16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1868400" cy="14572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34" descr=""/>
          <p:cNvPicPr/>
          <p:nvPr/>
        </p:nvPicPr>
        <p:blipFill>
          <a:blip r:embed="rId3"/>
          <a:stretch/>
        </p:blipFill>
        <p:spPr>
          <a:xfrm>
            <a:off x="4643280" y="4221000"/>
            <a:ext cx="1771920" cy="16671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37" descr=""/>
          <p:cNvPicPr/>
          <p:nvPr/>
        </p:nvPicPr>
        <p:blipFill>
          <a:blip r:embed="rId4"/>
          <a:stretch/>
        </p:blipFill>
        <p:spPr>
          <a:xfrm>
            <a:off x="6804000" y="3141720"/>
            <a:ext cx="210672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334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64832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чуан-хуа ил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оконные узоры», си-хуа или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здничные украшения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фареты, образцы для вышивок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туальные предметы, символы-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пожелания на разны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учаи жизни и т.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52" descr=""/>
          <p:cNvPicPr/>
          <p:nvPr/>
        </p:nvPicPr>
        <p:blipFill>
          <a:blip r:embed="rId2"/>
          <a:stretch/>
        </p:blipFill>
        <p:spPr>
          <a:xfrm>
            <a:off x="5508720" y="1628640"/>
            <a:ext cx="1903320" cy="251784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55" descr=""/>
          <p:cNvPicPr/>
          <p:nvPr/>
        </p:nvPicPr>
        <p:blipFill>
          <a:blip r:embed="rId3"/>
          <a:stretch/>
        </p:blipFill>
        <p:spPr>
          <a:xfrm>
            <a:off x="539640" y="2384280"/>
            <a:ext cx="2880000" cy="3513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44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648320" y="4163760"/>
            <a:ext cx="4038480" cy="2236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нас в России интерес к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луэту возник в эпоху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катерины II, когда в Петербург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явился парижский силуэтист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до, работы которого донын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ились в некоторых домах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76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2928960" cy="22366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9" descr=""/>
          <p:cNvPicPr/>
          <p:nvPr/>
        </p:nvPicPr>
        <p:blipFill>
          <a:blip r:embed="rId3"/>
          <a:stretch/>
        </p:blipFill>
        <p:spPr>
          <a:xfrm>
            <a:off x="5524560" y="20350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73" descr=""/>
          <p:cNvPicPr/>
          <p:nvPr/>
        </p:nvPicPr>
        <p:blipFill>
          <a:blip r:embed="rId4"/>
          <a:stretch/>
        </p:blipFill>
        <p:spPr>
          <a:xfrm>
            <a:off x="1795320" y="4164120"/>
            <a:ext cx="13608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5" descr=""/>
          <p:cNvPicPr/>
          <p:nvPr/>
        </p:nvPicPr>
        <p:blipFill>
          <a:blip r:embed="rId1"/>
          <a:stretch/>
        </p:blipFill>
        <p:spPr>
          <a:xfrm>
            <a:off x="85680" y="146160"/>
            <a:ext cx="2676600" cy="993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580000" y="1699920"/>
            <a:ext cx="3400560" cy="4559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половин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в. Крупнейшим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ом силуэта был граф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ор  Петрович Толстой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рмитаже хранятся 50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уэтов его работы, в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м Русском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ее 20 силуэтов, столько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 в Историческом музее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ы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68120" y="1730520"/>
            <a:ext cx="246888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2879640" cy="2522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3"/>
          <a:stretch/>
        </p:blipFill>
        <p:spPr>
          <a:xfrm>
            <a:off x="3348000" y="3860640"/>
            <a:ext cx="205920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13-04-06T20:23:15Z</dcterms:modified>
  <cp:revision>54</cp:revision>
  <dc:subject/>
  <dc:title>СИЛУЭТ</dc:title>
</cp:coreProperties>
</file>