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5136-6328-42DF-9BDE-0D31E59A4E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6248-284A-4587-8D8C-83BCC377C4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C2A-B2EF-4FE9-B105-AC348F4F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A6E-471D-49E1-AE47-3867A1D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DA1-E4AD-47D4-BA72-09F7DD55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E93-BA8F-4B4F-8B7E-1EB95BF8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8118-75DB-4D99-8451-7A25EBCD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8176-8EDD-49EE-9792-495E9043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1951-7F57-4FE1-B050-71E6491B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B457-15C4-43F3-B42A-D26650E9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E6E9-80CB-42A5-BD43-3040F013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EA08-B0F6-4AE0-9FC1-9377FA71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C0FC-10BF-49C3-AF60-AB08832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E2F-A3E8-47CE-8493-CC3E20F4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5D59-0450-49EA-B9B6-466F5AB1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CF3F-FE29-4FCE-8AFB-9A1A4EC6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F4AE-709C-4C52-9D5C-02B377D2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E8CD-0F08-47B2-802F-DBCBB8A8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6BBE-180D-4E0B-8697-6B29FBF0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7EB34-E0F6-4AF5-86C7-0D9431F7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9766D-6BCD-491A-89B2-FCB3C85E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ED8B1-ABCC-4B0C-AAC0-DED5D41C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613B14-1055-42C9-8602-F4E4C84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309D0-E9F5-4980-A9B7-D3E48BC9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A1E-AA8B-4484-90B2-DFA3155A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4B420-0AF6-464E-AC9C-C4F9562A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80B92-D4E2-4191-83AF-616A6925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F21F8-3D1D-44BC-8387-D8576C7A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7C898-450D-4525-86DB-348E1919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CCB300-37C0-4A48-9123-5965B909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8E149-F232-47B8-BC01-78986091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03F86-D4BE-423C-BE5C-32C02118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742F3-923C-46FE-B5EB-808C437C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D6B8F-E54B-414A-B47B-B1CA493F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9F8EB-FD24-4FEC-93D4-01E245B6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8E9-21DD-4C4E-913B-0A977F03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76785-9D06-4AEA-9495-8848A4ED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B2610-3B1B-4FAD-B2E7-B6CEAF85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BBD2E-218C-47D6-85DE-5F9A822E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EE21C-55CD-42AF-BF22-7772F9B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6617B-A36C-404C-BFBB-9330B84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19420-3E57-4C37-B1D3-496EF41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FF42C-E3E3-4C76-B84A-78D9117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60D8FE-FC70-4129-A7E4-95A7AE6D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C6824-BE24-4892-B708-4238DFDD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405DC-D248-4BA7-9E2D-8B5E6B2E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A9C-E299-49B0-B96F-F294DE1D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2BA7A1-8755-4CCB-8B1F-82560CBE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7F8BDC-3BFE-438C-ADE9-07D5EABF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87590-C3CC-4DDE-92C0-E015152B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BB458-70A9-4482-9FE8-085B4423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CBCBE8-D4F7-478B-A711-78369875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B033B-DB51-4F65-9704-34DA5219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8A8F1-1685-4642-903C-AAA73E6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1021F-230B-4DEB-AB22-F231E5D8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9CAD2-62AF-42CE-9BAA-CA3AE8D3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CD84C-0B10-4ABB-8D59-5FBB0CDA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5FD-8584-40FA-8AB1-ACBEB947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9DC28-513E-4811-B83F-8FDEAC80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D15E7-75E1-4244-9023-94E173B8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B164D-4446-4DF6-AD2A-F62F13B9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EAF90-9CF4-4A13-9F00-4BCA8174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F082A-A46B-453A-8DB5-1A2B77A2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6008-200B-431D-B10A-012542A5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F62BE-931A-40F7-B8B0-D3F9F3D1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833B9-353B-4E7E-B179-0F6D0A1B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81C0-6956-4A67-96B2-0FCB6EF2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4BFF-8EDD-4F33-AC28-47CCA083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18F-06D1-4F34-8564-FB8143BD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6397F-8FDF-493C-BCD4-44810DF0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958B8-0EAC-473B-9355-DF100DC5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1FE0-D03D-456A-9F6D-185C19C1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944881-7027-40F6-AF6B-B6FA1EB4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497FD-7F8C-4FEB-9C98-B9CCC462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5B2E5-BB03-4B15-99D7-72A4C0F6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49578A-E303-4510-B3CE-48DE6869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C8FCD-7BFB-47D7-A291-B0C26A8F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E7ADF-6AA4-4140-95CB-212C8019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483C0D-CE4F-4E93-9A73-EBDE76FA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1F5-3DA4-47A3-B879-D9DD06F3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2E54D-4D39-40F4-9255-6C32ABB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AEA34-2BF6-47F9-9C9C-9E4D5CDE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0B0BF-3286-4812-92D2-55870D7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3AC99-546D-4B5C-BAFC-ECDDEA3C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68658-67CF-49D9-AD71-7A51C82E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F9925-3C22-4FE4-B0C1-75F13152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03B10-8048-4099-A4E1-EDB09A7A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63EC8-2E15-4E2D-8EC5-362AF750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8FCE1-CAFA-48A7-A019-338FAE30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B1727-281C-4E49-9744-E63706B2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274-4F10-4817-B760-863B5E8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569F1-B4E4-4911-A80B-CF0F036A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1CE3E-E23C-46B0-9689-81C5289F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63D6E-6E67-4B2A-B78F-D8BF8BF1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2A07D-75F1-42DD-B6C4-C148484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1CBDA-FE01-47FE-BE45-83524514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E19F0-25D5-41D5-A176-D5749005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C7D60-EBFC-4521-B4F4-CCA5CB09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422E-60CD-4E9D-9BC8-025064B413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80A5-AD3E-40E0-AA4C-ACF1FEF64BE5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A7FD-0C38-40D1-B855-B1C3A309CAEB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86F1-4355-4636-BBAB-7B4A36A223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AF5B-ADC0-44DA-8F0C-6033461BE35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CD31-46A5-40A4-95C5-BE4910EBCC30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818E-D499-438E-873E-055FEBB418D9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4FA2-C114-4A8E-86A5-4394552437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http://gifs-for-the-masses.tumblr.com/post/20719094365" TargetMode="External"/><Relationship Id="rId2" Type="http://schemas.openxmlformats.org/officeDocument/2006/relationships/image" Target="../media/image4.png"/><Relationship Id="rId3" Type="http://schemas.openxmlformats.org/officeDocument/2006/relationships/hyperlink" Target="mailto:http://25.media.tumblr.com/tumblr_mcxi12pXEz1rbr02fo1_500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hyperlink" Target="mailto:http://25.media.tumblr.com/tumblr_mc8fpn2s7s1r4yeito1_500.gif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http://www.astrbrass.narod.ru/files/page_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http://fdstar.com/download/electronic_music_online/glava%201/88.gif" TargetMode="External"/><Relationship Id="rId2" Type="http://schemas.openxmlformats.org/officeDocument/2006/relationships/image" Target="../media/image9.png"/><Relationship Id="rId3" Type="http://schemas.openxmlformats.org/officeDocument/2006/relationships/hyperlink" Target="mailto:http://www.simgeomyz.narod.ru/image/myz5.jpg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http://www.simgeomyz.narod.ru/image/myz3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hyperlink" Target="mailto:http://24.media.tumblr.com/tumblr_me4cknjJ3S1rcu3n3o1_500.gif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http://www.simgeomyz.narod.ru/image/myz4.jp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http://www.graycell.ru/picture/big/skripka4.jpg" TargetMode="External"/><Relationship Id="rId2" Type="http://schemas.openxmlformats.org/officeDocument/2006/relationships/image" Target="../media/image14.png"/><Relationship Id="rId3" Type="http://schemas.openxmlformats.org/officeDocument/2006/relationships/hyperlink" Target="mailto:http://upload.wikimedia.org/wikipedia/commons/thumb/2/24/Guitar_1.jpg/200px-Guitar_1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http://propianino.ru/wp-content/uploads/2012/01/Image-3.png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25.media.tumblr.com/tumblr_mcxi12pXEz1rbr02fo1_500.gif" TargetMode="External"/><Relationship Id="rId2" Type="http://schemas.openxmlformats.org/officeDocument/2006/relationships/hyperlink" Target="http://25.media.tumblr.com/tumblr_mc8fpn2s7s1r4yeito1_500.gif" TargetMode="External"/><Relationship Id="rId3" Type="http://schemas.openxmlformats.org/officeDocument/2006/relationships/hyperlink" Target="http://gifs-for-the-masses.tumblr.com/post/20719094365" TargetMode="External"/><Relationship Id="rId4" Type="http://schemas.openxmlformats.org/officeDocument/2006/relationships/hyperlink" Target="http://www.astrbrass.narod.ru/files/page_1.jpg" TargetMode="External"/><Relationship Id="rId5" Type="http://schemas.openxmlformats.org/officeDocument/2006/relationships/hyperlink" Target="http://fdstar.com/download/electronic_music_online/glava%201/88.gif" TargetMode="External"/><Relationship Id="rId6" Type="http://schemas.openxmlformats.org/officeDocument/2006/relationships/hyperlink" Target="http://www.simgeomyz.narod.ru/image/myz5.jpg" TargetMode="External"/><Relationship Id="rId7" Type="http://schemas.openxmlformats.org/officeDocument/2006/relationships/hyperlink" Target="http://www.simgeomyz.narod.ru/image/myz3.jpg" TargetMode="External"/><Relationship Id="rId8" Type="http://schemas.openxmlformats.org/officeDocument/2006/relationships/hyperlink" Target="mailto:http://24.media.tumblr.com/tumblr_me4cknjJ3S1rcu3n3o1_500.gif" TargetMode="External"/><Relationship Id="rId9" Type="http://schemas.openxmlformats.org/officeDocument/2006/relationships/hyperlink" Target="http://www.simgeomyz.narod.ru/image/myz4.jpg" TargetMode="External"/><Relationship Id="rId10" Type="http://schemas.openxmlformats.org/officeDocument/2006/relationships/hyperlink" Target="http://www.graycell.ru/picture/big/skripka4.jpg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СИММЕТРИЯ В МУЗЫКЕ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TextBox 2"/>
          <p:cNvSpPr/>
          <p:nvPr/>
        </p:nvSpPr>
        <p:spPr>
          <a:xfrm>
            <a:off x="4857840" y="4429080"/>
            <a:ext cx="41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ученица 9 «В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г. Астрахани «СОШ № 57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ышников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Переясл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C:\Users\Admin\Pictures\КАРТИНКИ\240620_w640_h640_8028b0d63786.png"/>
          <p:cNvPicPr/>
          <p:nvPr/>
        </p:nvPicPr>
        <p:blipFill>
          <a:blip r:embed="rId1"/>
          <a:stretch/>
        </p:blipFill>
        <p:spPr>
          <a:xfrm>
            <a:off x="1143000" y="1571760"/>
            <a:ext cx="394164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имметрия в музык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00040" y="17856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формы построения музыкальных произведений строятся  симметрично. В этом отношении особенно характерно рондо ( от французского- круг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до - музыкальная форма, в которой неоднократные (не менее 3-х) проведения главной темы (рефрена) чередуются с отличающимися друг от друга эпизод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Овал 3"/>
          <p:cNvSpPr/>
          <p:nvPr/>
        </p:nvSpPr>
        <p:spPr>
          <a:xfrm>
            <a:off x="857160" y="4643280"/>
            <a:ext cx="1000080" cy="9288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углом 4"/>
          <p:cNvSpPr/>
          <p:nvPr/>
        </p:nvSpPr>
        <p:spPr>
          <a:xfrm>
            <a:off x="1571760" y="4071960"/>
            <a:ext cx="428400" cy="357120"/>
          </a:xfrm>
          <a:prstGeom prst="pi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Равнобедренный треугольник 5"/>
          <p:cNvSpPr/>
          <p:nvPr/>
        </p:nvSpPr>
        <p:spPr>
          <a:xfrm>
            <a:off x="2428920" y="4000680"/>
            <a:ext cx="857160" cy="642600"/>
          </a:xfrm>
          <a:prstGeom prst="triangle">
            <a:avLst>
              <a:gd name="adj" fmla="val 50000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ыгнутая вправо стрелка 6"/>
          <p:cNvSpPr/>
          <p:nvPr/>
        </p:nvSpPr>
        <p:spPr>
          <a:xfrm>
            <a:off x="3857760" y="4143240"/>
            <a:ext cx="714240" cy="1143000"/>
          </a:xfrm>
          <a:custGeom>
            <a:avLst/>
            <a:gdLst>
              <a:gd name="textAreaLeft" fmla="*/ 95400 w 714240"/>
              <a:gd name="textAreaRight" fmla="*/ 618840 w 714240"/>
              <a:gd name="textAreaTop" fmla="*/ 218520 h 1143000"/>
              <a:gd name="textAreaBottom" fmla="*/ 835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69" stAng="-5400000" swAng="5400000"/>
                <a:lnTo>
                  <a:pt x="21600" y="11645"/>
                </a:lnTo>
                <a:arcTo wR="21600" hR="8269" stAng="0" swAng="3360022"/>
                <a:lnTo>
                  <a:pt x="5400" y="21337"/>
                </a:lnTo>
                <a:lnTo>
                  <a:pt x="0" y="18225"/>
                </a:lnTo>
                <a:lnTo>
                  <a:pt x="5400" y="14587"/>
                </a:lnTo>
                <a:lnTo>
                  <a:pt x="5400" y="16274"/>
                </a:lnTo>
                <a:arcTo wR="21600" hR="8269" stAng="3360022" swAng="-3086170"/>
                <a:lnTo>
                  <a:pt x="21145" y="9957"/>
                </a:lnTo>
                <a:arcTo wR="21600" hR="8269" stAng="-273852" swAng="-5126148"/>
                <a:close/>
              </a:path>
              <a:path fill="darkenLess" w="21600" h="21600">
                <a:moveTo>
                  <a:pt x="0" y="0"/>
                </a:moveTo>
                <a:arcTo wR="21600" hR="8269" stAng="-5400000" swAng="5400000"/>
                <a:lnTo>
                  <a:pt x="21600" y="11645"/>
                </a:lnTo>
                <a:arcTo wR="21600" hR="8269" stAng="0" swAng="-273852"/>
                <a:lnTo>
                  <a:pt x="21145" y="9957"/>
                </a:lnTo>
                <a:arcTo wR="21600" hR="8269" stAng="-273852" swAng="-5126148"/>
                <a:close/>
              </a:path>
            </a:pathLst>
          </a:cu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7"/>
          <p:cNvSpPr/>
          <p:nvPr/>
        </p:nvSpPr>
        <p:spPr>
          <a:xfrm>
            <a:off x="2643120" y="5286240"/>
            <a:ext cx="857160" cy="7146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трелка влево 8"/>
          <p:cNvSpPr/>
          <p:nvPr/>
        </p:nvSpPr>
        <p:spPr>
          <a:xfrm>
            <a:off x="1857240" y="5357880"/>
            <a:ext cx="50004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http://img5.joyreactor.cc/pics/post/music-%D0%B3%D0%B8%D1%84%D0%BA%D0%B8-%D0%BF%D0%BB%D1%8F%D1%88%D0%B5%D0%BC-%D0%BF%D0%BE%D1%85%D1%83%D0%B9-%D0%BF%D0%BB%D1%8F%D1%88%D0%B5%D0%BC-37985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5600" y="4516560"/>
            <a:ext cx="2163960" cy="2633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http://25.media.tumblr.com/tumblr_mcxi12pXEz1rbr02fo1_500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1760" y="208080"/>
            <a:ext cx="1652760" cy="938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http://24.media.tumblr.com/tumblr_m7ngxrxTar1r3ta86o1_400.gif"/>
          <p:cNvPicPr/>
          <p:nvPr/>
        </p:nvPicPr>
        <p:blipFill>
          <a:blip r:embed="rId5"/>
          <a:stretch/>
        </p:blipFill>
        <p:spPr>
          <a:xfrm>
            <a:off x="2928960" y="6215040"/>
            <a:ext cx="2523960" cy="476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5" descr="http://25.media.tumblr.com/tumblr_mc8fpn2s7s1r4yeito1_500.gif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00880" y="281160"/>
            <a:ext cx="17496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имметрия в музык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стейшее- симметрия нотного стан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http://www.astrbrass.narod.ru/files/page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00160" y="2428920"/>
            <a:ext cx="285768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еквенц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квенция- Разновидность трансляции. Многократное повторение небольшого мотива разных ступеней лада, как в восходящем, так и в нисходящем направл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2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http://pix.samoucka.ru/img/content/music/computermusic/1/8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3143160"/>
            <a:ext cx="7223040" cy="17859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5"/>
          <p:cNvSpPr/>
          <p:nvPr/>
        </p:nvSpPr>
        <p:spPr>
          <a:xfrm>
            <a:off x="428760" y="5286240"/>
            <a:ext cx="26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: Беркович "Второй концерт для фортепиано с оркестром.1 част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6" descr="Секвенц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8520" y="4870440"/>
            <a:ext cx="28828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й вариант зеркального отражения в музыке более понятен для немузыканта. В этом случае зеркальная плоскость ориентирована перпендикулярно к нотным линейкам. Отраженные ноты кажутся такими, какими они действительно выглядели бы в зеркале. Начиная от зеркальной плоскости оригинал проигрывается в обратном направлении. Такое зеркальное нотное письмо носит название «ракоходное», по ассоциации с обыкновением раков пятиться назад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Ракоходное обращ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4214880"/>
            <a:ext cx="2511360" cy="142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83" name="Picture 6" descr="http://24.media.tumblr.com/tumblr_m7ngxrxTar1r3ta86o1_400.gif"/>
          <p:cNvPicPr/>
          <p:nvPr/>
        </p:nvPicPr>
        <p:blipFill>
          <a:blip r:embed="rId3"/>
          <a:stretch/>
        </p:blipFill>
        <p:spPr>
          <a:xfrm>
            <a:off x="3143160" y="500040"/>
            <a:ext cx="2524320" cy="4762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http://24.media.tumblr.com/tumblr_m7ngxrxTar1r3ta86o1_400.gif"/>
          <p:cNvPicPr/>
          <p:nvPr/>
        </p:nvPicPr>
        <p:blipFill>
          <a:blip r:embed="rId4"/>
          <a:stretch/>
        </p:blipFill>
        <p:spPr>
          <a:xfrm>
            <a:off x="2714760" y="428760"/>
            <a:ext cx="3214440" cy="606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9" descr="http://24.media.tumblr.com/tumblr_me4cknjJ3S1rcu3n3o1_500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214200"/>
            <a:ext cx="1779480" cy="1000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Трансляционный вид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распространенный вид симметрии в музыке. В этом случае музыкальная фраза повторяется неизменно. Но в некоторых случаях возможна асимметрия, то есть отступление от оригинала. Примерами служат все песни, в которых куплет (припев) повторяется без изменения несколько ра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2" descr="Трансляционный ви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70080" y="3602160"/>
            <a:ext cx="332892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http://si-bemol.moy.su/Prosto_cartinki/skripka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1785960"/>
            <a:ext cx="2714400" cy="332100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ая соединительная линия 5"/>
          <p:cNvSpPr/>
          <p:nvPr/>
        </p:nvSpPr>
        <p:spPr>
          <a:xfrm flipH="1">
            <a:off x="1142640" y="1357200"/>
            <a:ext cx="2071800" cy="4286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http://upload.wikimedia.org/wikipedia/commons/thumb/2/24/Guitar_1.jpg/220px-Guitar_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1643040"/>
            <a:ext cx="2095560" cy="411480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ая соединительная линия 7"/>
          <p:cNvSpPr/>
          <p:nvPr/>
        </p:nvSpPr>
        <p:spPr>
          <a:xfrm flipH="1">
            <a:off x="5762160" y="1643040"/>
            <a:ext cx="25560" cy="4114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http://propianino.ru/wp-content/uploads/2012/01/Image-3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2357280"/>
            <a:ext cx="6500880" cy="3306960"/>
          </a:xfrm>
          <a:prstGeom prst="rect">
            <a:avLst/>
          </a:prstGeom>
          <a:ln w="0">
            <a:noFill/>
          </a:ln>
        </p:spPr>
      </p:pic>
      <p:sp>
        <p:nvSpPr>
          <p:cNvPr id="394" name="Скругленный прямоугольник 4"/>
          <p:cNvSpPr/>
          <p:nvPr/>
        </p:nvSpPr>
        <p:spPr>
          <a:xfrm>
            <a:off x="2571840" y="3000240"/>
            <a:ext cx="2357280" cy="20718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кругленный прямоугольник 6"/>
          <p:cNvSpPr/>
          <p:nvPr/>
        </p:nvSpPr>
        <p:spPr>
          <a:xfrm>
            <a:off x="5000760" y="3000240"/>
            <a:ext cx="2357280" cy="20718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8"/>
          <p:cNvSpPr/>
          <p:nvPr/>
        </p:nvSpPr>
        <p:spPr>
          <a:xfrm>
            <a:off x="4928400" y="1857240"/>
            <a:ext cx="71640" cy="4286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Источники Информации.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4296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25.media.tumblr.com/tumblr_mcxi12pXEz1rbr02fo1_500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25.media.tumblr.com/tumblr_mc8fpn2s7s1r4yeito1_500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http://gifs-for-the-masses.tumblr.com/post/2071909436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http://www.astrbrass.narod.ru/files/page_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5"/>
              </a:rPr>
              <a:t>http://fdstar.com/download/electronic_music_online/glava%201/88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6"/>
              </a:rPr>
              <a:t>http://www.simgeomyz.narod.ru/image/myz5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7"/>
              </a:rPr>
              <a:t>http://www.simgeomyz.narod.ru/image/myz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8"/>
              </a:rPr>
              <a:t> http://24.media.tumblr.com/tumblr_me4cknjJ3S1rcu3n3o1_500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9"/>
              </a:rPr>
              <a:t>http://www.simgeomyz.narod.ru/image/myz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en-US" sz="1400" spc="-1" strike="noStrike" u="sng">
                <a:solidFill>
                  <a:srgbClr val="f7b615"/>
                </a:solidFill>
                <a:uFillTx/>
                <a:latin typeface="Tw Cen MT"/>
                <a:hlinkClick r:id="rId10"/>
              </a:rPr>
              <a:t>http://www.graycell.ru/picture/big/skripka4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http://upload.wikimedia.org/wikipedia/commons/thumb/2/24/Guitar_1.jpg/200px-Guitar_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Tw Cen MT"/>
              </a:rPr>
              <a:t> http://propianino.ru/wp-content/uploads/2012/01/Image-3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3. </a:t>
            </a:r>
            <a:r>
              <a:rPr b="0" lang="de-DE" sz="1400" spc="-1" strike="noStrike">
                <a:solidFill>
                  <a:srgbClr val="000000"/>
                </a:solidFill>
                <a:latin typeface="Tw Cen MT"/>
              </a:rPr>
              <a:t>http://uaprom-image.s3.amazonaws.com/240620_w640_h640_8028b0d63786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2:09:41Z</dcterms:created>
  <dc:creator>Bill Gates</dc:creator>
  <dc:description/>
  <dc:language>en-US</dc:language>
  <cp:lastModifiedBy>Admin</cp:lastModifiedBy>
  <dcterms:modified xsi:type="dcterms:W3CDTF">2013-04-07T15:44:01Z</dcterms:modified>
  <cp:revision>37</cp:revision>
  <dc:subject/>
  <dc:title>Отображение плоскости на себя</dc:title>
</cp:coreProperties>
</file>