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39E0-A529-4F7A-80A8-E8C035A2F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283-F149-4BE8-B354-96FF17066C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EB9-218F-4337-9E2B-BAFFE59B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8FA-48AF-4C68-81CC-D3C6B498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2D4-C99B-48D9-8385-7EE0FEB7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9FA-5AD8-4BCF-8B34-6BF5B702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1540-C50F-4302-8BC1-551BAA8E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BC7D-3D14-4226-9D41-831F6059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E48-F224-44D4-B94F-456802A1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AF0-8F7B-40E2-AA8B-4AF3F26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695-1776-4F3C-A195-E8B0CECB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8895-F895-40A8-842C-1DEF34B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ABCB-C056-41A1-AD69-64413DD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F06-C928-4E65-862E-FDB8F14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EC68-C2CE-4F19-91BF-4AF5329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D665-7865-4FE9-8856-C927A655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5900-10E1-4284-9CB7-9D526AC9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B0E9-88DF-41C9-9CC5-32943E9F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2B2D-A673-4CFA-AA05-38CF7A2A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B74A5-C672-4C45-BA88-994619EB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9DBA4-866A-490D-929D-5335712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13E81-AEF7-49C8-BE1C-14D4581D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43E56-D041-4B77-824A-B42AD4F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6AE46-BF6A-4C01-8209-B7E8251B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91A-D09D-4F64-9E14-37F9AEE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D7157-3847-4D6B-BB22-858A5AF2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F3705-7555-4C1B-8DC0-3F68CC9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2345B-8FFB-42C2-959E-A8950B0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A8F67-226A-4F58-8774-3BD15A8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0D6D3-A97D-4EA1-A29B-81A4C627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63206-AC96-4357-92C8-7EB8CF8D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A3B6E-828C-46A4-9F4B-D7534125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79B61-549F-40A2-81C7-578C99F0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590C6-E5A1-484A-81E8-3CD83C89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26E86-A77A-41D3-8021-45A66E9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C3A-9B90-4A44-971C-977D1D3D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35A5E-BAF4-4971-8667-2115557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363BD-01D8-4810-B3F7-231171E1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0400F-22F7-4C28-9F78-0D95704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7C990-9A87-4CA1-8999-07A8ED9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07622-FDCB-46CE-AE3B-4C9908B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DC72E-E167-4630-9351-73759CF3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B899C-0A6D-4EB8-9D65-62C7954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FA64B-336B-4838-91C8-D566FD85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71BD2-7898-41AD-AC03-BB146613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36E29-5F2C-4398-B85F-74B63D93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B94-0FD6-4910-9588-D8783394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9F93D-6C1A-4772-8433-09ADE6C6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EBED8-584D-4585-B893-0836E2F2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F1712-3C4C-432A-B1A1-225AAF2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821A7-63D0-49D1-B9CE-54FC156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2288A-9AFC-4D8F-9908-B76D8AA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6539A-D215-43B3-8E21-CE8A5BC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C7C0A-F8B6-46E3-A5F7-47C7F27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FBB38-A9AC-499C-B570-57CD843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D06FA-4A63-4711-923E-8C9BB2E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F1386-FFD3-4D47-A947-A258F063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410-D387-4A55-BE9D-C82DFD4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14BF0-6B80-4C2F-A79E-25C8FD62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093C-B6FA-479A-A103-08A20361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F644-9EBC-4AEA-B983-3DBF7D7E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665CC-731E-4AD8-9C56-396606F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1F75-8FC7-4E99-A8FB-FF8C4B80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C07E-F16F-4186-A3E4-CFBE557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14448-324F-4DE3-B6AB-F1D1125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4AD5E-2A2D-4ED3-95B6-0A359D8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9A95-23BE-4EDB-B2A7-C614E5E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B78B-0716-4BD4-ACA7-596D4A53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7A6-4FD7-4162-8B64-117C8FED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4533-1F6B-417F-9405-3C4C318D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8084-7092-4D9C-BC9F-43210F1D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BCF6-6A04-4CEA-8112-B7E7E1DC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7B70D-32C7-4169-BD9E-044CA583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1D3F5-C65D-4FB8-8DC0-E352874F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14833-FEF0-4474-8B2F-85DE320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73874-285B-48F2-9FAA-C4B70C7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E63D5-8C39-4800-BDD5-3C01C20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68C3A-D487-4EEB-ADB0-DAE7F7D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21A1B-863F-4BCF-9B25-42E7DB2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807-68CF-479E-B764-0430AD0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0A5FE-9142-48F9-8935-06F21225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3FB03-45C7-4A50-B948-15FD3F62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3A371-BE6B-4F05-B34F-5D40B6B2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AD154-53F2-43CE-B8A9-C0E652B4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E1DF1-C72B-41F1-AECE-C3FE8702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768B6-4812-4E19-9AC1-00AC2E33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E7F1-5794-4C28-8C05-E7E27D1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10C60-3E36-4D66-894C-0E4789F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02DF3-2A5F-4A8B-8CBB-2F4E5C5F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1CAF-21CA-4142-9CC0-888CA2A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E8D-B4A8-41FB-A544-56D04D1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2D95-ECA8-44F1-80F5-3181663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05E1A-C60E-45FA-814D-502FD4C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A352D-4516-426D-BF3C-C1E1E47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28717-4AB3-42B4-A382-C6DB8EC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6CB3-5DDD-4229-A25F-B4D7135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0A097-C589-4FED-BAE2-53D11CD8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10EC-9125-4DB6-9A58-C9921FD1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F2FB-7382-489B-B88A-D06EEDF4C0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D2D6-2FA2-47C7-9114-C130F0BDB0E1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FEB-17BB-4AA8-BC74-6847D2386E16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AD29-558F-4EE9-926F-17A4E5CB43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71A7-AD9C-4F64-A4A1-B07D275AD7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389-E1AF-4B2E-9F1D-259A2C5113AD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D59F-1793-4476-8A89-D08AB736A4F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34B6-B27F-4109-AEDE-76C76216BE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ttp://gifs-for-the-masses.tumblr.com/post/20719094365" TargetMode="External"/><Relationship Id="rId2" Type="http://schemas.openxmlformats.org/officeDocument/2006/relationships/image" Target="../media/image4.png"/><Relationship Id="rId3" Type="http://schemas.openxmlformats.org/officeDocument/2006/relationships/hyperlink" Target="mailto:http://25.media.tumblr.com/tumblr_mcxi12pXEz1rbr02fo1_500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hyperlink" Target="mailto:http://25.media.tumblr.com/tumblr_mc8fpn2s7s1r4yeito1_500.gif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http://www.astrbrass.narod.ru/files/page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http://fdstar.com/download/electronic_music_online/glava%201/88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mailto:http://www.simgeomyz.narod.ru/image/myz5.jpg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http://www.simgeomyz.narod.ru/image/myz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hyperlink" Target="mailto:http://24.media.tumblr.com/tumblr_me4cknjJ3S1rcu3n3o1_500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http://www.simgeomyz.narod.ru/image/myz4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ttp://www.graycell.ru/picture/big/skripka4.jpg" TargetMode="External"/><Relationship Id="rId2" Type="http://schemas.openxmlformats.org/officeDocument/2006/relationships/image" Target="../media/image14.png"/><Relationship Id="rId3" Type="http://schemas.openxmlformats.org/officeDocument/2006/relationships/hyperlink" Target="mailto:http://upload.wikimedia.org/wikipedia/commons/thumb/2/24/Guitar_1.jpg/200px-Guitar_1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http://propianino.ru/wp-content/uploads/2012/01/Image-3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5.media.tumblr.com/tumblr_mcxi12pXEz1rbr02fo1_500.gif" TargetMode="External"/><Relationship Id="rId2" Type="http://schemas.openxmlformats.org/officeDocument/2006/relationships/hyperlink" Target="http://25.media.tumblr.com/tumblr_mc8fpn2s7s1r4yeito1_500.gif" TargetMode="External"/><Relationship Id="rId3" Type="http://schemas.openxmlformats.org/officeDocument/2006/relationships/hyperlink" Target="http://gifs-for-the-masses.tumblr.com/post/20719094365" TargetMode="External"/><Relationship Id="rId4" Type="http://schemas.openxmlformats.org/officeDocument/2006/relationships/hyperlink" Target="http://www.astrbrass.narod.ru/files/page_1.jpg" TargetMode="External"/><Relationship Id="rId5" Type="http://schemas.openxmlformats.org/officeDocument/2006/relationships/hyperlink" Target="http://fdstar.com/download/electronic_music_online/glava%201/88.gif" TargetMode="External"/><Relationship Id="rId6" Type="http://schemas.openxmlformats.org/officeDocument/2006/relationships/hyperlink" Target="http://www.simgeomyz.narod.ru/image/myz5.jpg" TargetMode="External"/><Relationship Id="rId7" Type="http://schemas.openxmlformats.org/officeDocument/2006/relationships/hyperlink" Target="http://www.simgeomyz.narod.ru/image/myz3.jpg" TargetMode="External"/><Relationship Id="rId8" Type="http://schemas.openxmlformats.org/officeDocument/2006/relationships/hyperlink" Target="mailto:http://24.media.tumblr.com/tumblr_me4cknjJ3S1rcu3n3o1_500.gif" TargetMode="External"/><Relationship Id="rId9" Type="http://schemas.openxmlformats.org/officeDocument/2006/relationships/hyperlink" Target="http://www.simgeomyz.narod.ru/image/myz4.jpg" TargetMode="External"/><Relationship Id="rId10" Type="http://schemas.openxmlformats.org/officeDocument/2006/relationships/hyperlink" Target="http://www.graycell.ru/picture/big/skripka4.jpg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СИММЕТРИЯ В МУЗЫКЕ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4857840" y="442908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ученица 9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. Астрахани «СОШ № 57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ышников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Переясл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C:\Users\Admin\Pictures\КАРТИНКИ\240620_w640_h640_8028b0d63786.png"/>
          <p:cNvPicPr/>
          <p:nvPr/>
        </p:nvPicPr>
        <p:blipFill>
          <a:blip r:embed="rId1"/>
          <a:stretch/>
        </p:blipFill>
        <p:spPr>
          <a:xfrm>
            <a:off x="1143000" y="1571760"/>
            <a:ext cx="39416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имметрия в музык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0040" y="17856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формы построения музыкальных произведений строятся  симметрично. В этом отношении особенно характерно рондо ( от французского- круг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до - музыкальная форма, в которой неоднократные (не менее 3-х) проведения главной темы (рефрена) чередуются с отличающимися друг от друга эпиз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Овал 3"/>
          <p:cNvSpPr/>
          <p:nvPr/>
        </p:nvSpPr>
        <p:spPr>
          <a:xfrm>
            <a:off x="857160" y="4643280"/>
            <a:ext cx="1000080" cy="9288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углом 4"/>
          <p:cNvSpPr/>
          <p:nvPr/>
        </p:nvSpPr>
        <p:spPr>
          <a:xfrm>
            <a:off x="1571760" y="4071960"/>
            <a:ext cx="428400" cy="35712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Равнобедренный треугольник 5"/>
          <p:cNvSpPr/>
          <p:nvPr/>
        </p:nvSpPr>
        <p:spPr>
          <a:xfrm>
            <a:off x="2428920" y="4000680"/>
            <a:ext cx="857160" cy="642600"/>
          </a:xfrm>
          <a:prstGeom prst="triangle">
            <a:avLst>
              <a:gd name="adj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право стрелка 6"/>
          <p:cNvSpPr/>
          <p:nvPr/>
        </p:nvSpPr>
        <p:spPr>
          <a:xfrm>
            <a:off x="3857760" y="4143240"/>
            <a:ext cx="714240" cy="1143000"/>
          </a:xfrm>
          <a:custGeom>
            <a:avLst/>
            <a:gdLst>
              <a:gd name="textAreaLeft" fmla="*/ 95400 w 714240"/>
              <a:gd name="textAreaRight" fmla="*/ 618840 w 714240"/>
              <a:gd name="textAreaTop" fmla="*/ 218520 h 1143000"/>
              <a:gd name="textAreaBottom" fmla="*/ 835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69" stAng="-5400000" swAng="5400000"/>
                <a:lnTo>
                  <a:pt x="21600" y="11645"/>
                </a:lnTo>
                <a:arcTo wR="21600" hR="8269" stAng="0" swAng="3360022"/>
                <a:lnTo>
                  <a:pt x="5400" y="21337"/>
                </a:lnTo>
                <a:lnTo>
                  <a:pt x="0" y="18225"/>
                </a:lnTo>
                <a:lnTo>
                  <a:pt x="5400" y="14587"/>
                </a:lnTo>
                <a:lnTo>
                  <a:pt x="5400" y="16274"/>
                </a:lnTo>
                <a:arcTo wR="21600" hR="8269" stAng="3360022" swAng="-3086170"/>
                <a:lnTo>
                  <a:pt x="21145" y="9957"/>
                </a:lnTo>
                <a:arcTo wR="21600" hR="8269" stAng="-273852" swAng="-5126148"/>
                <a:close/>
              </a:path>
              <a:path fill="darkenLess" w="21600" h="21600">
                <a:moveTo>
                  <a:pt x="0" y="0"/>
                </a:moveTo>
                <a:arcTo wR="21600" hR="8269" stAng="-5400000" swAng="5400000"/>
                <a:lnTo>
                  <a:pt x="21600" y="11645"/>
                </a:lnTo>
                <a:arcTo wR="21600" hR="8269" stAng="0" swAng="-273852"/>
                <a:lnTo>
                  <a:pt x="21145" y="9957"/>
                </a:lnTo>
                <a:arcTo wR="21600" hR="8269" stAng="-273852" swAng="-5126148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2643120" y="5286240"/>
            <a:ext cx="857160" cy="714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лево 8"/>
          <p:cNvSpPr/>
          <p:nvPr/>
        </p:nvSpPr>
        <p:spPr>
          <a:xfrm>
            <a:off x="1857240" y="5357880"/>
            <a:ext cx="50004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http://img5.joyreactor.cc/pics/post/music-%D0%B3%D0%B8%D1%84%D0%BA%D0%B8-%D0%BF%D0%BB%D1%8F%D1%88%D0%B5%D0%BC-%D0%BF%D0%BE%D1%85%D1%83%D0%B9-%D0%BF%D0%BB%D1%8F%D1%88%D0%B5%D0%BC-37985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5600" y="4516560"/>
            <a:ext cx="2163960" cy="2633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25.media.tumblr.com/tumblr_mcxi12pXEz1rbr02fo1_50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1760" y="208080"/>
            <a:ext cx="1652760" cy="938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24.media.tumblr.com/tumblr_m7ngxrxTar1r3ta86o1_400.gif"/>
          <p:cNvPicPr/>
          <p:nvPr/>
        </p:nvPicPr>
        <p:blipFill>
          <a:blip r:embed="rId5"/>
          <a:stretch/>
        </p:blipFill>
        <p:spPr>
          <a:xfrm>
            <a:off x="2928960" y="6215040"/>
            <a:ext cx="2523960" cy="476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http://25.media.tumblr.com/tumblr_mc8fpn2s7s1r4yeito1_500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00880" y="281160"/>
            <a:ext cx="17496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имметрия в музык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стейшее- симметрия нотного стан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http://www.astrbrass.narod.ru/files/page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2428920"/>
            <a:ext cx="28576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еквенц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венция- Разновидность трансляции. Многократное повторение небольшого мотива разных ступеней лада, как в восходящем, так и в нисходящем направ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http://pix.samoucka.ru/img/content/music/computermusic/1/8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3143160"/>
            <a:ext cx="7223040" cy="1785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428760" y="528624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: Беркович "Второй концерт для фортепиано с оркестром.1 ча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Секвенц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8520" y="4870440"/>
            <a:ext cx="28828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 вариант зеркального отражения в музыке более понятен для немузыканта. В этом случае зеркальная плоскость ориентирована перпендикулярно к нотным линейкам. Отраженные ноты кажутся такими, какими они действительно выглядели бы в зеркале. Начиная от зеркальной плоскости оригинал проигрывается в обратном направлении. Такое зеркальное нотное письмо носит название «ракоходное», по ассоциации с обыкновением раков пятиться назад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Ракоходное обращ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4214880"/>
            <a:ext cx="251136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3" name="Picture 6" descr="http://24.media.tumblr.com/tumblr_m7ngxrxTar1r3ta86o1_400.gif"/>
          <p:cNvPicPr/>
          <p:nvPr/>
        </p:nvPicPr>
        <p:blipFill>
          <a:blip r:embed="rId3"/>
          <a:stretch/>
        </p:blipFill>
        <p:spPr>
          <a:xfrm>
            <a:off x="3143160" y="500040"/>
            <a:ext cx="2524320" cy="476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24.media.tumblr.com/tumblr_m7ngxrxTar1r3ta86o1_400.gif"/>
          <p:cNvPicPr/>
          <p:nvPr/>
        </p:nvPicPr>
        <p:blipFill>
          <a:blip r:embed="rId4"/>
          <a:stretch/>
        </p:blipFill>
        <p:spPr>
          <a:xfrm>
            <a:off x="2714760" y="428760"/>
            <a:ext cx="3214440" cy="60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http://24.media.tumblr.com/tumblr_me4cknjJ3S1rcu3n3o1_50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214200"/>
            <a:ext cx="1779480" cy="1000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рансляционный вид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распространенный вид симметрии в музыке. В этом случае музыкальная фраза повторяется неизменно. Но в некоторых случаях возможна асимметрия, то есть отступление от оригинала. Примерами служат все песни, в которых куплет (припев) повторяется без изменения несколько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Трансляционный ви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70080" y="3602160"/>
            <a:ext cx="332892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si-bemol.moy.su/Prosto_cartinki/skripk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785960"/>
            <a:ext cx="2714400" cy="33210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ая соединительная линия 5"/>
          <p:cNvSpPr/>
          <p:nvPr/>
        </p:nvSpPr>
        <p:spPr>
          <a:xfrm flipH="1">
            <a:off x="1142640" y="1357200"/>
            <a:ext cx="2071800" cy="4286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http://upload.wikimedia.org/wikipedia/commons/thumb/2/24/Guitar_1.jpg/220px-Guitar_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1643040"/>
            <a:ext cx="2095560" cy="41148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ая соединительная линия 7"/>
          <p:cNvSpPr/>
          <p:nvPr/>
        </p:nvSpPr>
        <p:spPr>
          <a:xfrm flipH="1">
            <a:off x="5762160" y="1643040"/>
            <a:ext cx="25560" cy="411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http://propianino.ru/wp-content/uploads/2012/01/Image-3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2357280"/>
            <a:ext cx="6500880" cy="3306960"/>
          </a:xfrm>
          <a:prstGeom prst="rect">
            <a:avLst/>
          </a:prstGeom>
          <a:ln w="0">
            <a:noFill/>
          </a:ln>
        </p:spPr>
      </p:pic>
      <p:sp>
        <p:nvSpPr>
          <p:cNvPr id="394" name="Скругленный прямоугольник 4"/>
          <p:cNvSpPr/>
          <p:nvPr/>
        </p:nvSpPr>
        <p:spPr>
          <a:xfrm>
            <a:off x="2571840" y="3000240"/>
            <a:ext cx="2357280" cy="2071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6"/>
          <p:cNvSpPr/>
          <p:nvPr/>
        </p:nvSpPr>
        <p:spPr>
          <a:xfrm>
            <a:off x="5000760" y="3000240"/>
            <a:ext cx="2357280" cy="2071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8"/>
          <p:cNvSpPr/>
          <p:nvPr/>
        </p:nvSpPr>
        <p:spPr>
          <a:xfrm>
            <a:off x="4928400" y="1857240"/>
            <a:ext cx="71640" cy="4286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Источники Информации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4296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25.media.tumblr.com/tumblr_mcxi12pXEz1rbr02fo1_500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25.media.tumblr.com/tumblr_mc8fpn2s7s1r4yeito1_500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http://gifs-for-the-masses.tumblr.com/post/2071909436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http://www.astrbrass.narod.ru/files/page_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http://fdstar.com/download/electronic_music_online/glava%201/88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http://www.simgeomyz.narod.ru/image/myz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7"/>
              </a:rPr>
              <a:t>http://www.simgeomyz.narod.ru/image/myz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8"/>
              </a:rPr>
              <a:t> http://24.media.tumblr.com/tumblr_me4cknjJ3S1rcu3n3o1_500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9"/>
              </a:rPr>
              <a:t>http://www.simgeomyz.narod.ru/image/myz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10"/>
              </a:rPr>
              <a:t>http://www.graycell.ru/picture/big/skripka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http://upload.wikimedia.org/wikipedia/commons/thumb/2/24/Guitar_1.jpg/200px-Guitar_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http://propianino.ru/wp-content/uploads/2012/01/Image-3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de-DE" sz="1400" spc="-1" strike="noStrike">
                <a:solidFill>
                  <a:srgbClr val="000000"/>
                </a:solidFill>
                <a:latin typeface="Tw Cen MT"/>
              </a:rPr>
              <a:t>http://uaprom-image.s3.amazonaws.com/240620_w640_h640_8028b0d63786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2:09:41Z</dcterms:created>
  <dc:creator>Bill Gates</dc:creator>
  <dc:description/>
  <dc:language>en-US</dc:language>
  <cp:lastModifiedBy>Admin</cp:lastModifiedBy>
  <dcterms:modified xsi:type="dcterms:W3CDTF">2013-04-07T15:44:01Z</dcterms:modified>
  <cp:revision>37</cp:revision>
  <dc:subject/>
  <dc:title>Отображение плоскости на себя</dc:title>
</cp:coreProperties>
</file>