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8.gif" ContentType="image/gif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1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10.gif" ContentType="image/gi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D04-46DB-4C7E-8234-B859A32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729-FD0E-422B-BD13-256ECE9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5F6-3926-4DE2-B7E9-C8FFEE8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FE6-4B8B-403E-A8A8-A750002D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4E9F-75D5-4A87-8063-D43BAC7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C961-D151-4E84-A611-6BD677C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1D8B-90D7-4206-9091-2754B46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5232-550F-44D1-A657-EB6CA3A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50AD-623F-451A-86FD-8091BE5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5210-F6DF-4B66-9639-CD112526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DA22-BDD4-445F-BFA7-6FAB15A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AA1-71BC-448C-A30D-971C172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9F4-6CC4-4477-9BCE-76E7270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5E36-9ABD-4E20-BF95-85A99FE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F97F-7B9F-4EEB-8050-A572864A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372-69D3-4F4D-98A4-B084CFCB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FBA6-BF94-4187-AA94-E698BE37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46D-F1D2-4943-AC01-DB9F777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853-349F-40CF-92BC-DF96AAD9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FC7-FAEB-427C-A2E2-32A3A19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679-2661-4E28-8181-5F78A55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DE-B524-444D-AE49-4809D9A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AEA-755D-4D86-9052-9D231985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23F-9D74-4DD9-BB21-127ADA1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30DF-7E07-4A17-9501-F8CDB7D67B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31C-5DF4-4ABC-BBC3-145FD960A7E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группах детского сад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14664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еминар - практику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8" descr="Анимашки Дети"/>
          <p:cNvPicPr/>
          <p:nvPr/>
        </p:nvPicPr>
        <p:blipFill>
          <a:blip r:embed="rId1"/>
          <a:stretch/>
        </p:blipFill>
        <p:spPr>
          <a:xfrm>
            <a:off x="6877080" y="333360"/>
            <a:ext cx="1727280" cy="15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Анимашки Дети"/>
          <p:cNvPicPr/>
          <p:nvPr/>
        </p:nvPicPr>
        <p:blipFill>
          <a:blip r:embed="rId2"/>
          <a:stretch/>
        </p:blipFill>
        <p:spPr>
          <a:xfrm>
            <a:off x="468360" y="4292640"/>
            <a:ext cx="1819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Демократически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928800"/>
            <a:ext cx="8444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дагог учитывает особенности возраста детей, оптимально делит функции между собой и дет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Изучает и учитывает межличностные взаимоотнош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оявляет максимум требований, максимум ува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Испытывает потребность 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обратной связи от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Умеет признавать ошиб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едпочитает плодотворный разговор с ребенком наед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553080" y="3548160"/>
            <a:ext cx="2468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9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90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9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9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Методики изучения оценки психологического климата и эмоционального благополуч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14308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Рисунок «Я в своей группе детского сада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Цветовая диагностика «Домики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Тест на эмоциональное отнош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Анализ «Атмосфера в моей группе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Социомет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072200" y="4857840"/>
            <a:ext cx="1357560" cy="133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2857680" y="3929040"/>
            <a:ext cx="2928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1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1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8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100"/>
                            </p:stCondLst>
                            <p:childTnLst>
                              <p:par>
                                <p:cTn id="4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100"/>
                            </p:stCondLst>
                            <p:childTnLst>
                              <p:par>
                                <p:cTn id="4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Упражнения  для снятия  эмоционального напряжения педагогов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создания условий психологически комфортного пребывания ребёнка в детском саду необходимо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нимать каждого ребёнка таким, какой он е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пираться на добровольную помощь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Быть затейником и участником детских игр и заба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В затруднительных  для ребенка ситуациях  ориентироваться на возрастные и индивидуальные особенности: быть всегда вместе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влекать родителей к образовательному процесс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6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6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6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6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8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8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мни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1071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Ребенок вам ничего не долже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Добиваться соблюдения от ребенка социальных норм и правил с учетом его состояния и интере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 навязывать своих правил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Меньше запретов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Тихий, застенчивый ребенок также нуждается в помощи, как и отъявленный драчу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4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4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400"/>
                            </p:stCondLst>
                            <p:childTnLst>
                              <p:par>
                                <p:cTn id="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40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5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 комфортная среда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3840" y="1500120"/>
            <a:ext cx="8643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рганизацию зоны для психологической разгруз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агрессивных детей способам выражения гнева в приемлемой фор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умению владеть собой в различных ситуациях, приемам саморегуляции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бесконфликтному общению с помощью эмоционально-развивающих игр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овышение самооценки тревожных, неуверенных в себе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навыкам сотрудничества и согласованным действиям в коман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9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9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9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8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900"/>
                            </p:stCondLst>
                            <p:childTnLst>
                              <p:par>
                                <p:cTn id="5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900"/>
                            </p:stCondLst>
                            <p:childTnLst>
                              <p:par>
                                <p:cTn id="5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8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900"/>
                            </p:stCondLst>
                            <p:childTnLst>
                              <p:par>
                                <p:cTn id="5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8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768d"/>
                </a:solidFill>
                <a:latin typeface="Verdana"/>
              </a:rPr>
              <a:t>Психологические речевые настрой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57160" y="1600200"/>
            <a:ext cx="8072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b6c0c"/>
                </a:solidFill>
                <a:uFillTx/>
                <a:latin typeface="Verdana"/>
              </a:rPr>
              <a:t>Цель настроек 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– создание в группе положительного эмоционального фона, атмосферы доброжелательности и защищен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b6c0c"/>
                </a:solidFill>
                <a:uFillTx/>
                <a:latin typeface="Verdana"/>
              </a:rPr>
              <a:t>Предназначение 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– установки на хорошее настро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1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100"/>
                            </p:stCondLst>
                            <p:childTnLst>
                              <p:par>
                                <p:cTn id="6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8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дведение итогов семина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786040" y="3929040"/>
            <a:ext cx="28576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8"/>
          <p:cNvSpPr txBox="1"/>
          <p:nvPr/>
        </p:nvSpPr>
        <p:spPr>
          <a:xfrm>
            <a:off x="2700360" y="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92360" y="3284640"/>
            <a:ext cx="2089440" cy="151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14"/>
          <p:cNvSpPr/>
          <p:nvPr/>
        </p:nvSpPr>
        <p:spPr>
          <a:xfrm>
            <a:off x="3059280" y="184464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214"/>
          <p:cNvSpPr/>
          <p:nvPr/>
        </p:nvSpPr>
        <p:spPr>
          <a:xfrm>
            <a:off x="5867280" y="3213000"/>
            <a:ext cx="305928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214"/>
          <p:cNvSpPr/>
          <p:nvPr/>
        </p:nvSpPr>
        <p:spPr>
          <a:xfrm>
            <a:off x="250920" y="321300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214"/>
          <p:cNvSpPr/>
          <p:nvPr/>
        </p:nvSpPr>
        <p:spPr>
          <a:xfrm>
            <a:off x="3059280" y="515772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WordArt 51"/>
          <p:cNvSpPr txBox="1"/>
          <p:nvPr/>
        </p:nvSpPr>
        <p:spPr>
          <a:xfrm>
            <a:off x="3276720" y="2060640"/>
            <a:ext cx="2744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Эмоцион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ff00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206"/>
          <p:cNvSpPr txBox="1"/>
          <p:nvPr/>
        </p:nvSpPr>
        <p:spPr>
          <a:xfrm>
            <a:off x="6012000" y="3357720"/>
            <a:ext cx="27493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Интеллекту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207"/>
          <p:cNvSpPr txBox="1"/>
          <p:nvPr/>
        </p:nvSpPr>
        <p:spPr>
          <a:xfrm>
            <a:off x="571680" y="3500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изическое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207"/>
          <p:cNvSpPr txBox="1"/>
          <p:nvPr/>
        </p:nvSpPr>
        <p:spPr>
          <a:xfrm>
            <a:off x="3419640" y="544500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Духовно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1" name="Picture 19" descr="Анимашки Дети"/>
          <p:cNvPicPr/>
          <p:nvPr/>
        </p:nvPicPr>
        <p:blipFill>
          <a:blip r:embed="rId1"/>
          <a:stretch/>
        </p:blipFill>
        <p:spPr>
          <a:xfrm>
            <a:off x="6877080" y="4941720"/>
            <a:ext cx="117468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Анимашки Дети"/>
          <p:cNvPicPr/>
          <p:nvPr/>
        </p:nvPicPr>
        <p:blipFill>
          <a:blip r:embed="rId2"/>
          <a:stretch/>
        </p:blipFill>
        <p:spPr>
          <a:xfrm>
            <a:off x="250920" y="1197000"/>
            <a:ext cx="2484360" cy="171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5" descr="Анимашки Дети"/>
          <p:cNvPicPr/>
          <p:nvPr/>
        </p:nvPicPr>
        <p:blipFill>
          <a:blip r:embed="rId3"/>
          <a:stretch/>
        </p:blipFill>
        <p:spPr>
          <a:xfrm>
            <a:off x="6588000" y="1052640"/>
            <a:ext cx="1944720" cy="17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Анимашки Дети"/>
          <p:cNvPicPr/>
          <p:nvPr/>
        </p:nvPicPr>
        <p:blipFill>
          <a:blip r:embed="rId4"/>
          <a:stretch/>
        </p:blipFill>
        <p:spPr>
          <a:xfrm>
            <a:off x="250920" y="429264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03320"/>
            <a:ext cx="88930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следствия психологического дискомфорт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явление фобий, страхов, тревожности, повышенной агрессивност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матические расстройст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сихологические травмы в детстве, психологическая защита в зрелом возрасте: позиция избегания, проявления агрессивных поведенческих реакц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Анимашки Дети"/>
          <p:cNvPicPr/>
          <p:nvPr/>
        </p:nvPicPr>
        <p:blipFill>
          <a:blip r:embed="rId1"/>
          <a:stretch/>
        </p:blipFill>
        <p:spPr>
          <a:xfrm>
            <a:off x="712800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8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8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96360" cy="43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детском саду для сохранения и укрепления психологического здоровья и развития личности ребёнка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Анимашки Дети"/>
          <p:cNvPicPr/>
          <p:nvPr/>
        </p:nvPicPr>
        <p:blipFill>
          <a:blip r:embed="rId1"/>
          <a:stretch/>
        </p:blipFill>
        <p:spPr>
          <a:xfrm>
            <a:off x="155520" y="46080"/>
            <a:ext cx="1868400" cy="223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Анимашки Дети"/>
          <p:cNvPicPr/>
          <p:nvPr/>
        </p:nvPicPr>
        <p:blipFill>
          <a:blip r:embed="rId2"/>
          <a:stretch/>
        </p:blipFill>
        <p:spPr>
          <a:xfrm>
            <a:off x="324000" y="4941720"/>
            <a:ext cx="1350720" cy="151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Анимашки Дети"/>
          <p:cNvPicPr/>
          <p:nvPr/>
        </p:nvPicPr>
        <p:blipFill>
          <a:blip r:embed="rId3"/>
          <a:stretch/>
        </p:blipFill>
        <p:spPr>
          <a:xfrm>
            <a:off x="7164360" y="404640"/>
            <a:ext cx="1363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тмосфера в группе детского сада определяется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5840" y="1571400"/>
            <a:ext cx="8472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Отношениями между воспитателем и детьм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Отношениями между самим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071720" y="3643200"/>
            <a:ext cx="2290680" cy="283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5346720" y="3560760"/>
            <a:ext cx="3174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лагоприятный клим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760" y="121392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Атмосфера доброжелательност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заботы о кажд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Доверие, требовате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Ответствен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Чувство защищ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частность к происходящем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Уверенность в се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поднятое настрое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Сформированность ценностного отношения к личности, делу, ист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8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8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8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8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85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лияние стилей педагогического общения на благоприятный психологический комфорт в групп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Авторитарны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07172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едагог – руководитель, организатор; дети – исполнители (несамостоятельные, безынициативны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нцип педагога: «Доверяй, но проверяй» (недостает уважения, доверия к личности ребенка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жидание беспрекословного послушания, повинов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е учитывает отношения между деть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е признает ошиб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изко оценивает возможност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ублично указывает ребенку на его ошибки, недостатки пове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765840" y="3693960"/>
            <a:ext cx="23846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6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6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Либеральный стиль (попустительски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дагог безынициативен, недостаточно ответствен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реоценивает возможно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ыполнение своих требований не проверяе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решител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о вла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 учитывает взаимо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 групп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Человек настро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6834240" y="3693960"/>
            <a:ext cx="2230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2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2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2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2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8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3:49:46Z</dcterms:created>
  <dc:creator>Customer</dc:creator>
  <dc:description/>
  <dc:language>en-US</dc:language>
  <cp:lastModifiedBy>Привет!</cp:lastModifiedBy>
  <dcterms:modified xsi:type="dcterms:W3CDTF">2012-11-19T17:28:48Z</dcterms:modified>
  <cp:revision>17</cp:revision>
  <dc:subject/>
  <dc:title>Создание психологического комфорта в группах детского сада</dc:title>
</cp:coreProperties>
</file>