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8.gif" ContentType="image/gif"/>
  <Override PartName="/ppt/media/image17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1.gif" ContentType="image/gif"/>
  <Override PartName="/ppt/media/image2.gif" ContentType="image/gif"/>
  <Override PartName="/ppt/media/image11.png" ContentType="image/png"/>
  <Override PartName="/ppt/media/image3.gif" ContentType="image/gif"/>
  <Override PartName="/ppt/media/image12.png" ContentType="image/png"/>
  <Override PartName="/ppt/media/image4.gif" ContentType="image/gif"/>
  <Override PartName="/ppt/media/image10.gif" ContentType="image/gi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685-6DF3-42CC-BC35-8572B31C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46E-E162-4E1A-BF17-E6AF4040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EE5-29CE-4F8F-B426-4F6AC987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E78-E456-4B9B-8424-6A259778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09C-3D38-4050-9B6F-F93DA21C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91B2-E2AA-4D03-93DD-4430762B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43D3-11DB-4E3F-830B-C7CB7832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AFAD-23FB-4C9D-AF0D-473D94B9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A13-274B-43F4-BD32-E8CDDE35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6734-C39E-4E2B-990F-3718D28C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489F-B8B6-4C06-B51B-84513CE7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B1C-F7D3-4719-B1EF-033A75D0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DB32-2EE7-4724-8F6D-D1F5B504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DD03-ACB5-43FF-8CD1-F5772A5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DB23-75BC-4579-90D0-9B8D5B34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9795-38EA-4FEE-9190-73B23EC9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B9F6-0BD9-4558-B910-36A54E36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B51-E200-49DD-804F-E7C69A60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461-4F93-4A76-AE50-D683228C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F1F-656D-4D63-91AB-F7B737E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D0B-F4B1-4605-940D-96BD9D4B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6D5-A994-4574-B4B3-A6CD29B2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AA8-4C90-4976-BF36-E7ECF8AA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8BF-B34C-44B1-B090-3B565776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4C4-B5F5-45B1-B499-ADDDD21E4C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52DB-8049-4E0A-8A1F-25137D74C9F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группах детского сад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843280" y="4869000"/>
            <a:ext cx="6146640" cy="8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Семинар - практику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Picture 8" descr="Анимашки Дети"/>
          <p:cNvPicPr/>
          <p:nvPr/>
        </p:nvPicPr>
        <p:blipFill>
          <a:blip r:embed="rId1"/>
          <a:stretch/>
        </p:blipFill>
        <p:spPr>
          <a:xfrm>
            <a:off x="6877080" y="333360"/>
            <a:ext cx="1727280" cy="1581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Анимашки Дети"/>
          <p:cNvPicPr/>
          <p:nvPr/>
        </p:nvPicPr>
        <p:blipFill>
          <a:blip r:embed="rId2"/>
          <a:stretch/>
        </p:blipFill>
        <p:spPr>
          <a:xfrm>
            <a:off x="468360" y="4292640"/>
            <a:ext cx="1819080" cy="216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1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Демократически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928800"/>
            <a:ext cx="84441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едагог учитывает особенности возраста детей, оптимально делит функции между собой и детьм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Изучает и учитывает межличностные взаимоотнош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оявляет максимум требований, максимум уважени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Испытывает потребность в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обратной связи от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Умеет признавать ошиб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едпочитает плодотворный разговор с ребенком наед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553080" y="3548160"/>
            <a:ext cx="24685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9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3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8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00"/>
                            </p:stCondLst>
                            <p:childTnLst>
                              <p:par>
                                <p:cTn id="3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8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900"/>
                            </p:stCondLst>
                            <p:childTnLst>
                              <p:par>
                                <p:cTn id="3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8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9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9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8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Методики изучения оценки психологического климата и эмоционального благополуч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14308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Рисунок «Я в своей группе детского сада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Цветовая диагностика «Домики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Тест на эмоциональное отношен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Анализ «Атмосфера в моей группе»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Социометр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7072200" y="4857840"/>
            <a:ext cx="1357560" cy="133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2857680" y="3929040"/>
            <a:ext cx="2928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8100"/>
                            </p:stCondLst>
                            <p:childTnLst>
                              <p:par>
                                <p:cTn id="4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8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100"/>
                            </p:stCondLst>
                            <p:childTnLst>
                              <p:par>
                                <p:cTn id="4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8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2100"/>
                            </p:stCondLst>
                            <p:childTnLst>
                              <p:par>
                                <p:cTn id="4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8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4100"/>
                            </p:stCondLst>
                            <p:childTnLst>
                              <p:par>
                                <p:cTn id="4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6100"/>
                            </p:stCondLst>
                            <p:childTnLst>
                              <p:par>
                                <p:cTn id="4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8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29286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Упражнения  для снятия  эмоционального напряжения педагогов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Для создания условий психологически комфортного пребывания ребёнка в детском саду необходимо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14200" y="1600200"/>
            <a:ext cx="8715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ринимать каждого ребёнка таким, какой он ес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пираться на добровольную помощь де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Быть затейником и участником детских игр и заба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В затруднительных  для ребенка ситуациях  ориентироваться на возрастные и индивидуальные особенности: быть всегда вместе с ним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ривлекать родителей к образовательному процессу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600"/>
                            </p:stCondLst>
                            <p:childTnLst>
                              <p:par>
                                <p:cTn id="4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8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6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8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6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8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6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8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8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мни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1680" y="1071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Ребенок вам ничего не долже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Добиваться соблюдения от ребенка социальных норм и правил с учетом его состояния и интересо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Не навязывать своих правил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Меньше запретов и требова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Тихий, застенчивый ребенок также нуждается в помощи, как и отъявленный драчун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400"/>
                            </p:stCondLst>
                            <p:childTnLst>
                              <p:par>
                                <p:cTn id="5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8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400"/>
                            </p:stCondLst>
                            <p:childTnLst>
                              <p:par>
                                <p:cTn id="5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8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400"/>
                            </p:stCondLst>
                            <p:childTnLst>
                              <p:par>
                                <p:cTn id="5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8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9400"/>
                            </p:stCondLst>
                            <p:childTnLst>
                              <p:par>
                                <p:cTn id="5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8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1400"/>
                            </p:stCondLst>
                            <p:childTnLst>
                              <p:par>
                                <p:cTn id="5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8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сихологически комфортная среда: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3840" y="1500120"/>
            <a:ext cx="864396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рганизацию зоны для психологической разгруз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агрессивных детей способам выражения гнева в приемлемой форм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детей умению владеть собой в различных ситуациях, приемам саморегуляции; 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детей бесконфликтному общению с помощью эмоционально-развивающих игр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овышение самооценки тревожных, неуверенных в себе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бучение детей навыкам сотрудничества и согласованным действиям в команд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9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8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9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8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900"/>
                            </p:stCondLst>
                            <p:childTnLst>
                              <p:par>
                                <p:cTn id="5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8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9900"/>
                            </p:stCondLst>
                            <p:childTnLst>
                              <p:par>
                                <p:cTn id="5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8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900"/>
                            </p:stCondLst>
                            <p:childTnLst>
                              <p:par>
                                <p:cTn id="5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8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900"/>
                            </p:stCondLst>
                            <p:childTnLst>
                              <p:par>
                                <p:cTn id="5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8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768d"/>
                </a:solidFill>
                <a:latin typeface="Verdana"/>
              </a:rPr>
              <a:t>Психологические речевые настройк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57160" y="1600200"/>
            <a:ext cx="8072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b6c0c"/>
                </a:solidFill>
                <a:uFillTx/>
                <a:latin typeface="Verdana"/>
              </a:rPr>
              <a:t>Цель настроек 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– создание в группе положительного эмоционального фона, атмосферы доброжелательности и защищен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b6c0c"/>
                </a:solidFill>
                <a:uFillTx/>
                <a:latin typeface="Verdana"/>
              </a:rPr>
              <a:t>Предназначение </a:t>
            </a: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– установки на хорошее настрое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1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8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6100"/>
                            </p:stCondLst>
                            <p:childTnLst>
                              <p:par>
                                <p:cTn id="6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8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дведение итогов семина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400" y="200016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Verdana"/>
              </a:rPr>
              <a:t>Спасибо за внимание!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786040" y="3929040"/>
            <a:ext cx="285768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8"/>
          <p:cNvSpPr txBox="1"/>
          <p:nvPr/>
        </p:nvSpPr>
        <p:spPr>
          <a:xfrm>
            <a:off x="2700360" y="0"/>
            <a:ext cx="338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ь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492360" y="3284640"/>
            <a:ext cx="2089440" cy="1511280"/>
          </a:xfrm>
          <a:prstGeom prst="pie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AutoShape 214"/>
          <p:cNvSpPr/>
          <p:nvPr/>
        </p:nvSpPr>
        <p:spPr>
          <a:xfrm>
            <a:off x="3059280" y="184464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AutoShape 214"/>
          <p:cNvSpPr/>
          <p:nvPr/>
        </p:nvSpPr>
        <p:spPr>
          <a:xfrm>
            <a:off x="5867280" y="3213000"/>
            <a:ext cx="305928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214"/>
          <p:cNvSpPr/>
          <p:nvPr/>
        </p:nvSpPr>
        <p:spPr>
          <a:xfrm>
            <a:off x="250920" y="321300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214"/>
          <p:cNvSpPr/>
          <p:nvPr/>
        </p:nvSpPr>
        <p:spPr>
          <a:xfrm>
            <a:off x="3059280" y="5157720"/>
            <a:ext cx="3058920" cy="1152720"/>
          </a:xfrm>
          <a:prstGeom prst="flowChartAlternateProcess">
            <a:avLst/>
          </a:prstGeom>
          <a:solidFill>
            <a:srgbClr val="cc99ff"/>
          </a:solidFill>
          <a:ln w="38160">
            <a:solidFill>
              <a:srgbClr val="000066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WordArt 51"/>
          <p:cNvSpPr txBox="1"/>
          <p:nvPr/>
        </p:nvSpPr>
        <p:spPr>
          <a:xfrm>
            <a:off x="3276720" y="2060640"/>
            <a:ext cx="2744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Эмоциональ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ff00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206"/>
          <p:cNvSpPr txBox="1"/>
          <p:nvPr/>
        </p:nvSpPr>
        <p:spPr>
          <a:xfrm>
            <a:off x="6012000" y="3357720"/>
            <a:ext cx="27493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Интеллектуальное</a:t>
            </a:r>
            <a:endParaRPr b="1" lang="en-US" sz="1800" spc="1" strike="noStrike">
              <a:ln w="2232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WordArt 207"/>
          <p:cNvSpPr txBox="1"/>
          <p:nvPr/>
        </p:nvSpPr>
        <p:spPr>
          <a:xfrm>
            <a:off x="571680" y="350028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Физическое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0" name="WordArt 207"/>
          <p:cNvSpPr txBox="1"/>
          <p:nvPr/>
        </p:nvSpPr>
        <p:spPr>
          <a:xfrm>
            <a:off x="3419640" y="5445000"/>
            <a:ext cx="252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66ff">
                      <a:alpha val="80000"/>
                    </a:srgbClr>
                  </a:outerShdw>
                </a:effectLst>
                <a:latin typeface="Arial Black"/>
              </a:rPr>
              <a:t>Духовное </a:t>
            </a:r>
            <a:endParaRPr b="1" lang="en-US" sz="1800" spc="1" strike="noStrike">
              <a:ln w="2556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50000">
                    <a:srgbClr val="ffff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17819" dir="2700000" blurRad="0" rotWithShape="0">
                  <a:srgbClr val="0066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1" name="Picture 19" descr="Анимашки Дети"/>
          <p:cNvPicPr/>
          <p:nvPr/>
        </p:nvPicPr>
        <p:blipFill>
          <a:blip r:embed="rId1"/>
          <a:stretch/>
        </p:blipFill>
        <p:spPr>
          <a:xfrm>
            <a:off x="6877080" y="4941720"/>
            <a:ext cx="1174680" cy="144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Анимашки Дети"/>
          <p:cNvPicPr/>
          <p:nvPr/>
        </p:nvPicPr>
        <p:blipFill>
          <a:blip r:embed="rId2"/>
          <a:stretch/>
        </p:blipFill>
        <p:spPr>
          <a:xfrm>
            <a:off x="250920" y="1197000"/>
            <a:ext cx="2484360" cy="1719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5" descr="Анимашки Дети"/>
          <p:cNvPicPr/>
          <p:nvPr/>
        </p:nvPicPr>
        <p:blipFill>
          <a:blip r:embed="rId3"/>
          <a:stretch/>
        </p:blipFill>
        <p:spPr>
          <a:xfrm>
            <a:off x="6588000" y="1052640"/>
            <a:ext cx="1944720" cy="1755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7" descr="Анимашки Дети"/>
          <p:cNvPicPr/>
          <p:nvPr/>
        </p:nvPicPr>
        <p:blipFill>
          <a:blip r:embed="rId4"/>
          <a:stretch/>
        </p:blipFill>
        <p:spPr>
          <a:xfrm>
            <a:off x="250920" y="429264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103320"/>
            <a:ext cx="8893080" cy="13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оследствия психологического дискомфорта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явление фобий, страхов, тревожности, повышенной агрессивност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оматические расстройств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сихологические травмы в детстве, психологическая защита в зрелом возрасте: позиция избегания, проявления агрессивных поведенческих реакци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5" descr="Анимашки Дети"/>
          <p:cNvPicPr/>
          <p:nvPr/>
        </p:nvPicPr>
        <p:blipFill>
          <a:blip r:embed="rId1"/>
          <a:stretch/>
        </p:blipFill>
        <p:spPr>
          <a:xfrm>
            <a:off x="7128000" y="4653000"/>
            <a:ext cx="2016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8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8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8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96360" cy="43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Создание психологического комфорта в детском саду для сохранения и укрепления психологического здоровья и развития личности ребёнка.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5" descr="Анимашки Дети"/>
          <p:cNvPicPr/>
          <p:nvPr/>
        </p:nvPicPr>
        <p:blipFill>
          <a:blip r:embed="rId1"/>
          <a:stretch/>
        </p:blipFill>
        <p:spPr>
          <a:xfrm>
            <a:off x="155520" y="46080"/>
            <a:ext cx="1868400" cy="2230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Анимашки Дети"/>
          <p:cNvPicPr/>
          <p:nvPr/>
        </p:nvPicPr>
        <p:blipFill>
          <a:blip r:embed="rId2"/>
          <a:stretch/>
        </p:blipFill>
        <p:spPr>
          <a:xfrm>
            <a:off x="324000" y="4941720"/>
            <a:ext cx="1350720" cy="151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Анимашки Дети"/>
          <p:cNvPicPr/>
          <p:nvPr/>
        </p:nvPicPr>
        <p:blipFill>
          <a:blip r:embed="rId3"/>
          <a:stretch/>
        </p:blipFill>
        <p:spPr>
          <a:xfrm>
            <a:off x="7164360" y="404640"/>
            <a:ext cx="1363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Атмосфера в группе детского сада определяется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85840" y="1571400"/>
            <a:ext cx="8472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Отношениями между воспитателем и детьм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181c"/>
                </a:solidFill>
                <a:latin typeface="Verdana"/>
              </a:rPr>
              <a:t>Отношениями между самими деть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071720" y="3643200"/>
            <a:ext cx="2290680" cy="2836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5346720" y="3560760"/>
            <a:ext cx="31748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82440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лагоприятный клима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760" y="1213920"/>
            <a:ext cx="822960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Атмосфера доброжелательности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заботы о каждом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Доверие, требователь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Ответственнос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Чувство защищен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ичастность к происходящем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Уверенность в се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риподнятое настроени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Сформированность ценностного отношения к личности, делу, истин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00"/>
                            </p:stCondLst>
                            <p:childTnLst>
                              <p:par>
                                <p:cTn id="1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800"/>
                            </p:stCondLst>
                            <p:childTnLst>
                              <p:par>
                                <p:cTn id="1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800"/>
                            </p:stCondLst>
                            <p:childTnLst>
                              <p:par>
                                <p:cTn id="1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800"/>
                            </p:stCondLst>
                            <p:childTnLst>
                              <p:par>
                                <p:cTn id="1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800"/>
                            </p:stCondLst>
                            <p:childTnLst>
                              <p:par>
                                <p:cTn id="1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80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680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8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32857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Влияние стилей педагогического общения на благоприятный психологический комфорт в групп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Авторитарный стиль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1071720"/>
            <a:ext cx="8786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едагог – руководитель, организатор; дети – исполнители (несамостоятельные, безынициативные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ринцип педагога: «Доверяй, но проверяй» (недостает уважения, доверия к личности ребенка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Ожидание беспрекословного послушания, повинов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Не учитывает отношения между детьм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Не признает ошибки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Низко оценивает возможност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181c"/>
                </a:solidFill>
                <a:latin typeface="Verdana"/>
              </a:rPr>
              <a:t>Публично указывает ребенку на его ошибки, недостатки поведен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765840" y="3693960"/>
            <a:ext cx="23846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600"/>
                            </p:stCondLst>
                            <p:childTnLst>
                              <p:par>
                                <p:cTn id="2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8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4600"/>
                            </p:stCondLst>
                            <p:childTnLst>
                              <p:par>
                                <p:cTn id="2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8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8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6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8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6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8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6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8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aaa"/>
                </a:solidFill>
                <a:latin typeface="Verdana"/>
              </a:rPr>
              <a:t>Либеральный стиль (попустительский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едагог безынициативен, недостаточно ответствен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Переоценивает возможно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Выполнение своих требований не проверяет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Нерешителен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Во власти детей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Не учитывает взаимоотнош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в групп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181c"/>
                </a:solidFill>
                <a:latin typeface="Verdana"/>
              </a:rPr>
              <a:t>Человек настро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10181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6834240" y="3693960"/>
            <a:ext cx="223056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2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8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2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8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2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8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2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8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2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8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42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8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8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2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8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3:49:46Z</dcterms:created>
  <dc:creator>Customer</dc:creator>
  <dc:description/>
  <dc:language>en-US</dc:language>
  <cp:lastModifiedBy>Привет!</cp:lastModifiedBy>
  <dcterms:modified xsi:type="dcterms:W3CDTF">2012-11-19T17:28:48Z</dcterms:modified>
  <cp:revision>17</cp:revision>
  <dc:subject/>
  <dc:title>Создание психологического комфорта в группах детского сада</dc:title>
</cp:coreProperties>
</file>