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AE0-5992-4DF7-83BF-54D20A97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1F4-0DC8-46BF-ABFB-03EAEB8E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1D52-7C67-40DF-BE30-E6A3A3D3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08B-9E8F-4172-B4C8-E7D2A662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EDD4-AAF4-4098-91C1-E58BBCA1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31F9-BF42-4939-A4EB-88973E9D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7601-CE68-4EC1-A333-37F555EB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F610-E144-43D3-A001-5CAD5B24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B020-1467-4BBE-B2FE-FCC48BCD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0B5E-F2F7-4A56-A522-413735B4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113B-3430-4DCA-8746-1991ECFA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0C04-F895-4EDD-BD9B-DCC92064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1C79-D598-4ECC-952E-46937D79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6974-5EEF-438D-94F0-CA16BCC3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6DCD-BA11-488E-90B6-4897DC33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326C-7454-4C9D-850D-C04447D1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2008-FDA8-49A9-A76A-6EF2ED64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BAB-DA44-4D37-A515-58424EA3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CFE-A707-4F79-BFC2-749B373C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A6F-6EFE-431C-BC00-E3BE7905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27B8-3126-4F2C-AAC1-17CED597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842-E5BC-4CAB-B239-64F6C0F5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AF8-2F0A-4292-BDBD-266EC6C3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AA5-E2DF-4FB9-95F7-62984686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7e2b2"/>
                </a:gs>
                <a:gs pos="50000">
                  <a:srgbClr val="f5f0bd"/>
                </a:gs>
                <a:gs pos="100000">
                  <a:srgbClr val="e7e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fffd5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fffd5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CF20-D652-42E0-97AC-3F1B62C97B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d9d6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64b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7e2b2"/>
                </a:gs>
                <a:gs pos="50000">
                  <a:srgbClr val="f5f0bd"/>
                </a:gs>
                <a:gs pos="100000">
                  <a:srgbClr val="e7e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fffd5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fffd5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e7e2b2"/>
                </a:gs>
                <a:gs pos="50000">
                  <a:srgbClr val="f5f0bd"/>
                </a:gs>
                <a:gs pos="100000">
                  <a:srgbClr val="e7e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ffffd5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ffffcf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ffffd5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d9d6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64b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729F-1EB1-4398-BDD2-CE7B214954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.nd.ru/products/catalog/bez_serii/priroda_rossii/screenshots/2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6/v3834400.44/0_1f12f_fb00e21b_XL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14720" y="1571760"/>
            <a:ext cx="4319280" cy="2805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933ff"/>
                </a:solidFill>
                <a:latin typeface="Garamond"/>
              </a:rPr>
              <a:t>Это хрупкое чудо -  природа…</a:t>
            </a:r>
            <a:endParaRPr b="1" lang="en-US" sz="6000" spc="-1" strike="noStrike">
              <a:solidFill>
                <a:srgbClr val="bd9d69"/>
              </a:solidFill>
              <a:latin typeface="Garamond"/>
            </a:endParaRPr>
          </a:p>
        </p:txBody>
      </p:sp>
      <p:pic>
        <p:nvPicPr>
          <p:cNvPr id="131" name="Picture 5" descr="i?id=61114899&amp;tov=5"/>
          <p:cNvPicPr/>
          <p:nvPr/>
        </p:nvPicPr>
        <p:blipFill>
          <a:blip r:embed="rId1"/>
          <a:stretch/>
        </p:blipFill>
        <p:spPr>
          <a:xfrm>
            <a:off x="6500880" y="4500720"/>
            <a:ext cx="2413080" cy="217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?id=13260650&amp;tov=0"/>
          <p:cNvPicPr/>
          <p:nvPr/>
        </p:nvPicPr>
        <p:blipFill>
          <a:blip r:embed="rId2"/>
          <a:stretch/>
        </p:blipFill>
        <p:spPr>
          <a:xfrm>
            <a:off x="214200" y="4429080"/>
            <a:ext cx="2414880" cy="221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?id=53261952&amp;tov=8"/>
          <p:cNvPicPr/>
          <p:nvPr/>
        </p:nvPicPr>
        <p:blipFill>
          <a:blip r:embed="rId3"/>
          <a:stretch/>
        </p:blipFill>
        <p:spPr>
          <a:xfrm>
            <a:off x="214200" y="214200"/>
            <a:ext cx="2409840" cy="22147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0_14a3d_32100b82_XL.jpg"/>
          <p:cNvPicPr/>
          <p:nvPr/>
        </p:nvPicPr>
        <p:blipFill>
          <a:blip r:embed="rId4"/>
          <a:stretch/>
        </p:blipFill>
        <p:spPr>
          <a:xfrm>
            <a:off x="6357960" y="214200"/>
            <a:ext cx="2571840" cy="2143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6"/>
          <p:cNvSpPr/>
          <p:nvPr/>
        </p:nvSpPr>
        <p:spPr>
          <a:xfrm>
            <a:off x="2786040" y="21420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Palatino Linotype"/>
              </a:rPr>
              <a:t>Люди!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642960" y="1000080"/>
            <a:ext cx="400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Cambria"/>
              </a:rPr>
              <a:t>Берегите эти земли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Прямоугольник 8"/>
          <p:cNvSpPr/>
          <p:nvPr/>
        </p:nvSpPr>
        <p:spPr>
          <a:xfrm>
            <a:off x="714240" y="242892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Эти воды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Прямоугольник 9"/>
          <p:cNvSpPr/>
          <p:nvPr/>
        </p:nvSpPr>
        <p:spPr>
          <a:xfrm>
            <a:off x="500040" y="3929040"/>
            <a:ext cx="385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Candara"/>
              </a:rPr>
              <a:t>Каждую былиночку люб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Прямоугольник 10"/>
          <p:cNvSpPr/>
          <p:nvPr/>
        </p:nvSpPr>
        <p:spPr>
          <a:xfrm>
            <a:off x="428760" y="514368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Monotype Corsiva"/>
              </a:rPr>
              <a:t>Берегите всех зверей внутри природы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2286000" y="614376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Impact"/>
              </a:rPr>
              <a:t>Убивайте лишь зверей внутри себя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857840" y="2054160"/>
            <a:ext cx="2214360" cy="1660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4857840" y="196920"/>
            <a:ext cx="2214360" cy="1660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3"/>
          <a:stretch/>
        </p:blipFill>
        <p:spPr>
          <a:xfrm>
            <a:off x="4857840" y="3929040"/>
            <a:ext cx="2270160" cy="1571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500"/>
                            </p:stCondLst>
                            <p:childTnLst>
                              <p:par>
                                <p:cTn id="2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5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050"/>
                            </p:stCondLst>
                            <p:childTnLst>
                              <p:par>
                                <p:cTn id="25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57880" y="1213920"/>
            <a:ext cx="33573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Cambria"/>
              </a:rPr>
              <a:t>Моя планета – человеческий дом,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Cambria"/>
              </a:rPr>
              <a:t>Но как нам жить под дымным колпаком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Cambria"/>
              </a:rPr>
              <a:t>Где сточная канава  - океан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Cambria"/>
              </a:rPr>
              <a:t>Где вся планета поймана в капкан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Cambria"/>
              </a:rPr>
              <a:t>Где места нет ни аисту, ни льву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Cambria"/>
              </a:rPr>
              <a:t>Где травы стонут: «Больше не могу!»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Рисунок 2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4351320" cy="2903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"/>
          <p:cNvPicPr/>
          <p:nvPr/>
        </p:nvPicPr>
        <p:blipFill>
          <a:blip r:embed="rId2"/>
          <a:stretch/>
        </p:blipFill>
        <p:spPr>
          <a:xfrm>
            <a:off x="714240" y="3714840"/>
            <a:ext cx="3954600" cy="2666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animClr clrSpc="rgb">
                                      <p:cBhvr>
                                        <p:cTn id="26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266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animClr clrSpc="rgb">
                                      <p:cBhvr>
                                        <p:cTn id="27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272" dur="3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animClr clrSpc="rgb">
                                      <p:cBhvr>
                                        <p:cTn id="2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278" dur="3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000"/>
                            </p:stCondLst>
                            <p:childTnLst>
                              <p:par>
                                <p:cTn id="281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animClr clrSpc="rgb">
                                      <p:cBhvr>
                                        <p:cTn id="2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284" dur="3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7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animClr clrSpc="rgb">
                                      <p:cBhvr>
                                        <p:cTn id="28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290" dur="3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3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animClr clrSpc="rgb">
                                      <p:cBhvr>
                                        <p:cTn id="2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  <p:set>
                                      <p:cBhvr>
                                        <p:cTn id="296" dur="3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114800" cy="58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   </a:t>
            </a:r>
            <a:r>
              <a:rPr b="0" lang="ru-RU" sz="3600" spc="-1" strike="noStrike">
                <a:solidFill>
                  <a:srgbClr val="ff0000"/>
                </a:solidFill>
                <a:latin typeface="Garamond"/>
              </a:rPr>
              <a:t>Давайте будем беречь планету! Во всей Вселенной красивей нету. Во всей Вселенной совсем одна,      что будет делать без нас она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3" name="Picture 5" descr="Картинка 3 из 309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428760"/>
            <a:ext cx="4065840" cy="5738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56760" y="213840"/>
            <a:ext cx="4000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aramond"/>
              </a:rPr>
              <a:t>«Рай существует здесь,   на земле,                     но люди его потеряют, если не оставят места для жизни животных, растений, для всего, что делает Землю, прекрасным кораблём для прекрасного плавания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48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48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aramond"/>
              </a:rPr>
              <a:t>         </a:t>
            </a:r>
            <a:r>
              <a:rPr b="0" i="1" lang="ru-RU" sz="2800" spc="-1" strike="noStrike">
                <a:solidFill>
                  <a:srgbClr val="0000ff"/>
                </a:solidFill>
                <a:latin typeface="Garamond"/>
              </a:rPr>
              <a:t>Джеральд Дарел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6" name="Рисунок 6" descr="0_aa47_bd65805f_XL.jpg"/>
          <p:cNvPicPr/>
          <p:nvPr/>
        </p:nvPicPr>
        <p:blipFill>
          <a:blip r:embed="rId1"/>
          <a:stretch/>
        </p:blipFill>
        <p:spPr>
          <a:xfrm>
            <a:off x="4572000" y="285840"/>
            <a:ext cx="4286160" cy="6072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925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-21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3000"/>
                            </p:stCondLst>
                            <p:childTnLst>
                              <p:par>
                                <p:cTn id="6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912680"/>
            <a:ext cx="403848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Garamond"/>
              </a:rPr>
              <a:t>Шар земной – наш дом родной,         но теперь от века  к веку он в опасности большой от деяний человек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8" name="Picture 6" descr="svalk"/>
          <p:cNvPicPr/>
          <p:nvPr/>
        </p:nvPicPr>
        <p:blipFill>
          <a:blip r:embed="rId1"/>
          <a:stretch/>
        </p:blipFill>
        <p:spPr>
          <a:xfrm>
            <a:off x="4565520" y="1000080"/>
            <a:ext cx="4292640" cy="4572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9750"/>
                            </p:stCondLst>
                            <p:childTnLst>
                              <p:par>
                                <p:cTn id="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48320" y="1843200"/>
            <a:ext cx="40384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 </a:t>
            </a:r>
            <a:r>
              <a:rPr b="0" lang="ru-RU" sz="2800" spc="-1" strike="noStrike">
                <a:solidFill>
                  <a:srgbClr val="cc3300"/>
                </a:solidFill>
                <a:latin typeface="Garamond"/>
              </a:rPr>
              <a:t>Полюбуйся, понюхай, но не рви… Природа и есть тот источник красоты, которого достанется на всех, из которого каждый черпает по мере разумен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Garamond"/>
              </a:rPr>
              <a:t>       </a:t>
            </a:r>
            <a:r>
              <a:rPr b="0" i="1" lang="ru-RU" sz="2800" spc="-1" strike="noStrike">
                <a:solidFill>
                  <a:srgbClr val="cc3300"/>
                </a:solidFill>
                <a:latin typeface="Garamond"/>
              </a:rPr>
              <a:t>К.А.Тимирязев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0" name="Рисунок 6" descr="148_big.jpg"/>
          <p:cNvPicPr/>
          <p:nvPr/>
        </p:nvPicPr>
        <p:blipFill>
          <a:blip r:embed="rId1"/>
          <a:stretch/>
        </p:blipFill>
        <p:spPr>
          <a:xfrm>
            <a:off x="357120" y="1214280"/>
            <a:ext cx="4214880" cy="5072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500"/>
                            </p:stCondLst>
                            <p:childTnLst>
                              <p:par>
                                <p:cTn id="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600"/>
                            </p:stCondLst>
                            <p:childTnLst>
                              <p:par>
                                <p:cTn id="9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Garamond"/>
              </a:rPr>
              <a:t>Позаботьтесь о том, чтобы у всех птиц было жизненное пространство,               в котором им, и их потомству гарантировано выживание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2" name="Picture 17" descr="Картинка 6 из 609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4920" y="714240"/>
            <a:ext cx="4032360" cy="2259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001[1].jpg"/>
          <p:cNvPicPr/>
          <p:nvPr/>
        </p:nvPicPr>
        <p:blipFill>
          <a:blip r:embed="rId3"/>
          <a:stretch/>
        </p:blipFill>
        <p:spPr>
          <a:xfrm>
            <a:off x="4643280" y="3286080"/>
            <a:ext cx="4096080" cy="3071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600"/>
                            </p:stCondLst>
                            <p:childTnLst>
                              <p:par>
                                <p:cTn id="1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600"/>
                            </p:stCondLst>
                            <p:childTnLst>
                              <p:par>
                                <p:cTn id="11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ром9"/>
          <p:cNvPicPr/>
          <p:nvPr/>
        </p:nvPicPr>
        <p:blipFill>
          <a:blip r:embed="rId1"/>
          <a:stretch/>
        </p:blipFill>
        <p:spPr>
          <a:xfrm>
            <a:off x="480960" y="2336760"/>
            <a:ext cx="6734160" cy="409248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6"/>
          <p:cNvSpPr/>
          <p:nvPr/>
        </p:nvSpPr>
        <p:spPr>
          <a:xfrm>
            <a:off x="3714840" y="214200"/>
            <a:ext cx="5072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Monotype Corsiva"/>
                <a:ea typeface="Mangal"/>
              </a:rPr>
              <a:t>Мелькнет поляна в солнечном сиянии…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Monotype Corsiva"/>
                <a:ea typeface="Mangal"/>
              </a:rPr>
              <a:t>В ромашках луг, как будто бы в снегу.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Monotype Corsiva"/>
                <a:ea typeface="Mangal"/>
              </a:rPr>
              <a:t>Там дальше лес в таинственном молчании –  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Monotype Corsiva"/>
                <a:ea typeface="Mangal"/>
              </a:rPr>
              <a:t>Гляжу, а наглядеться не могу…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10000">
    <p:cover dir="r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1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1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857160" y="571680"/>
            <a:ext cx="7478640" cy="5572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857160" y="500040"/>
            <a:ext cx="7500960" cy="5591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u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28960" y="571680"/>
            <a:ext cx="5786280" cy="521460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2"/>
          <p:cNvSpPr/>
          <p:nvPr/>
        </p:nvSpPr>
        <p:spPr>
          <a:xfrm>
            <a:off x="285840" y="227484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 </a:t>
            </a: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Как жаль, что деревеньки стали редк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        </a:t>
            </a: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И молодежи мало в них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а иногда и нет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        </a:t>
            </a: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Хранить природу завещали предк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        </a:t>
            </a: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А сохраним ли мы?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MS Reference Sans Serif"/>
              </a:rPr>
              <a:t>Пока ответа нет</a:t>
            </a:r>
            <a:r>
              <a:rPr b="0" lang="ru-RU" sz="1800" spc="-1" strike="noStrike">
                <a:solidFill>
                  <a:srgbClr val="d60093"/>
                </a:solidFill>
                <a:latin typeface="MS Reference Sans 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 advTm="10000">
    <p:cover dir="r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0:27:47Z</dcterms:created>
  <dc:creator>user</dc:creator>
  <dc:description/>
  <dc:language>en-US</dc:language>
  <cp:lastModifiedBy>Денис</cp:lastModifiedBy>
  <dcterms:modified xsi:type="dcterms:W3CDTF">2010-05-19T10:47:31Z</dcterms:modified>
  <cp:revision>53</cp:revision>
  <dc:subject/>
  <dc:title>Это хрупкое чудо -  природа…</dc:title>
</cp:coreProperties>
</file>