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gif" ContentType="image/gif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9.jpeg" ContentType="image/jpeg"/>
  <Override PartName="/ppt/media/image1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7078-DF73-4A1C-B702-0F5BB70E8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5EBA-1B89-4DE4-A9BC-181572B3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8576-3961-4E36-A33F-2A48D1F3B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02CB-D7F9-4B3A-BAD1-39A78F658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CA82-6515-41F7-9803-865B2FBE2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C686-78F8-421B-AC46-2D10C3E0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E095-8E47-4F31-8EF8-1FDF1345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AF0C-D74B-4391-ADD5-6E4D867A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F977-F0F1-44D4-B305-8FF9456B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0C4B-478D-4C39-81B6-783FF6BC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AC94-E333-431E-A95F-D89345CA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4586-C826-43B9-A332-8907D427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B01B3-1180-4DFD-BC07-7179EFCA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7B53-D2AC-42C1-A3EC-564319E5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EB87-BFA2-4908-9AB0-2F04749B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8A03-7814-4957-BFEF-E99B59090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8017-1A16-402D-BBD5-E46C0AA7E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94BF-8B41-42B2-996A-F714A3F2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F2D8-FF21-4522-8109-1FA2CD14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D464-3FFF-43CD-9BF1-E48B558B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9196-1A84-4B49-8116-D4168B44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B25A-46AC-4A04-B205-11DB96C3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F8F6-CA54-4F10-B7F9-9D5176C5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E9C6-50CC-4F3D-92C1-38B9711B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e7e2b2"/>
                </a:gs>
                <a:gs pos="50000">
                  <a:srgbClr val="f5f0bd"/>
                </a:gs>
                <a:gs pos="100000">
                  <a:srgbClr val="e7e2b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ffffd5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ffffcf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ffffcf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ffffcf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ffffd5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d9d6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00E8-AEC2-4E41-A014-121DDFFE46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d9d6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64b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e7e2b2"/>
                </a:gs>
                <a:gs pos="50000">
                  <a:srgbClr val="f5f0bd"/>
                </a:gs>
                <a:gs pos="100000">
                  <a:srgbClr val="e7e2b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ffffd5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ffffcf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ffffcf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ffffcf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ffffd5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73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74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e7e2b2"/>
                </a:gs>
                <a:gs pos="50000">
                  <a:srgbClr val="f5f0bd"/>
                </a:gs>
                <a:gs pos="100000">
                  <a:srgbClr val="e7e2b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ffffd5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ffffcf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ffffcf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ffffcf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ffffd5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d9d6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d9d6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64b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28E7-4FCD-4B72-BDDD-0898B874A9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chool.nd.ru/products/catalog/bez_serii/priroda_rossii/screenshots/2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006/v3834400.44/0_1f12f_fb00e21b_XL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14720" y="1571760"/>
            <a:ext cx="4319280" cy="2805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9933ff"/>
                </a:solidFill>
                <a:latin typeface="Garamond"/>
              </a:rPr>
              <a:t>Это хрупкое чудо -  природа…</a:t>
            </a:r>
            <a:endParaRPr b="1" lang="en-US" sz="6000" spc="-1" strike="noStrike">
              <a:solidFill>
                <a:srgbClr val="bd9d69"/>
              </a:solidFill>
              <a:latin typeface="Garamond"/>
            </a:endParaRPr>
          </a:p>
        </p:txBody>
      </p:sp>
      <p:pic>
        <p:nvPicPr>
          <p:cNvPr id="131" name="Picture 5" descr="i?id=61114899&amp;tov=5"/>
          <p:cNvPicPr/>
          <p:nvPr/>
        </p:nvPicPr>
        <p:blipFill>
          <a:blip r:embed="rId1"/>
          <a:stretch/>
        </p:blipFill>
        <p:spPr>
          <a:xfrm>
            <a:off x="6500880" y="4500720"/>
            <a:ext cx="2413080" cy="2178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i?id=13260650&amp;tov=0"/>
          <p:cNvPicPr/>
          <p:nvPr/>
        </p:nvPicPr>
        <p:blipFill>
          <a:blip r:embed="rId2"/>
          <a:stretch/>
        </p:blipFill>
        <p:spPr>
          <a:xfrm>
            <a:off x="214200" y="4429080"/>
            <a:ext cx="2414880" cy="2214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i?id=53261952&amp;tov=8"/>
          <p:cNvPicPr/>
          <p:nvPr/>
        </p:nvPicPr>
        <p:blipFill>
          <a:blip r:embed="rId3"/>
          <a:stretch/>
        </p:blipFill>
        <p:spPr>
          <a:xfrm>
            <a:off x="214200" y="214200"/>
            <a:ext cx="2409840" cy="22147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7" descr="0_14a3d_32100b82_XL.jpg"/>
          <p:cNvPicPr/>
          <p:nvPr/>
        </p:nvPicPr>
        <p:blipFill>
          <a:blip r:embed="rId4"/>
          <a:stretch/>
        </p:blipFill>
        <p:spPr>
          <a:xfrm>
            <a:off x="6357960" y="214200"/>
            <a:ext cx="2571840" cy="2143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6"/>
          <p:cNvSpPr/>
          <p:nvPr/>
        </p:nvSpPr>
        <p:spPr>
          <a:xfrm>
            <a:off x="2786040" y="214200"/>
            <a:ext cx="242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Palatino Linotype"/>
              </a:rPr>
              <a:t>Люди!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Прямоугольник 7"/>
          <p:cNvSpPr/>
          <p:nvPr/>
        </p:nvSpPr>
        <p:spPr>
          <a:xfrm>
            <a:off x="642960" y="1000080"/>
            <a:ext cx="400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Cambria"/>
              </a:rPr>
              <a:t>Берегите эти земли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Прямоугольник 8"/>
          <p:cNvSpPr/>
          <p:nvPr/>
        </p:nvSpPr>
        <p:spPr>
          <a:xfrm>
            <a:off x="714240" y="2428920"/>
            <a:ext cx="23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Georgia"/>
              </a:rPr>
              <a:t>Эти воды!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Прямоугольник 9"/>
          <p:cNvSpPr/>
          <p:nvPr/>
        </p:nvSpPr>
        <p:spPr>
          <a:xfrm>
            <a:off x="500040" y="3929040"/>
            <a:ext cx="385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Candara"/>
              </a:rPr>
              <a:t>Каждую былиночку люб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Прямоугольник 10"/>
          <p:cNvSpPr/>
          <p:nvPr/>
        </p:nvSpPr>
        <p:spPr>
          <a:xfrm>
            <a:off x="428760" y="5143680"/>
            <a:ext cx="485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Monotype Corsiva"/>
              </a:rPr>
              <a:t>Берегите всех зверей внутри природы,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Прямоугольник 11"/>
          <p:cNvSpPr/>
          <p:nvPr/>
        </p:nvSpPr>
        <p:spPr>
          <a:xfrm>
            <a:off x="2286000" y="6143760"/>
            <a:ext cx="54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Impact"/>
              </a:rPr>
              <a:t>Убивайте лишь зверей внутри себя!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4857840" y="2054160"/>
            <a:ext cx="2214360" cy="1660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2">
            <a:lum bright="4000"/>
          </a:blip>
          <a:stretch/>
        </p:blipFill>
        <p:spPr>
          <a:xfrm>
            <a:off x="4857840" y="196920"/>
            <a:ext cx="2214360" cy="1660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3"/>
          <a:stretch/>
        </p:blipFill>
        <p:spPr>
          <a:xfrm>
            <a:off x="4857840" y="3929040"/>
            <a:ext cx="2270160" cy="15717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ru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77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770" fill="hold"/>
                                        <p:tgtEl>
                                          <p:spTgt spid="1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0" dur="77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2" dur="77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500"/>
                            </p:stCondLst>
                            <p:childTnLst>
                              <p:par>
                                <p:cTn id="21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77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770" fill="hold"/>
                                        <p:tgtEl>
                                          <p:spTgt spid="1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9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1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7500"/>
                            </p:stCondLst>
                            <p:childTnLst>
                              <p:par>
                                <p:cTn id="2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77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" dur="770" fill="hold"/>
                                        <p:tgtEl>
                                          <p:spTgt spid="1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2" dur="77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9500"/>
                            </p:stCondLst>
                            <p:childTnLst>
                              <p:par>
                                <p:cTn id="24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2050"/>
                            </p:stCondLst>
                            <p:childTnLst>
                              <p:par>
                                <p:cTn id="25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357880" y="1213920"/>
            <a:ext cx="33573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Cambria"/>
              </a:rPr>
              <a:t>Моя планета – человеческий дом,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Cambria"/>
              </a:rPr>
              <a:t>Но как нам жить под дымным колпаком,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Cambria"/>
              </a:rPr>
              <a:t>Где сточная канава  - океан,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Cambria"/>
              </a:rPr>
              <a:t>Где вся планета поймана в капкан,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Cambria"/>
              </a:rPr>
              <a:t>Где места нет ни аисту, ни льву,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Cambria"/>
              </a:rPr>
              <a:t>Где травы стонут: «Больше не могу!»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0" name="Рисунок 2" descr=""/>
          <p:cNvPicPr/>
          <p:nvPr/>
        </p:nvPicPr>
        <p:blipFill>
          <a:blip r:embed="rId1"/>
          <a:stretch/>
        </p:blipFill>
        <p:spPr>
          <a:xfrm>
            <a:off x="571680" y="285840"/>
            <a:ext cx="4351320" cy="290340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4" descr=""/>
          <p:cNvPicPr/>
          <p:nvPr/>
        </p:nvPicPr>
        <p:blipFill>
          <a:blip r:embed="rId2"/>
          <a:stretch/>
        </p:blipFill>
        <p:spPr>
          <a:xfrm>
            <a:off x="714240" y="3714840"/>
            <a:ext cx="3954600" cy="26668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ru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  <p:animClr clrSpc="rgb">
                                      <p:cBhvr>
                                        <p:cTn id="26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  <p:set>
                                      <p:cBhvr>
                                        <p:cTn id="266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6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  <p:animClr clrSpc="rgb">
                                      <p:cBhvr>
                                        <p:cTn id="27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  <p:set>
                                      <p:cBhvr>
                                        <p:cTn id="272" dur="3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7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6000"/>
                            </p:stCondLst>
                            <p:childTnLst>
                              <p:par>
                                <p:cTn id="275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  <p:animClr clrSpc="rgb">
                                      <p:cBhvr>
                                        <p:cTn id="27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  <p:set>
                                      <p:cBhvr>
                                        <p:cTn id="278" dur="3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7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9000"/>
                            </p:stCondLst>
                            <p:childTnLst>
                              <p:par>
                                <p:cTn id="281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  <p:animClr clrSpc="rgb">
                                      <p:cBhvr>
                                        <p:cTn id="28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  <p:set>
                                      <p:cBhvr>
                                        <p:cTn id="284" dur="3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8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7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  <p:animClr clrSpc="rgb">
                                      <p:cBhvr>
                                        <p:cTn id="28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  <p:set>
                                      <p:cBhvr>
                                        <p:cTn id="290" dur="3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9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3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  <p:animClr clrSpc="rgb">
                                      <p:cBhvr>
                                        <p:cTn id="29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  <p:set>
                                      <p:cBhvr>
                                        <p:cTn id="296" dur="3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9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8000"/>
                            </p:stCondLst>
                            <p:childTnLst>
                              <p:par>
                                <p:cTn id="29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9000"/>
                            </p:stCondLst>
                            <p:childTnLst>
                              <p:par>
                                <p:cTn id="30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4114800" cy="581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aramond"/>
              </a:rPr>
              <a:t>   </a:t>
            </a:r>
            <a:r>
              <a:rPr b="0" lang="ru-RU" sz="3600" spc="-1" strike="noStrike">
                <a:solidFill>
                  <a:srgbClr val="ff0000"/>
                </a:solidFill>
                <a:latin typeface="Garamond"/>
              </a:rPr>
              <a:t>Давайте будем беречь планету! Во всей Вселенной красивей нету. Во всей Вселенной совсем одна,      что будет делать без нас она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3" name="Picture 5" descr="Картинка 3 из 309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428760"/>
            <a:ext cx="4065840" cy="57387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ru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56760" y="213840"/>
            <a:ext cx="4000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94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Garamond"/>
              </a:rPr>
              <a:t>«Рай существует здесь,   на земле,                     но люди его потеряют, если не оставят места для жизни животных, растений, для всего, что делает Землю, прекрасным кораблём для прекрасного плавания»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9484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948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Garamond"/>
              </a:rPr>
              <a:t>         </a:t>
            </a:r>
            <a:r>
              <a:rPr b="0" i="1" lang="ru-RU" sz="2800" spc="-1" strike="noStrike">
                <a:solidFill>
                  <a:srgbClr val="0000ff"/>
                </a:solidFill>
                <a:latin typeface="Garamond"/>
              </a:rPr>
              <a:t>Джеральд Дарел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6" name="Рисунок 6" descr="0_aa47_bd65805f_XL.jpg"/>
          <p:cNvPicPr/>
          <p:nvPr/>
        </p:nvPicPr>
        <p:blipFill>
          <a:blip r:embed="rId1"/>
          <a:stretch/>
        </p:blipFill>
        <p:spPr>
          <a:xfrm>
            <a:off x="4572000" y="285840"/>
            <a:ext cx="4286160" cy="60721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r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925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3000"/>
                            </p:stCondLst>
                            <p:childTnLst>
                              <p:par>
                                <p:cTn id="6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912680"/>
            <a:ext cx="403848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Garamond"/>
              </a:rPr>
              <a:t>Шар земной – наш дом родной,         но теперь от века  к веку он в опасности большой от деяний человека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8" name="Picture 6" descr="svalk"/>
          <p:cNvPicPr/>
          <p:nvPr/>
        </p:nvPicPr>
        <p:blipFill>
          <a:blip r:embed="rId1"/>
          <a:stretch/>
        </p:blipFill>
        <p:spPr>
          <a:xfrm>
            <a:off x="4565520" y="1000080"/>
            <a:ext cx="4292640" cy="4572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ru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9750"/>
                            </p:stCondLst>
                            <p:childTnLst>
                              <p:par>
                                <p:cTn id="7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648320" y="1843200"/>
            <a:ext cx="403848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Garamond"/>
              </a:rPr>
              <a:t> </a:t>
            </a:r>
            <a:r>
              <a:rPr b="0" lang="ru-RU" sz="2800" spc="-1" strike="noStrike">
                <a:solidFill>
                  <a:srgbClr val="cc3300"/>
                </a:solidFill>
                <a:latin typeface="Garamond"/>
              </a:rPr>
              <a:t>Полюбуйся, понюхай, но не рви… Природа и есть тот источник красоты, которого достанется на всех, из которого каждый черпает по мере разумени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cc3300"/>
                </a:solidFill>
                <a:latin typeface="Garamond"/>
              </a:rPr>
              <a:t>       </a:t>
            </a:r>
            <a:r>
              <a:rPr b="0" i="1" lang="ru-RU" sz="2800" spc="-1" strike="noStrike">
                <a:solidFill>
                  <a:srgbClr val="cc3300"/>
                </a:solidFill>
                <a:latin typeface="Garamond"/>
              </a:rPr>
              <a:t>К.А.Тимирязев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0" name="Рисунок 6" descr="148_big.jpg"/>
          <p:cNvPicPr/>
          <p:nvPr/>
        </p:nvPicPr>
        <p:blipFill>
          <a:blip r:embed="rId1"/>
          <a:stretch/>
        </p:blipFill>
        <p:spPr>
          <a:xfrm>
            <a:off x="357120" y="1214280"/>
            <a:ext cx="4214880" cy="50724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ru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500"/>
                            </p:stCondLst>
                            <p:childTnLst>
                              <p:par>
                                <p:cTn id="8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7600"/>
                            </p:stCondLst>
                            <p:childTnLst>
                              <p:par>
                                <p:cTn id="9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Garamond"/>
              </a:rPr>
              <a:t>Позаботьтесь о том, чтобы у всех птиц было жизненное пространство,               в котором им, и их потомству гарантировано выживание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2" name="Picture 17" descr="Картинка 6 из 60938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4920" y="714240"/>
            <a:ext cx="4032360" cy="22590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7" descr="001[1].jpg"/>
          <p:cNvPicPr/>
          <p:nvPr/>
        </p:nvPicPr>
        <p:blipFill>
          <a:blip r:embed="rId3"/>
          <a:stretch/>
        </p:blipFill>
        <p:spPr>
          <a:xfrm>
            <a:off x="4643280" y="3286080"/>
            <a:ext cx="4096080" cy="30718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ru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600"/>
                            </p:stCondLst>
                            <p:childTnLst>
                              <p:par>
                                <p:cTn id="11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7600"/>
                            </p:stCondLst>
                            <p:childTnLst>
                              <p:par>
                                <p:cTn id="11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6" descr="ром9"/>
          <p:cNvPicPr/>
          <p:nvPr/>
        </p:nvPicPr>
        <p:blipFill>
          <a:blip r:embed="rId1"/>
          <a:stretch/>
        </p:blipFill>
        <p:spPr>
          <a:xfrm>
            <a:off x="480960" y="2336760"/>
            <a:ext cx="6734160" cy="409248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6"/>
          <p:cNvSpPr/>
          <p:nvPr/>
        </p:nvSpPr>
        <p:spPr>
          <a:xfrm>
            <a:off x="3714840" y="214200"/>
            <a:ext cx="50720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Monotype Corsiva"/>
                <a:ea typeface="Mangal"/>
              </a:rPr>
              <a:t>Мелькнет поляна в солнечном сиянии…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Monotype Corsiva"/>
                <a:ea typeface="Mangal"/>
              </a:rPr>
              <a:t>В ромашках луг, как будто бы в снегу.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Monotype Corsiva"/>
                <a:ea typeface="Mangal"/>
              </a:rPr>
              <a:t>Там дальше лес в таинственном молчании –  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Monotype Corsiva"/>
                <a:ea typeface="Mangal"/>
              </a:rPr>
              <a:t>Гляжу, а наглядеться не могу…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 advTm="10000">
    <p:cover dir="ru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-1)"/>
                                      </p:to>
                                    </p:set>
                                    <p:set>
                                      <p:cBhvr>
                                        <p:cTn id="13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-1)"/>
                                      </p:to>
                                    </p:set>
                                    <p:set>
                                      <p:cBhvr>
                                        <p:cTn id="14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857160" y="571680"/>
            <a:ext cx="7478640" cy="5572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ru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857160" y="500040"/>
            <a:ext cx="7500960" cy="55911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ru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7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770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2928960" y="571680"/>
            <a:ext cx="5786280" cy="521460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2"/>
          <p:cNvSpPr/>
          <p:nvPr/>
        </p:nvSpPr>
        <p:spPr>
          <a:xfrm>
            <a:off x="285840" y="2274840"/>
            <a:ext cx="2286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MS Reference Sans Serif"/>
              </a:rPr>
              <a:t> </a:t>
            </a:r>
            <a:r>
              <a:rPr b="1" lang="ru-RU" sz="1800" spc="-1" strike="noStrike">
                <a:solidFill>
                  <a:srgbClr val="d60093"/>
                </a:solidFill>
                <a:latin typeface="MS Reference Sans Serif"/>
              </a:rPr>
              <a:t>Как жаль, что деревеньки стали редки,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MS Reference Sans Serif"/>
              </a:rPr>
              <a:t>        </a:t>
            </a:r>
            <a:r>
              <a:rPr b="1" lang="ru-RU" sz="1800" spc="-1" strike="noStrike">
                <a:solidFill>
                  <a:srgbClr val="d60093"/>
                </a:solidFill>
                <a:latin typeface="MS Reference Sans Serif"/>
              </a:rPr>
              <a:t>И молодежи мало в них,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MS Reference Sans Serif"/>
              </a:rPr>
              <a:t>а иногда и нет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MS Reference Sans Serif"/>
              </a:rPr>
              <a:t>        </a:t>
            </a:r>
            <a:r>
              <a:rPr b="1" lang="ru-RU" sz="1800" spc="-1" strike="noStrike">
                <a:solidFill>
                  <a:srgbClr val="d60093"/>
                </a:solidFill>
                <a:latin typeface="MS Reference Sans Serif"/>
              </a:rPr>
              <a:t>Хранить природу завещали предки,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MS Reference Sans Serif"/>
              </a:rPr>
              <a:t>        </a:t>
            </a:r>
            <a:r>
              <a:rPr b="1" lang="ru-RU" sz="1800" spc="-1" strike="noStrike">
                <a:solidFill>
                  <a:srgbClr val="d60093"/>
                </a:solidFill>
                <a:latin typeface="MS Reference Sans Serif"/>
              </a:rPr>
              <a:t>А сохраним ли мы?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MS Reference Sans Serif"/>
              </a:rPr>
              <a:t>Пока ответа нет</a:t>
            </a:r>
            <a:r>
              <a:rPr b="0" lang="ru-RU" sz="1800" spc="-1" strike="noStrike">
                <a:solidFill>
                  <a:srgbClr val="d60093"/>
                </a:solidFill>
                <a:latin typeface="MS Reference Sans Serif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 advTm="10000">
    <p:cover dir="ru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10:27:47Z</dcterms:created>
  <dc:creator>user</dc:creator>
  <dc:description/>
  <dc:language>en-US</dc:language>
  <cp:lastModifiedBy>Денис</cp:lastModifiedBy>
  <dcterms:modified xsi:type="dcterms:W3CDTF">2010-05-19T10:47:31Z</dcterms:modified>
  <cp:revision>53</cp:revision>
  <dc:subject/>
  <dc:title>Это хрупкое чудо -  природа…</dc:title>
</cp:coreProperties>
</file>