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7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17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6381-94D7-415C-A4DD-B1E05D7F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0CAE-D738-493C-B87C-D4365D23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0BE1-0777-49CA-9A58-83415377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262D-CEB2-495D-A3F2-BE074768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D187-F400-4B9D-A725-5097A047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B2D8-3653-426F-99A2-EE3B1790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06F1-2AFD-406E-896D-F6E45FD6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494A-379B-4D4A-815C-BA33858D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6EEA-5EFB-4CF3-A29A-130DA148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8D51-F6C8-424C-8762-276DBBEB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095C-90DF-4B1A-ABDB-8F98D132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885A-D089-46A7-A9F7-895AE339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C6DA-7E01-49FB-806E-108B7995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11B9-9928-4B9F-B7DF-8C87E2A2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980E-65AF-400A-BF38-F04BBCA2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2991-8260-4E82-951D-53619F83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B753-9123-468A-A197-C94B8097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F62E3-E5A6-4536-9E5D-40B1F4AA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5C0AB-3487-42E4-9F81-8990763F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0829F-AFA7-443B-84EC-6B03F372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B3EA0-3669-434D-946D-6F2595ED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21EFB-E277-4E57-A609-73E0DF20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D310-187D-48C6-AA1F-AD25BE7B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BF084-5670-48F0-B62A-7B69A316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9D79D-9980-4910-8CF2-CD4B5EC6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5A0D7-D6E0-4154-A0FF-4AF81EF9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C7486-9AAA-470E-AFEA-ABC9BF34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3810C-477E-4F24-85EA-B7C72162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1882D-42D7-486C-B670-17A7AD73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48311-2573-455A-A1F0-7421A91F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533C9-2799-4A08-987E-8D709BAA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24F05-C61E-4DDF-A0CB-D7837D1A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FAA6D-1C7A-40E1-A063-916B329B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F742-D6A6-4A17-B0D2-AABFE793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9A31E-0444-4B3A-B841-5ADB5EDA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3DC09-1071-4497-A99C-E7CCB490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151B0-65BE-490B-A3A7-7700A067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7809E-ABBC-434D-9E03-9801E053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4524E-55EA-42E3-AB15-A1267B9C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45F20-B116-43EC-95D2-AAC6CC43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2D693-848D-4CD7-9101-3DE6301F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CC24B-5BC0-4564-9465-BDC161CD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9E08B-2BB2-4CDE-82B4-9BA3D8EC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E6BA3-ED24-4F42-B0D4-4BCF42D6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1748-DF94-4A08-87FE-C71134E5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DB9AA-C6D3-42AC-9D97-4902CC91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8F877-63A4-4878-A354-E1B6FE38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E4AB3-4974-4F28-82D9-B00AF519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A9CEF-1A72-4721-87C3-FBD80408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1EE25-3BD4-4852-9B06-155128DC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9EF45-7F49-4DC4-A49D-B7D27CEE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AB943-715B-4B4F-856C-56F48F5A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92408-C508-4EF9-98C1-E4AA8F8A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D129E-ECE1-4720-87B1-19EACECF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31A4C-5CB1-49C3-902E-9AEEB26F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67CC-20E7-4689-B15A-4C8AE074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3753F-D107-4DB4-86B7-BE18C975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9C675-1887-4CDD-A9D8-B952AEE3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695A4-3274-48E0-93A8-11AF2EAC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C00EA-DD8A-498F-B5CE-D508137F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122E2-3593-4237-A7E8-9D567F5B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083E9-1145-437E-B83B-BA470FE9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3E59D-8AEA-499B-9541-67CE3F67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34753-B4FA-45FA-B277-0C7132B6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03522-04F1-463D-B650-021A2D20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B10F8-83F9-4ECC-AA95-69851BEC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09F3-D8BD-4B25-A7B4-E3892D99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EA10E-3359-4F3B-B65A-240431F5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A0274-538C-4038-A290-2A8DE9D8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260E2-B72C-4E13-9C23-AA090545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6D492-4E64-4781-863F-2FF7A14E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DC819-574D-45C5-939E-3C373101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97B99-5CFD-4D4D-9AFD-BD2E565C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1A395-8EDE-40F0-9FE2-B60049D8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8D02D-ADF5-4911-BD6F-1365D91A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4A971-1D27-43FE-8233-58F25074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01CCE-9EE1-49E7-AADB-92FEA51D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09B-A59F-4903-8C2E-5E00E357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2B2A0-8FDD-4E62-9F0B-A1A4B851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C2870-AC8D-42F1-A2E6-86C574D5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79978-2529-4353-8830-875C794F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27051-7503-43EC-A9CB-CDFA0125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ACAC8-A00E-4F38-8A47-C3862FED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CC6AB-4BFF-4E70-A6C0-3532AF5B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51ED7-9CA2-4FD0-9979-8EC3A25F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5D6C5-63AB-498C-BA7A-649C2D77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66AF3-934F-4C26-B550-88B2C080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340D0-5C5F-4C01-ABC2-5B28D2F3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6DB-9F73-44B4-B78A-18F74132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19F9D-5888-4CA5-B84A-E8C8E1C5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FE8CF-5ACA-401E-AAC0-2AC9D0C8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A97C4-3AC4-48F6-9A92-AC52AB3F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E35F4-9DA4-4F78-9B22-8CC53507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73FCF-C79D-4F11-B283-057D6FD6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68017-87EA-45C6-BD24-0F56CDC4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68504-7FCF-4824-B626-00691154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35E7-1F94-46F2-A6ED-01921D1E2E0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D081-6B3C-42E8-A68F-30F7B9DB731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4C6B-CC84-4ADB-86BC-331B7900918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022A-6FC0-4684-A83F-9CE0344FDCB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F592-84CF-4057-9106-3D51861839C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2324-C9BF-4845-A868-0FA42F5933A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A637-0DBF-4BE0-B2A1-2F27C9F57AB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8CE9-A5B4-41E0-84D5-4B4B1072161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Rounded MT Bold"/>
              </a:rPr>
              <a:t>Цикл с </a:t>
            </a:r>
            <a:r>
              <a:rPr b="0" lang="ru-RU" sz="4400" spc="-1" strike="noStrike">
                <a:solidFill>
                  <a:srgbClr val="000000"/>
                </a:solidFill>
                <a:latin typeface="Arial Rounded MT Bold"/>
              </a:rPr>
              <a:t>предусловием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Rounded MT Bold"/>
              </a:rPr>
              <a:t>Цикл с постусловием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Rounded MT Bold"/>
              </a:rPr>
              <a:t>Цикл с параметром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Rounded MT Bold"/>
              </a:rPr>
              <a:t>Вложенные циклы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Rectangle 5" descr=""/>
          <p:cNvPicPr/>
          <p:nvPr/>
        </p:nvPicPr>
        <p:blipFill>
          <a:blip r:embed="rId1"/>
          <a:stretch/>
        </p:blipFill>
        <p:spPr>
          <a:xfrm>
            <a:off x="585720" y="633240"/>
            <a:ext cx="82663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i : = n1 TO n2 D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- параметр цикл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1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чальное значени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выражение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2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- конечное значение (выражение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1 &lt; n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шаг приращения +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личество повторений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2-n1+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1 = n2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з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1 &gt; n2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цикл не выполняется ни раз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1865160" y="66600"/>
            <a:ext cx="51022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i : = n1 DOWNTO n2 D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1 &gt; n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шаг приращения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–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1 = n2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з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1 &lt; n2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цикл не выполняется ни раз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n1, n2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– должны быть описаны     (порядковый тип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- не переопределяется в цикл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2004840" y="30240"/>
            <a:ext cx="481680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рагмент программы вывода на экран квадратов целых чисел от 5 до 1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5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10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G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:=SQR (X) 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LN (’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вадрат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’,X,’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‘ ,Y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D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2004840" y="30240"/>
            <a:ext cx="48405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764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рагмент программы вывода на экран квадратов целых чисел от 5 до 1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10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OWNTO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5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G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:=SQR (X) 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LN (’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вадрат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’,X,’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‘ ,Y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D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2077920" y="30240"/>
            <a:ext cx="476748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5720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Примеры вычисления сумм, количеств и произведений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лгоритмы подсчет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ум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Первоначальное значение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: =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Подсчет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в 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цикле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:=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+{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me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кущ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ee 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значение}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2152800" y="42840"/>
            <a:ext cx="46926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764640"/>
            <a:ext cx="850752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ычислить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S=l+2+3+...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var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 :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integer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beg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writeln (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‘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Введите натуральное число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='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readln  (n) 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s : = 0 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for i : = 1 to n do  s : = s + i 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writeln (‘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сумма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 = ‘ , s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end.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1932120" y="42840"/>
            <a:ext cx="47671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количеств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Первоначальное значение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k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 =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Подсчет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в 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цикле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k : = K +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Rectangle 2" descr=""/>
          <p:cNvPicPr/>
          <p:nvPr/>
        </p:nvPicPr>
        <p:blipFill>
          <a:blip r:embed="rId1"/>
          <a:stretch/>
        </p:blipFill>
        <p:spPr>
          <a:xfrm>
            <a:off x="2004840" y="139680"/>
            <a:ext cx="469440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одсчитать количество нечетных чисел, введенных с клавиатур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ar k,a,i: integer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k:=0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r i:=1 to 5 do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rite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( 'Введите целое число ‘ );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adln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 a mod 2 &lt;&gt; 0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n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= k +1;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riteln (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'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Нечетных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чисел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',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adl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2" name="Rectangle 2" descr=""/>
          <p:cNvPicPr/>
          <p:nvPr/>
        </p:nvPicPr>
        <p:blipFill>
          <a:blip r:embed="rId1"/>
          <a:stretch/>
        </p:blipFill>
        <p:spPr>
          <a:xfrm>
            <a:off x="2152800" y="-122400"/>
            <a:ext cx="46195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изведени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Первоначальное значение р:=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подсчет в цикле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р:=р * {множитель }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Rectangle 2" descr=""/>
          <p:cNvPicPr/>
          <p:nvPr/>
        </p:nvPicPr>
        <p:blipFill>
          <a:blip r:embed="rId1"/>
          <a:stretch/>
        </p:blipFill>
        <p:spPr>
          <a:xfrm>
            <a:off x="2077920" y="-6480"/>
            <a:ext cx="49816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ычислять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a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, p, i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 :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teger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riteln ( ‘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введите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число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n = ‘) 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adln   (n) ;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:=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r i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to n do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:=p*i;       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riteln ( ‘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факториал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числа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’, n,’ =  ' ,p)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Rectangle 2" descr=""/>
          <p:cNvPicPr/>
          <p:nvPr/>
        </p:nvPicPr>
        <p:blipFill>
          <a:blip r:embed="rId1"/>
          <a:stretch/>
        </p:blipFill>
        <p:spPr>
          <a:xfrm>
            <a:off x="2176560" y="-103320"/>
            <a:ext cx="4456080" cy="615960"/>
          </a:xfrm>
          <a:prstGeom prst="rect">
            <a:avLst/>
          </a:prstGeom>
          <a:ln w="0">
            <a:noFill/>
          </a:ln>
        </p:spPr>
      </p:pic>
      <p:sp>
        <p:nvSpPr>
          <p:cNvPr id="457" name="AutoShape 5"/>
          <p:cNvSpPr/>
          <p:nvPr/>
        </p:nvSpPr>
        <p:spPr>
          <a:xfrm>
            <a:off x="8317080" y="623736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7381" y="7493"/>
                </a:moveTo>
                <a:lnTo>
                  <a:pt x="10889" y="7493"/>
                </a:lnTo>
                <a:lnTo>
                  <a:pt x="10889" y="12828"/>
                </a:lnTo>
                <a:cubicBezTo>
                  <a:pt x="10889" y="13751"/>
                  <a:pt x="11689" y="14482"/>
                  <a:pt x="12725" y="14482"/>
                </a:cubicBezTo>
                <a:lnTo>
                  <a:pt x="14387" y="14482"/>
                </a:lnTo>
                <a:cubicBezTo>
                  <a:pt x="15423" y="14482"/>
                  <a:pt x="16224" y="13751"/>
                  <a:pt x="16224" y="12828"/>
                </a:cubicBezTo>
                <a:lnTo>
                  <a:pt x="16224" y="7493"/>
                </a:lnTo>
                <a:lnTo>
                  <a:pt x="14387" y="7493"/>
                </a:lnTo>
                <a:lnTo>
                  <a:pt x="17895" y="3985"/>
                </a:lnTo>
                <a:lnTo>
                  <a:pt x="21568" y="7493"/>
                </a:lnTo>
                <a:lnTo>
                  <a:pt x="19732" y="7493"/>
                </a:lnTo>
                <a:lnTo>
                  <a:pt x="19732" y="12828"/>
                </a:lnTo>
                <a:cubicBezTo>
                  <a:pt x="19732" y="15596"/>
                  <a:pt x="17155" y="18155"/>
                  <a:pt x="14387" y="18155"/>
                </a:cubicBezTo>
                <a:lnTo>
                  <a:pt x="12725" y="18155"/>
                </a:lnTo>
                <a:cubicBezTo>
                  <a:pt x="9957" y="18155"/>
                  <a:pt x="7381" y="15596"/>
                  <a:pt x="7381" y="12828"/>
                </a:cubicBezTo>
                <a:close/>
              </a:path>
            </a:pathLst>
          </a:custGeom>
          <a:solidFill>
            <a:srgbClr val="2da2b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Object 14"/>
          <p:cNvGraphicFramePr/>
          <p:nvPr/>
        </p:nvGraphicFramePr>
        <p:xfrm>
          <a:off x="531720" y="1998720"/>
          <a:ext cx="7315200" cy="33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1998720"/>
                    <a:ext cx="7315200" cy="33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4" name="Rectangle 2" descr=""/>
          <p:cNvPicPr/>
          <p:nvPr/>
        </p:nvPicPr>
        <p:blipFill>
          <a:blip r:embed="rId3"/>
          <a:stretch/>
        </p:blipFill>
        <p:spPr>
          <a:xfrm>
            <a:off x="1646280" y="328680"/>
            <a:ext cx="5145120" cy="67788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15"/>
          <p:cNvSpPr/>
          <p:nvPr/>
        </p:nvSpPr>
        <p:spPr>
          <a:xfrm>
            <a:off x="2987640" y="2421000"/>
            <a:ext cx="2233800" cy="1295280"/>
          </a:xfrm>
          <a:prstGeom prst="flowChartDecision">
            <a:avLst/>
          </a:prstGeom>
          <a:solidFill>
            <a:srgbClr val="78d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6"/>
          <p:cNvSpPr/>
          <p:nvPr/>
        </p:nvSpPr>
        <p:spPr>
          <a:xfrm>
            <a:off x="2987640" y="4437000"/>
            <a:ext cx="2303640" cy="647640"/>
          </a:xfrm>
          <a:prstGeom prst="flowChartProcess">
            <a:avLst/>
          </a:prstGeom>
          <a:solidFill>
            <a:srgbClr val="f2a4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9"/>
          <p:cNvSpPr/>
          <p:nvPr/>
        </p:nvSpPr>
        <p:spPr>
          <a:xfrm>
            <a:off x="4138560" y="371628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0"/>
          <p:cNvSpPr/>
          <p:nvPr/>
        </p:nvSpPr>
        <p:spPr>
          <a:xfrm>
            <a:off x="421164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1"/>
          <p:cNvSpPr/>
          <p:nvPr/>
        </p:nvSpPr>
        <p:spPr>
          <a:xfrm>
            <a:off x="4211640" y="5516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2"/>
          <p:cNvSpPr/>
          <p:nvPr/>
        </p:nvSpPr>
        <p:spPr>
          <a:xfrm flipV="1">
            <a:off x="6012000" y="227664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3"/>
          <p:cNvSpPr/>
          <p:nvPr/>
        </p:nvSpPr>
        <p:spPr>
          <a:xfrm flipH="1">
            <a:off x="4067280" y="2276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4"/>
          <p:cNvSpPr/>
          <p:nvPr/>
        </p:nvSpPr>
        <p:spPr>
          <a:xfrm flipV="1">
            <a:off x="4067280" y="1989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25"/>
          <p:cNvSpPr/>
          <p:nvPr/>
        </p:nvSpPr>
        <p:spPr>
          <a:xfrm flipH="1">
            <a:off x="205092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26"/>
          <p:cNvSpPr/>
          <p:nvPr/>
        </p:nvSpPr>
        <p:spPr>
          <a:xfrm>
            <a:off x="2050920" y="306864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7"/>
          <p:cNvSpPr/>
          <p:nvPr/>
        </p:nvSpPr>
        <p:spPr>
          <a:xfrm>
            <a:off x="2165400" y="265104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8"/>
          <p:cNvSpPr/>
          <p:nvPr/>
        </p:nvSpPr>
        <p:spPr>
          <a:xfrm>
            <a:off x="4189320" y="380376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0"/>
          <p:cNvSpPr/>
          <p:nvPr/>
        </p:nvSpPr>
        <p:spPr>
          <a:xfrm>
            <a:off x="3687840" y="243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1"/>
          <p:cNvSpPr/>
          <p:nvPr/>
        </p:nvSpPr>
        <p:spPr>
          <a:xfrm>
            <a:off x="3293280" y="2708280"/>
            <a:ext cx="16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полн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2"/>
          <p:cNvSpPr/>
          <p:nvPr/>
        </p:nvSpPr>
        <p:spPr>
          <a:xfrm>
            <a:off x="3463200" y="4581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57200" y="76464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2944800" y="103320"/>
            <a:ext cx="4834080" cy="677880"/>
          </a:xfrm>
          <a:prstGeom prst="rect">
            <a:avLst/>
          </a:prstGeom>
          <a:ln w="0">
            <a:noFill/>
          </a:ln>
        </p:spPr>
      </p:pic>
      <p:grpSp>
        <p:nvGrpSpPr>
          <p:cNvPr id="460" name="Group 15"/>
          <p:cNvGrpSpPr/>
          <p:nvPr/>
        </p:nvGrpSpPr>
        <p:grpSpPr>
          <a:xfrm>
            <a:off x="755640" y="765000"/>
            <a:ext cx="1512720" cy="1079640"/>
            <a:chOff x="755640" y="765000"/>
            <a:chExt cx="1512720" cy="1079640"/>
          </a:xfrm>
        </p:grpSpPr>
        <p:sp>
          <p:nvSpPr>
            <p:cNvPr id="461" name="Line 5"/>
            <p:cNvSpPr/>
            <p:nvPr/>
          </p:nvSpPr>
          <p:spPr>
            <a:xfrm>
              <a:off x="755640" y="765000"/>
              <a:ext cx="1512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6"/>
            <p:cNvSpPr/>
            <p:nvPr/>
          </p:nvSpPr>
          <p:spPr>
            <a:xfrm>
              <a:off x="755640" y="76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7"/>
            <p:cNvSpPr/>
            <p:nvPr/>
          </p:nvSpPr>
          <p:spPr>
            <a:xfrm>
              <a:off x="755640" y="1844640"/>
              <a:ext cx="1512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4"/>
          <p:cNvGrpSpPr/>
          <p:nvPr/>
        </p:nvGrpSpPr>
        <p:grpSpPr>
          <a:xfrm>
            <a:off x="971640" y="1125360"/>
            <a:ext cx="1296360" cy="503280"/>
            <a:chOff x="971640" y="1125360"/>
            <a:chExt cx="1296360" cy="503280"/>
          </a:xfrm>
        </p:grpSpPr>
        <p:sp>
          <p:nvSpPr>
            <p:cNvPr id="465" name="Line 10"/>
            <p:cNvSpPr/>
            <p:nvPr/>
          </p:nvSpPr>
          <p:spPr>
            <a:xfrm>
              <a:off x="971640" y="1125360"/>
              <a:ext cx="129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1"/>
            <p:cNvSpPr/>
            <p:nvPr/>
          </p:nvSpPr>
          <p:spPr>
            <a:xfrm>
              <a:off x="971640" y="1125360"/>
              <a:ext cx="0" cy="50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2"/>
            <p:cNvSpPr/>
            <p:nvPr/>
          </p:nvSpPr>
          <p:spPr>
            <a:xfrm>
              <a:off x="971640" y="1628640"/>
              <a:ext cx="129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Line 17"/>
          <p:cNvSpPr/>
          <p:nvPr/>
        </p:nvSpPr>
        <p:spPr>
          <a:xfrm>
            <a:off x="755640" y="2349360"/>
            <a:ext cx="151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8"/>
          <p:cNvSpPr/>
          <p:nvPr/>
        </p:nvSpPr>
        <p:spPr>
          <a:xfrm>
            <a:off x="755640" y="2349360"/>
            <a:ext cx="0" cy="165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9"/>
          <p:cNvSpPr/>
          <p:nvPr/>
        </p:nvSpPr>
        <p:spPr>
          <a:xfrm>
            <a:off x="755640" y="4005360"/>
            <a:ext cx="151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28"/>
          <p:cNvGrpSpPr/>
          <p:nvPr/>
        </p:nvGrpSpPr>
        <p:grpSpPr>
          <a:xfrm>
            <a:off x="900000" y="3500280"/>
            <a:ext cx="1368000" cy="432000"/>
            <a:chOff x="900000" y="3500280"/>
            <a:chExt cx="1368000" cy="432000"/>
          </a:xfrm>
        </p:grpSpPr>
        <p:sp>
          <p:nvSpPr>
            <p:cNvPr id="472" name="Line 29"/>
            <p:cNvSpPr/>
            <p:nvPr/>
          </p:nvSpPr>
          <p:spPr>
            <a:xfrm>
              <a:off x="900000" y="3500280"/>
              <a:ext cx="136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30"/>
            <p:cNvSpPr/>
            <p:nvPr/>
          </p:nvSpPr>
          <p:spPr>
            <a:xfrm>
              <a:off x="900000" y="3500280"/>
              <a:ext cx="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31"/>
            <p:cNvSpPr/>
            <p:nvPr/>
          </p:nvSpPr>
          <p:spPr>
            <a:xfrm>
              <a:off x="900000" y="3932280"/>
              <a:ext cx="136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Line 34"/>
          <p:cNvSpPr/>
          <p:nvPr/>
        </p:nvSpPr>
        <p:spPr>
          <a:xfrm>
            <a:off x="900000" y="4581360"/>
            <a:ext cx="0" cy="1368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900000" y="5661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1"/>
          <p:cNvSpPr/>
          <p:nvPr/>
        </p:nvSpPr>
        <p:spPr>
          <a:xfrm>
            <a:off x="755640" y="4221000"/>
            <a:ext cx="151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2"/>
          <p:cNvSpPr/>
          <p:nvPr/>
        </p:nvSpPr>
        <p:spPr>
          <a:xfrm>
            <a:off x="755640" y="4221000"/>
            <a:ext cx="0" cy="1944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3"/>
          <p:cNvSpPr/>
          <p:nvPr/>
        </p:nvSpPr>
        <p:spPr>
          <a:xfrm>
            <a:off x="755640" y="6165720"/>
            <a:ext cx="151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3"/>
          <p:cNvSpPr/>
          <p:nvPr/>
        </p:nvSpPr>
        <p:spPr>
          <a:xfrm>
            <a:off x="900000" y="4581360"/>
            <a:ext cx="136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5"/>
          <p:cNvSpPr/>
          <p:nvPr/>
        </p:nvSpPr>
        <p:spPr>
          <a:xfrm>
            <a:off x="1116000" y="4869000"/>
            <a:ext cx="115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8"/>
          <p:cNvSpPr/>
          <p:nvPr/>
        </p:nvSpPr>
        <p:spPr>
          <a:xfrm>
            <a:off x="900000" y="501336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1"/>
          <p:cNvSpPr/>
          <p:nvPr/>
        </p:nvSpPr>
        <p:spPr>
          <a:xfrm>
            <a:off x="1116000" y="5661000"/>
            <a:ext cx="115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3"/>
          <p:cNvSpPr/>
          <p:nvPr/>
        </p:nvSpPr>
        <p:spPr>
          <a:xfrm>
            <a:off x="900000" y="5950080"/>
            <a:ext cx="136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4"/>
          <p:cNvSpPr/>
          <p:nvPr/>
        </p:nvSpPr>
        <p:spPr>
          <a:xfrm>
            <a:off x="1116000" y="486900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46"/>
          <p:cNvSpPr/>
          <p:nvPr/>
        </p:nvSpPr>
        <p:spPr>
          <a:xfrm>
            <a:off x="97344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7"/>
          <p:cNvSpPr/>
          <p:nvPr/>
        </p:nvSpPr>
        <p:spPr>
          <a:xfrm>
            <a:off x="111780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8"/>
          <p:cNvSpPr/>
          <p:nvPr/>
        </p:nvSpPr>
        <p:spPr>
          <a:xfrm>
            <a:off x="757440" y="76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49"/>
          <p:cNvSpPr/>
          <p:nvPr/>
        </p:nvSpPr>
        <p:spPr>
          <a:xfrm>
            <a:off x="757440" y="234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0"/>
          <p:cNvSpPr/>
          <p:nvPr/>
        </p:nvSpPr>
        <p:spPr>
          <a:xfrm>
            <a:off x="757440" y="42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51"/>
          <p:cNvGrpSpPr/>
          <p:nvPr/>
        </p:nvGrpSpPr>
        <p:grpSpPr>
          <a:xfrm>
            <a:off x="900000" y="2781360"/>
            <a:ext cx="1368000" cy="431640"/>
            <a:chOff x="900000" y="2781360"/>
            <a:chExt cx="1368000" cy="431640"/>
          </a:xfrm>
        </p:grpSpPr>
        <p:sp>
          <p:nvSpPr>
            <p:cNvPr id="492" name="Line 52"/>
            <p:cNvSpPr/>
            <p:nvPr/>
          </p:nvSpPr>
          <p:spPr>
            <a:xfrm>
              <a:off x="900000" y="2781360"/>
              <a:ext cx="136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53"/>
            <p:cNvSpPr/>
            <p:nvPr/>
          </p:nvSpPr>
          <p:spPr>
            <a:xfrm>
              <a:off x="900000" y="2781360"/>
              <a:ext cx="0" cy="431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54"/>
            <p:cNvSpPr/>
            <p:nvPr/>
          </p:nvSpPr>
          <p:spPr>
            <a:xfrm>
              <a:off x="900000" y="3213000"/>
              <a:ext cx="1368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Text Box 55"/>
          <p:cNvSpPr/>
          <p:nvPr/>
        </p:nvSpPr>
        <p:spPr>
          <a:xfrm>
            <a:off x="902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6"/>
          <p:cNvSpPr/>
          <p:nvPr/>
        </p:nvSpPr>
        <p:spPr>
          <a:xfrm>
            <a:off x="90216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7"/>
          <p:cNvSpPr/>
          <p:nvPr/>
        </p:nvSpPr>
        <p:spPr>
          <a:xfrm>
            <a:off x="90216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8"/>
          <p:cNvSpPr/>
          <p:nvPr/>
        </p:nvSpPr>
        <p:spPr>
          <a:xfrm>
            <a:off x="900360" y="31417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9"/>
          <p:cNvSpPr/>
          <p:nvPr/>
        </p:nvSpPr>
        <p:spPr>
          <a:xfrm>
            <a:off x="3276720" y="1484280"/>
            <a:ext cx="53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 называется сложным (вложенным), если внутри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ится один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колько других цик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980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Среди чисел 1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&lt; N &lt; 100 </a:t>
            </a: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найти все пары чисел, для которых их сумма равнялась бы их произвед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1" name="Rectangle 2" descr=""/>
          <p:cNvPicPr/>
          <p:nvPr/>
        </p:nvPicPr>
        <p:blipFill>
          <a:blip r:embed="rId1"/>
          <a:stretch/>
        </p:blipFill>
        <p:spPr>
          <a:xfrm>
            <a:off x="2225520" y="30240"/>
            <a:ext cx="476568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549360"/>
            <a:ext cx="8507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r  k, a, b: integer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gin k:=0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a:= 1 to 100 d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b:= 1 to 100 do </a:t>
            </a:r>
            <a:r>
              <a:rPr b="0" lang="en-US" sz="2700" spc="-1" strike="noStrike">
                <a:solidFill>
                  <a:srgbClr val="a3171e"/>
                </a:solidFill>
                <a:latin typeface="Lucida Sans Unicode"/>
              </a:rPr>
              <a:t>begin</a:t>
            </a:r>
            <a:r>
              <a:rPr b="0" lang="en-US" sz="2700" spc="-1" strike="noStrike">
                <a:solidFill>
                  <a:srgbClr val="def5fa"/>
                </a:solidFill>
                <a:latin typeface="Lucida Sans Unicode"/>
              </a:rPr>
              <a:t>beg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a+b=a*b then  </a:t>
            </a:r>
            <a:r>
              <a:rPr b="0" lang="en-US" sz="2700" spc="-1" strike="noStrike">
                <a:solidFill>
                  <a:srgbClr val="009900"/>
                </a:solidFill>
                <a:latin typeface="Lucida Sans Unicode"/>
              </a:rPr>
              <a:t>beg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:=k+1;  writeln(‘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Числа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‘, a , b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9900"/>
                </a:solidFill>
                <a:latin typeface="Lucida Sans Unicode"/>
              </a:rPr>
              <a:t>e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9900"/>
                </a:solidFill>
                <a:latin typeface="Lucida Sans Unicode"/>
              </a:rPr>
              <a:t>                        </a:t>
            </a:r>
            <a:r>
              <a:rPr b="0" lang="en-US" sz="2700" spc="-1" strike="noStrike">
                <a:solidFill>
                  <a:srgbClr val="a3171e"/>
                </a:solidFill>
                <a:latin typeface="Lucida Sans Unicode"/>
              </a:rPr>
              <a:t>end;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def5fa"/>
                </a:solidFill>
                <a:latin typeface="Lucida Sans Unicode"/>
              </a:rPr>
              <a:t>end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k=0 then writeln(‘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аких чис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т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’)else(‘k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’,k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3" name="Rectangle 2" descr=""/>
          <p:cNvPicPr/>
          <p:nvPr/>
        </p:nvPicPr>
        <p:blipFill>
          <a:blip r:embed="rId1"/>
          <a:stretch/>
        </p:blipFill>
        <p:spPr>
          <a:xfrm>
            <a:off x="2077920" y="-146160"/>
            <a:ext cx="4694400" cy="67644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4"/>
          <p:cNvSpPr/>
          <p:nvPr/>
        </p:nvSpPr>
        <p:spPr>
          <a:xfrm>
            <a:off x="324000" y="1916280"/>
            <a:ext cx="8351640" cy="2304720"/>
          </a:xfrm>
          <a:prstGeom prst="rect">
            <a:avLst/>
          </a:prstGeom>
          <a:solidFill>
            <a:srgbClr val="f6dc40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">
            <a:hlinkClick r:id="" action="ppaction://hlinkshowjump?jump=firs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solidFill>
            <a:srgbClr val="2da2b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118728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ILE  &lt;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логическое условие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&gt; D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оператор цикла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&gt; 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ILE  &lt;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логическое условие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&gt; D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оператор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&gt; 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оператор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2&gt; 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оператор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&gt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1719360" y="378000"/>
            <a:ext cx="548640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95280" y="242064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ераторы цикла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выполняются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пок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ILE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 логическое выражение истинн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1719360" y="365040"/>
            <a:ext cx="53402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рагмент программы вывода на экран квадратов целых чисел от 5 до 1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:=5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ILE X&lt;=10 D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G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:=SQR (X) 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LN (’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вадрат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’,X,’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‘ ,Y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:= X+1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D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1395360" y="255600"/>
            <a:ext cx="6480360" cy="116532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6"/>
          <p:cNvSpPr/>
          <p:nvPr/>
        </p:nvSpPr>
        <p:spPr>
          <a:xfrm>
            <a:off x="8423280" y="6308640"/>
            <a:ext cx="720720" cy="549360"/>
          </a:xfrm>
          <a:custGeom>
            <a:avLst/>
            <a:gdLst>
              <a:gd name="textAreaLeft" fmla="*/ 35280 w 720720"/>
              <a:gd name="textAreaRight" fmla="*/ 685440 w 7207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8333" h="21600">
                <a:moveTo>
                  <a:pt x="0" y="0"/>
                </a:moveTo>
                <a:lnTo>
                  <a:pt x="28333" y="0"/>
                </a:lnTo>
                <a:lnTo>
                  <a:pt x="28333" y="21600"/>
                </a:lnTo>
                <a:lnTo>
                  <a:pt x="0" y="21600"/>
                </a:lnTo>
                <a:close/>
              </a:path>
              <a:path fill="lightenLess" w="28333" h="21600">
                <a:moveTo>
                  <a:pt x="0" y="0"/>
                </a:moveTo>
                <a:lnTo>
                  <a:pt x="28333" y="0"/>
                </a:lnTo>
                <a:lnTo>
                  <a:pt x="26933" y="1400"/>
                </a:lnTo>
                <a:lnTo>
                  <a:pt x="1400" y="1400"/>
                </a:lnTo>
                <a:close/>
              </a:path>
              <a:path fill="darken" w="28333" h="21600">
                <a:moveTo>
                  <a:pt x="28333" y="0"/>
                </a:moveTo>
                <a:lnTo>
                  <a:pt x="28333" y="21600"/>
                </a:lnTo>
                <a:lnTo>
                  <a:pt x="26933" y="20200"/>
                </a:lnTo>
                <a:lnTo>
                  <a:pt x="26933" y="1400"/>
                </a:lnTo>
                <a:close/>
              </a:path>
              <a:path fill="darkenLess" w="28333" h="21600">
                <a:moveTo>
                  <a:pt x="283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33" y="20200"/>
                </a:lnTo>
                <a:close/>
              </a:path>
              <a:path fill="lighten" w="283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33" h="21600">
                <a:moveTo>
                  <a:pt x="7160" y="7493"/>
                </a:moveTo>
                <a:lnTo>
                  <a:pt x="10668" y="7493"/>
                </a:lnTo>
                <a:lnTo>
                  <a:pt x="10668" y="12828"/>
                </a:lnTo>
                <a:cubicBezTo>
                  <a:pt x="10668" y="13751"/>
                  <a:pt x="11468" y="14482"/>
                  <a:pt x="12504" y="14482"/>
                </a:cubicBezTo>
                <a:lnTo>
                  <a:pt x="14167" y="14482"/>
                </a:lnTo>
                <a:cubicBezTo>
                  <a:pt x="15202" y="14482"/>
                  <a:pt x="16003" y="13751"/>
                  <a:pt x="16003" y="12828"/>
                </a:cubicBezTo>
                <a:lnTo>
                  <a:pt x="16003" y="7493"/>
                </a:lnTo>
                <a:lnTo>
                  <a:pt x="14167" y="7493"/>
                </a:lnTo>
                <a:lnTo>
                  <a:pt x="17674" y="3985"/>
                </a:lnTo>
                <a:lnTo>
                  <a:pt x="21347" y="7493"/>
                </a:lnTo>
                <a:lnTo>
                  <a:pt x="19511" y="7493"/>
                </a:lnTo>
                <a:lnTo>
                  <a:pt x="19511" y="12828"/>
                </a:lnTo>
                <a:cubicBezTo>
                  <a:pt x="19511" y="15596"/>
                  <a:pt x="16934" y="18155"/>
                  <a:pt x="14167" y="18155"/>
                </a:cubicBezTo>
                <a:lnTo>
                  <a:pt x="12504" y="18155"/>
                </a:lnTo>
                <a:cubicBezTo>
                  <a:pt x="9736" y="18155"/>
                  <a:pt x="7160" y="15596"/>
                  <a:pt x="7160" y="12828"/>
                </a:cubicBezTo>
                <a:close/>
              </a:path>
            </a:pathLst>
          </a:custGeom>
          <a:solidFill>
            <a:srgbClr val="ff9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1865160" y="-146160"/>
            <a:ext cx="4883400" cy="67644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4"/>
          <p:cNvSpPr/>
          <p:nvPr/>
        </p:nvSpPr>
        <p:spPr>
          <a:xfrm>
            <a:off x="2843280" y="3645000"/>
            <a:ext cx="2881080" cy="1439640"/>
          </a:xfrm>
          <a:prstGeom prst="flowChartDecision">
            <a:avLst/>
          </a:prstGeom>
          <a:solidFill>
            <a:srgbClr val="78d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2843280" y="2060640"/>
            <a:ext cx="3024000" cy="936720"/>
          </a:xfrm>
          <a:prstGeom prst="flowChartProcess">
            <a:avLst/>
          </a:prstGeom>
          <a:solidFill>
            <a:srgbClr val="f2a4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7"/>
          <p:cNvSpPr/>
          <p:nvPr/>
        </p:nvSpPr>
        <p:spPr>
          <a:xfrm>
            <a:off x="4284720" y="2997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 flipH="1">
            <a:off x="2050560" y="4365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"/>
          <p:cNvSpPr/>
          <p:nvPr/>
        </p:nvSpPr>
        <p:spPr>
          <a:xfrm flipV="1">
            <a:off x="2050920" y="1557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0"/>
          <p:cNvSpPr/>
          <p:nvPr/>
        </p:nvSpPr>
        <p:spPr>
          <a:xfrm flipV="1">
            <a:off x="4211640" y="980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1"/>
          <p:cNvSpPr/>
          <p:nvPr/>
        </p:nvSpPr>
        <p:spPr>
          <a:xfrm>
            <a:off x="2050920" y="1557360"/>
            <a:ext cx="20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2"/>
          <p:cNvSpPr/>
          <p:nvPr/>
        </p:nvSpPr>
        <p:spPr>
          <a:xfrm>
            <a:off x="4284720" y="508464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3635280" y="234936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3422160" y="40766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5"/>
          <p:cNvSpPr/>
          <p:nvPr/>
        </p:nvSpPr>
        <p:spPr>
          <a:xfrm>
            <a:off x="4410360" y="517680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6"/>
          <p:cNvSpPr/>
          <p:nvPr/>
        </p:nvSpPr>
        <p:spPr>
          <a:xfrm>
            <a:off x="2178360" y="366552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250560" y="836640"/>
            <a:ext cx="843588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E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ератор 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ератор 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ератор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TIL &lt;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логическое услови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&gt; 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ераторы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повторяются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EAT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 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д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тех пор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TIL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, пока значени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логического выражения ложн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2077920" y="152280"/>
            <a:ext cx="50292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250560" y="980640"/>
            <a:ext cx="84358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рагмент программы вывода на экран квадратов целых чисел от 5 до 10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:=5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E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:=SQR (X) 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LN (’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вадрат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’,X,’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‘ ,Y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:= X+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TIL x &gt;= 10 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2004840" y="79200"/>
            <a:ext cx="5102280" cy="676440"/>
          </a:xfrm>
          <a:prstGeom prst="rect">
            <a:avLst/>
          </a:prstGeom>
          <a:ln w="0">
            <a:noFill/>
          </a:ln>
        </p:spPr>
      </p:pic>
      <p:sp>
        <p:nvSpPr>
          <p:cNvPr id="415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8652" y="7493"/>
                </a:moveTo>
                <a:lnTo>
                  <a:pt x="12160" y="7493"/>
                </a:lnTo>
                <a:lnTo>
                  <a:pt x="12160" y="12828"/>
                </a:lnTo>
                <a:cubicBezTo>
                  <a:pt x="12160" y="13751"/>
                  <a:pt x="12960" y="14482"/>
                  <a:pt x="13996" y="14482"/>
                </a:cubicBezTo>
                <a:lnTo>
                  <a:pt x="15658" y="14482"/>
                </a:lnTo>
                <a:cubicBezTo>
                  <a:pt x="16694" y="14482"/>
                  <a:pt x="17495" y="13751"/>
                  <a:pt x="17495" y="12828"/>
                </a:cubicBezTo>
                <a:lnTo>
                  <a:pt x="17495" y="7493"/>
                </a:lnTo>
                <a:lnTo>
                  <a:pt x="15658" y="7493"/>
                </a:lnTo>
                <a:lnTo>
                  <a:pt x="19166" y="3985"/>
                </a:lnTo>
                <a:lnTo>
                  <a:pt x="22839" y="7493"/>
                </a:lnTo>
                <a:lnTo>
                  <a:pt x="21003" y="7493"/>
                </a:lnTo>
                <a:lnTo>
                  <a:pt x="21003" y="12828"/>
                </a:lnTo>
                <a:cubicBezTo>
                  <a:pt x="21003" y="15596"/>
                  <a:pt x="18426" y="18155"/>
                  <a:pt x="15658" y="18155"/>
                </a:cubicBezTo>
                <a:lnTo>
                  <a:pt x="13996" y="18155"/>
                </a:lnTo>
                <a:cubicBezTo>
                  <a:pt x="11228" y="18155"/>
                  <a:pt x="8652" y="15596"/>
                  <a:pt x="8652" y="12828"/>
                </a:cubicBezTo>
                <a:close/>
              </a:path>
            </a:pathLst>
          </a:custGeom>
          <a:solidFill>
            <a:srgbClr val="ff9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2152800" y="66600"/>
            <a:ext cx="5126040" cy="676440"/>
          </a:xfrm>
          <a:prstGeom prst="rect">
            <a:avLst/>
          </a:prstGeom>
          <a:ln w="0">
            <a:noFill/>
          </a:ln>
        </p:spPr>
      </p:pic>
      <p:sp>
        <p:nvSpPr>
          <p:cNvPr id="417" name="AutoShape 4"/>
          <p:cNvSpPr/>
          <p:nvPr/>
        </p:nvSpPr>
        <p:spPr>
          <a:xfrm>
            <a:off x="3132000" y="1341360"/>
            <a:ext cx="2376720" cy="503280"/>
          </a:xfrm>
          <a:prstGeom prst="flowChartProcess">
            <a:avLst/>
          </a:prstGeom>
          <a:solidFill>
            <a:srgbClr val="78d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5"/>
          <p:cNvSpPr/>
          <p:nvPr/>
        </p:nvSpPr>
        <p:spPr>
          <a:xfrm>
            <a:off x="3132000" y="2276640"/>
            <a:ext cx="2448000" cy="1079280"/>
          </a:xfrm>
          <a:prstGeom prst="flowChartDecision">
            <a:avLst/>
          </a:prstGeom>
          <a:solidFill>
            <a:srgbClr val="78d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6"/>
          <p:cNvSpPr/>
          <p:nvPr/>
        </p:nvSpPr>
        <p:spPr>
          <a:xfrm>
            <a:off x="3132000" y="3789360"/>
            <a:ext cx="2448000" cy="934920"/>
          </a:xfrm>
          <a:prstGeom prst="flowChartProcess">
            <a:avLst/>
          </a:prstGeom>
          <a:solidFill>
            <a:srgbClr val="f2a4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7"/>
          <p:cNvSpPr/>
          <p:nvPr/>
        </p:nvSpPr>
        <p:spPr>
          <a:xfrm>
            <a:off x="3132000" y="5373720"/>
            <a:ext cx="2448000" cy="431640"/>
          </a:xfrm>
          <a:prstGeom prst="flowChartProcess">
            <a:avLst/>
          </a:prstGeom>
          <a:solidFill>
            <a:srgbClr val="78d6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4356000" y="184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9"/>
          <p:cNvSpPr/>
          <p:nvPr/>
        </p:nvSpPr>
        <p:spPr>
          <a:xfrm>
            <a:off x="4356000" y="3357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0"/>
          <p:cNvSpPr/>
          <p:nvPr/>
        </p:nvSpPr>
        <p:spPr>
          <a:xfrm>
            <a:off x="4356000" y="472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1"/>
          <p:cNvSpPr/>
          <p:nvPr/>
        </p:nvSpPr>
        <p:spPr>
          <a:xfrm flipV="1">
            <a:off x="4356000" y="90792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4"/>
          <p:cNvSpPr/>
          <p:nvPr/>
        </p:nvSpPr>
        <p:spPr>
          <a:xfrm flipH="1">
            <a:off x="2124000" y="278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5"/>
          <p:cNvSpPr/>
          <p:nvPr/>
        </p:nvSpPr>
        <p:spPr>
          <a:xfrm>
            <a:off x="2124000" y="2781360"/>
            <a:ext cx="0" cy="331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6"/>
          <p:cNvSpPr/>
          <p:nvPr/>
        </p:nvSpPr>
        <p:spPr>
          <a:xfrm>
            <a:off x="4356000" y="580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7"/>
          <p:cNvSpPr/>
          <p:nvPr/>
        </p:nvSpPr>
        <p:spPr>
          <a:xfrm>
            <a:off x="4356000" y="6093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8"/>
          <p:cNvSpPr/>
          <p:nvPr/>
        </p:nvSpPr>
        <p:spPr>
          <a:xfrm flipV="1">
            <a:off x="6300720" y="1989000"/>
            <a:ext cx="0" cy="41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9"/>
          <p:cNvSpPr/>
          <p:nvPr/>
        </p:nvSpPr>
        <p:spPr>
          <a:xfrm flipH="1">
            <a:off x="4356000" y="1989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0"/>
          <p:cNvSpPr/>
          <p:nvPr/>
        </p:nvSpPr>
        <p:spPr>
          <a:xfrm>
            <a:off x="3925440" y="141300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: = 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1"/>
          <p:cNvSpPr/>
          <p:nvPr/>
        </p:nvSpPr>
        <p:spPr>
          <a:xfrm>
            <a:off x="3852000" y="26370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&lt; = 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2"/>
          <p:cNvSpPr/>
          <p:nvPr/>
        </p:nvSpPr>
        <p:spPr>
          <a:xfrm>
            <a:off x="3780000" y="537372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: = i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4"/>
          <p:cNvSpPr/>
          <p:nvPr/>
        </p:nvSpPr>
        <p:spPr>
          <a:xfrm>
            <a:off x="3708360" y="407664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5"/>
          <p:cNvSpPr/>
          <p:nvPr/>
        </p:nvSpPr>
        <p:spPr>
          <a:xfrm>
            <a:off x="4502520" y="335772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6"/>
          <p:cNvSpPr/>
          <p:nvPr/>
        </p:nvSpPr>
        <p:spPr>
          <a:xfrm>
            <a:off x="2486160" y="227664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17:00:01Z</dcterms:created>
  <dc:creator>Illarionova Vera V.</dc:creator>
  <dc:description/>
  <dc:language>en-US</dc:language>
  <cp:lastModifiedBy>Толя</cp:lastModifiedBy>
  <dcterms:modified xsi:type="dcterms:W3CDTF">2013-03-21T20:18:51Z</dcterms:modified>
  <cp:revision>17</cp:revision>
  <dc:subject/>
  <dc:title>Циклические конструкции</dc:title>
</cp:coreProperties>
</file>