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717-3A83-41D6-A2C7-B9F53733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096-7EB4-4D1D-A24E-A91E7EB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74F-E3D3-43BF-AC8D-7CC7F28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CB4-D498-4766-B9CB-3DDD791E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B11-801B-4553-9CEA-5377B86B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D986-8D2D-419C-9DD8-BF36AB0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9307-B775-4071-9F31-70E819F9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6699-0967-4351-A8CC-4D720800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2425-10FD-468F-9D6B-54864628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20EA-AF9A-44BC-A980-10797BE2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CF62-F9E7-4C8D-80DF-6CBA2BB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E0D-E26B-4AC2-9277-AB5F374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D11-7D1B-461D-8BF4-DD4A631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1FCD-CC87-4994-BD03-FD65FBC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8DD8-196B-4A10-B653-CE4642E7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ED56-4EE6-4F26-A1CF-EFD65ABD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39E7-A907-4596-AB85-8B27E78D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3EE3-4062-44B1-9B70-FB59E5B4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C894-92FB-4833-BBC4-5374E865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4F41-B2B0-4D30-897A-8ECB815B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BCE6-33B3-4B46-B569-5F00861E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5234-37B2-4009-90AA-3C407CC4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BFF-D0BA-4A34-9E93-EB34BB86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2612-0815-4824-BD6A-72A5842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785C-22D5-40D9-99EE-C751AA76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0CBC-BC14-49BD-AB81-06C8937C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C101-8AFD-4DE8-8B76-57D1D6E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B071-DF85-4A92-A61F-2A7274F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3248-CF76-40F0-B052-00FAEC8A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2EB2-EBE4-45E4-B1A6-B24CE0AD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1F7A-54E3-4AB6-85B6-C00A9256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4CF1-3D2E-4A4A-9372-214511C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3B85E-CD02-430A-BD76-7138A6E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5A4-43D6-4762-8CF0-BDFEE236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01F9E-7A6B-43B1-B7A5-F1EDBEDD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E0D0-31A1-4382-94BF-DA77B270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3A26-D85D-4A3D-91D2-AA7D930A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AC47-5E72-4B9D-8A82-E9FE88B6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FACA-89F3-4BF8-A6DA-718C6C7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E422-3D57-4336-AC1E-373AD9F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A566-9456-42DE-ADF9-45E993C4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E4C5-806A-4094-AC29-53579270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23F7-115D-4A07-9826-0D8BD5F0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9174-1A12-4CC3-9CA6-3815C174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1A3-CA2F-4E51-98CE-C893270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BF9D6-D571-4E17-9B4C-593BDA24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C85E-E380-488B-BC72-CDD60667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16DF-2884-44DC-8CBB-EB0174D1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EC4B-B7EF-403F-873E-2D6285CA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E52B-DE1A-4D41-9262-4FD12639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737F-5D06-404F-BD4C-B5D3671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E765-00D5-4961-9EC6-163510A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214C-915E-4B3D-8AD4-1722BB5E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8492-D994-4C6E-955B-F148540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94C3-B21B-4401-876D-1F5C0657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C75-8231-40E8-9982-5BD351A6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1418-ED3F-4607-B966-2AA1D5A1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D18D-B2C6-4613-B37F-A187EE4D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5774-704F-4BF6-BAFE-5573477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CB6F0-1AF2-4DEC-9781-2438D008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4F124-701F-4E00-813B-99445492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751BA-26D3-4DD6-9EAF-81FA7279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7161-092A-42C0-B143-40876C41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85A4-EE3E-4818-A56B-89D03D3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12D5-5FAE-4FA1-88CA-4E9007FA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695E-ADCE-4488-8705-93311B53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6AD-C254-4E6C-8D15-FD38AA7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5FA9-0246-4E7F-9334-EE7E050B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B8535-55AE-43CE-B6A0-87F30905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416D-6998-40C7-944B-F1AB3280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57749-A636-4862-A74C-61DA1AAD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F8C0D-C17F-4924-9BEE-75B1F27C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9AD0D-166D-4720-9BD2-58EB9E70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7DE5-C370-4AD8-9680-B6AD4E9B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35B1D-6303-4ECF-A4D6-7BB9A59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B1BD-195B-43AB-B3A8-E34282BE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DC56B-6B70-4EED-BA12-CE57B62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F85-C62D-423D-9562-FC512DC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149C3-5B35-4484-BB75-443FC724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DB68-A392-4A5F-9ED8-4AFB0B8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4E127-657A-4685-8B52-749AAC75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F5F7-36F0-41D1-A5B4-44C9C9AD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39A6C-0028-43CB-B522-FEE2118F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EDA05-5651-42DE-B7A5-E6C59879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AAB7F-4C44-4A4F-9F71-35F810C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C28B-9288-4448-AD94-6AD146E6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E23FC-7BB5-4D5F-B458-CCB97165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ABB4F-F31F-4466-837C-0B9B276E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FDB-BF45-4228-829E-DB5D912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71B99-A6EC-414A-81BD-35800F5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75BE-CA05-4C08-B571-2CE58BA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82BD-12AD-4FDE-8FF2-9B561E6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6DF91-9C42-4BB6-B403-DF10DBA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B1837-1BD7-41B3-B408-0F9DEF6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1D06-4AE6-4740-B5AB-2FCF0871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D0768-A2DE-44CD-B561-22C13029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2FC-32EE-427F-AB19-BC89204BB5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D14F-BCB2-4182-815E-E0C448FDECC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6AE-04C1-4375-A9F8-6D1645167B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662-DAFA-4639-9255-0C867E1CB8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8A9-CA27-4B12-B04D-FC408D6DA5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CF74-5F06-47D2-ADCE-7B73F2C226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0387-63AA-4A98-92FA-692551E9F3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921-9A0F-4858-AF07-13315EEF572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Цикл с </a:t>
            </a: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предусловием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Цикл с постусловием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Цикл с параметром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Вложенные циклы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5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8266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i : = n1 TO n2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параметр цик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чальное значен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выраж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конечное значение (выраж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lt; n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приращения +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личество повторений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2-n1+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=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gt;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икл не выполняется ни раз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865160" y="66600"/>
            <a:ext cx="5102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i : = n1 DOWNTO n2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gt; n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приращения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=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lt;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икл не выполняется ни раз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n1, n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должны быть описаны     (порядковый тип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не переопределяется в цик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04840" y="30240"/>
            <a:ext cx="48168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5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1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004840" y="30240"/>
            <a:ext cx="48405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1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077920" y="30240"/>
            <a:ext cx="47674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ы вычисления сумм, количеств и произведен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ы подсчет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м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ервоначальное значение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: =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одсчет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цикле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+{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кущ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ee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значение}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152800" y="42840"/>
            <a:ext cx="4692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764640"/>
            <a:ext cx="85075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числит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S=l+2+3+...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ar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teger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writeln (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‘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ведите натуральное число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='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adln  (n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 : = 0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for i : = 1 to n do  s : = s + i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writeln (‘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мма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= ‘ , 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nd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932120" y="42840"/>
            <a:ext cx="4767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личест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ервоначальное значение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=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одсчет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цикл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k : = K +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2004840" y="139680"/>
            <a:ext cx="46944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дсчитать количество нечетных чисел, введенных с клавиатур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 k,a,i: integ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i:=1 to 5 d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( 'Введите целое число ‘ );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ln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 a mod 2 &lt;&gt; 0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n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= k +1;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ln (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ечетных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сел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',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l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2152800" y="-122400"/>
            <a:ext cx="4619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изведен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ервоначальное значение р:=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одсчет в цикл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р:=р * {множитель }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077920" y="-6480"/>
            <a:ext cx="49816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числять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, p, i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ger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ln ( ‘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ведит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сло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n = ‘)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ln   (n) ;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:=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i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o n do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:=p*i;      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ln ( ‘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факториал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сла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’, n,’ =  ' ,p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2176560" y="-103320"/>
            <a:ext cx="4456080" cy="61596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5"/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7493"/>
                </a:moveTo>
                <a:lnTo>
                  <a:pt x="10889" y="7493"/>
                </a:lnTo>
                <a:lnTo>
                  <a:pt x="10889" y="12828"/>
                </a:lnTo>
                <a:cubicBezTo>
                  <a:pt x="10889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2" y="7493"/>
                </a:lnTo>
                <a:lnTo>
                  <a:pt x="19732" y="12828"/>
                </a:lnTo>
                <a:cubicBezTo>
                  <a:pt x="19732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2da2b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14"/>
          <p:cNvGraphicFramePr/>
          <p:nvPr/>
        </p:nvGraphicFramePr>
        <p:xfrm>
          <a:off x="531720" y="1998720"/>
          <a:ext cx="731520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998720"/>
                    <a:ext cx="731520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4" name="Rectangle 2" descr=""/>
          <p:cNvPicPr/>
          <p:nvPr/>
        </p:nvPicPr>
        <p:blipFill>
          <a:blip r:embed="rId3"/>
          <a:stretch/>
        </p:blipFill>
        <p:spPr>
          <a:xfrm>
            <a:off x="1646280" y="328680"/>
            <a:ext cx="5145120" cy="67788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15"/>
          <p:cNvSpPr/>
          <p:nvPr/>
        </p:nvSpPr>
        <p:spPr>
          <a:xfrm>
            <a:off x="2987640" y="2421000"/>
            <a:ext cx="2233800" cy="1295280"/>
          </a:xfrm>
          <a:prstGeom prst="flowChartDecision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6"/>
          <p:cNvSpPr/>
          <p:nvPr/>
        </p:nvSpPr>
        <p:spPr>
          <a:xfrm>
            <a:off x="2987640" y="4437000"/>
            <a:ext cx="2303640" cy="647640"/>
          </a:xfrm>
          <a:prstGeom prst="flowChartProcess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413856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4211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4211640" y="5516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V="1">
            <a:off x="6012000" y="2276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 flipH="1">
            <a:off x="4067280" y="2276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 flipV="1">
            <a:off x="406728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H="1">
            <a:off x="205092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>
            <a:off x="2050920" y="306864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2165400" y="26510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8"/>
          <p:cNvSpPr/>
          <p:nvPr/>
        </p:nvSpPr>
        <p:spPr>
          <a:xfrm>
            <a:off x="4189320" y="38037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0"/>
          <p:cNvSpPr/>
          <p:nvPr/>
        </p:nvSpPr>
        <p:spPr>
          <a:xfrm>
            <a:off x="3687840" y="243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3293280" y="270828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2"/>
          <p:cNvSpPr/>
          <p:nvPr/>
        </p:nvSpPr>
        <p:spPr>
          <a:xfrm>
            <a:off x="3463200" y="458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2944800" y="103320"/>
            <a:ext cx="4834080" cy="6778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15"/>
          <p:cNvGrpSpPr/>
          <p:nvPr/>
        </p:nvGrpSpPr>
        <p:grpSpPr>
          <a:xfrm>
            <a:off x="755640" y="765000"/>
            <a:ext cx="1512720" cy="1079640"/>
            <a:chOff x="755640" y="765000"/>
            <a:chExt cx="1512720" cy="1079640"/>
          </a:xfrm>
        </p:grpSpPr>
        <p:sp>
          <p:nvSpPr>
            <p:cNvPr id="461" name="Line 5"/>
            <p:cNvSpPr/>
            <p:nvPr/>
          </p:nvSpPr>
          <p:spPr>
            <a:xfrm>
              <a:off x="755640" y="765000"/>
              <a:ext cx="151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6"/>
            <p:cNvSpPr/>
            <p:nvPr/>
          </p:nvSpPr>
          <p:spPr>
            <a:xfrm>
              <a:off x="755640" y="76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55640" y="1844640"/>
              <a:ext cx="151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4"/>
          <p:cNvGrpSpPr/>
          <p:nvPr/>
        </p:nvGrpSpPr>
        <p:grpSpPr>
          <a:xfrm>
            <a:off x="971640" y="1125360"/>
            <a:ext cx="1296360" cy="503280"/>
            <a:chOff x="971640" y="1125360"/>
            <a:chExt cx="1296360" cy="503280"/>
          </a:xfrm>
        </p:grpSpPr>
        <p:sp>
          <p:nvSpPr>
            <p:cNvPr id="465" name="Line 10"/>
            <p:cNvSpPr/>
            <p:nvPr/>
          </p:nvSpPr>
          <p:spPr>
            <a:xfrm>
              <a:off x="971640" y="1125360"/>
              <a:ext cx="129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1"/>
            <p:cNvSpPr/>
            <p:nvPr/>
          </p:nvSpPr>
          <p:spPr>
            <a:xfrm>
              <a:off x="971640" y="1125360"/>
              <a:ext cx="0" cy="50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2"/>
            <p:cNvSpPr/>
            <p:nvPr/>
          </p:nvSpPr>
          <p:spPr>
            <a:xfrm>
              <a:off x="971640" y="1628640"/>
              <a:ext cx="129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17"/>
          <p:cNvSpPr/>
          <p:nvPr/>
        </p:nvSpPr>
        <p:spPr>
          <a:xfrm>
            <a:off x="755640" y="234936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755640" y="23493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755640" y="400536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28"/>
          <p:cNvGrpSpPr/>
          <p:nvPr/>
        </p:nvGrpSpPr>
        <p:grpSpPr>
          <a:xfrm>
            <a:off x="900000" y="3500280"/>
            <a:ext cx="1368000" cy="432000"/>
            <a:chOff x="900000" y="3500280"/>
            <a:chExt cx="1368000" cy="432000"/>
          </a:xfrm>
        </p:grpSpPr>
        <p:sp>
          <p:nvSpPr>
            <p:cNvPr id="472" name="Line 29"/>
            <p:cNvSpPr/>
            <p:nvPr/>
          </p:nvSpPr>
          <p:spPr>
            <a:xfrm>
              <a:off x="900000" y="350028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30"/>
            <p:cNvSpPr/>
            <p:nvPr/>
          </p:nvSpPr>
          <p:spPr>
            <a:xfrm>
              <a:off x="900000" y="3500280"/>
              <a:ext cx="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900000" y="393228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34"/>
          <p:cNvSpPr/>
          <p:nvPr/>
        </p:nvSpPr>
        <p:spPr>
          <a:xfrm>
            <a:off x="900000" y="4581360"/>
            <a:ext cx="0" cy="136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90000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1"/>
          <p:cNvSpPr/>
          <p:nvPr/>
        </p:nvSpPr>
        <p:spPr>
          <a:xfrm>
            <a:off x="755640" y="422100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2"/>
          <p:cNvSpPr/>
          <p:nvPr/>
        </p:nvSpPr>
        <p:spPr>
          <a:xfrm>
            <a:off x="755640" y="4221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"/>
          <p:cNvSpPr/>
          <p:nvPr/>
        </p:nvSpPr>
        <p:spPr>
          <a:xfrm>
            <a:off x="755640" y="616572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900000" y="458136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5"/>
          <p:cNvSpPr/>
          <p:nvPr/>
        </p:nvSpPr>
        <p:spPr>
          <a:xfrm>
            <a:off x="1116000" y="486900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8"/>
          <p:cNvSpPr/>
          <p:nvPr/>
        </p:nvSpPr>
        <p:spPr>
          <a:xfrm>
            <a:off x="900000" y="501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1"/>
          <p:cNvSpPr/>
          <p:nvPr/>
        </p:nvSpPr>
        <p:spPr>
          <a:xfrm>
            <a:off x="1116000" y="566100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3"/>
          <p:cNvSpPr/>
          <p:nvPr/>
        </p:nvSpPr>
        <p:spPr>
          <a:xfrm>
            <a:off x="900000" y="595008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4"/>
          <p:cNvSpPr/>
          <p:nvPr/>
        </p:nvSpPr>
        <p:spPr>
          <a:xfrm>
            <a:off x="111600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6"/>
          <p:cNvSpPr/>
          <p:nvPr/>
        </p:nvSpPr>
        <p:spPr>
          <a:xfrm>
            <a:off x="97344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7"/>
          <p:cNvSpPr/>
          <p:nvPr/>
        </p:nvSpPr>
        <p:spPr>
          <a:xfrm>
            <a:off x="1117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8"/>
          <p:cNvSpPr/>
          <p:nvPr/>
        </p:nvSpPr>
        <p:spPr>
          <a:xfrm>
            <a:off x="75744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9"/>
          <p:cNvSpPr/>
          <p:nvPr/>
        </p:nvSpPr>
        <p:spPr>
          <a:xfrm>
            <a:off x="75744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0"/>
          <p:cNvSpPr/>
          <p:nvPr/>
        </p:nvSpPr>
        <p:spPr>
          <a:xfrm>
            <a:off x="75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1"/>
          <p:cNvGrpSpPr/>
          <p:nvPr/>
        </p:nvGrpSpPr>
        <p:grpSpPr>
          <a:xfrm>
            <a:off x="900000" y="2781360"/>
            <a:ext cx="1368000" cy="431640"/>
            <a:chOff x="900000" y="2781360"/>
            <a:chExt cx="1368000" cy="431640"/>
          </a:xfrm>
        </p:grpSpPr>
        <p:sp>
          <p:nvSpPr>
            <p:cNvPr id="492" name="Line 52"/>
            <p:cNvSpPr/>
            <p:nvPr/>
          </p:nvSpPr>
          <p:spPr>
            <a:xfrm>
              <a:off x="900000" y="278136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53"/>
            <p:cNvSpPr/>
            <p:nvPr/>
          </p:nvSpPr>
          <p:spPr>
            <a:xfrm>
              <a:off x="900000" y="278136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900000" y="321300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55"/>
          <p:cNvSpPr/>
          <p:nvPr/>
        </p:nvSpPr>
        <p:spPr>
          <a:xfrm>
            <a:off x="902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6"/>
          <p:cNvSpPr/>
          <p:nvPr/>
        </p:nvSpPr>
        <p:spPr>
          <a:xfrm>
            <a:off x="90216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7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8"/>
          <p:cNvSpPr/>
          <p:nvPr/>
        </p:nvSpPr>
        <p:spPr>
          <a:xfrm>
            <a:off x="900360" y="3141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9"/>
          <p:cNvSpPr/>
          <p:nvPr/>
        </p:nvSpPr>
        <p:spPr>
          <a:xfrm>
            <a:off x="3276720" y="148428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называется сложным (вложенным), если внутри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ся один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других цик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Среди чисел 1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&lt; N &lt; 100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найти все пары чисел, для которых их сумма равнялась бы их произвед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2225520" y="30240"/>
            <a:ext cx="47656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549360"/>
            <a:ext cx="8507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  k, a, b: intege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 k:=0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:= 1 to 100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b:= 1 to 100 do </a:t>
            </a: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+b=a*b then  </a:t>
            </a: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:=k+1;  writeln(‘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, a , 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9900"/>
                </a:solidFill>
                <a:latin typeface="Lucida Sans Unicode"/>
              </a:rPr>
              <a:t>                        </a:t>
            </a: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end;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k=0 then writeln(‘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их чис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)else(‘k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k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2077920" y="-146160"/>
            <a:ext cx="4694400" cy="6764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4"/>
          <p:cNvSpPr/>
          <p:nvPr/>
        </p:nvSpPr>
        <p:spPr>
          <a:xfrm>
            <a:off x="324000" y="1916280"/>
            <a:ext cx="8351640" cy="2304720"/>
          </a:xfrm>
          <a:prstGeom prst="rect">
            <a:avLst/>
          </a:prstGeom>
          <a:solidFill>
            <a:srgbClr val="f6dc4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>
            <a:hlinkClick r:id="" action="ppaction://hlinkshowjump?jump=firs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2da2b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187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LE  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логическое услови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gt; 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цикла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gt;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LE  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логическое услови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gt; 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&gt;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&gt;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&gt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719360" y="378000"/>
            <a:ext cx="54864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242064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ы цикла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ыполняютс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ок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LE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логическое выражение истинн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719360" y="365040"/>
            <a:ext cx="53402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5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LE X&lt;=10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 X+1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395360" y="255600"/>
            <a:ext cx="6480360" cy="1165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842328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7493"/>
                </a:moveTo>
                <a:lnTo>
                  <a:pt x="10668" y="7493"/>
                </a:lnTo>
                <a:lnTo>
                  <a:pt x="10668" y="12828"/>
                </a:lnTo>
                <a:cubicBezTo>
                  <a:pt x="10668" y="13751"/>
                  <a:pt x="11468" y="14482"/>
                  <a:pt x="12504" y="14482"/>
                </a:cubicBezTo>
                <a:lnTo>
                  <a:pt x="14167" y="14482"/>
                </a:lnTo>
                <a:cubicBezTo>
                  <a:pt x="15202" y="14482"/>
                  <a:pt x="16003" y="13751"/>
                  <a:pt x="16003" y="12828"/>
                </a:cubicBezTo>
                <a:lnTo>
                  <a:pt x="16003" y="7493"/>
                </a:lnTo>
                <a:lnTo>
                  <a:pt x="14167" y="7493"/>
                </a:lnTo>
                <a:lnTo>
                  <a:pt x="17674" y="3985"/>
                </a:lnTo>
                <a:lnTo>
                  <a:pt x="21347" y="7493"/>
                </a:lnTo>
                <a:lnTo>
                  <a:pt x="19511" y="7493"/>
                </a:lnTo>
                <a:lnTo>
                  <a:pt x="19511" y="12828"/>
                </a:lnTo>
                <a:cubicBezTo>
                  <a:pt x="19511" y="15596"/>
                  <a:pt x="16934" y="18155"/>
                  <a:pt x="14167" y="18155"/>
                </a:cubicBezTo>
                <a:lnTo>
                  <a:pt x="12504" y="18155"/>
                </a:lnTo>
                <a:cubicBezTo>
                  <a:pt x="9736" y="18155"/>
                  <a:pt x="7160" y="15596"/>
                  <a:pt x="7160" y="12828"/>
                </a:cubicBezTo>
                <a:close/>
              </a:path>
            </a:pathLst>
          </a:cu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865160" y="-146160"/>
            <a:ext cx="4883400" cy="67644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4"/>
          <p:cNvSpPr/>
          <p:nvPr/>
        </p:nvSpPr>
        <p:spPr>
          <a:xfrm>
            <a:off x="2843280" y="3645000"/>
            <a:ext cx="2881080" cy="1439640"/>
          </a:xfrm>
          <a:prstGeom prst="flowChartDecision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843280" y="2060640"/>
            <a:ext cx="3024000" cy="936720"/>
          </a:xfrm>
          <a:prstGeom prst="flowChartProcess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428472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 flipH="1">
            <a:off x="2050560" y="4365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 flipV="1">
            <a:off x="2050920" y="1557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0"/>
          <p:cNvSpPr/>
          <p:nvPr/>
        </p:nvSpPr>
        <p:spPr>
          <a:xfrm flipV="1">
            <a:off x="4211640" y="980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"/>
          <p:cNvSpPr/>
          <p:nvPr/>
        </p:nvSpPr>
        <p:spPr>
          <a:xfrm>
            <a:off x="2050920" y="155736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2"/>
          <p:cNvSpPr/>
          <p:nvPr/>
        </p:nvSpPr>
        <p:spPr>
          <a:xfrm>
            <a:off x="428472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3635280" y="23493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3422160" y="40766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4410360" y="5176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178360" y="36655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50560" y="836640"/>
            <a:ext cx="84358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 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 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&lt;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огическое услов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&gt;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ы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овторяютс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тех пор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, пока знач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огического выражения ложн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077920" y="152280"/>
            <a:ext cx="5029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560" y="980640"/>
            <a:ext cx="84358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5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 X+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x &gt;= 10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2004840" y="79200"/>
            <a:ext cx="5102280" cy="67644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7493"/>
                </a:moveTo>
                <a:lnTo>
                  <a:pt x="12160" y="7493"/>
                </a:lnTo>
                <a:lnTo>
                  <a:pt x="12160" y="12828"/>
                </a:lnTo>
                <a:cubicBezTo>
                  <a:pt x="12160" y="13751"/>
                  <a:pt x="12960" y="14482"/>
                  <a:pt x="13996" y="14482"/>
                </a:cubicBezTo>
                <a:lnTo>
                  <a:pt x="15658" y="14482"/>
                </a:lnTo>
                <a:cubicBezTo>
                  <a:pt x="16694" y="14482"/>
                  <a:pt x="17495" y="13751"/>
                  <a:pt x="17495" y="12828"/>
                </a:cubicBezTo>
                <a:lnTo>
                  <a:pt x="17495" y="7493"/>
                </a:lnTo>
                <a:lnTo>
                  <a:pt x="15658" y="7493"/>
                </a:lnTo>
                <a:lnTo>
                  <a:pt x="19166" y="3985"/>
                </a:lnTo>
                <a:lnTo>
                  <a:pt x="22839" y="7493"/>
                </a:lnTo>
                <a:lnTo>
                  <a:pt x="21003" y="7493"/>
                </a:lnTo>
                <a:lnTo>
                  <a:pt x="21003" y="12828"/>
                </a:lnTo>
                <a:cubicBezTo>
                  <a:pt x="21003" y="15596"/>
                  <a:pt x="18426" y="18155"/>
                  <a:pt x="15658" y="18155"/>
                </a:cubicBezTo>
                <a:lnTo>
                  <a:pt x="13996" y="18155"/>
                </a:lnTo>
                <a:cubicBezTo>
                  <a:pt x="11228" y="18155"/>
                  <a:pt x="8652" y="15596"/>
                  <a:pt x="8652" y="12828"/>
                </a:cubicBezTo>
                <a:close/>
              </a:path>
            </a:pathLst>
          </a:cu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2152800" y="66600"/>
            <a:ext cx="5126040" cy="6764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4"/>
          <p:cNvSpPr/>
          <p:nvPr/>
        </p:nvSpPr>
        <p:spPr>
          <a:xfrm>
            <a:off x="3132000" y="1341360"/>
            <a:ext cx="2376720" cy="503280"/>
          </a:xfrm>
          <a:prstGeom prst="flowChartProcess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3132000" y="2276640"/>
            <a:ext cx="2448000" cy="1079280"/>
          </a:xfrm>
          <a:prstGeom prst="flowChartDecision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3132000" y="3789360"/>
            <a:ext cx="2448000" cy="934920"/>
          </a:xfrm>
          <a:prstGeom prst="flowChartProcess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3132000" y="5373720"/>
            <a:ext cx="2448000" cy="431640"/>
          </a:xfrm>
          <a:prstGeom prst="flowChartProcess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3560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>
            <a:off x="435600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435600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 flipV="1">
            <a:off x="4356000" y="9079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4"/>
          <p:cNvSpPr/>
          <p:nvPr/>
        </p:nvSpPr>
        <p:spPr>
          <a:xfrm flipH="1">
            <a:off x="2124000" y="27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5"/>
          <p:cNvSpPr/>
          <p:nvPr/>
        </p:nvSpPr>
        <p:spPr>
          <a:xfrm>
            <a:off x="2124000" y="2781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435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7"/>
          <p:cNvSpPr/>
          <p:nvPr/>
        </p:nvSpPr>
        <p:spPr>
          <a:xfrm>
            <a:off x="4356000" y="609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8"/>
          <p:cNvSpPr/>
          <p:nvPr/>
        </p:nvSpPr>
        <p:spPr>
          <a:xfrm flipV="1">
            <a:off x="630072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9"/>
          <p:cNvSpPr/>
          <p:nvPr/>
        </p:nvSpPr>
        <p:spPr>
          <a:xfrm flipH="1">
            <a:off x="4356000" y="198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3925440" y="1413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= 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3852000" y="2637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&lt; =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3780000" y="53737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= i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3708360" y="407664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4502520" y="335772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2486160" y="2276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7:00:01Z</dcterms:created>
  <dc:creator>Illarionova Vera V.</dc:creator>
  <dc:description/>
  <dc:language>en-US</dc:language>
  <cp:lastModifiedBy>Толя</cp:lastModifiedBy>
  <dcterms:modified xsi:type="dcterms:W3CDTF">2013-03-21T20:18:51Z</dcterms:modified>
  <cp:revision>17</cp:revision>
  <dc:subject/>
  <dc:title>Циклические конструкции</dc:title>
</cp:coreProperties>
</file>