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6.jpeg" ContentType="image/jpeg"/>
  <Override PartName="/ppt/media/image5.wmf" ContentType="image/x-wmf"/>
  <Override PartName="/ppt/media/image27.jpeg" ContentType="image/jpeg"/>
  <Override PartName="/ppt/media/image12.jpeg" ContentType="image/jpeg"/>
  <Override PartName="/ppt/media/image13.jpeg" ContentType="image/jpeg"/>
  <Override PartName="/ppt/media/image4.png" ContentType="image/png"/>
  <Override PartName="/ppt/media/image28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C8B6-68B5-4470-ADC5-253A03BA1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BE0F-51D9-4839-958D-F94AC9A7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A69E-4704-4BD4-AB4D-E676849B4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8016-2A5C-4A7E-BB39-4EAABCF18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46A8-8F02-408D-8B43-C52D06B6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EFC4-CF0F-47DD-A6E9-B5C4CD8B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3BCD-ED8F-4D96-A41A-A420CA7A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BCE3-16C0-4206-B90C-207C5F02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A16E-3E16-4376-BC78-52DEF05D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DB2A-B76B-4EA6-BEF5-8317CC71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0DF5-73D7-4926-8616-98BA5C0B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E869-457C-401A-B4D4-BA2CF111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99A9-CDD1-4F26-B2CA-08F0A0C1B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package" Target="../embeddings/oleObject1.docx"/><Relationship Id="rId4" Type="http://schemas.openxmlformats.org/officeDocument/2006/relationships/image" Target="../media/image15.wmf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ы изучаем - баскетб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0769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25480" y="1428840"/>
            <a:ext cx="74930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25480" y="1009800"/>
            <a:ext cx="7493040" cy="48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25480" y="1689120"/>
            <a:ext cx="749304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923920" cy="2590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733920" y="609480"/>
            <a:ext cx="4505040" cy="2219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828800" y="4572000"/>
            <a:ext cx="2590920" cy="1292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533520" y="4876920"/>
            <a:ext cx="944280" cy="1123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4800600" y="4191120"/>
            <a:ext cx="1600200" cy="1593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838080" y="6095880"/>
            <a:ext cx="4800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росок двумя руками от  груди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1866960" cy="2857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920" y="364032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д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яч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- это один из основных элементов техники баскетб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амотное и правильнее ведение мяча в баскетболе - это фундамент для постоянного контроля над мячом, а также основа обыгрывания соперника индивидуаль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429000" y="380880"/>
            <a:ext cx="1981080" cy="2819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248520" y="380880"/>
            <a:ext cx="22096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600200" y="457200"/>
          <a:ext cx="6043680" cy="403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457200"/>
                    <a:ext cx="604368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429000" y="4952880"/>
            <a:ext cx="2076480" cy="1640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304920" y="4952880"/>
            <a:ext cx="2347920" cy="1663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6400800" y="4952880"/>
            <a:ext cx="217188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роски по кольцу - важнейший технический элемент игры, конечная цель всех действий на площадке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1731960" cy="2628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666880" y="2819520"/>
            <a:ext cx="1832040" cy="2614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91000" cy="2600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934320" y="2819520"/>
            <a:ext cx="195732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600200" cy="2104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238880" y="228600"/>
            <a:ext cx="1616040" cy="213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2405160" y="281160"/>
          <a:ext cx="4163760" cy="5613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05160" y="281160"/>
                    <a:ext cx="4163760" cy="56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7238880" y="4495680"/>
            <a:ext cx="1600200" cy="2133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228600" y="4343400"/>
            <a:ext cx="1600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62200" y="704880"/>
            <a:ext cx="561960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90720" y="1577880"/>
            <a:ext cx="731520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25480" y="1301760"/>
            <a:ext cx="749304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5867640" cy="51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3-04-04T16:13:57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