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513-841A-43FA-AC58-E92EFE12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961-E15E-4DB2-9D78-F4A2D1C6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CFF-B6AA-494C-8F1D-70227A00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1A4-1A64-4F0C-862E-83B961A5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D3C-E3F9-4696-A8F7-8C4D6409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C2C-FCE9-457A-B87E-17D6ADC6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A65-85FB-48DF-B2A2-6F6CB074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CD1-98BD-4F0A-96CC-D976433B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286-E15F-4775-B10D-50B55C1B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03A-0245-4ECE-872C-A04EB3D3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3E2-1623-4D7E-A709-1EB46DC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BC6-B1C1-408D-A142-EE3AF92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D80C-0D86-41A2-B02D-A49DBE1D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ы изучаем - баскетб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5480" y="1428840"/>
            <a:ext cx="74930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5480" y="1009800"/>
            <a:ext cx="749304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5480" y="1689120"/>
            <a:ext cx="74930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2392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609480"/>
            <a:ext cx="4505040" cy="2219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828800" y="4572000"/>
            <a:ext cx="2590920" cy="1292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33520" y="4876920"/>
            <a:ext cx="944280" cy="1123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4800600" y="4191120"/>
            <a:ext cx="1600200" cy="1593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838080" y="6095880"/>
            <a:ext cx="4800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росок двумя руками от  груди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866960" cy="2857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36403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д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я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это один из основных элементов техники баскетб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мотное и правильнее ведение мяча в баскетболе - это фундамент для постоянного контроля над мячом, а также основа обыгрывания соперника индивидуаль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1981080" cy="2819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600200" y="457200"/>
          <a:ext cx="604368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60436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29000" y="4952880"/>
            <a:ext cx="2076480" cy="1640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04920" y="4952880"/>
            <a:ext cx="2347920" cy="166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400800" y="4952880"/>
            <a:ext cx="21718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оски по кольцу - важнейший технический элемент игры, конечная цель всех действий на площадк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1731960" cy="262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2819520"/>
            <a:ext cx="1832040" cy="2614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91000" cy="2600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934320" y="2819520"/>
            <a:ext cx="19573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00200" cy="21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616040" cy="213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405160" y="281160"/>
          <a:ext cx="4163760" cy="561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5160" y="281160"/>
                    <a:ext cx="4163760" cy="56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7238880" y="44956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28600" y="4343400"/>
            <a:ext cx="1600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2200" y="704880"/>
            <a:ext cx="56196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1577880"/>
            <a:ext cx="73152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5480" y="1301760"/>
            <a:ext cx="74930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8676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4-04T16:13:5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