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F51-000B-46E6-881E-F7603AD1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BD0-66FE-4BC8-82F6-F696964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616-D2C7-4C89-B3FA-7B325C2F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B42-A234-4DFD-95D3-FDB7C7A3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CA9-49E9-453D-BA8F-F50154F5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1B6-53D4-4DA1-AE08-4065D7D1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D9A-BC67-4CEB-BC60-1BDE8E0F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7BE-FE65-488C-AF3B-01091CBE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45E-36FA-4793-963B-2BA9194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0F9-2BA7-461B-84DC-20C894F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77E-7AFE-4E6C-B046-B0C7F14A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E32-4999-4AE9-B140-11BCDF7E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31C8-1FA1-4D4C-97A1-766F759CA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74920" y="189000"/>
            <a:ext cx="6337080" cy="648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2340" t="3830" r="20077" b="4583"/>
          <a:stretch/>
        </p:blipFill>
        <p:spPr>
          <a:xfrm>
            <a:off x="1978200" y="758880"/>
            <a:ext cx="5329080" cy="5340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859280" y="1125360"/>
            <a:ext cx="409104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карки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лена Николаевн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62308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БОУ «Большеберезниковская средня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280360" cy="63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6. Наука изучающая древних вымерших живот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геокри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лингвист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палеонт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7. Наука о пещер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краеведение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спеле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селен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8. Наука о полезных ископаем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географ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геодез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ге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9. Наука изучающая поведение и эмоции человека 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различных ситуаци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а) псих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б) педагог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в) психиат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4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5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9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6" dur="5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9" dur="500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716200" y="981000"/>
            <a:ext cx="3852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87280" y="3213000"/>
            <a:ext cx="720108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Вопрос - ответ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1584360" cy="1401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0"/>
            <a:ext cx="87854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сный, жёлтый, зелёный, оранжевый, синий, голуб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ого цвета в данном списке не хват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Фиолетовый (речь идёт о радуг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 войны во многих кинотеатрах с успехом шли фильмы Чарли Чаплина. Кто озвучивал роли Чапл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Никто, эти фильмы не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ручение этого домашнего животного человеком датируется  4 тысячелетием до нашей эры. До нас дошло его изображение на камне с надетым ошейником – знаком принадлежности хозяину. Их называли «добрыми духами жилища» и посвящали богине Луны, плодородия и деторождения. Знаменитый цирковой дрессировщик занимается именно ими. О ком идёт реч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О ко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прос №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ремена крепостного права существовало оригинальное «зимнее» наказание для провинившихся крестьян. Их окунали в прорубь. Каким выражением обогатился русский язык, благодаря этому наказани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Ответ: «Я тебе покажу, где раки зиму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6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89000"/>
            <a:ext cx="8785440" cy="65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год осенью испанские крестьяне пишут на боках своих коров слово 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K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, что по-испански означает «корова». А для кого предназначается эта надпись вы сможете сказать, если поймёте, что ещё начинается осенью в Исп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Для охотников (начинается охотничий сезо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несомненно любите остросюжетные произведения. Вот сюжет одного из них: во время прогулки неожиданно найден клад. По случаю находки состоится праздник, который омрачён появлением коварного злодея. Жизнь героини в опасности, но в последний момент появляется герой и убивает злодея. Всё заканчивается свадьбой. Как зовут героиню произвед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Муха-цокот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инья, собака, ворона, заяц. Эти животные известны всем малышам. Назовите их и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Хрюша, Филя, Каркуша, Степа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опрос №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 выяснения обстоятельств любого дела в римском суде состояла из семи вопросов. Вот четыре из них: Кто? С чьей помощью? Для чего? Каким образом? Назовите три оставшихся вопр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Arial"/>
              </a:rPr>
              <a:t>Ответ: Что? Где? Ког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916360" y="907920"/>
            <a:ext cx="3671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4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933720"/>
            <a:ext cx="8280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Таблички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584360" cy="140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189000"/>
            <a:ext cx="864216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Богиня любви и красоты в греческой мифолог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Афродит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Гер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Венер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660066"/>
                </a:solidFill>
                <a:latin typeface="Arial"/>
              </a:rPr>
              <a:t>Юз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Последний русский цар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Николай 2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ётр 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Николай 1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ван Гроз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Какую цифру славяне считали священно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7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5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13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2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3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7" dur="5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1" dur="5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2205000"/>
            <a:ext cx="85690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«В человеке должно быть всё прекрас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лицо, и одежда, и душа, и мысли». Автор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олс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Чех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аяковс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Знаменитый русский иконописец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Левит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Коров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Рублё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Айваз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Каким словом называют тёплый южный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осточную слад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уку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щерб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ус-ку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еф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5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9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0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3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5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9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3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0"/>
            <a:ext cx="86421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7. Один из древнеегипетских богов носит им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Это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Тот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Нетот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lang="ru-RU" sz="2600" spc="-1" strike="noStrike">
                <a:solidFill>
                  <a:srgbClr val="996600"/>
                </a:solidFill>
                <a:latin typeface="Arial"/>
              </a:rPr>
              <a:t>Неэто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8. Как называются состязания рыцаре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Битв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Турнир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Борьб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cc0099"/>
                </a:solidFill>
                <a:latin typeface="Arial"/>
              </a:rPr>
              <a:t>Корр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9.Где родилось искусство составления букет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Япон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Кита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Франц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ru-RU" sz="2600" spc="-1" strike="noStrike">
                <a:solidFill>
                  <a:srgbClr val="6600cc"/>
                </a:solidFill>
                <a:latin typeface="Arial"/>
              </a:rPr>
              <a:t>Анг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7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81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84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9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2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4" dur="5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/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8" dur="5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2" dur="5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/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0"/>
            <a:ext cx="87138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. Как звали скандинавского бога вой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Сем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П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Т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. Чему равна сумма  внутренних уг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тырёхугольн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360*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180*,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260*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9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 Кто впервые доказал теорему о соотнош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рон в прямоугольном треуголь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Галил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Ньюто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Архиме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7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1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3" dur="10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6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10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0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2" dur="1000"/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5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7" dur="1000"/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843280" y="549360"/>
            <a:ext cx="3457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5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3716280"/>
            <a:ext cx="8207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Хронология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12000" y="272736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66ff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8200" y="1557360"/>
            <a:ext cx="8209080" cy="46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Великолепная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семёрка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742080"/>
            <a:ext cx="9144000" cy="13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436760" y="189000"/>
            <a:ext cx="6411960" cy="16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50000">
                      <a:srgbClr val="00ff00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Arial"/>
              </a:rPr>
              <a:t>Интеллектуальная иг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50000">
                    <a:srgbClr val="00ff00"/>
                  </a:gs>
                  <a:gs pos="100000">
                    <a:srgbClr val="00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26028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Ислам, конфуцианство, будд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Полтавская битва, Бородинское сраж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довое побоищ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,1,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Египетские пирамиды, Великая Китайская сте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имский Колиз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Микроскоп, микрофон, микрокомпью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,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Эйфелева башня, Статуя Своб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локаменный Московский Крем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385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6" dur="38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8" dur="38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0" dur="385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385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2" dur="38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4" dur="38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6" dur="385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0" dur="385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1" dur="38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3" dur="38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5" dur="385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385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385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9" dur="385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1" dur="385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385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6" dur="385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8" dur="385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0" dur="385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6" dur="10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385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2" dur="385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4" dur="385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6" dur="385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2" dur="10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385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8" dur="385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0" dur="385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2" dur="385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385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7" dur="385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9" dur="385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1" dur="385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7" dur="1000"/>
                                        <p:tgtEl>
                                          <p:spTgt spid="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549360"/>
            <a:ext cx="85690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6.Акваланг, электрическая лампочка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механические час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.Авторучка, радиосвязь, батиска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2,1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.Серные спички, порох, динами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2,1,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.Слалом, бадминтон, шахмат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3,2,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77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5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7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9" dur="77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77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4" dur="77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6" dur="77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8" dur="77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77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0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2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4" dur="77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77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6" dur="77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8" dur="77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0" dur="77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6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77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2" dur="77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4" dur="77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6" dur="77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2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50920" y="3933720"/>
            <a:ext cx="68421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Блиц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771640" y="692280"/>
            <a:ext cx="3600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 ТУР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584000" cy="14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92720" y="272736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494"/>
            </a:gs>
            <a:gs pos="100000">
              <a:srgbClr val="febe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189000"/>
            <a:ext cx="896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Съёмная причёс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ар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ак правильно называется "правильный четырехугольник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вадр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Как называется строительное искусств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Архитекту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Приспособление для отдыха в подвешен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Гама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Создатели славянской азбу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ирилл и Мефод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С какого дня по календарю начинается вес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1 мар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Исходящая жалоба, которой Москва не ве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ё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Создатель картины «Три богатыря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Васнец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Как называется пятая от Солнца планета Солнечной систе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Юпит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. Про какое животное европейцы говорили, что оно имеет д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воста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385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8" dur="385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0" dur="385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2" dur="385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385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7" dur="385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9" dur="385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1" dur="385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5" dur="385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385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8" dur="385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0" dur="385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4" dur="385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5" dur="385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7" dur="385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9" dur="385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385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4" dur="385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6" dur="385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8" dur="385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85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3" dur="385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5" dur="385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7" dur="385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385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2" dur="385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4" dur="385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6" dur="385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0" dur="385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1" dur="385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3" dur="385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5" dur="385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9" dur="385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0" dur="385" fill="hold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2" dur="385" fill="hold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4" dur="385" fill="hold"/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385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5" dur="385" fill="hold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7" dur="385" fill="hold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9" dur="385" fill="hold"/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 rot="20947800">
            <a:off x="468360" y="1196640"/>
            <a:ext cx="7777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3399"/>
                    </a:gs>
                    <a:gs pos="100000">
                      <a:srgbClr val="cc0099"/>
                    </a:gs>
                  </a:gsLst>
                  <a:lin ang="6054000"/>
                </a:gradFill>
                <a:latin typeface="Arial"/>
              </a:rPr>
              <a:t>Поздравляем победителе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3399"/>
                  </a:gs>
                  <a:gs pos="100000">
                    <a:srgbClr val="cc0099"/>
                  </a:gs>
                </a:gsLst>
                <a:lin ang="6054000"/>
              </a:gra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219480" cy="3890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590920" y="620640"/>
            <a:ext cx="396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5640" y="386064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Разминка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72736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1584360" cy="1401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На груди короля Швеции Карла 17 Йохана была татуиров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Я – тира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Смерть тиран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олько на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Какое из этих слов выложил Кай в сказке «Снежная королев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снежи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ве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еп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Какое из этих животных занесено в Красную кни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уссурийский тиг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заяц-беля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89000"/>
            <a:ext cx="856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Как на Руси назывались деньги 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рублей из сереб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фу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имп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и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Музыкальное произведение «Иван Сусанин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в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кантат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балет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опе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Соцветие какого растения в течение д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орачивается вслед за солнц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) подсолнеч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) ромаш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) тюльп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0820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8900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. Один из перечисленных людей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етателем аквалан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апитан Нем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Крузенштер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Жак Ив Ку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лово «акробатика» в переводе с греческ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рыгаю на бату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хожу на цыпочках, лезу ввер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кувыркаюсь, прыгаю, ска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 В водно-моторном спорте судно с подвес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ором назыв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ску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касп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флипп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76280"/>
            <a:ext cx="849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.В боксе судей наз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рефер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брейк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ринг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1.Слово «форте» в музыке означ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быстр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громк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отрыви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2. В государственном флаге какой страны  можно  увидеть шестиконечную звез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ита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Израил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С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332000" y="3141720"/>
            <a:ext cx="7092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"Что за наука?"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3280" y="692280"/>
            <a:ext cx="38163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ТУР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1584360" cy="1401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651640" y="272736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0"/>
            <a:ext cx="8351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ука о звук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статистик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звук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акуст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2. Наука о рыб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ихти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ми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этн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ука, изучающая влияние звёзд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астр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астроном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звездочёт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аука о наследственности человек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физи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психолог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генет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5. Наука о птиц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а) метод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б) орнитологи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) энтомолог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4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7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8" dur="5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1" dur="5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6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2" dur="500"/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5" dur="500"/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0:41:09Z</dcterms:created>
  <dc:creator>User</dc:creator>
  <dc:description/>
  <dc:language>en-US</dc:language>
  <cp:lastModifiedBy>1</cp:lastModifiedBy>
  <dcterms:modified xsi:type="dcterms:W3CDTF">2013-04-07T10:52:09Z</dcterms:modified>
  <cp:revision>25</cp:revision>
  <dc:subject/>
  <dc:title>Слайд 1</dc:title>
</cp:coreProperties>
</file>