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509C-B9B6-4860-BA62-0DB67BA80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A514-44E7-4426-82B4-D28708E2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8B12-9142-41B0-884E-C96A4C58F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7221-E497-4573-9B86-FD07300C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2E40-93BE-44FF-A2F8-AE094604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3CBB-7BC3-45A5-8B09-AA8690C8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598D-3731-40B3-87C4-C988C922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30DA-65E4-44E7-9985-EA40EC05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6046-BAA0-45FA-990A-744D253E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B16C-D1FA-4D10-8988-52B31C51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1557-5206-4E83-AF57-1474C56B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75A8-3219-403D-96F0-4D5F7960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08C5-14E8-42CC-AA1D-D6E672CF7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474920" y="189000"/>
            <a:ext cx="6337080" cy="6480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12340" t="3830" r="20077" b="4583"/>
          <a:stretch/>
        </p:blipFill>
        <p:spPr>
          <a:xfrm>
            <a:off x="1978200" y="758880"/>
            <a:ext cx="5329080" cy="5340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859280" y="1125360"/>
            <a:ext cx="409104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каркин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Елена Николаевн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623088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БОУ «Большеберезниковская средняя шко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260280"/>
            <a:ext cx="8280360" cy="63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6. Наука изучающая древних вымерших животн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а) геокриологи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б) лингвистик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в) палеонтолог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7. Наука о пещер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а) краеведение,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б) спелеологи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в) селенолог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8. Наука о полезных ископаем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а) географи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б) геодез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в) геолог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9. Наука изучающая поведение и эмоции человека 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различных ситуация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а) психологи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б) педагогик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в) психиатр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4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5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82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85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16" dur="5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19" dur="5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6" dur="500"/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9" dur="500"/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716200" y="981000"/>
            <a:ext cx="3852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3 ТУР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187280" y="3213000"/>
            <a:ext cx="720108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"Вопрос - ответ"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1584360" cy="1401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156360" y="2421000"/>
            <a:ext cx="1584360" cy="1401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79280" y="0"/>
            <a:ext cx="878544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прос №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расный, жёлтый, зелёный, оранжевый, синий, голуб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ого цвета в данном списке не хвата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Ответ: Фиолетовый (речь идёт о радуг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прос №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 войны во многих кинотеатрах с успехом шли фильмы Чарли Чаплина. Кто озвучивал роли Чапли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Ответ: Никто, эти фильмы нем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прос №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ручение этого домашнего животного человеком датируется  4 тысячелетием до нашей эры. До нас дошло его изображение на камне с надетым ошейником – знаком принадлежности хозяину. Их называли «добрыми духами жилища» и посвящали богине Луны, плодородия и деторождения. Знаменитый цирковой дрессировщик занимается именно ими. О ком идёт реч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Ответ: О кош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прос №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 времена крепостного права существовало оригинальное «зимнее» наказание для провинившихся крестьян. Их окунали в прорубь. Каким выражением обогатился русский язык, благодаря этому наказанию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Ответ: «Я тебе покажу, где раки зимую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1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1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10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10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10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10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3120" y="65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189000"/>
            <a:ext cx="8785440" cy="65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опрос №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ждый год осенью испанские крестьяне пишут на боках своих коров слово «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K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, что по-испански означает «корова». А для кого предназначается эта надпись вы сможете сказать, если поймёте, что ещё начинается осенью в Исп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Ответ: Для охотников (начинается охотничий сезо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опрос №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 несомненно любите остросюжетные произведения. Вот сюжет одного из них: во время прогулки неожиданно найден клад. По случаю находки состоится праздник, который омрачён появлением коварного злодея. Жизнь героини в опасности, но в последний момент появляется герой и убивает злодея. Всё заканчивается свадьбой. Как зовут героиню произвед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Ответ: Муха-цокоту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опрос №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инья, собака, ворона, заяц. Эти животные известны всем малышам. Назовите их им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Ответ: Хрюша, Филя, Каркуша, Степаш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опрос №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дура выяснения обстоятельств любого дела в римском суде состояла из семи вопросов. Вот четыре из них: Кто? С чьей помощью? Для чего? Каким образом? Назовите три оставшихся вопро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Ответ: Что? Где? Ког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20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10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10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10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10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2000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916360" y="907920"/>
            <a:ext cx="367164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4 ТУР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3933720"/>
            <a:ext cx="8280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"Таблички"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1584360" cy="1401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867280" y="2997360"/>
            <a:ext cx="1584360" cy="1401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20" y="189000"/>
            <a:ext cx="8642160" cy="68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. Богиня любви и красоты в греческой мифолог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600" spc="-1" strike="noStrike">
                <a:solidFill>
                  <a:srgbClr val="660066"/>
                </a:solidFill>
                <a:latin typeface="Arial"/>
              </a:rPr>
              <a:t>Афродита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66"/>
                </a:solidFill>
                <a:latin typeface="Arial"/>
              </a:rPr>
              <a:t>        </a:t>
            </a:r>
            <a:r>
              <a:rPr b="1" lang="ru-RU" sz="2600" spc="-1" strike="noStrike">
                <a:solidFill>
                  <a:srgbClr val="660066"/>
                </a:solidFill>
                <a:latin typeface="Arial"/>
              </a:rPr>
              <a:t>Гера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66"/>
                </a:solidFill>
                <a:latin typeface="Arial"/>
              </a:rPr>
              <a:t>        </a:t>
            </a:r>
            <a:r>
              <a:rPr b="1" lang="ru-RU" sz="2600" spc="-1" strike="noStrike">
                <a:solidFill>
                  <a:srgbClr val="660066"/>
                </a:solidFill>
                <a:latin typeface="Arial"/>
              </a:rPr>
              <a:t>Венера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66"/>
                </a:solidFill>
                <a:latin typeface="Arial"/>
              </a:rPr>
              <a:t>        </a:t>
            </a:r>
            <a:r>
              <a:rPr b="1" lang="ru-RU" sz="2600" spc="-1" strike="noStrike">
                <a:solidFill>
                  <a:srgbClr val="660066"/>
                </a:solidFill>
                <a:latin typeface="Arial"/>
              </a:rPr>
              <a:t>Юз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2. Последний русский царь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Николай 2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Пётр 1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Николай 1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Иван Грозн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3. Какую цифру славяне считали священной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7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5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13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2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1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5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9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2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6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0" dur="5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3" dur="500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7" dur="500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1" dur="500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0920" y="2205000"/>
            <a:ext cx="85690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«В человеке должно быть всё прекрас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лицо, и одежда, и душа, и мысли». Автор сл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Толст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Чех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аяковск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Знаменитый русский иконописец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Левита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Корови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Рублё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Айваз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Каким словом называют тёплый южный вет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восточную слад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уку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щерб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ус-кус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еф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1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5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9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7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0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3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10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5" dur="1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1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9" dur="10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10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nodeType="with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3" dur="10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10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50920" y="0"/>
            <a:ext cx="864216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7. Один из древнеегипетских богов носит им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600" spc="-1" strike="noStrike">
                <a:solidFill>
                  <a:srgbClr val="996600"/>
                </a:solidFill>
                <a:latin typeface="Arial"/>
              </a:rPr>
              <a:t>Этот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6600"/>
                </a:solidFill>
                <a:latin typeface="Arial"/>
              </a:rPr>
              <a:t>          </a:t>
            </a:r>
            <a:r>
              <a:rPr b="1" lang="ru-RU" sz="2600" spc="-1" strike="noStrike">
                <a:solidFill>
                  <a:srgbClr val="996600"/>
                </a:solidFill>
                <a:latin typeface="Arial"/>
              </a:rPr>
              <a:t>Тот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6600"/>
                </a:solidFill>
                <a:latin typeface="Arial"/>
              </a:rPr>
              <a:t>          </a:t>
            </a:r>
            <a:r>
              <a:rPr b="1" lang="ru-RU" sz="2600" spc="-1" strike="noStrike">
                <a:solidFill>
                  <a:srgbClr val="996600"/>
                </a:solidFill>
                <a:latin typeface="Arial"/>
              </a:rPr>
              <a:t>Нетот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6600"/>
                </a:solidFill>
                <a:latin typeface="Arial"/>
              </a:rPr>
              <a:t>          </a:t>
            </a:r>
            <a:r>
              <a:rPr b="1" lang="ru-RU" sz="2600" spc="-1" strike="noStrike">
                <a:solidFill>
                  <a:srgbClr val="996600"/>
                </a:solidFill>
                <a:latin typeface="Arial"/>
              </a:rPr>
              <a:t>Неэто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8. Как называются состязания рыцарей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600" spc="-1" strike="noStrike">
                <a:solidFill>
                  <a:srgbClr val="cc0099"/>
                </a:solidFill>
                <a:latin typeface="Arial"/>
              </a:rPr>
              <a:t>Битва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99"/>
                </a:solidFill>
                <a:latin typeface="Arial"/>
              </a:rPr>
              <a:t>         </a:t>
            </a:r>
            <a:r>
              <a:rPr b="1" lang="ru-RU" sz="2600" spc="-1" strike="noStrike">
                <a:solidFill>
                  <a:srgbClr val="cc0099"/>
                </a:solidFill>
                <a:latin typeface="Arial"/>
              </a:rPr>
              <a:t>Турнир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99"/>
                </a:solidFill>
                <a:latin typeface="Arial"/>
              </a:rPr>
              <a:t>         </a:t>
            </a:r>
            <a:r>
              <a:rPr b="1" lang="ru-RU" sz="2600" spc="-1" strike="noStrike">
                <a:solidFill>
                  <a:srgbClr val="cc0099"/>
                </a:solidFill>
                <a:latin typeface="Arial"/>
              </a:rPr>
              <a:t>Борьба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99"/>
                </a:solidFill>
                <a:latin typeface="Arial"/>
              </a:rPr>
              <a:t>         </a:t>
            </a:r>
            <a:r>
              <a:rPr b="1" lang="ru-RU" sz="2600" spc="-1" strike="noStrike">
                <a:solidFill>
                  <a:srgbClr val="cc0099"/>
                </a:solidFill>
                <a:latin typeface="Arial"/>
              </a:rPr>
              <a:t>Корри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9.Где родилось искусство составления букетов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600" spc="-1" strike="noStrike">
                <a:solidFill>
                  <a:srgbClr val="6600cc"/>
                </a:solidFill>
                <a:latin typeface="Arial"/>
              </a:rPr>
              <a:t>Япония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cc"/>
                </a:solidFill>
                <a:latin typeface="Arial"/>
              </a:rPr>
              <a:t>         </a:t>
            </a:r>
            <a:r>
              <a:rPr b="1" lang="ru-RU" sz="2600" spc="-1" strike="noStrike">
                <a:solidFill>
                  <a:srgbClr val="6600cc"/>
                </a:solidFill>
                <a:latin typeface="Arial"/>
              </a:rPr>
              <a:t>Китай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cc"/>
                </a:solidFill>
                <a:latin typeface="Arial"/>
              </a:rPr>
              <a:t>         </a:t>
            </a:r>
            <a:r>
              <a:rPr b="1" lang="ru-RU" sz="2600" spc="-1" strike="noStrike">
                <a:solidFill>
                  <a:srgbClr val="6600cc"/>
                </a:solidFill>
                <a:latin typeface="Arial"/>
              </a:rPr>
              <a:t>Франция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cc"/>
                </a:solidFill>
                <a:latin typeface="Arial"/>
              </a:rPr>
              <a:t>         </a:t>
            </a:r>
            <a:r>
              <a:rPr b="1" lang="ru-RU" sz="2600" spc="-1" strike="noStrike">
                <a:solidFill>
                  <a:srgbClr val="6600cc"/>
                </a:solidFill>
                <a:latin typeface="Arial"/>
              </a:rPr>
              <a:t>Англ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4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078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081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084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1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1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10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7" dur="1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" dur="1000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6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9" dur="5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22" dur="500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1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1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4" dur="500"/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/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8" dur="5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2" dur="500"/>
                                        <p:tgtEl>
                                          <p:spTgt spid="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/>
                                        <p:tgtEl>
                                          <p:spTgt spid="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9280" y="0"/>
            <a:ext cx="8713800" cy="76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 Как звали скандинавского бога вой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Сем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Пя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Тр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Од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. Чему равна сумма  внутренних угл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тырёхугольни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360*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180*,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260*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90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. Кто впервые доказал теорему о соотнош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орон в прямоугольном треугольни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Галил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Ньюто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Архиме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Пифаг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3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3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7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9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2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4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7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9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7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2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7" dur="10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7" dur="1000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1000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6" dur="1000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8" dur="1000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1" dur="1000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3" dur="1000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6" dur="1000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000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8" dur="1000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1000"/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1000"/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6" dur="1000"/>
                                        <p:tgtEl>
                                          <p:spTgt spid="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1" dur="1000"/>
                                        <p:tgtEl>
                                          <p:spTgt spid="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6" dur="1000"/>
                                        <p:tgtEl>
                                          <p:spTgt spid="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7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7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7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5" dur="1000"/>
                                        <p:tgtEl>
                                          <p:spTgt spid="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000"/>
                                        <p:tgtEl>
                                          <p:spTgt spid="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7" dur="1000"/>
                                        <p:tgtEl>
                                          <p:spTgt spid="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0" dur="1000"/>
                                        <p:tgtEl>
                                          <p:spTgt spid="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/>
                                        <p:tgtEl>
                                          <p:spTgt spid="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2" dur="1000"/>
                                        <p:tgtEl>
                                          <p:spTgt spid="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5" dur="1000"/>
                                        <p:tgtEl>
                                          <p:spTgt spid="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000"/>
                                        <p:tgtEl>
                                          <p:spTgt spid="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7" dur="1000"/>
                                        <p:tgtEl>
                                          <p:spTgt spid="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2843280" y="549360"/>
            <a:ext cx="34574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5 ТУР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3716280"/>
            <a:ext cx="82072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"Хронология"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1584360" cy="1401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012000" y="2727360"/>
            <a:ext cx="1584360" cy="1401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66ff66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38200" y="1557360"/>
            <a:ext cx="8209080" cy="46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"Великолепная 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семёрка"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6742080"/>
            <a:ext cx="9144000" cy="130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436760" y="189000"/>
            <a:ext cx="6411960" cy="16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50000">
                      <a:srgbClr val="00ff00"/>
                    </a:gs>
                    <a:gs pos="100000">
                      <a:srgbClr val="00cc00"/>
                    </a:gs>
                  </a:gsLst>
                  <a:lin ang="5400000"/>
                </a:gradFill>
                <a:latin typeface="Arial"/>
              </a:rPr>
              <a:t>Интеллектуальная иг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50000">
                    <a:srgbClr val="00ff00"/>
                  </a:gs>
                  <a:gs pos="100000">
                    <a:srgbClr val="00cc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0920" y="260280"/>
            <a:ext cx="8713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Ислам, конфуцианство, буддиз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,2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Полтавская битва, Бородинское сраж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довое побоищ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,1,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Египетские пирамиды, Великая Китайская сте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имский Колиз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Микроскоп, микрофон, микрокомпьют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Эйфелева башня, Статуя Свобод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локаменный Московский Крем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,2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309" dur="indefinite" restart="never" nodeType="tmRoot">
          <p:childTnLst>
            <p:seq>
              <p:cTn id="1310" dur="indefinite" nodeType="mainSeq">
                <p:childTnLst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5" dur="385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6" dur="385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8" dur="385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0" dur="385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6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1" dur="385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2" dur="385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4" dur="385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6" dur="385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0" dur="385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1" dur="385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43" dur="385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5" dur="385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1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385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7" dur="385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59" dur="385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61" dur="385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385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6" dur="385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8" dur="385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0" dur="385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6" dur="10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385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2" dur="385" fill="hold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4" dur="385" fill="hold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6" dur="385" fill="hold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2" dur="1000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7" dur="385"/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8" dur="385" fill="hold"/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00" dur="385" fill="hold"/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2" dur="385" fill="hold"/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6" dur="385"/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7" dur="385" fill="hold"/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09" dur="385" fill="hold"/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11" dur="385" fill="hold"/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7" dur="1000"/>
                                        <p:tgtEl>
                                          <p:spTgt spid="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549360"/>
            <a:ext cx="85690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.Акваланг, электрическая лампочка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механические час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3,2,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.Авторучка, радиосвязь, батискаф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2,1,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8.Серные спички, порох, динамит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2,1,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.Слалом, бадминтон, шахмат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3,2,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4" dur="77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5" dur="77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27" dur="77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29" dur="77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77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4" dur="77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6" dur="77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8" dur="77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9" dur="77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0" dur="77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2" dur="77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4" dur="77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0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5" dur="77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6" dur="77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8" dur="77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0" dur="77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6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1" dur="77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2" dur="77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4" dur="77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6" dur="77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2" dur="5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150920" y="3933720"/>
            <a:ext cx="68421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"Блиц"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771640" y="692280"/>
            <a:ext cx="360072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6 ТУР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1584000" cy="1401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292720" y="2727360"/>
            <a:ext cx="1584360" cy="1401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e494"/>
            </a:gs>
            <a:gs pos="100000">
              <a:srgbClr val="febe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79280" y="189000"/>
            <a:ext cx="89647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Съёмная причёс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Пари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Как правильно называется "правильный четырехугольник»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Квадра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Как называется строительное искусство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Архитектур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Приспособление для отдыха в подвешенном состоя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Гама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Создатели славянской азбук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Кирилл и Мефод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С какого дня по календарю начинается вес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1 мар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Исходящая жалоба, которой Москва не вер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Слёз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Создатель картины «Три богатыря»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Васнец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. Как называется пятая от Солнца планета Солнечной систем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Юпите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. Про какое животное европейцы говорили, что оно имеет д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воста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Сло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493" dur="indefinite" restart="never" nodeType="tmRoot">
          <p:childTnLst>
            <p:seq>
              <p:cTn id="1494" dur="indefinite" nodeType="mainSeq">
                <p:childTnLst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7" dur="385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8" dur="385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0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10" dur="385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12" dur="385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385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7" dur="385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9" dur="385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1" dur="385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5" dur="385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6" dur="385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8" dur="385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0" dur="385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4" dur="385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5" dur="385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67" dur="385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9" dur="385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385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4" dur="385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86" dur="385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88" dur="385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2" dur="385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3" dur="385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05" dur="385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7" dur="385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1" dur="385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2" dur="385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24" dur="385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26" dur="385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0" dur="385"/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1" dur="385" fill="hold"/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43" dur="385" fill="hold"/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45" dur="385" fill="hold"/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9" dur="385"/>
                                        <p:tgtEl>
                                          <p:spTgt spid="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0" dur="385" fill="hold"/>
                                        <p:tgtEl>
                                          <p:spTgt spid="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62" dur="385" fill="hold"/>
                                        <p:tgtEl>
                                          <p:spTgt spid="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64" dur="385" fill="hold"/>
                                        <p:tgtEl>
                                          <p:spTgt spid="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4" dur="385"/>
                                        <p:tgtEl>
                                          <p:spTgt spid="9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5" dur="385" fill="hold"/>
                                        <p:tgtEl>
                                          <p:spTgt spid="9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87" dur="385" fill="hold"/>
                                        <p:tgtEl>
                                          <p:spTgt spid="9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89" dur="385" fill="hold"/>
                                        <p:tgtEl>
                                          <p:spTgt spid="9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 rot="20947800">
            <a:off x="468360" y="1196640"/>
            <a:ext cx="7777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50000">
                      <a:srgbClr val="ff3399"/>
                    </a:gs>
                    <a:gs pos="100000">
                      <a:srgbClr val="cc0099"/>
                    </a:gs>
                  </a:gsLst>
                  <a:lin ang="6054000"/>
                </a:gradFill>
                <a:latin typeface="Arial"/>
              </a:rPr>
              <a:t>Поздравляем победителей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50000">
                    <a:srgbClr val="ff3399"/>
                  </a:gs>
                  <a:gs pos="100000">
                    <a:srgbClr val="cc0099"/>
                  </a:gs>
                </a:gsLst>
                <a:lin ang="6054000"/>
              </a:gradFill>
              <a:latin typeface="Arial"/>
              <a:ea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859280" y="2708280"/>
            <a:ext cx="3219480" cy="38908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590920" y="620640"/>
            <a:ext cx="3960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 ТУР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55640" y="3860640"/>
            <a:ext cx="7993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"Разминка"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940360" y="2727360"/>
            <a:ext cx="1584360" cy="1401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1584360" cy="1401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0920" y="260280"/>
            <a:ext cx="8642160" cy="6311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На груди короля Швеции Карла 17 Йохана была татуиров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) Я – тиран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) Смерть тирана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) Только нар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Какое из этих слов выложил Кай в сказке «Снежная королева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) снежи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) веч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) теп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Какое из этих животных занесено в Красную книг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) уссурийский тигр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) заяц-беля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) вол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189000"/>
            <a:ext cx="8569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Как на Руси назывались деньги достоинств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 рублей из сереб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) фун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) империа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) ин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Музыкальное произведение «Иван Сусанин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вля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) кантато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) балет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) опе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Соцветие какого растения в течение д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ворачивается вслед за солнц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) подсолнечн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) ромаш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) тюльп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1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2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08200" y="42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189000"/>
            <a:ext cx="8569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 Один из перечисленных людей явля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обретателем аквалан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капитан Нем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Крузенштер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Жак Ив Ку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. Слово «акробатика» в переводе с грече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знача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прыгаю на батут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хожу на цыпочках, лезу ввер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кувыркаюсь, прыгаю, скач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. В водно-моторном спорте судно с подвес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тором называ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скуте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каспе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флипп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6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7" dur="5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476280"/>
            <a:ext cx="849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.В боксе судей называ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рефер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брейке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ринг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1.Слово «форте» в музыке означа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быстр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громк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отрыви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. В государственном флаге какой страны  можно  увидеть шестиконечную звез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Кита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Израил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С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9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4" dur="500" fill="hold"/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332000" y="3141720"/>
            <a:ext cx="709272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"Что за наука?"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843280" y="692280"/>
            <a:ext cx="381636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2 ТУР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1584360" cy="1401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651640" y="2727360"/>
            <a:ext cx="1584360" cy="1401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4000" y="0"/>
            <a:ext cx="835164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Наука о звук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а) статистик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б) звукологи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в) акуст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2. Наука о рыба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а) ихтиология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б) миологи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в) этнолог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3.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Наука, изучающая влияние звёзд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а) астрология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б) астрономия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в) звездочёт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4.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Наука о наследственности человека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а) физиология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б) психологи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в) генетик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5. Наука о птица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а) методология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б) орнитология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в) энтомолог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6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9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10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13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4" dur="500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7" dur="500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8" dur="500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1" dur="500"/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6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6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6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6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6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6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6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6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6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6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6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6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12" dur="500"/>
                                        <p:tgtEl>
                                          <p:spTgt spid="6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15" dur="500"/>
                                        <p:tgtEl>
                                          <p:spTgt spid="6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1T10:41:09Z</dcterms:created>
  <dc:creator>User</dc:creator>
  <dc:description/>
  <dc:language>en-US</dc:language>
  <cp:lastModifiedBy>1</cp:lastModifiedBy>
  <dcterms:modified xsi:type="dcterms:W3CDTF">2013-04-07T10:52:09Z</dcterms:modified>
  <cp:revision>25</cp:revision>
  <dc:subject/>
  <dc:title>Слайд 1</dc:title>
</cp:coreProperties>
</file>