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502-8B4D-47F2-AB79-6E5A88D6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39A-C50B-4804-8CDA-3FB58D8A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95CF-F960-485F-8C07-6A4FC2AF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36F-601A-4BB2-A837-53C21326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41FE-32A4-4A87-A922-DEB324C8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6725-0B2F-4C7F-A794-E8C42AFF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6E5D-A30C-49A6-872C-6BB9DE55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DB12-73BB-411F-B6BF-BEB2E969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9C8A-945C-4898-BAEE-C871505B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2873-020C-44CA-989E-633DBF8B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4FC7-58C4-4E13-B4C8-9E61023D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6CE-4830-42E3-9B60-0E51BD65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230A-A158-40AB-97C3-03311CAA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9BD0-6ABC-47AD-8865-524AB344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DD2A-2CEF-4C92-A2F5-815AB972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F231-E38C-4A65-8F4D-76E40FC7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294D-F7F0-4068-BB9C-32C830E4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02E8-1ACC-417D-B9A9-E32876EF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A25-CF46-4CA5-B21C-E00B022C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4F1B-7778-4C45-AE26-9FB24BCC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EA2-B4B7-4457-B3A1-A8279DD8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A734-0F9C-4316-858C-81865439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312-9527-40A2-97CD-BFDA9AE8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E0B-BDF5-480A-855E-54A912A9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0080-2BDB-4DA4-808D-2FF9E2CB47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D77D-9C4D-4414-8D7E-FEDBDE753C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3920" y="2500200"/>
            <a:ext cx="7401240" cy="1771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ЗАЧЕМ ЛЮДЯМ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УКРАШЕНИЯ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(искусство древних ювелиров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92000" y="5589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РОК 1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246800" cy="18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агрудные украшения, подвески, ожерелья, браслеты, серьги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золото, драгоценные и полудрагоценные камни, цветная смальта – непрозрачное стекло)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f44fd"/>
              </a:solidFill>
              <a:latin typeface="Comic Sans MS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928880" y="2071800"/>
            <a:ext cx="1857240" cy="4287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214880" y="2286000"/>
            <a:ext cx="1857240" cy="3957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6357960" y="4357800"/>
            <a:ext cx="200016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500040" y="1428840"/>
            <a:ext cx="3963960" cy="42354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00320" y="356760"/>
            <a:ext cx="468612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РАСЛЕТ С ГЛАЗОМ - УАДЖ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214880" y="2174760"/>
            <a:ext cx="4471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КА – УАДЖЕТ – защищает от любой беды и символизирует воскресение после смерти (правый глаз обозначал Солнце, а левый – Луну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57440" y="214200"/>
            <a:ext cx="4329000" cy="196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ВЕСКА СО СКАРАБЕЕ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знак – оберег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арабей– символ бога утреннего солнца, катящего диск по небу так же, как жук катит навозный шарик по песк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1785960" y="357120"/>
            <a:ext cx="259092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00720" y="357120"/>
            <a:ext cx="418608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ОЛОТАЯ СЕРЬГА С СОКОЛ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имволическое значение цве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Золотисто-желты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солнц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Белый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лун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Зелены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воскресение природы, ее плодород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ини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небо и вод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857240" y="714240"/>
            <a:ext cx="253224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ДРЕВНЕЕГИПЕТСКАЯ СИМВОЛИ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 – лото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 – путь Солнца по неб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– скарабе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 – символ вла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 – глаз – уадж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 – знак жизн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 – знак сил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1571760"/>
            <a:ext cx="452772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43240" y="285480"/>
            <a:ext cx="4857840" cy="188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ВЕСКА –ПЕКТОРАЛЬ фараона Тутанхамо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(пектораль великолепной работы с изображением крылатого скарабея, поддерживающего ладью луны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кое нагрудное украшение клали на грудь умершему фараон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ожный многоярусный узор, который включает в себя символы, на дивное разноцветье камней, на благозвучное сочетание естественных природных цветов в украшен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214200" y="1500120"/>
            <a:ext cx="3929040" cy="51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олни эскиз одного из украшений в стиле древнеегипетского искусств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лнечное ожерель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вес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расл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крашение-пектора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5:02:54Z</dcterms:created>
  <dc:creator>Пользователь</dc:creator>
  <dc:description/>
  <dc:language>en-US</dc:language>
  <cp:lastModifiedBy>Пользователь</cp:lastModifiedBy>
  <dcterms:modified xsi:type="dcterms:W3CDTF">2012-01-16T16:55:05Z</dcterms:modified>
  <cp:revision>9</cp:revision>
  <dc:subject/>
  <dc:title>СИНТЕТИЧЕСКИЕ ИСКУССТВА И ИЗОБРАЖЕНИЕ. РОЛЬ И МЕСТО ИЗОБРАЖЕНИЯ В СИНТЕТИЧЕСКИХ ИСКУССТВАХ</dc:title>
</cp:coreProperties>
</file>