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079-CA3A-4B15-8DD3-F2E12ECA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A61-6ABA-443F-B9E5-C357F26B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2CF-51BE-4242-BB7C-EC28B42C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E27-60F5-470B-879D-1918247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CDB-CF6A-4D59-AB3D-30CB5048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FF36-25B6-4184-9C33-9E33937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62A4-46A0-4F21-8680-9B4B92F4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EF9C-282A-4D4E-A05A-A84336E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ED6-493F-4C49-82DE-49D5A4B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635-2BE1-4C95-AE07-AC6BAB7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D328-0B79-4029-AD29-F6228B8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D39-10AB-45E0-B457-2FB2B63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89A-C83C-4623-A438-5F3E441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A35-E756-4131-A727-BE2C03F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0BB-60AA-4A87-B3E3-D2B4F880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367-46C9-42EB-82B7-0D37702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88E3-1259-4B73-B348-6F64A3E4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5AB-76F8-414C-BBAB-453E36DA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557-68AA-4E62-8B51-0FD4346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D6D-6835-4D62-A002-839CCA4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D96-AF10-42B2-90A9-B3B449C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F77-0A2F-4601-AA81-05102C01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89F-C8B7-4CBE-A45A-89D0A5A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7D6-324D-4ACA-801D-42271DC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53AB-B21B-4F15-9F1A-179740D1F2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940-5370-4EB1-9D7D-F149F9CE5A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2500200"/>
            <a:ext cx="7401240" cy="1771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ЧЕМ ЛЮДЯМ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УКРАШЕНИЯ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(искусство древних ювелиро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000" y="558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246800" cy="18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грудные украшения, подвески, ожерелья, браслеты, серьги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золото, драгоценные и полудрагоценные камни, цветная смальта – непрозрачное стекло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f44fd"/>
              </a:solidFill>
              <a:latin typeface="Comic Sans MS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928880" y="2071800"/>
            <a:ext cx="1857240" cy="428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214880" y="2286000"/>
            <a:ext cx="1857240" cy="39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6357960" y="4357800"/>
            <a:ext cx="20001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3963960" cy="4235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00320" y="356760"/>
            <a:ext cx="46861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РАСЛЕТ С ГЛАЗОМ - УАДЖ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14880" y="2174760"/>
            <a:ext cx="4471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А – УАДЖЕТ – защищает от любой беды и символизирует воскресение после смерти (правый глаз обозначал Солнце, а левый – Луну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57440" y="214200"/>
            <a:ext cx="432900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ВЕСКА СО СКАРАБЕ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знак – оберег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арабей– символ бога утреннего солнца, катящего диск по небу так же, как жук катит навозный шарик по пес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25909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00720" y="357120"/>
            <a:ext cx="4186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ОЛОТАЯ СЕРЬГА С СОКОЛ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мволическое значение цв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олотисто-желты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солн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Белый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лу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оскресение природы, ее плодород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ин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небо и в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857240" y="714240"/>
            <a:ext cx="253224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РЕВНЕЕГИПЕТСКАЯ СИМВОЛ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– лото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– путь Солнца по неб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– скараб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– символ в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– глаз – уадж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– знак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– знак си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45277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43240" y="285480"/>
            <a:ext cx="4857840" cy="18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ВЕСКА –ПЕКТОРАЛЬ фараона Тутанхам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ектораль великолепной работы с изображением крылатого скарабея, поддерживающего ладью луны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ое нагрудное украшение клали на грудь умершему фарао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й многоярусный узор, который включает в себя символы, на дивное разноцветье камней, на благозвучное сочетание естественных природных цветов в украш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9290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 эскиз одного из украшений в стиле древнеегипетского искус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ечное ожерел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ве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расл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рашение-пектора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5:02:54Z</dcterms:created>
  <dc:creator>Пользователь</dc:creator>
  <dc:description/>
  <dc:language>en-US</dc:language>
  <cp:lastModifiedBy>Пользователь</cp:lastModifiedBy>
  <dcterms:modified xsi:type="dcterms:W3CDTF">2012-01-16T16:55:05Z</dcterms:modified>
  <cp:revision>9</cp:revision>
  <dc:subject/>
  <dc:title>СИНТЕТИЧЕСКИЕ ИСКУССТВА И ИЗОБРАЖЕНИЕ. РОЛЬ И МЕСТО ИЗОБРАЖЕНИЯ В СИНТЕТИЧЕСКИХ ИСКУССТВАХ</dc:title>
</cp:coreProperties>
</file>