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4F2C-B092-4E49-89AD-28DE2AAB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AEDB-C5F8-4414-8924-C284C1EB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1740-1AF7-4CBE-9505-27F341D0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6C56-8722-4C43-A5F9-03F23076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B61C-C14B-4150-AA29-4C7B46F6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3ED7-ABCB-43F8-94DC-F29DAB60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70E6-F355-4EC6-A4CA-149AFE48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48A4-93F1-4A78-ABAA-A3BD81D9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3D9B-00FE-4DA5-A69A-B8A7E7DF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6D8E-8195-4561-A6EF-705C713F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F526-DD91-4D46-868D-B395A35E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5236-5449-445F-93DC-05BFEF7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8F6A-298D-469B-B5E7-93693C6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99E9-55FC-473B-8025-AFB23353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1A9E-CA66-47AB-B37B-A7AD898A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AD7C-574F-4E5E-A9A4-233E5F92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2201-5667-4532-881F-6881EBF4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3F40-0705-4BDC-90A4-A905034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3943-64CE-47FC-B053-5BF01A8F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66C7-A912-418B-83AD-B01FE065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B141-BFE6-4921-90EE-1E72DCB4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422D-3730-43C5-8F84-5966142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B97E-B47A-4036-8263-ACBA92D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7A20-4FF0-4FF4-A97D-F12D7CE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37AD-8A63-4CBD-B2C2-B56B2F1079A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1692-7C48-46A3-80FC-1C22B0B0FBA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685800" y="1905120"/>
            <a:ext cx="7772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гадай загадк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380880" y="533520"/>
            <a:ext cx="83822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 родной своей сторож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бежал он по дорожк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гать он ушел без ног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же это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LqMrEOw7X8Y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>
            <a:off x="304920" y="990720"/>
            <a:ext cx="8610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шка дом себе нашл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шка добрая был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доме в том в конце конц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ло множество жильц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eremok_600_auto_5_80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304920" y="762120"/>
            <a:ext cx="83055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х ты, Петя, просто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лоховал немножк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послушал ты ко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глянул в окошк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etushok_grebeshok5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304920" y="533520"/>
            <a:ext cx="868680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т ни речки, ни пру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де воды напитьс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чень вкусная во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ямке от копытц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_F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533520" y="1447920"/>
            <a:ext cx="8153280" cy="25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тропе шагают бодро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и воду, тащат вед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125032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27T19:53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