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8896C-4B58-46E0-BC23-BAB9D52C9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26DDC-1555-401B-83A8-2ED43D89D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BF0FC-B70E-4BB2-8666-F4393B9F1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38E4B-40F7-49E6-A6CA-6DC3D5EAD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F4D76-E749-4C2D-924B-D4F1F2610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1A011-03A9-4A22-ABE2-EF02A083D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5F164-CB4C-4BB6-ACA5-A116297EA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D6262-4290-471F-A977-D830A34A1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94007-5E34-41CA-9909-B61E237CE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15EEE-0AA2-46CA-AAB3-DA571C49D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3AEBD-F763-4D0A-BCBC-0D377EEA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989BB-5670-404C-8966-A7A4C6012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955A4-EC85-40B7-9E78-82CB1EB1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67B47-0D80-4E36-97F7-4094360B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726FA-F46D-4AC0-9E57-BE1D5D356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A954A-9002-4A47-BCB5-5C746EE82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7FADA-3A67-4FC1-A0A3-A21AA7C4B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DD60E-1BFE-4C2C-9CA0-2978EB7A9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96FA6-383A-42AA-AFB0-473A17366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A3A3C-54FA-44BA-BBD5-C52EDD3C3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8B939-7C4A-43A2-A953-E9A6DCF63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77BEB-974D-4E97-B562-3B7311B6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C3B8A-F655-4F08-9AC0-0440DCAC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CE16F-461C-4945-B920-71AA0B18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D6393-BC9B-49C8-82D3-C5470C94AC58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CAAAC-C1C0-4149-83D9-1D0E6329E4A7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4"/>
          <p:cNvSpPr txBox="1"/>
          <p:nvPr/>
        </p:nvSpPr>
        <p:spPr>
          <a:xfrm>
            <a:off x="685800" y="1905120"/>
            <a:ext cx="77724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тгадай загадку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WordArt 4"/>
          <p:cNvSpPr txBox="1"/>
          <p:nvPr/>
        </p:nvSpPr>
        <p:spPr>
          <a:xfrm>
            <a:off x="380880" y="533520"/>
            <a:ext cx="8382240" cy="541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т родной своей сторожк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бежал он по дорожк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егать он ушел без ног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то же это?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LqMrEOw7X8Y"/>
          <p:cNvPicPr/>
          <p:nvPr/>
        </p:nvPicPr>
        <p:blipFill>
          <a:blip r:embed="rId1"/>
          <a:stretch/>
        </p:blipFill>
        <p:spPr>
          <a:xfrm>
            <a:off x="1523880" y="0"/>
            <a:ext cx="6248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0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5"/>
          <p:cNvSpPr txBox="1"/>
          <p:nvPr/>
        </p:nvSpPr>
        <p:spPr>
          <a:xfrm>
            <a:off x="304920" y="990720"/>
            <a:ext cx="861048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ышка дом себе нашл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ышка добрая был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доме в том в конце концов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ало множество жильцов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teremok_600_auto_5_80"/>
          <p:cNvPicPr/>
          <p:nvPr/>
        </p:nvPicPr>
        <p:blipFill>
          <a:blip r:embed="rId1"/>
          <a:stretch/>
        </p:blipFill>
        <p:spPr>
          <a:xfrm>
            <a:off x="171468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WordArt 4"/>
          <p:cNvSpPr txBox="1"/>
          <p:nvPr/>
        </p:nvSpPr>
        <p:spPr>
          <a:xfrm>
            <a:off x="304920" y="762120"/>
            <a:ext cx="8305560" cy="48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х ты, Петя, простот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лоховал немножко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е послушал ты кот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ыглянул в окошко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Petushok_grebeshok5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60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2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4"/>
          <p:cNvSpPr txBox="1"/>
          <p:nvPr/>
        </p:nvSpPr>
        <p:spPr>
          <a:xfrm>
            <a:off x="304920" y="533520"/>
            <a:ext cx="8686800" cy="556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ет ни речки, ни пруд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де воды напиться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чень вкусная вод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ямке от копытц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p_F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4"/>
          <p:cNvSpPr txBox="1"/>
          <p:nvPr/>
        </p:nvSpPr>
        <p:spPr>
          <a:xfrm>
            <a:off x="533520" y="1447920"/>
            <a:ext cx="8153280" cy="25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 тропе шагают бодро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ами воду, тащат ведр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5" descr="125032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2-27T19:53:35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