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4A1-8C66-4249-996E-5359EC26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305-6CC3-4AE2-8CE7-FE3CD1A6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6EF-9653-4BD2-AAF9-EF96C1CE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849-1116-42F5-A10F-B29C8495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9131-2EF4-4F4A-9FE3-713DBD8B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111F-E0CE-480D-9A36-D00F247F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DCEB-D46F-462D-A54B-9B66E650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89DE-10D6-4EC4-99F1-D4F4C024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B662-A62D-468B-B984-19C5A1FA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47A9-D7C2-4D8C-8D18-4EE14D6C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A23C-EA61-4F4C-9508-E1FE06F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5ED-4DE8-4A60-B833-9AB99BE2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DFC1-2C1B-4A91-A44C-76D14C8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60CE-8B6B-457A-9E83-BAEE05D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CD4F-C4C3-49E9-A32C-FC1053A8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68DF-22D1-44F4-BBC5-57BB3939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29BF-00CA-4615-BF15-76B5D943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E0A-DBC4-4B7C-AC3F-F49F5CBD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E38-35D3-48F0-8D44-C5219C69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4F9-99FE-49A7-88D7-8C034A4D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E7F-348C-4C0F-878D-DB5302F0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049-6A85-40C6-A352-2FB8F2BF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E65-5581-4DAC-BCF1-804AD0D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1CB-5EFC-468F-B4C8-E83ABCC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A334-6FEE-4C07-B62C-965380EEC2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5C2C-DAE0-4470-BB6C-5F84FE4324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МОУ «Средняя школа № 8»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г.о.Саранск Республики Мордовия.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Математика, 6 класс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Учитель: Юдина Наталья Вячеславов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к – путешеств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 островам математики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: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ложение чисел с помощью координатной прям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казания  приборов  на  корабл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 решать с помощью термомет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координатной прямо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1828800"/>
          <a:ext cx="7696080" cy="365904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иб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ри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показа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+3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+(-4)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бавить к числу а число в   - значит изменить число а на число 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На координатной прямо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ём сумму чисел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+3=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+(-3)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ое  число от прибавления положительного числа увеличивае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от прибавления отрицательного числа  уменьшаетс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 координатной прямо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ём сумму чисел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+(-4)=0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+(-а) = 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2913120"/>
            <a:ext cx="91440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мма двух противополож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сел равна ну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  координатной  прямо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ём  сумму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5+0= -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+0=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25146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прибавлении нуля число н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яе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4. Остров « Спортландия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у что, уста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теперь, ребята, вста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стро руки вверх поднял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тороны,  вперёд, назад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вернулись вправо, влево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ихо сели, вновь за де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5. Остров « Умейка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ите  задания  с  помощью  координатной прямой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№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020.               № 102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1+2 =                   4+0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+(-4) =                0+(-3)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3+6    =                -5+0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+(-5)  =               -3+3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5+6    =                 7+(-7)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3+(-2)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орудование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ь координатной прямой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ь термометра  ( на доске), изготовленные учител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и координатных прямых у каждого ученика ( изготовленные ученикам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ьютер. Слай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дивидуальные задания на карточк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ешите задание с помощью координатной прямо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(или термометра)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152280" y="22860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ром температура воздуха была равна 8 градус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первую половину дня температура изменилась на 4 градуса, а за вторую половину дня – на 7 градус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й стала температура после двух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ений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 + 4 + (- 7) 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ультаты двух последова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ений находя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помощью слож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6. Остров « Повторика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амостоятельная работ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Найти с помощью координатно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ямой сумму чисел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7+5;     -4+(-8);     8+(-3);     0+(-9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Написать в порядке возрастания числа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9;  0;  -12;  5; 12;  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    в    п     ё   м     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Написать в порядке убывания числ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5;   0;  5;   -8;   -10;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     о   д    о       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результате должн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получить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2514240"/>
            <a:ext cx="8991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ывём  дом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6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стров « Закрепика».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 заданий в тестовой форм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ыполнить с  помощью координатной прям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Температура воздуха была -2 градус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стала температура, когда она изменилась на  -5  градусов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.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.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. -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.-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.Решить с помощью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координатной прямо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пература воздуха с утра была равна 10 градус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обеду температура изменилась на 4 градуса, а к вечеру – на   -5 граду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ая температура воздуха была вечеро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.  11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. 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. 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. -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звращение из путешеств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 островам математики домо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ние на до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 по индивидуальным карточкам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ведение итогов уро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мы узнали за время путешествия по островам математики?   Поделимся впечатлени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Если дана начальная температура и её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менения, т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Прибавить к числу а число в – значит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Любое число от прибавления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Сумма двух противоположных чисе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При прибавлении нуля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 Результаты двух последовательных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менений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11201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ть понятие и научить складывать числа с помощью координатной прямой, показать, что результат двух последовательных изменений величин находят с помощью координатной прямой;   побудить интерес к изучению математики;    способствова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ю практических навы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д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1. Отплыти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504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ктуализация  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2. Остров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Вспоминайка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;   !-17!;    1/2;   7,5;   0;   !3/4!;  100;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0,5;    17;   !-3/4!;     0,75;    -1245;    -7,5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Назовите положительные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Назовите отрицательные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 Укажите противоположные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Назовите число, которое не является ни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рицательным, ни положительны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Найдите самое маленькое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Найдите самое большое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. Модули каких чисел равн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.Найти целые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3. Остров </a:t>
            </a: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 Узнайка</a:t>
            </a: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ъяснение нового материа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объяснении  используются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ь координатной прямо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ь термометра ( на доск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 изготовлены учителем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и координатных прямых у учащих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готовленных самостоятель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 algn="ctr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мерим температуру за бортом корабл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 с помощью модели термометра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2075040"/>
          <a:ext cx="7696080" cy="33210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ермомет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+4 =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+4 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+(-5)=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дана начальная температура и её изменения, то конечная температура находится действием слож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</cp:lastModifiedBy>
  <dcterms:modified xsi:type="dcterms:W3CDTF">2013-03-11T20:3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