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F90A-E471-4592-B3A0-30026C5A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ADAF-E172-40AB-A990-47818073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7E40-8547-419F-918C-2FF8189C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5E54-1D39-4D55-82E1-1989EC1B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9FE9-0975-46A2-A59F-C2120CCE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E409-C9BB-4629-8519-C5E4C1B1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E6BA-CA96-49C6-A5A7-A4C324AF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9295-D8EB-433F-999C-1205A9F2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EEBB-0FBD-4163-9461-F832C5AF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1393-9306-4ECC-A613-C34C5B62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77B6-100A-4F46-8D62-09D03AEC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BCA0-EE56-4348-A066-772F97CB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9DD6-BE42-4530-B952-3BC079DA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6C97-8811-41EC-BF38-D30262C9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0D04-FF16-4F12-8D1C-B4217A0E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B766-BDFC-4F07-94A8-1985379B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F500-3F8A-4230-B10D-3B77B8DD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3A4A-5EF2-40C6-9F24-8D0F99CC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7DB0-285A-4457-9AF5-6E67F1DB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BBA2-A284-4F70-8C76-81C0A6ED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356C-07E7-4F72-9C6D-E553566E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0CB0-5D92-451A-A754-E709D324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6583-A752-4EE7-B819-F8B345BA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51E3-F8AE-4F21-B785-6A671B8A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BA76-6ED1-4E15-98FC-79BE468DAF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1EFD-226A-4F43-B351-5F2CA5BA0C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                                        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МОУ «Средняя школа № 8»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                                                            г.о.Саранск Республики Мордовия.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                                      Математика, 6 класс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                                                   Учитель: Юдина Наталья Вячеславовн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0" y="22860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рок – путешестви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о островам математики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»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ма: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Сложение чисел с помощью координатной прямо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Показания  приборов  на  корабле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 решать с помощью термометр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ли координатной прямой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5800" y="1828800"/>
          <a:ext cx="7696080" cy="365904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рибо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приб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приб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н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показан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+3=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+(-4)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+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бавить к числу а число в   - значит изменить число а на число 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917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.На координатной прямой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йдём сумму чисел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8+3=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8+(-3)=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юбое  число от прибавления положительного числа увеличивается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от прибавления отрицательного числа  уменьшается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 координатной прямой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8991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йдём сумму чисел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+(-4)=0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+(-а) = 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2913120"/>
            <a:ext cx="9144000" cy="39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умма двух противоположны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исел равна нул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  координатной  прямой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йдём  сумму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5+0= -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+0=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2514600"/>
            <a:ext cx="8991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 прибавлении нуля число не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меняет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4. Остров « Спортландия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у что, устал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теперь, ребята, встал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ыстро руки вверх подняли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стороны,  вперёд, назад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вернулись вправо, влево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ихо сели, вновь за дел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5. Остров « Умейка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шите  задания  с  помощью  координатной прямой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№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020.               № 102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1+2 =                   4+0=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+(-4) =                0+(-3)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3+6    =                -5+0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+(-5)  =               -3+3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5+6    =                 7+(-7)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3+(-2)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борудование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дель координатной прямой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дель термометра  ( на доске), изготовленные учителе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дели координатных прямых у каждого ученика ( изготовленные учениками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мпьютер. Слайд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ндивидуальные задания на карточка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ешите задание с помощью координатной прямой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(или термометра)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152280" y="228600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тром температура воздуха была равна 8 градуса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 первую половину дня температура изменилась на 4 градуса, а за вторую половину дня – на 7 градус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ой стала температура после двух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менений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8 + 4 + (- 7) =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зультаты двух последовательны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менений находя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 помощью сложе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6. Остров « Повторика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Самостоятельная работ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Найти с помощью координатной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ямой сумму чисел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7+5;     -4+(-8);     8+(-3);     0+(-9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) Написать в порядке возрастания числа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9;  0;  -12;  5; 12;  -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    в    п     ё   м     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)Написать в порядке убывания числ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5;   0;  5;   -8;   -10;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     о   д    о       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 результате должн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получиться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2514240"/>
            <a:ext cx="8991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лывём  дом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61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стров « Закрепика».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ие заданий в тестовой форме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Выполнить с  помощью координатной прямо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Температура воздуха была -2 градус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ой стала температура, когда она изменилась на  -5  градусов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. 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.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. -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.-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2.Решить с помощью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координатной прямой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мпература воздуха с утра была равна 10 градуса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 обеду температура изменилась на 4 градуса, а к вечеру – на   -5 градус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ая температура воздуха была вечером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.  11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. 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. 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. -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озвращение из путешестви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о островам математики домой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дание на дом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 по индивидуальным карточкам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дведение итогов урок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о мы узнали за время путешествия по островам математики?   Поделимся впечатления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Если дана начальная температура и её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менения, то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Прибавить к числу а число в – значит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Любое число от прибавления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 Сумма двух противоположных чисел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. При прибавлении нуля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. Результаты двух последовательных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менений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228960" y="0"/>
            <a:ext cx="11201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ать понятие и научить складывать числа с помощью координатной прямой, показать, что результат двух последовательных изменений величин находят с помощью координатной прямой;   побудить интерес к изучению математики;    способствовать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ю практических навык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Ход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omic Sans MS"/>
              </a:rPr>
              <a:t>1. Отплытие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организационный момен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350496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ктуализация   знан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2. Остров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Вспоминайка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»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;   !-17!;    1/2;   7,5;   0;   !3/4!;  100;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0,5;    17;   !-3/4!;     0,75;    -1245;    -7,5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Назовите положительные чис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Назовите отрицательные чис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 Укажите противоположные чис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.Назовите число, которое не является ни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рицательным, ни положительны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. Найдите самое маленькое числ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. Найдите самое большое числ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7. Модули каких чисел равны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8.Найти целые чис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3. Остров </a:t>
            </a:r>
            <a:r>
              <a:rPr b="1" i="1" lang="ru-RU" sz="44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 Узнайка</a:t>
            </a:r>
            <a:r>
              <a:rPr b="1" i="1" lang="ru-RU" sz="4400" spc="-1" strike="noStrike">
                <a:solidFill>
                  <a:srgbClr val="000000"/>
                </a:solidFill>
                <a:latin typeface="Tahoma"/>
              </a:rPr>
              <a:t>»</a:t>
            </a: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ъяснение нового материал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 объяснении  используются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дель координатной прямой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дель термометра ( на доске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 изготовлены учителем)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дели координатных прямых у учащихся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готовленных самостоятельн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-762120" algn="ctr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змерим температуру за бортом корабл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 с помощью модели термометра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85800" y="2075040"/>
          <a:ext cx="7696080" cy="332100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110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термомет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+4 =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+4 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+(-5)=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дана начальная температура и её изменения, то конечная температура находится действием сложе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</cp:lastModifiedBy>
  <dcterms:modified xsi:type="dcterms:W3CDTF">2013-03-11T20:30:4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