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5DE3-F37A-4EC7-9E10-D60B447E6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E486-78B4-4664-9E3B-A38887B0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0CAB-99F6-4271-9A9F-1139AEDFB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56B6-8761-409D-8761-18425EF21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008C-3943-450F-8B58-3BE4B694D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A4A52-100C-4F2A-99E1-89171B25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3C5A-C386-4407-B2B8-88DBBACE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2A01-2A5E-4D07-9AEA-C2D12025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D0DB-98B2-479F-A3D7-B7568C02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76B6-A4D4-4BBA-9BA3-D3CFD87D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F5F4-793D-4038-A62C-07A2B8A8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4B71-51E8-411C-98BF-4F8DCFF1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89D0-74FF-450A-B79D-A9F6D159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9738-50D6-4EC1-B00F-95BB2D48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8F52-1CFA-44B8-AEE3-BB61EB39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B305-8393-4BF6-A167-237D95DBF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7AD9-1F55-4305-9A74-F98C500CB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45FA-39AA-4A31-B7DC-8AB02734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40EF-F2ED-4006-A1B1-28E45475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95D3-B849-46D4-87C7-92EEE0B1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BA1E-D6D4-4A65-B6EC-EFAAAE97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570F-5C98-4741-9CDD-76657C77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2D26-9B8C-4E63-99A6-8C8A10F0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A16E-7104-4A1B-A9D1-3BF242C3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0EEC-E5E9-49BF-ADAB-D4DCEE27F74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E8F4-DE00-4436-B376-904A972D7C8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  <a:ea typeface="宋体"/>
              </a:rPr>
              <a:t>I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 тур - разминк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24000" y="1052280"/>
            <a:ext cx="84960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то сказал «Математика-царица наук, а арифметика – царица математики?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/Карл Фридрих Гаусс/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авильно ли название «арабские» цифры для наших современных цифр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/правильнее наз. индийскими придуманы в индии/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то является создателем современной буквенной символики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/ Франсуа Виет фр. Матем./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ие два натуральных числа, если разделить большее на меньшее дают в результате столько же, сколько получится при их умножении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/ любое число и 1/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V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Тур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538000"/>
            <a:ext cx="749952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= х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+ 2,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у = 5х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ahoma"/>
                <a:ea typeface="Tahoma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= С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х,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|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х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|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47640" y="692280"/>
            <a:ext cx="525636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75755e"/>
                    </a:gs>
                  </a:gsLst>
                  <a:lin ang="5400000"/>
                </a:gradFill>
                <a:latin typeface="Arial"/>
              </a:rPr>
              <a:t>Исключи лишне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75755e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27280" y="2421000"/>
            <a:ext cx="1584360" cy="936720"/>
          </a:xfrm>
          <a:prstGeom prst="rect">
            <a:avLst/>
          </a:prstGeom>
          <a:solidFill>
            <a:srgbClr val="7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3833640"/>
            <a:ext cx="7499520" cy="10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у= - 3х+5, у= -2х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ahoma"/>
                <a:ea typeface="Tahoma"/>
              </a:rPr>
              <a:t>3,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 у=    , у=  -х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ahoma"/>
                <a:ea typeface="Tahoma"/>
              </a:rPr>
              <a:t>2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+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716360" y="3787920"/>
                <a:ext cx="3384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5359320" y="3787920"/>
            <a:ext cx="1944720" cy="936360"/>
          </a:xfrm>
          <a:prstGeom prst="rect">
            <a:avLst/>
          </a:prstGeom>
          <a:solidFill>
            <a:srgbClr val="7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4076640"/>
            <a:ext cx="749916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684360" y="5227560"/>
                <a:ext cx="12016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6300720" y="5011560"/>
                <a:ext cx="120168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572000" y="5156280"/>
                <a:ext cx="120168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484360" y="5013360"/>
                <a:ext cx="151308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sub>
                    </m:sSub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2268360" y="4940280"/>
            <a:ext cx="1944720" cy="1368360"/>
          </a:xfrm>
          <a:prstGeom prst="rect">
            <a:avLst/>
          </a:prstGeom>
          <a:solidFill>
            <a:srgbClr val="7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90400" y="1492200"/>
                <a:ext cx="1317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411280" y="1700280"/>
                <a:ext cx="16671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545000" y="1611360"/>
                <a:ext cx="139536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418440" y="1303200"/>
                <a:ext cx="182556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  <m:r>
                          <m:t xml:space="preserve">х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0" y="1413000"/>
            <a:ext cx="1944720" cy="1224000"/>
          </a:xfrm>
          <a:prstGeom prst="rect">
            <a:avLst/>
          </a:prstGeom>
          <a:solidFill>
            <a:srgbClr val="7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812000" y="333360"/>
            <a:ext cx="933480" cy="790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06 0.00671 C -0.07986 0.07546 -0.09566 0.14444 -0.15764 0.18657 C -0.21962 0.2287 -0.38507 0.21065 -0.43576 0.25903 C -0.48646 0.30741 -0.43802 0.47685 -0.46198 0.47639 C -0.48594 0.47593 -0.53038 0.25694 -0.57934 0.25602 C -0.6283 0.25509 -0.7151 0.51019 -0.75538 0.4706 C -0.79566 0.43102 -0.80816 0.22454 -0.82066 0.01829 E">
                                      <p:cBhvr>
                                        <p:cTn id="373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тур. «Эрудит»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43588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У одной палки два конца. Сколько станет      концов, если один конец отрезать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. 1.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. 2.     В. 3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Г. 4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3284640"/>
            <a:ext cx="4537080" cy="576000"/>
          </a:xfrm>
          <a:prstGeom prst="rect">
            <a:avLst/>
          </a:prstGeom>
          <a:solidFill>
            <a:srgbClr val="7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2421000"/>
            <a:ext cx="4176720" cy="503280"/>
          </a:xfrm>
          <a:prstGeom prst="rect">
            <a:avLst/>
          </a:prstGeom>
          <a:solidFill>
            <a:srgbClr val="7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3141720"/>
            <a:ext cx="830088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ловина от половины числа равна половине. Какое это числ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. 0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Б. 2.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. 1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Г. 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4653000"/>
            <a:ext cx="8604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Чему равно произведение последовательных целых чисел, начинающихся числом -3 и оканчивающихся числом 3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. -36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Б. 36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. 1.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. 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4221000"/>
            <a:ext cx="720720" cy="503280"/>
          </a:xfrm>
          <a:prstGeom prst="rect">
            <a:avLst/>
          </a:prstGeom>
          <a:solidFill>
            <a:srgbClr val="7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6093000"/>
            <a:ext cx="4681440" cy="502920"/>
          </a:xfrm>
          <a:prstGeom prst="rect">
            <a:avLst/>
          </a:prstGeom>
          <a:solidFill>
            <a:srgbClr val="7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32000" y="4149720"/>
            <a:ext cx="3060720" cy="503280"/>
          </a:xfrm>
          <a:prstGeom prst="rect">
            <a:avLst/>
          </a:prstGeom>
          <a:solidFill>
            <a:srgbClr val="7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768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1" dur="768" fill="hold"/>
                                        <p:tgtEl>
                                          <p:spTgt spid="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3" dur="768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5" dur="768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44704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. Могут ли быть перпендикулярными радиус и хорда, имеющие общую точку на окружност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. Да.   Б. Нет. В. Иногда. Г. Определить невозмож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1063800"/>
            <a:ext cx="1008000" cy="502920"/>
          </a:xfrm>
          <a:prstGeom prst="rect">
            <a:avLst/>
          </a:prstGeom>
          <a:solidFill>
            <a:srgbClr val="7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84360" y="1014480"/>
            <a:ext cx="5616720" cy="503280"/>
          </a:xfrm>
          <a:prstGeom prst="rect">
            <a:avLst/>
          </a:prstGeom>
          <a:solidFill>
            <a:srgbClr val="7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4210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торый сейчас час, если оставшаяся часть суток вдвое больше прошедше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. 9 ч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. 8 ч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. 6 ч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. 12 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64000" y="3429000"/>
            <a:ext cx="4429080" cy="503280"/>
          </a:xfrm>
          <a:prstGeom prst="rect">
            <a:avLst/>
          </a:prstGeom>
          <a:solidFill>
            <a:srgbClr val="7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3430440"/>
            <a:ext cx="1800000" cy="503280"/>
          </a:xfrm>
          <a:prstGeom prst="rect">
            <a:avLst/>
          </a:prstGeom>
          <a:solidFill>
            <a:srgbClr val="7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42940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511920" indent="-511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6. Написать словами число, состоящее их 11тысяч, одиннадцати сотен и одиннадцати единиц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/12111/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2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9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4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1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6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3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VI 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Тур. </a:t>
            </a: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Ассоциативные цепочки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5280" y="270792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Страус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Река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II 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Тур.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 2 мин составить как можно больше слов из следующих слов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3860640"/>
            <a:ext cx="8229600" cy="19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Арифметика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Тригонометри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79640" y="3860640"/>
            <a:ext cx="5040360" cy="863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79640" y="4797360"/>
            <a:ext cx="504036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8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4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3635280" y="4437000"/>
            <a:ext cx="1656000" cy="1511280"/>
            <a:chOff x="3635280" y="4437000"/>
            <a:chExt cx="1656000" cy="1511280"/>
          </a:xfrm>
        </p:grpSpPr>
        <p:sp>
          <p:nvSpPr>
            <p:cNvPr id="168" name=""/>
            <p:cNvSpPr/>
            <p:nvPr/>
          </p:nvSpPr>
          <p:spPr>
            <a:xfrm>
              <a:off x="3635280" y="4437000"/>
              <a:ext cx="1656000" cy="15112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95640" y="4797360"/>
              <a:ext cx="287280" cy="28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43280" y="4797360"/>
              <a:ext cx="287640" cy="28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67280" y="5445000"/>
              <a:ext cx="792000" cy="144720"/>
            </a:xfrm>
            <a:prstGeom prst="flowChartTerminator">
              <a:avLst/>
            </a:prstGeom>
            <a:solidFill>
              <a:srgbClr val="ff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Успехов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003640" y="3141720"/>
            <a:ext cx="933480" cy="790560"/>
          </a:xfrm>
          <a:prstGeom prst="rect">
            <a:avLst/>
          </a:prstGeom>
          <a:ln w="0">
            <a:noFill/>
          </a:ln>
        </p:spPr>
      </p:pic>
      <p:grpSp>
        <p:nvGrpSpPr>
          <p:cNvPr id="174" name=""/>
          <p:cNvGrpSpPr/>
          <p:nvPr/>
        </p:nvGrpSpPr>
        <p:grpSpPr>
          <a:xfrm>
            <a:off x="2627280" y="2276640"/>
            <a:ext cx="1655640" cy="1511280"/>
            <a:chOff x="2627280" y="2276640"/>
            <a:chExt cx="1655640" cy="1511280"/>
          </a:xfrm>
        </p:grpSpPr>
        <p:sp>
          <p:nvSpPr>
            <p:cNvPr id="175" name=""/>
            <p:cNvSpPr/>
            <p:nvPr/>
          </p:nvSpPr>
          <p:spPr>
            <a:xfrm>
              <a:off x="2627280" y="2276640"/>
              <a:ext cx="1655640" cy="1511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22560" y="2703600"/>
              <a:ext cx="287280" cy="2887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35280" y="2708280"/>
              <a:ext cx="287280" cy="2890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3203640" y="3071160"/>
              <a:ext cx="503280" cy="4316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66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9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610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 такое алгоритм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/последовательность операций, выполняемых для решения задач определенного типа/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 больше C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os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5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ил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Sin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/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Sin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500,больше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 больше С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os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5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ил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Sin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55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/равны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вое пошли - 3 гвоздя нашли. Следом семеро пойдут – много ли гвоздей найдут?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/ничего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бята пилят брёвна на метровые куски. Отпиливание одного куска занимает 1 минуту? За сколько минут они распилят бревно длиной 5 метров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/ 4 мин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77920" y="333000"/>
            <a:ext cx="86868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0000"/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т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ввел впервые систему координат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екар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1. Кто из известных писателей составлял математические задач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Л.Н.Толст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то из учителей-предметников, стоя осенью под яблоней, быстрее догадается, почему так часто что-то падает ему на голов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Физи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  <a:ea typeface="宋体"/>
              </a:rPr>
              <a:t>II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тур </a:t>
            </a: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Психологический тест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изображению реки на географической карте отгадать название ре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8000" y="2349360"/>
            <a:ext cx="1817640" cy="3456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208240" y="3068640"/>
            <a:ext cx="2003400" cy="2160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403880" y="3141720"/>
            <a:ext cx="2760480" cy="2016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7380360" y="2359080"/>
            <a:ext cx="1535040" cy="3806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0920" y="6021360"/>
            <a:ext cx="15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487440" indent="-487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чора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82920" y="5877000"/>
            <a:ext cx="15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ра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75280" y="5877000"/>
            <a:ext cx="15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мур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96360" y="6093000"/>
            <a:ext cx="158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и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III </a:t>
            </a: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Тур. Презентация команд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2811600" y="1340640"/>
            <a:ext cx="543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"Прочитать график функции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2222640"/>
            <a:ext cx="4033800" cy="2844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427640" y="2205000"/>
            <a:ext cx="4248000" cy="2808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95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"Графики функций-пословицы".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2464920"/>
            <a:ext cx="260208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"Повторение - мать учения"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03640" y="1655640"/>
            <a:ext cx="4968720" cy="3861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50560" y="1844640"/>
            <a:ext cx="27464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"Любишь с горы кататься, люби и саночки возить"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56000" y="469800"/>
            <a:ext cx="637200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50560" y="5805000"/>
            <a:ext cx="7993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"Как аукнется, так и откликнется"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16000" y="890640"/>
            <a:ext cx="676908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Графики производной. Назвать точки экстремумов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3852720" cy="2770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459320" y="1197000"/>
            <a:ext cx="3887640" cy="2776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68360" y="4006800"/>
            <a:ext cx="3816360" cy="2735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500720" y="4005360"/>
            <a:ext cx="3816360" cy="2795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92040" y="1157400"/>
            <a:ext cx="3959280" cy="28080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3992400"/>
            <a:ext cx="3959280" cy="280836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27640" y="3992400"/>
            <a:ext cx="3959280" cy="280836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43480" y="1197000"/>
            <a:ext cx="3959280" cy="28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7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8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8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9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18:42:31Z</dcterms:created>
  <dc:creator>Оля</dc:creator>
  <dc:description/>
  <dc:language>en-US</dc:language>
  <cp:lastModifiedBy>Оля</cp:lastModifiedBy>
  <dcterms:modified xsi:type="dcterms:W3CDTF">2008-02-19T17:48:20Z</dcterms:modified>
  <cp:revision>4</cp:revision>
  <dc:subject/>
  <dc:title>I тур - разминка</dc:title>
</cp:coreProperties>
</file>