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326-E44B-4162-84DA-347262AB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D8A-70CD-4005-9C50-A153761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6D7-03F3-46D0-A435-25671111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6AA-29CE-4D79-83BE-C0956DD9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327-A850-41C6-AE6F-B3C795E6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6FB-4033-433A-A87F-394258DC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D1CA-D070-41B5-8ED2-00B76ED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C03-E909-4BB3-B1EA-38CE500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305-7C01-4B18-97E6-31F5A47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120-38A4-4CA7-908C-7E9A7FE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91AC-90AF-47A5-A417-706EE69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478-8233-4840-B622-3D1B403A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4A9-080F-4AB8-8A5D-74DDA18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D0FC-04A1-470B-8CEE-6128541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EEC-0EBD-4EC5-B4ED-D86631ED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C47-1B6F-4E02-A5CC-C58483F0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D8E6-AB7B-465D-BD93-DBF51154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D15-649D-497A-BE3C-936BB773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15A-09A8-4964-AC7D-98CD6D3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007-4411-488A-8415-BE59584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E10-16E9-4985-B1E1-3FB0C330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57A-5050-4506-BFE0-2067F6D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ED0-6B2D-457F-A9B6-90CD4A8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E62-1558-4D99-8A55-36310C4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8FE3-F785-4CDC-A5A9-2E7CDF52A2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B46-5CFC-4722-B575-58C8AF1AA0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宋体"/>
              </a:rPr>
              <a:t>I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тур - размин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сказал «Математика-царица наук, а арифметика – царица математики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Карл Фридрих Гаусс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о ли название «арабские» цифры для наших современных циф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правильнее наз. индийскими придуманы в индии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является создателем современной буквенной символики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 Франсуа Виет фр. Матем.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ва натуральных числа, если разделить большее на меньшее дают в результате столько же, сколько получится при их умножени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 любое число и 1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V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Тур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38000"/>
            <a:ext cx="7499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=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+ 2,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у = 5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= С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,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|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|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692280"/>
            <a:ext cx="525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75755e"/>
                    </a:gs>
                  </a:gsLst>
                  <a:lin ang="5400000"/>
                </a:gradFill>
                <a:latin typeface="Arial"/>
              </a:rPr>
              <a:t>Исключи лишне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421000"/>
            <a:ext cx="1584360" cy="9367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833640"/>
            <a:ext cx="749952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у= - 3х+5, у= -2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3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у=    , у=  -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16360" y="3787920"/>
                <a:ext cx="338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59320" y="3787920"/>
            <a:ext cx="1944720" cy="9363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4076640"/>
            <a:ext cx="74991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84360" y="5227560"/>
                <a:ext cx="1201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00720" y="5011560"/>
                <a:ext cx="12016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72000" y="5156280"/>
                <a:ext cx="12016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84360" y="5013360"/>
                <a:ext cx="15130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268360" y="4940280"/>
            <a:ext cx="1944720" cy="13683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90400" y="1492200"/>
                <a:ext cx="131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1700280"/>
                <a:ext cx="1667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45000" y="1611360"/>
                <a:ext cx="1395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418440" y="1303200"/>
                <a:ext cx="18255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1413000"/>
            <a:ext cx="1944720" cy="12240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06 0.00671 C -0.07986 0.07546 -0.09566 0.14444 -0.15764 0.18657 C -0.21962 0.2287 -0.38507 0.21065 -0.43576 0.25903 C -0.48646 0.30741 -0.43802 0.47685 -0.46198 0.47639 C -0.48594 0.47593 -0.53038 0.25694 -0.57934 0.25602 C -0.6283 0.25509 -0.7151 0.51019 -0.75538 0.4706 C -0.79566 0.43102 -0.80816 0.22454 -0.82066 0.01829 E">
                                      <p:cBhvr>
                                        <p:cTn id="37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тур. «Эрудит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У одной палки два конца. Сколько станет      концов, если один конец отреза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1.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. 2.     В.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Г.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284640"/>
            <a:ext cx="4537080" cy="5760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4176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141720"/>
            <a:ext cx="83008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овина от половины числа равна половине. Какое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0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Б. 2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Г.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653000"/>
            <a:ext cx="860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Чему равно произведение последовательных целых чисел, начинающихся числом -3 и оканчивающихся числом 3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-3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Б. 3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1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221000"/>
            <a:ext cx="720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3000"/>
            <a:ext cx="4681440" cy="5029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149720"/>
            <a:ext cx="3060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68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68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4470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Могут ли быть перпендикулярными радиус и хорда, имеющие общую точку на окружно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. Да.   Б. Нет. В. Иногда. Г. Определить невозмож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063800"/>
            <a:ext cx="1008000" cy="5029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1014480"/>
            <a:ext cx="5616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421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торый сейчас час, если оставшаяся часть суток вдвое больше прошедш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9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. 8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6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 12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429000"/>
            <a:ext cx="442908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3430440"/>
            <a:ext cx="180000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2940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аписать словами число, состоящее их 11тысяч, одиннадцати сотен и одиннадцати единиц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12111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ур.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ссоциативные цепочки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трау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е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I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ур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2 мин составить как можно больше слов из следующих сл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860640"/>
            <a:ext cx="82296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ифметик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игонометр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860640"/>
            <a:ext cx="5040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797360"/>
            <a:ext cx="504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635280" y="4437000"/>
            <a:ext cx="1656000" cy="1511280"/>
            <a:chOff x="3635280" y="4437000"/>
            <a:chExt cx="1656000" cy="1511280"/>
          </a:xfrm>
        </p:grpSpPr>
        <p:sp>
          <p:nvSpPr>
            <p:cNvPr id="168" name=""/>
            <p:cNvSpPr/>
            <p:nvPr/>
          </p:nvSpPr>
          <p:spPr>
            <a:xfrm>
              <a:off x="3635280" y="4437000"/>
              <a:ext cx="1656000" cy="1511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5640" y="4797360"/>
              <a:ext cx="287280" cy="28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3280" y="4797360"/>
              <a:ext cx="287640" cy="28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5445000"/>
              <a:ext cx="792000" cy="144720"/>
            </a:xfrm>
            <a:prstGeom prst="flowChartTerminator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спехов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933480" cy="7905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627280" y="2276640"/>
            <a:ext cx="1655640" cy="1511280"/>
            <a:chOff x="2627280" y="2276640"/>
            <a:chExt cx="1655640" cy="1511280"/>
          </a:xfrm>
        </p:grpSpPr>
        <p:sp>
          <p:nvSpPr>
            <p:cNvPr id="175" name=""/>
            <p:cNvSpPr/>
            <p:nvPr/>
          </p:nvSpPr>
          <p:spPr>
            <a:xfrm>
              <a:off x="2627280" y="2276640"/>
              <a:ext cx="1655640" cy="1511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2560" y="2703600"/>
              <a:ext cx="287280" cy="288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5280" y="2708280"/>
              <a:ext cx="287280" cy="289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3640" y="3071160"/>
              <a:ext cx="503280" cy="431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66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1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алгорит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последовательность операций, выполняемых для решения задач определенного типа/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ольше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Sin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Si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500,больше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ольше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s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5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равны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ое пошли - 3 гвоздя нашли. Следом семеро пойдут – много ли гвоздей найдут?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ничего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пилят брёвна на метровые куски. Отпиливание одного куска занимает 1 минуту? За сколько минут они распилят бревно длиной 5 метров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 4 мин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7920" y="333000"/>
            <a:ext cx="8686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вел впервые систему координ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а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 Кто из известных писателей составлял математические зада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.Н.Толс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учителей-предметников, стоя осенью под яблоней, быстрее догадается, почему так часто что-то падает ему на голов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зи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宋体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тур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сихологический тест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зображению реки на географической карте отгадать название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1817640" cy="34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08240" y="3068640"/>
            <a:ext cx="20034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03880" y="3141720"/>
            <a:ext cx="2760480" cy="20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380360" y="2359080"/>
            <a:ext cx="1535040" cy="380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02136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чора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2920" y="587700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5280" y="587700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му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6093000"/>
            <a:ext cx="158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II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ур. Презентация команд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0" y="134064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"Прочитать график функции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222640"/>
            <a:ext cx="4033800" cy="28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"Графики функций-пословицы"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464920"/>
            <a:ext cx="2602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Повторение - мать учения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1655640"/>
            <a:ext cx="4968720" cy="386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2746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Любишь с горы кататься, люби и саночки возить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469800"/>
            <a:ext cx="6372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5805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Как аукнется, так и откликнется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890640"/>
            <a:ext cx="6769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Графики производной. Назвать точки экстремумов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52720" cy="277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9320" y="1197000"/>
            <a:ext cx="3887640" cy="27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4006800"/>
            <a:ext cx="381636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00720" y="4005360"/>
            <a:ext cx="3816360" cy="2795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2040" y="1157400"/>
            <a:ext cx="3959280" cy="28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992400"/>
            <a:ext cx="3959280" cy="28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3992400"/>
            <a:ext cx="395928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3480" y="1197000"/>
            <a:ext cx="395928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8:42:31Z</dcterms:created>
  <dc:creator>Оля</dc:creator>
  <dc:description/>
  <dc:language>en-US</dc:language>
  <cp:lastModifiedBy>Оля</cp:lastModifiedBy>
  <dcterms:modified xsi:type="dcterms:W3CDTF">2008-02-19T17:48:20Z</dcterms:modified>
  <cp:revision>4</cp:revision>
  <dc:subject/>
  <dc:title>I тур - разминка</dc:title>
</cp:coreProperties>
</file>