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6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  <p:custShowLst>
    <p:custShow name="Произвольный показ 1" id="0">
      <p:sldLst>
        <p:sld r:id="rId10"/>
      </p:sldLst>
    </p:custShow>
    <p:custShow name="Произвольный показ 3" id="1">
      <p:sldLst>
        <p:sld r:id="rId11"/>
      </p:sldLst>
    </p:custShow>
    <p:custShow name="Произвольный показ 4" id="2">
      <p:sldLst>
        <p:sld r:id="rId12"/>
      </p:sldLst>
    </p:custShow>
    <p:custShow name="Произвольный показ 5" id="3">
      <p:sldLst>
        <p:sld r:id="rId13"/>
      </p:sldLst>
    </p:custShow>
    <p:custShow name="Произвольный показ 6" id="4">
      <p:sldLst>
        <p:sld r:id="rId14"/>
      </p:sldLst>
    </p:custShow>
    <p:custShow name="Произвольный показ 7" id="5">
      <p:sldLst>
        <p:sld r:id="rId15"/>
      </p:sldLst>
    </p:custShow>
    <p:custShow name="Произвольный показ 8" id="6">
      <p:sldLst>
        <p:sld r:id="rId16"/>
      </p:sldLst>
    </p:custShow>
    <p:custShow name="Произвольный показ 9" id="7">
      <p:sldLst>
        <p:sld r:id="rId17"/>
      </p:sldLst>
    </p:custShow>
    <p:custShow name="Произвольный показ 10" id="8">
      <p:sldLst>
        <p:sld r:id="rId18"/>
      </p:sldLst>
    </p:custShow>
    <p:custShow name="Произвольный показ 11" id="9">
      <p:sldLst>
        <p:sld r:id="rId19"/>
      </p:sldLst>
    </p:custShow>
    <p:custShow name="Произвольный показ 13" id="10">
      <p:sldLst>
        <p:sld r:id="rId20"/>
      </p:sldLst>
    </p:custShow>
    <p:custShow name="Произвольный показ 14" id="11">
      <p:sldLst>
        <p:sld r:id="rId21"/>
      </p:sldLst>
    </p:custShow>
    <p:custShow name="Произвольный показ 16" id="12">
      <p:sldLst>
        <p:sld r:id="rId22"/>
      </p:sldLst>
    </p:custShow>
    <p:custShow name="Произвольный показ 19" id="13">
      <p:sldLst>
        <p:sld r:id="rId23"/>
      </p:sldLst>
    </p:custShow>
    <p:custShow name="Произвольный показ 21" id="14">
      <p:sldLst>
        <p:sld r:id="rId24"/>
      </p:sldLst>
    </p:custShow>
    <p:custShow name="Произвольный показ 22" id="15">
      <p:sldLst>
        <p:sld r:id="rId25"/>
      </p:sldLst>
    </p:custShow>
    <p:custShow name="Произвольный показ 24" id="16">
      <p:sldLst>
        <p:sld r:id="rId26"/>
      </p:sldLst>
    </p:custShow>
    <p:custShow name="Произвольный показ 25" id="17">
      <p:sldLst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8870-BB51-4AE0-8106-5CE8241C9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0116-630B-4F11-A924-91D1767E1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69E6-58CA-489A-9D2F-55FF28375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20F4-63E0-4A9E-9A63-C1F1E1D16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F1C4-128A-4B3B-ABD7-99D46B8131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BA56-9473-46FD-A150-52CCBE1469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1338-9EF2-4255-B388-617E9CEBE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DB1C-D2F1-4E36-9429-81710B4B4A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F7E2-E9F3-487D-9450-DA41E87056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E0E6-1771-446A-89B1-D9610B7D0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65E9-FC1D-49E7-8B67-231895AB2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0503-6D31-4598-BA59-A1F579919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52B0-7FF1-4FC8-8CBC-6F7A35AE25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8593-2BA7-4D1A-9784-9C722AAF3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1954-46D8-4D45-96BB-29C0511B37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30ED-D02B-4A6E-A573-02F1D3939A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D669-DB84-49D3-9754-4E689C5897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2B5-4C57-42A2-BEDA-D0D8DD363F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233-913F-4E7B-A307-7F9888866E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3F8-12AC-46B0-9031-F8FCF152A8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C59-FBC0-4BA8-8D8C-E63CD3FCAB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CD4-9A6F-48CF-B606-0CA9A2551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7B97-E15C-490F-8143-4EDF5AFDED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53-1453-4A4A-8EF0-D5D2702F62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417-61F9-44BF-899C-B55EAB0052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C60-DE35-4B13-AAEA-664CD86254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76F-9D6C-455F-9250-D944076709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86D-A11B-452F-B314-F5D37BD79D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5F2-FCD2-4C78-88AC-F0DD7A6C6F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0C5-3D6C-4A0C-99B3-F4E8CAC271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B312-2CDD-451B-8B67-16F6B92779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48DE-0B1A-4150-B70A-F04404391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68ED-89D1-4317-963C-007E633E3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1A61-3C78-453C-9969-9D952A923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117F-C552-4887-AEC0-FBAA0333F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986A-BEB5-4063-AAFF-4784889FE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762120" y="2819520"/>
            <a:ext cx="838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447920" y="6172200"/>
            <a:ext cx="19047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09480" y="5562360"/>
            <a:ext cx="681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021E9-8DBE-4B3B-81CA-1B3AFD48544E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AACA46-6D68-4AA3-B54E-D767DB3DE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BFD2CC-113E-4B16-BA2C-A8F4E0830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hyperlink" Target="file:///cleverer.ppt" TargetMode="External"/><Relationship Id="rId11" Type="http://schemas.openxmlformats.org/officeDocument/2006/relationships/hyperlink" Target="file:///cleverer.ppt" TargetMode="External"/><Relationship Id="rId12" Type="http://schemas.openxmlformats.org/officeDocument/2006/relationships/hyperlink" Target="file:///cleverer.ppt" TargetMode="Externa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3708360" y="1260360"/>
            <a:ext cx="48769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Solomon Granday born on Mon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Christened on Tue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Married on Wedne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Ill on Thur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Worse on Fri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Died on Satur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Buried on Sun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That was the end of poor Solomon  Granda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804000" y="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0" y="1114560"/>
            <a:ext cx="8891640" cy="5543280"/>
            <a:chOff x="0" y="1114560"/>
            <a:chExt cx="8891640" cy="5543280"/>
          </a:xfrm>
        </p:grpSpPr>
        <p:pic>
          <p:nvPicPr>
            <p:cNvPr id="23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14560"/>
              <a:ext cx="8891640" cy="55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"/>
            <p:cNvSpPr/>
            <p:nvPr/>
          </p:nvSpPr>
          <p:spPr>
            <a:xfrm>
              <a:off x="0" y="1114560"/>
              <a:ext cx="8891640" cy="55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Text Box 5"/>
          <p:cNvSpPr/>
          <p:nvPr/>
        </p:nvSpPr>
        <p:spPr>
          <a:xfrm>
            <a:off x="1042920" y="1773360"/>
            <a:ext cx="68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rrect the sentences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orrow I went to the dis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terday he will play footb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s been to the museum this we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284720" y="4005360"/>
            <a:ext cx="1439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2"/>
          <p:cNvGrpSpPr/>
          <p:nvPr/>
        </p:nvGrpSpPr>
        <p:grpSpPr>
          <a:xfrm>
            <a:off x="0" y="900000"/>
            <a:ext cx="8891640" cy="5757840"/>
            <a:chOff x="0" y="900000"/>
            <a:chExt cx="8891640" cy="5757840"/>
          </a:xfrm>
        </p:grpSpPr>
        <p:pic>
          <p:nvPicPr>
            <p:cNvPr id="2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0000"/>
              <a:ext cx="8891640" cy="57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"/>
            <p:cNvSpPr/>
            <p:nvPr/>
          </p:nvSpPr>
          <p:spPr>
            <a:xfrm>
              <a:off x="0" y="900000"/>
              <a:ext cx="8891640" cy="57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Text Box 5"/>
          <p:cNvSpPr/>
          <p:nvPr/>
        </p:nvSpPr>
        <p:spPr>
          <a:xfrm>
            <a:off x="539640" y="1238400"/>
            <a:ext cx="68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ll in the ga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g is a man’s …(good) fri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s are …(beautiful) than cam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hale is the …(big) sea anim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140360" y="5157720"/>
            <a:ext cx="1655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287280" y="1052640"/>
            <a:ext cx="8855280" cy="5614920"/>
            <a:chOff x="287280" y="1052640"/>
            <a:chExt cx="8855280" cy="5614920"/>
          </a:xfrm>
        </p:grpSpPr>
        <p:pic>
          <p:nvPicPr>
            <p:cNvPr id="248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1052640"/>
              <a:ext cx="8855280" cy="56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"/>
            <p:cNvSpPr/>
            <p:nvPr/>
          </p:nvSpPr>
          <p:spPr>
            <a:xfrm>
              <a:off x="287280" y="1052640"/>
              <a:ext cx="885528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Rectangle 5"/>
          <p:cNvSpPr/>
          <p:nvPr/>
        </p:nvSpPr>
        <p:spPr>
          <a:xfrm>
            <a:off x="971640" y="1557360"/>
            <a:ext cx="77058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rite down the plural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ess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lf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on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ety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643280" y="2349360"/>
            <a:ext cx="20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500720" y="220500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0" y="1197000"/>
            <a:ext cx="8891640" cy="4827600"/>
            <a:chOff x="0" y="1197000"/>
            <a:chExt cx="8891640" cy="48276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"/>
            <p:cNvSpPr/>
            <p:nvPr/>
          </p:nvSpPr>
          <p:spPr>
            <a:xfrm>
              <a:off x="0" y="119700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Text Box 5"/>
          <p:cNvSpPr/>
          <p:nvPr/>
        </p:nvSpPr>
        <p:spPr>
          <a:xfrm>
            <a:off x="1042920" y="1773360"/>
            <a:ext cx="68421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correct trans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niece is feeding her little kit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племянница покормила своего маленького котё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племянница кормит своего маленького котё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692360" y="609300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6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Text Box 5"/>
          <p:cNvSpPr/>
          <p:nvPr/>
        </p:nvSpPr>
        <p:spPr>
          <a:xfrm>
            <a:off x="1042920" y="1197000"/>
            <a:ext cx="68421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ke up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, s, u, m, e, 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, a, m, o, u, 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, t, a, i, l, c, 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580000" y="2421000"/>
            <a:ext cx="216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Text Box 5"/>
          <p:cNvSpPr/>
          <p:nvPr/>
        </p:nvSpPr>
        <p:spPr>
          <a:xfrm>
            <a:off x="1116000" y="1125360"/>
            <a:ext cx="6842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t in the missing let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depend ... n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m...rell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e..t hear...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 … v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..n fri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2"/>
          <p:cNvGrpSpPr/>
          <p:nvPr/>
        </p:nvGrpSpPr>
        <p:grpSpPr>
          <a:xfrm>
            <a:off x="106200" y="900000"/>
            <a:ext cx="8891640" cy="4827600"/>
            <a:chOff x="106200" y="900000"/>
            <a:chExt cx="8891640" cy="4827600"/>
          </a:xfrm>
        </p:grpSpPr>
        <p:pic>
          <p:nvPicPr>
            <p:cNvPr id="272" name="Picture 3" descr=""/>
            <p:cNvPicPr/>
            <p:nvPr/>
          </p:nvPicPr>
          <p:blipFill>
            <a:blip r:embed="rId1"/>
            <a:stretch/>
          </p:blipFill>
          <p:spPr>
            <a:xfrm>
              <a:off x="106200" y="90000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4"/>
            <p:cNvSpPr/>
            <p:nvPr/>
          </p:nvSpPr>
          <p:spPr>
            <a:xfrm>
              <a:off x="106200" y="90000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Text Box 5"/>
          <p:cNvSpPr/>
          <p:nvPr/>
        </p:nvSpPr>
        <p:spPr>
          <a:xfrm>
            <a:off x="468360" y="1413000"/>
            <a:ext cx="640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ite the verbs i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g-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859280" y="2060640"/>
            <a:ext cx="266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2"/>
          <p:cNvGrpSpPr/>
          <p:nvPr/>
        </p:nvGrpSpPr>
        <p:grpSpPr>
          <a:xfrm>
            <a:off x="0" y="907920"/>
            <a:ext cx="8891640" cy="5399280"/>
            <a:chOff x="0" y="907920"/>
            <a:chExt cx="8891640" cy="5399280"/>
          </a:xfrm>
        </p:grpSpPr>
        <p:pic>
          <p:nvPicPr>
            <p:cNvPr id="27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4"/>
            <p:cNvSpPr/>
            <p:nvPr/>
          </p:nvSpPr>
          <p:spPr>
            <a:xfrm>
              <a:off x="0" y="907920"/>
              <a:ext cx="889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>
            <a:off x="1835280" y="765000"/>
            <a:ext cx="532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pairs of rhym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                         poli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                   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ian                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                     r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l                         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Rea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880920"/>
            <a:ext cx="8891640" cy="5472360"/>
            <a:chOff x="0" y="880920"/>
            <a:chExt cx="8891640" cy="5472360"/>
          </a:xfrm>
        </p:grpSpPr>
        <p:pic>
          <p:nvPicPr>
            <p:cNvPr id="2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880920"/>
              <a:ext cx="889164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"/>
            <p:cNvSpPr/>
            <p:nvPr/>
          </p:nvSpPr>
          <p:spPr>
            <a:xfrm>
              <a:off x="0" y="880920"/>
              <a:ext cx="8891640" cy="54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Text Box 5"/>
          <p:cNvSpPr/>
          <p:nvPr/>
        </p:nvSpPr>
        <p:spPr>
          <a:xfrm>
            <a:off x="684360" y="1052640"/>
            <a:ext cx="770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t in the missing words: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obby, computer, naughty, teacher, intelli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um is a History      …                                            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          …        is pain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dad is a               …            programm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is                  …                                                        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little sister Ann is funny and sometimes …             .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6836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2"/>
          <p:cNvGrpSpPr/>
          <p:nvPr/>
        </p:nvGrpSpPr>
        <p:grpSpPr>
          <a:xfrm>
            <a:off x="287280" y="1052640"/>
            <a:ext cx="8855280" cy="5803920"/>
            <a:chOff x="287280" y="1052640"/>
            <a:chExt cx="8855280" cy="5803920"/>
          </a:xfrm>
        </p:grpSpPr>
        <p:pic>
          <p:nvPicPr>
            <p:cNvPr id="288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1052640"/>
              <a:ext cx="885528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4"/>
            <p:cNvSpPr/>
            <p:nvPr/>
          </p:nvSpPr>
          <p:spPr>
            <a:xfrm>
              <a:off x="287280" y="1052640"/>
              <a:ext cx="8855280" cy="58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Text Box 5"/>
          <p:cNvSpPr/>
          <p:nvPr/>
        </p:nvSpPr>
        <p:spPr>
          <a:xfrm>
            <a:off x="826920" y="1557360"/>
            <a:ext cx="446580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is is a pictur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Tower of Lon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7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7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281560" y="1628640"/>
            <a:ext cx="3314880" cy="4608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5076720" y="5661000"/>
            <a:ext cx="3672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209680" y="22860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Gill Sans MT"/>
              </a:rPr>
              <a:t>Gam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708360" y="1700280"/>
            <a:ext cx="4876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Who is clever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than a </a:t>
            </a:r>
            <a:r>
              <a:rPr b="1" i="1" lang="ru-RU" sz="4000" spc="-1" strike="noStrike">
                <a:solidFill>
                  <a:srgbClr val="eaeaea"/>
                </a:solidFill>
                <a:latin typeface="Gill Sans MT"/>
              </a:rPr>
              <a:t>5</a:t>
            </a: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th-form pupi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804000" y="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46836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287280" y="765000"/>
            <a:ext cx="8855280" cy="6091560"/>
            <a:chOff x="287280" y="765000"/>
            <a:chExt cx="8855280" cy="6091560"/>
          </a:xfrm>
        </p:grpSpPr>
        <p:pic>
          <p:nvPicPr>
            <p:cNvPr id="295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765000"/>
              <a:ext cx="8855280" cy="60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4"/>
            <p:cNvSpPr/>
            <p:nvPr/>
          </p:nvSpPr>
          <p:spPr>
            <a:xfrm>
              <a:off x="287280" y="765000"/>
              <a:ext cx="8855280" cy="60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Text Box 5"/>
          <p:cNvSpPr/>
          <p:nvPr/>
        </p:nvSpPr>
        <p:spPr>
          <a:xfrm>
            <a:off x="539640" y="1557360"/>
            <a:ext cx="42498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uess what it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you can see the Changing of the Guard. It has 600 ro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9751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0" y="765000"/>
            <a:ext cx="9142560" cy="6091560"/>
            <a:chOff x="0" y="765000"/>
            <a:chExt cx="9142560" cy="6091560"/>
          </a:xfrm>
        </p:grpSpPr>
        <p:pic>
          <p:nvPicPr>
            <p:cNvPr id="30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65000"/>
              <a:ext cx="9142560" cy="60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4"/>
            <p:cNvSpPr/>
            <p:nvPr/>
          </p:nvSpPr>
          <p:spPr>
            <a:xfrm>
              <a:off x="0" y="765000"/>
              <a:ext cx="9142560" cy="60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xt Box 5"/>
          <p:cNvSpPr/>
          <p:nvPr/>
        </p:nvSpPr>
        <p:spPr>
          <a:xfrm>
            <a:off x="1692360" y="1557360"/>
            <a:ext cx="6696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ndon parks. True or Fal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don Zoo is in Regent’s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ee the statue of Peter Pan in St. James’s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e park is famous for its Speaker’s Cor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2"/>
          <p:cNvGrpSpPr/>
          <p:nvPr/>
        </p:nvGrpSpPr>
        <p:grpSpPr>
          <a:xfrm>
            <a:off x="287280" y="765000"/>
            <a:ext cx="8855280" cy="5902560"/>
            <a:chOff x="287280" y="765000"/>
            <a:chExt cx="8855280" cy="5902560"/>
          </a:xfrm>
        </p:grpSpPr>
        <p:pic>
          <p:nvPicPr>
            <p:cNvPr id="306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765000"/>
              <a:ext cx="8855280" cy="59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4"/>
            <p:cNvSpPr/>
            <p:nvPr/>
          </p:nvSpPr>
          <p:spPr>
            <a:xfrm>
              <a:off x="287280" y="765000"/>
              <a:ext cx="8855280" cy="59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Text Box 5"/>
          <p:cNvSpPr/>
          <p:nvPr/>
        </p:nvSpPr>
        <p:spPr>
          <a:xfrm>
            <a:off x="1908000" y="1557360"/>
            <a:ext cx="6480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rite down the word combin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                             Pa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algar                     T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y                         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ingham                Abb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stminster                Squ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2"/>
          <p:cNvGrpSpPr/>
          <p:nvPr/>
        </p:nvGrpSpPr>
        <p:grpSpPr>
          <a:xfrm>
            <a:off x="179280" y="395280"/>
            <a:ext cx="8962920" cy="6271920"/>
            <a:chOff x="179280" y="395280"/>
            <a:chExt cx="8962920" cy="6271920"/>
          </a:xfrm>
        </p:grpSpPr>
        <p:sp>
          <p:nvSpPr>
            <p:cNvPr id="311" name="Rectangle 3"/>
            <p:cNvSpPr/>
            <p:nvPr/>
          </p:nvSpPr>
          <p:spPr>
            <a:xfrm>
              <a:off x="179280" y="395280"/>
              <a:ext cx="8855280" cy="590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</a:rPr>
                <a:t>Who is the winner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4"/>
            <p:cNvSpPr/>
            <p:nvPr/>
          </p:nvSpPr>
          <p:spPr>
            <a:xfrm>
              <a:off x="286920" y="764640"/>
              <a:ext cx="8855280" cy="59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Text Box 5"/>
          <p:cNvSpPr/>
          <p:nvPr/>
        </p:nvSpPr>
        <p:spPr>
          <a:xfrm>
            <a:off x="1908000" y="1557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36360" y="360360"/>
            <a:ext cx="8961120" cy="6270120"/>
            <a:chOff x="36360" y="360360"/>
            <a:chExt cx="8961120" cy="6270120"/>
          </a:xfrm>
        </p:grpSpPr>
        <p:sp>
          <p:nvSpPr>
            <p:cNvPr id="316" name="Rectangle 3"/>
            <p:cNvSpPr/>
            <p:nvPr/>
          </p:nvSpPr>
          <p:spPr>
            <a:xfrm>
              <a:off x="36360" y="360360"/>
              <a:ext cx="8854920" cy="5902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</a:rPr>
                <a:t>Thank you for attention!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142560" y="728280"/>
              <a:ext cx="885492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Text Box 5"/>
          <p:cNvSpPr/>
          <p:nvPr/>
        </p:nvSpPr>
        <p:spPr>
          <a:xfrm>
            <a:off x="1908000" y="1557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11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5292720" y="222120"/>
            <a:ext cx="3851280" cy="2090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24000" y="2637000"/>
            <a:ext cx="3889080" cy="2112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5400720" y="2637000"/>
            <a:ext cx="3743280" cy="203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5"/>
          <a:stretch/>
        </p:blipFill>
        <p:spPr>
          <a:xfrm>
            <a:off x="2484360" y="4697280"/>
            <a:ext cx="3888000" cy="2109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55640" y="76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58000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971640" y="3429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796000" y="33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771640" y="530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7524720" y="126828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7"/>
          <a:stretch/>
        </p:blipFill>
        <p:spPr>
          <a:xfrm>
            <a:off x="7451640" y="3860640"/>
            <a:ext cx="1441440" cy="121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8"/>
          <a:stretch/>
        </p:blipFill>
        <p:spPr>
          <a:xfrm>
            <a:off x="395280" y="1197000"/>
            <a:ext cx="1220760" cy="130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9"/>
          <a:stretch/>
        </p:blipFill>
        <p:spPr>
          <a:xfrm>
            <a:off x="108000" y="3645000"/>
            <a:ext cx="161136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836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97164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1619280" y="260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195640" y="260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916360" y="26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65164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6156360" y="33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6948360" y="333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766764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8317080" y="33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04292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154764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268360" y="27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98764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492360" y="27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565164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6227640" y="2781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6877080" y="2781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752472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8172360" y="2781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2843280" y="479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341964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406728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71636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9"/>
          <p:cNvSpPr/>
          <p:nvPr/>
        </p:nvSpPr>
        <p:spPr>
          <a:xfrm>
            <a:off x="5435640" y="479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657600" y="1676520"/>
            <a:ext cx="4876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100"/>
              </a:spcBef>
              <a:buClr>
                <a:srgbClr val="eaeaea"/>
              </a:buClr>
              <a:buFont typeface="Gill Sans MT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Gill Sans MT"/>
              </a:rPr>
              <a:t>What do we do at the less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2679840" cy="3651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2209680" y="22860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0" y="549360"/>
            <a:ext cx="9142560" cy="4965480"/>
            <a:chOff x="0" y="549360"/>
            <a:chExt cx="9142560" cy="4965480"/>
          </a:xfrm>
        </p:grpSpPr>
        <p:pic>
          <p:nvPicPr>
            <p:cNvPr id="21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9142560" cy="49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4"/>
            <p:cNvSpPr/>
            <p:nvPr/>
          </p:nvSpPr>
          <p:spPr>
            <a:xfrm>
              <a:off x="0" y="549360"/>
              <a:ext cx="9142560" cy="49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Text Box 5"/>
          <p:cNvSpPr/>
          <p:nvPr/>
        </p:nvSpPr>
        <p:spPr>
          <a:xfrm>
            <a:off x="684360" y="170028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oose the word with a general mea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quare, museum, city, park, ga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librarian, musician, occupation, actor, da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216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Text Box 5"/>
          <p:cNvSpPr/>
          <p:nvPr/>
        </p:nvSpPr>
        <p:spPr>
          <a:xfrm>
            <a:off x="1079640" y="987480"/>
            <a:ext cx="6842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the antonyms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sband                                  si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le                                       w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ther                                     si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ried                                    a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484360" y="26370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2"/>
          <p:cNvGrpSpPr/>
          <p:nvPr/>
        </p:nvGrpSpPr>
        <p:grpSpPr>
          <a:xfrm>
            <a:off x="0" y="907920"/>
            <a:ext cx="8891640" cy="5615280"/>
            <a:chOff x="0" y="907920"/>
            <a:chExt cx="8891640" cy="5615280"/>
          </a:xfrm>
        </p:grpSpPr>
        <p:pic>
          <p:nvPicPr>
            <p:cNvPr id="2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56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4"/>
            <p:cNvSpPr/>
            <p:nvPr/>
          </p:nvSpPr>
          <p:spPr>
            <a:xfrm>
              <a:off x="0" y="907920"/>
              <a:ext cx="8891640" cy="56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Text Box 5"/>
          <p:cNvSpPr/>
          <p:nvPr/>
        </p:nvSpPr>
        <p:spPr>
          <a:xfrm>
            <a:off x="1042920" y="549360"/>
            <a:ext cx="684216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rm the names of occupations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ic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–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wim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ch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rt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0" y="1111320"/>
            <a:ext cx="8891640" cy="4827600"/>
            <a:chOff x="0" y="1111320"/>
            <a:chExt cx="8891640" cy="482760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113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4"/>
            <p:cNvSpPr/>
            <p:nvPr/>
          </p:nvSpPr>
          <p:spPr>
            <a:xfrm>
              <a:off x="0" y="11113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Text Box 5"/>
          <p:cNvSpPr/>
          <p:nvPr/>
        </p:nvSpPr>
        <p:spPr>
          <a:xfrm>
            <a:off x="1042920" y="836640"/>
            <a:ext cx="684216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the words and the descri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unt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on or daughter of an a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iece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ife of an un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sin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le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ther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ughter of a brother or s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5280" y="1052640"/>
            <a:ext cx="8747280" cy="4749840"/>
            <a:chOff x="395280" y="1052640"/>
            <a:chExt cx="8747280" cy="474984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052640"/>
              <a:ext cx="874728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95280" y="1052640"/>
              <a:ext cx="8747280" cy="47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971640" y="1916280"/>
            <a:ext cx="7561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l in the appropriate article (a, the, 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London is the capital of    …   United King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an Petrov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   best pupil in th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I live in   …   Green Stre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8:23:28Z</dcterms:created>
  <dc:creator>Семья</dc:creator>
  <dc:description/>
  <dc:language>en-US</dc:language>
  <cp:lastModifiedBy>Шмекит</cp:lastModifiedBy>
  <dcterms:modified xsi:type="dcterms:W3CDTF">2013-04-07T19:16:31Z</dcterms:modified>
  <cp:revision>42</cp:revision>
  <dc:subject/>
  <dc:title>Слайд 1</dc:title>
</cp:coreProperties>
</file>