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11.png" ContentType="image/png"/>
  <Override PartName="/ppt/media/image3.wmf" ContentType="image/x-wmf"/>
  <Override PartName="/ppt/media/image4.gif" ContentType="image/gif"/>
  <Override PartName="/ppt/media/image7.wmf" ContentType="image/x-wmf"/>
  <Override PartName="/ppt/media/image6.wmf" ContentType="image/x-wmf"/>
  <Override PartName="/ppt/media/image8.wmf" ContentType="image/x-wmf"/>
  <Override PartName="/ppt/media/image9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  <p:custShowLst>
    <p:custShow name="Произвольный показ 1" id="0">
      <p:sldLst>
        <p:sld r:id="rId10"/>
      </p:sldLst>
    </p:custShow>
    <p:custShow name="Произвольный показ 3" id="1">
      <p:sldLst>
        <p:sld r:id="rId11"/>
      </p:sldLst>
    </p:custShow>
    <p:custShow name="Произвольный показ 4" id="2">
      <p:sldLst>
        <p:sld r:id="rId12"/>
      </p:sldLst>
    </p:custShow>
    <p:custShow name="Произвольный показ 5" id="3">
      <p:sldLst>
        <p:sld r:id="rId13"/>
      </p:sldLst>
    </p:custShow>
    <p:custShow name="Произвольный показ 6" id="4">
      <p:sldLst>
        <p:sld r:id="rId14"/>
      </p:sldLst>
    </p:custShow>
    <p:custShow name="Произвольный показ 7" id="5">
      <p:sldLst>
        <p:sld r:id="rId15"/>
      </p:sldLst>
    </p:custShow>
    <p:custShow name="Произвольный показ 8" id="6">
      <p:sldLst>
        <p:sld r:id="rId16"/>
      </p:sldLst>
    </p:custShow>
    <p:custShow name="Произвольный показ 9" id="7">
      <p:sldLst>
        <p:sld r:id="rId17"/>
      </p:sldLst>
    </p:custShow>
    <p:custShow name="Произвольный показ 10" id="8">
      <p:sldLst>
        <p:sld r:id="rId18"/>
      </p:sldLst>
    </p:custShow>
    <p:custShow name="Произвольный показ 11" id="9">
      <p:sldLst>
        <p:sld r:id="rId19"/>
      </p:sldLst>
    </p:custShow>
    <p:custShow name="Произвольный показ 13" id="10">
      <p:sldLst>
        <p:sld r:id="rId20"/>
      </p:sldLst>
    </p:custShow>
    <p:custShow name="Произвольный показ 14" id="11">
      <p:sldLst>
        <p:sld r:id="rId21"/>
      </p:sldLst>
    </p:custShow>
    <p:custShow name="Произвольный показ 16" id="12">
      <p:sldLst>
        <p:sld r:id="rId22"/>
      </p:sldLst>
    </p:custShow>
    <p:custShow name="Произвольный показ 19" id="13">
      <p:sldLst>
        <p:sld r:id="rId23"/>
      </p:sldLst>
    </p:custShow>
    <p:custShow name="Произвольный показ 21" id="14">
      <p:sldLst>
        <p:sld r:id="rId24"/>
      </p:sldLst>
    </p:custShow>
    <p:custShow name="Произвольный показ 22" id="15">
      <p:sldLst>
        <p:sld r:id="rId25"/>
      </p:sldLst>
    </p:custShow>
    <p:custShow name="Произвольный показ 24" id="16">
      <p:sldLst>
        <p:sld r:id="rId26"/>
      </p:sldLst>
    </p:custShow>
    <p:custShow name="Произвольный показ 25" id="17">
      <p:sldLst>
        <p:sld r:id="rId2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DBC1C-A755-4E8C-9F88-098872935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7240" y="923868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2832-93FF-45CC-9955-5D9F0DC3B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1538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1BE7-55BF-4D36-B564-80503202D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460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5196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5724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0460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5196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C0DB-993D-4C19-85E8-DC6715D24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471CE-F022-4E40-B55D-BEE718EBAB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657240" y="2057400"/>
            <a:ext cx="4871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817A-93AD-46E9-9C0F-DB0463B06D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487188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F3550-AF4D-437F-9404-D4A52DECC9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8E6F7-C602-4FD4-9667-71262A9DBD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538D4-A7DD-44A7-931F-7153AB4948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09680" y="-274680"/>
            <a:ext cx="6548400" cy="89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C4A9-0685-4624-96E7-5B8165DAD4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1F9DF-F3BC-4938-ABB5-84D65C2DEF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57240" y="2057400"/>
            <a:ext cx="4871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A34A-58C9-4A42-A602-26EAB96D1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538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58E03-9761-44AE-9262-A2960BE5CC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4066A-078A-4FC1-9E02-85F01B6214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57240" y="923868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C35A4-AB52-4646-A730-5A35610646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1538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50740-9D0A-45F2-8441-A7DD032F8D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0460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5196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5724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30460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5196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9800C-1C42-495B-94F1-31E6610212F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8070-7147-492A-85E8-4D4AC13D5E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657240" y="2057400"/>
            <a:ext cx="4871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C57-3327-4FEA-877B-74DFE9CE45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487188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841-98B8-4ECC-81E8-7B83EF9C32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70E6-AC64-4CC8-B5A1-2AC7FAEFE9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F42-39D8-4266-A486-F446406EEF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487188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175C-1FFC-4DB1-A480-B80E4332AB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09680" y="-274680"/>
            <a:ext cx="6548400" cy="89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79A-3BA3-4ABE-BA31-659DD1043F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E00-3338-402C-8DAB-84D9D93CF9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538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6DA4-0B34-4893-933D-5DB40530F9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6D6-7E0C-4F1A-A4E1-43229C7B6C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57240" y="923868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BDEA-0FC2-4DE4-882E-020D342622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1538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86A-DEC6-415A-B3B5-BB996EA78C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0460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5196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65724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530460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5196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F727-C73B-45EC-9220-944F4E2368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657240" y="2057400"/>
            <a:ext cx="48718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487188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08DD-5B0E-4EAC-BC4E-2D8A030186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2209680" y="-274680"/>
            <a:ext cx="6548400" cy="89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538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57240" y="923868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1538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0460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951960" y="167652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65724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530460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951960" y="9238680"/>
            <a:ext cx="156852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807A-AF3A-4769-8945-598783EF5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09680" y="-274680"/>
            <a:ext cx="6548400" cy="890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9A075-4AA0-47C7-9E17-A62B2997C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B5CC-A9B2-4C73-B8BA-40051C688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53840" y="923868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078B-21D4-4F8A-B021-2648E645A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572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153840" y="1676520"/>
            <a:ext cx="237744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7240" y="9238680"/>
            <a:ext cx="4871880" cy="69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0D27-6A8D-4C66-9A38-5DE20A434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57240" y="1676520"/>
            <a:ext cx="487188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762120" y="2819520"/>
            <a:ext cx="8380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1447920" y="6172200"/>
            <a:ext cx="19047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09480" y="5562360"/>
            <a:ext cx="68112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6E0E3-6FD7-44CD-AB14-F908D69A5F27}" type="slidenum"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FBF461D-7328-46C1-9217-C52DF444E6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E123CA8-F84E-42B5-BA9B-9CDAE66FA0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09680" y="-274680"/>
            <a:ext cx="6548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657240" y="1676520"/>
            <a:ext cx="4871880" cy="144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gi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hyperlink" Target="file:///cleverer.ppt" TargetMode="External"/><Relationship Id="rId11" Type="http://schemas.openxmlformats.org/officeDocument/2006/relationships/hyperlink" Target="file:///cleverer.ppt" TargetMode="External"/><Relationship Id="rId12" Type="http://schemas.openxmlformats.org/officeDocument/2006/relationships/hyperlink" Target="file:///cleverer.ppt" TargetMode="External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3708360" y="1260360"/>
            <a:ext cx="487692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eaeaea"/>
                </a:solidFill>
                <a:latin typeface="Gill Sans MT"/>
              </a:rPr>
              <a:t>Solomon Granday born on Monday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eaeaea"/>
                </a:solidFill>
                <a:latin typeface="Gill Sans MT"/>
              </a:rPr>
              <a:t>Christened on Tuesday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eaeaea"/>
                </a:solidFill>
                <a:latin typeface="Gill Sans MT"/>
              </a:rPr>
              <a:t>Married on Wednesday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eaeaea"/>
                </a:solidFill>
                <a:latin typeface="Gill Sans MT"/>
              </a:rPr>
              <a:t>Ill on Thursday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eaeaea"/>
                </a:solidFill>
                <a:latin typeface="Gill Sans MT"/>
              </a:rPr>
              <a:t>Worse on Friday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eaeaea"/>
                </a:solidFill>
                <a:latin typeface="Gill Sans MT"/>
              </a:rPr>
              <a:t>Died on Saturday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eaeaea"/>
                </a:solidFill>
                <a:latin typeface="Gill Sans MT"/>
              </a:rPr>
              <a:t>Buried on Sunday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200" spc="-1" strike="noStrike">
                <a:solidFill>
                  <a:srgbClr val="eaeaea"/>
                </a:solidFill>
                <a:latin typeface="Gill Sans MT"/>
              </a:rPr>
              <a:t>That was the end of poor Solomon  Granday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6804000" y="0"/>
            <a:ext cx="161928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Gramma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Group 2"/>
          <p:cNvGrpSpPr/>
          <p:nvPr/>
        </p:nvGrpSpPr>
        <p:grpSpPr>
          <a:xfrm>
            <a:off x="0" y="1114560"/>
            <a:ext cx="8891640" cy="5543280"/>
            <a:chOff x="0" y="1114560"/>
            <a:chExt cx="8891640" cy="5543280"/>
          </a:xfrm>
        </p:grpSpPr>
        <p:pic>
          <p:nvPicPr>
            <p:cNvPr id="236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1114560"/>
              <a:ext cx="8891640" cy="55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4"/>
            <p:cNvSpPr/>
            <p:nvPr/>
          </p:nvSpPr>
          <p:spPr>
            <a:xfrm>
              <a:off x="0" y="1114560"/>
              <a:ext cx="8891640" cy="55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8" name="Text Box 5"/>
          <p:cNvSpPr/>
          <p:nvPr/>
        </p:nvSpPr>
        <p:spPr>
          <a:xfrm>
            <a:off x="1042920" y="1773360"/>
            <a:ext cx="68421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rrect the sentences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morrow I went to the dis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sterday he will play footb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has been to the museum this wee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4284720" y="4005360"/>
            <a:ext cx="14396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Gramm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Group 2"/>
          <p:cNvGrpSpPr/>
          <p:nvPr/>
        </p:nvGrpSpPr>
        <p:grpSpPr>
          <a:xfrm>
            <a:off x="0" y="900000"/>
            <a:ext cx="8891640" cy="5757840"/>
            <a:chOff x="0" y="900000"/>
            <a:chExt cx="8891640" cy="5757840"/>
          </a:xfrm>
        </p:grpSpPr>
        <p:pic>
          <p:nvPicPr>
            <p:cNvPr id="242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900000"/>
              <a:ext cx="8891640" cy="57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4"/>
            <p:cNvSpPr/>
            <p:nvPr/>
          </p:nvSpPr>
          <p:spPr>
            <a:xfrm>
              <a:off x="0" y="900000"/>
              <a:ext cx="8891640" cy="575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Text Box 5"/>
          <p:cNvSpPr/>
          <p:nvPr/>
        </p:nvSpPr>
        <p:spPr>
          <a:xfrm>
            <a:off x="539640" y="1238400"/>
            <a:ext cx="68421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ll in the gap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og is a man’s …(good) frie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rses are …(beautiful) than came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hale is the …(big) sea anim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4140360" y="5157720"/>
            <a:ext cx="16556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Gramm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Group 2"/>
          <p:cNvGrpSpPr/>
          <p:nvPr/>
        </p:nvGrpSpPr>
        <p:grpSpPr>
          <a:xfrm>
            <a:off x="287280" y="1052640"/>
            <a:ext cx="8855280" cy="5614920"/>
            <a:chOff x="287280" y="1052640"/>
            <a:chExt cx="8855280" cy="5614920"/>
          </a:xfrm>
        </p:grpSpPr>
        <p:pic>
          <p:nvPicPr>
            <p:cNvPr id="248" name="Picture 3" descr=""/>
            <p:cNvPicPr/>
            <p:nvPr/>
          </p:nvPicPr>
          <p:blipFill>
            <a:blip r:embed="rId1"/>
            <a:stretch/>
          </p:blipFill>
          <p:spPr>
            <a:xfrm>
              <a:off x="287280" y="1052640"/>
              <a:ext cx="8855280" cy="56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4"/>
            <p:cNvSpPr/>
            <p:nvPr/>
          </p:nvSpPr>
          <p:spPr>
            <a:xfrm>
              <a:off x="287280" y="1052640"/>
              <a:ext cx="8855280" cy="56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Rectangle 5"/>
          <p:cNvSpPr/>
          <p:nvPr/>
        </p:nvSpPr>
        <p:spPr>
          <a:xfrm>
            <a:off x="971640" y="1557360"/>
            <a:ext cx="77058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Write down the plural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 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ess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lf 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on 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ety 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4643280" y="2349360"/>
            <a:ext cx="2089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4500720" y="2205000"/>
            <a:ext cx="201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Gramma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Group 2"/>
          <p:cNvGrpSpPr/>
          <p:nvPr/>
        </p:nvGrpSpPr>
        <p:grpSpPr>
          <a:xfrm>
            <a:off x="0" y="1197000"/>
            <a:ext cx="8891640" cy="4827600"/>
            <a:chOff x="0" y="1197000"/>
            <a:chExt cx="8891640" cy="4827600"/>
          </a:xfrm>
        </p:grpSpPr>
        <p:pic>
          <p:nvPicPr>
            <p:cNvPr id="255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1197000"/>
              <a:ext cx="8891640" cy="48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"/>
            <p:cNvSpPr/>
            <p:nvPr/>
          </p:nvSpPr>
          <p:spPr>
            <a:xfrm>
              <a:off x="0" y="1197000"/>
              <a:ext cx="8891640" cy="48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Text Box 5"/>
          <p:cNvSpPr/>
          <p:nvPr/>
        </p:nvSpPr>
        <p:spPr>
          <a:xfrm>
            <a:off x="1042920" y="1773360"/>
            <a:ext cx="684216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oose the correct transl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 niece is feeding her little kit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я племянница покормила своего маленького котён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я племянница кормит своего маленького котён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1692360" y="6093000"/>
            <a:ext cx="56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Writ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Group 2"/>
          <p:cNvGrpSpPr/>
          <p:nvPr/>
        </p:nvGrpSpPr>
        <p:grpSpPr>
          <a:xfrm>
            <a:off x="0" y="907920"/>
            <a:ext cx="8891640" cy="4827600"/>
            <a:chOff x="0" y="907920"/>
            <a:chExt cx="8891640" cy="4827600"/>
          </a:xfrm>
        </p:grpSpPr>
        <p:pic>
          <p:nvPicPr>
            <p:cNvPr id="26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8891640" cy="48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4"/>
            <p:cNvSpPr/>
            <p:nvPr/>
          </p:nvSpPr>
          <p:spPr>
            <a:xfrm>
              <a:off x="0" y="907920"/>
              <a:ext cx="8891640" cy="48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Text Box 5"/>
          <p:cNvSpPr/>
          <p:nvPr/>
        </p:nvSpPr>
        <p:spPr>
          <a:xfrm>
            <a:off x="1042920" y="1197000"/>
            <a:ext cx="684216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5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ake up wor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, s, u, m, e, u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, a, m, o, u, f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, t, a, i, l, c, 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5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5580000" y="2421000"/>
            <a:ext cx="216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6" name="Group 2"/>
          <p:cNvGrpSpPr/>
          <p:nvPr/>
        </p:nvGrpSpPr>
        <p:grpSpPr>
          <a:xfrm>
            <a:off x="0" y="907920"/>
            <a:ext cx="8891640" cy="4827600"/>
            <a:chOff x="0" y="907920"/>
            <a:chExt cx="8891640" cy="4827600"/>
          </a:xfrm>
        </p:grpSpPr>
        <p:pic>
          <p:nvPicPr>
            <p:cNvPr id="267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8891640" cy="48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4"/>
            <p:cNvSpPr/>
            <p:nvPr/>
          </p:nvSpPr>
          <p:spPr>
            <a:xfrm>
              <a:off x="0" y="907920"/>
              <a:ext cx="8891640" cy="48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Text Box 5"/>
          <p:cNvSpPr/>
          <p:nvPr/>
        </p:nvSpPr>
        <p:spPr>
          <a:xfrm>
            <a:off x="1116000" y="1125360"/>
            <a:ext cx="68421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ut in the missing lett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depend ... nt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m...rell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we..t hear...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 … ving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..n fri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Group 2"/>
          <p:cNvGrpSpPr/>
          <p:nvPr/>
        </p:nvGrpSpPr>
        <p:grpSpPr>
          <a:xfrm>
            <a:off x="106200" y="900000"/>
            <a:ext cx="8891640" cy="4827600"/>
            <a:chOff x="106200" y="900000"/>
            <a:chExt cx="8891640" cy="4827600"/>
          </a:xfrm>
        </p:grpSpPr>
        <p:pic>
          <p:nvPicPr>
            <p:cNvPr id="272" name="Picture 3" descr=""/>
            <p:cNvPicPr/>
            <p:nvPr/>
          </p:nvPicPr>
          <p:blipFill>
            <a:blip r:embed="rId1"/>
            <a:stretch/>
          </p:blipFill>
          <p:spPr>
            <a:xfrm>
              <a:off x="106200" y="900000"/>
              <a:ext cx="8891640" cy="48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4"/>
            <p:cNvSpPr/>
            <p:nvPr/>
          </p:nvSpPr>
          <p:spPr>
            <a:xfrm>
              <a:off x="106200" y="900000"/>
              <a:ext cx="8891640" cy="48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Text Box 5"/>
          <p:cNvSpPr/>
          <p:nvPr/>
        </p:nvSpPr>
        <p:spPr>
          <a:xfrm>
            <a:off x="468360" y="1413000"/>
            <a:ext cx="640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ite the verbs i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g-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or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t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t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t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4859280" y="2060640"/>
            <a:ext cx="266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Group 2"/>
          <p:cNvGrpSpPr/>
          <p:nvPr/>
        </p:nvGrpSpPr>
        <p:grpSpPr>
          <a:xfrm>
            <a:off x="0" y="907920"/>
            <a:ext cx="8891640" cy="5399280"/>
            <a:chOff x="0" y="907920"/>
            <a:chExt cx="8891640" cy="5399280"/>
          </a:xfrm>
        </p:grpSpPr>
        <p:pic>
          <p:nvPicPr>
            <p:cNvPr id="278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8891640" cy="53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4"/>
            <p:cNvSpPr/>
            <p:nvPr/>
          </p:nvSpPr>
          <p:spPr>
            <a:xfrm>
              <a:off x="0" y="907920"/>
              <a:ext cx="8891640" cy="53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Text Box 5"/>
          <p:cNvSpPr/>
          <p:nvPr/>
        </p:nvSpPr>
        <p:spPr>
          <a:xfrm>
            <a:off x="1835280" y="765000"/>
            <a:ext cx="5329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tch pairs of rhyming wor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                         politic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                     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ian                m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k                      r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il                         co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Read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Group 2"/>
          <p:cNvGrpSpPr/>
          <p:nvPr/>
        </p:nvGrpSpPr>
        <p:grpSpPr>
          <a:xfrm>
            <a:off x="0" y="880920"/>
            <a:ext cx="8891640" cy="5472360"/>
            <a:chOff x="0" y="880920"/>
            <a:chExt cx="8891640" cy="5472360"/>
          </a:xfrm>
        </p:grpSpPr>
        <p:pic>
          <p:nvPicPr>
            <p:cNvPr id="283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880920"/>
              <a:ext cx="8891640" cy="547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4"/>
            <p:cNvSpPr/>
            <p:nvPr/>
          </p:nvSpPr>
          <p:spPr>
            <a:xfrm>
              <a:off x="0" y="880920"/>
              <a:ext cx="8891640" cy="54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Text Box 5"/>
          <p:cNvSpPr/>
          <p:nvPr/>
        </p:nvSpPr>
        <p:spPr>
          <a:xfrm>
            <a:off x="684360" y="1052640"/>
            <a:ext cx="7704000" cy="49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ut in the missing words: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hobby, computer, naughty, teacher, intelli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mum is a History      …                                            .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          …        is pain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dad is a               …            programm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 is                  …                                                          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little sister Ann is funny and sometimes …             .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468360" y="-2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Engl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Group 2"/>
          <p:cNvGrpSpPr/>
          <p:nvPr/>
        </p:nvGrpSpPr>
        <p:grpSpPr>
          <a:xfrm>
            <a:off x="287280" y="1052640"/>
            <a:ext cx="8855280" cy="5803920"/>
            <a:chOff x="287280" y="1052640"/>
            <a:chExt cx="8855280" cy="5803920"/>
          </a:xfrm>
        </p:grpSpPr>
        <p:pic>
          <p:nvPicPr>
            <p:cNvPr id="288" name="Picture 3" descr=""/>
            <p:cNvPicPr/>
            <p:nvPr/>
          </p:nvPicPr>
          <p:blipFill>
            <a:blip r:embed="rId1"/>
            <a:stretch/>
          </p:blipFill>
          <p:spPr>
            <a:xfrm>
              <a:off x="287280" y="1052640"/>
              <a:ext cx="8855280" cy="580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Text Box 4"/>
            <p:cNvSpPr/>
            <p:nvPr/>
          </p:nvSpPr>
          <p:spPr>
            <a:xfrm>
              <a:off x="287280" y="1052640"/>
              <a:ext cx="8855280" cy="58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Text Box 5"/>
          <p:cNvSpPr/>
          <p:nvPr/>
        </p:nvSpPr>
        <p:spPr>
          <a:xfrm>
            <a:off x="826920" y="1557360"/>
            <a:ext cx="4465800" cy="55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2520">
              <a:spcBef>
                <a:spcPts val="20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is is a picture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0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001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uckingham Pa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001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estminster Abb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001"/>
              </a:spcBef>
              <a:buClr>
                <a:srgbClr val="ffffff"/>
              </a:buClr>
              <a:buFont typeface="Times New Roman"/>
              <a:buAutoNum type="alphaL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he Tower of Lond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75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75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6" descr=""/>
          <p:cNvPicPr/>
          <p:nvPr/>
        </p:nvPicPr>
        <p:blipFill>
          <a:blip r:embed="rId2"/>
          <a:stretch/>
        </p:blipFill>
        <p:spPr>
          <a:xfrm>
            <a:off x="5281560" y="1628640"/>
            <a:ext cx="3314880" cy="460872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7"/>
          <p:cNvSpPr/>
          <p:nvPr/>
        </p:nvSpPr>
        <p:spPr>
          <a:xfrm>
            <a:off x="5076720" y="5661000"/>
            <a:ext cx="3672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2209680" y="228600"/>
            <a:ext cx="6553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Gill Sans MT"/>
              </a:rPr>
              <a:t>Gam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3708360" y="1700280"/>
            <a:ext cx="4876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Gill Sans MT"/>
              </a:rPr>
              <a:t>Who is clevere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Gill Sans MT"/>
              </a:rPr>
              <a:t>than a </a:t>
            </a:r>
            <a:r>
              <a:rPr b="1" i="1" lang="ru-RU" sz="4000" spc="-1" strike="noStrike">
                <a:solidFill>
                  <a:srgbClr val="eaeaea"/>
                </a:solidFill>
                <a:latin typeface="Gill Sans MT"/>
              </a:rPr>
              <a:t>5</a:t>
            </a:r>
            <a:r>
              <a:rPr b="1" i="1" lang="en-US" sz="4000" spc="-1" strike="noStrike">
                <a:solidFill>
                  <a:srgbClr val="eaeaea"/>
                </a:solidFill>
                <a:latin typeface="Gill Sans MT"/>
              </a:rPr>
              <a:t>th-form pupil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6804000" y="0"/>
            <a:ext cx="161928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46836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Engl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Group 2"/>
          <p:cNvGrpSpPr/>
          <p:nvPr/>
        </p:nvGrpSpPr>
        <p:grpSpPr>
          <a:xfrm>
            <a:off x="287280" y="765000"/>
            <a:ext cx="8855280" cy="6091560"/>
            <a:chOff x="287280" y="765000"/>
            <a:chExt cx="8855280" cy="6091560"/>
          </a:xfrm>
        </p:grpSpPr>
        <p:pic>
          <p:nvPicPr>
            <p:cNvPr id="295" name="Picture 3" descr=""/>
            <p:cNvPicPr/>
            <p:nvPr/>
          </p:nvPicPr>
          <p:blipFill>
            <a:blip r:embed="rId1"/>
            <a:stretch/>
          </p:blipFill>
          <p:spPr>
            <a:xfrm>
              <a:off x="287280" y="765000"/>
              <a:ext cx="8855280" cy="609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 Box 4"/>
            <p:cNvSpPr/>
            <p:nvPr/>
          </p:nvSpPr>
          <p:spPr>
            <a:xfrm>
              <a:off x="287280" y="765000"/>
              <a:ext cx="8855280" cy="60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Text Box 5"/>
          <p:cNvSpPr/>
          <p:nvPr/>
        </p:nvSpPr>
        <p:spPr>
          <a:xfrm>
            <a:off x="539640" y="1557360"/>
            <a:ext cx="42498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uess what it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re you can see the Changing of the Guard. It has 600 roo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397512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Engl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Group 2"/>
          <p:cNvGrpSpPr/>
          <p:nvPr/>
        </p:nvGrpSpPr>
        <p:grpSpPr>
          <a:xfrm>
            <a:off x="0" y="765000"/>
            <a:ext cx="9142560" cy="6091560"/>
            <a:chOff x="0" y="765000"/>
            <a:chExt cx="9142560" cy="6091560"/>
          </a:xfrm>
        </p:grpSpPr>
        <p:pic>
          <p:nvPicPr>
            <p:cNvPr id="30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765000"/>
              <a:ext cx="9142560" cy="609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4"/>
            <p:cNvSpPr/>
            <p:nvPr/>
          </p:nvSpPr>
          <p:spPr>
            <a:xfrm>
              <a:off x="0" y="765000"/>
              <a:ext cx="9142560" cy="60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Text Box 5"/>
          <p:cNvSpPr/>
          <p:nvPr/>
        </p:nvSpPr>
        <p:spPr>
          <a:xfrm>
            <a:off x="1692360" y="1557360"/>
            <a:ext cx="6696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2520" algn="ctr">
              <a:spcBef>
                <a:spcPts val="20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ondon parks. True or Fal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don Zoo is in Regent’s Pa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see the statue of Peter Pan in St. James’s pa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e park is famous for its Speaker’s Corn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39528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Engl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Group 2"/>
          <p:cNvGrpSpPr/>
          <p:nvPr/>
        </p:nvGrpSpPr>
        <p:grpSpPr>
          <a:xfrm>
            <a:off x="287280" y="765000"/>
            <a:ext cx="8855280" cy="5902560"/>
            <a:chOff x="287280" y="765000"/>
            <a:chExt cx="8855280" cy="5902560"/>
          </a:xfrm>
        </p:grpSpPr>
        <p:pic>
          <p:nvPicPr>
            <p:cNvPr id="306" name="Picture 3" descr=""/>
            <p:cNvPicPr/>
            <p:nvPr/>
          </p:nvPicPr>
          <p:blipFill>
            <a:blip r:embed="rId1"/>
            <a:stretch/>
          </p:blipFill>
          <p:spPr>
            <a:xfrm>
              <a:off x="287280" y="765000"/>
              <a:ext cx="8855280" cy="590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4"/>
            <p:cNvSpPr/>
            <p:nvPr/>
          </p:nvSpPr>
          <p:spPr>
            <a:xfrm>
              <a:off x="287280" y="765000"/>
              <a:ext cx="8855280" cy="59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Text Box 5"/>
          <p:cNvSpPr/>
          <p:nvPr/>
        </p:nvSpPr>
        <p:spPr>
          <a:xfrm>
            <a:off x="1908000" y="1557360"/>
            <a:ext cx="64803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Write down the word combin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                              Pa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falgar                     To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y                         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ingham                Abb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stminster                Squ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"/>
          <p:cNvSpPr/>
          <p:nvPr/>
        </p:nvSpPr>
        <p:spPr>
          <a:xfrm>
            <a:off x="39528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Group 2"/>
          <p:cNvGrpSpPr/>
          <p:nvPr/>
        </p:nvGrpSpPr>
        <p:grpSpPr>
          <a:xfrm>
            <a:off x="179280" y="395280"/>
            <a:ext cx="8962920" cy="6271920"/>
            <a:chOff x="179280" y="395280"/>
            <a:chExt cx="8962920" cy="6271920"/>
          </a:xfrm>
        </p:grpSpPr>
        <p:sp>
          <p:nvSpPr>
            <p:cNvPr id="311" name="Rectangle 3"/>
            <p:cNvSpPr/>
            <p:nvPr/>
          </p:nvSpPr>
          <p:spPr>
            <a:xfrm>
              <a:off x="179280" y="395280"/>
              <a:ext cx="8855280" cy="5902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5400" spc="-1" strike="noStrike">
                  <a:solidFill>
                    <a:srgbClr val="ffffff"/>
                  </a:solidFill>
                  <a:latin typeface="Times New Roman"/>
                </a:rPr>
                <a:t>Who is the winner?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Text Box 4"/>
            <p:cNvSpPr/>
            <p:nvPr/>
          </p:nvSpPr>
          <p:spPr>
            <a:xfrm>
              <a:off x="286920" y="764640"/>
              <a:ext cx="8855280" cy="59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Text Box 5"/>
          <p:cNvSpPr/>
          <p:nvPr/>
        </p:nvSpPr>
        <p:spPr>
          <a:xfrm>
            <a:off x="1908000" y="1557360"/>
            <a:ext cx="6480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39528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2"/>
          <p:cNvGrpSpPr/>
          <p:nvPr/>
        </p:nvGrpSpPr>
        <p:grpSpPr>
          <a:xfrm>
            <a:off x="36360" y="360360"/>
            <a:ext cx="8961120" cy="6270120"/>
            <a:chOff x="36360" y="360360"/>
            <a:chExt cx="8961120" cy="6270120"/>
          </a:xfrm>
        </p:grpSpPr>
        <p:sp>
          <p:nvSpPr>
            <p:cNvPr id="316" name="Rectangle 3"/>
            <p:cNvSpPr/>
            <p:nvPr/>
          </p:nvSpPr>
          <p:spPr>
            <a:xfrm>
              <a:off x="36360" y="360360"/>
              <a:ext cx="8854920" cy="5902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Times New Roman"/>
                </a:rPr>
                <a:t>           </a:t>
              </a:r>
              <a:r>
                <a:rPr b="0" lang="ru-RU" sz="5400" spc="-1" strike="noStrike">
                  <a:solidFill>
                    <a:srgbClr val="ffffff"/>
                  </a:solidFill>
                  <a:latin typeface="Times New Roman"/>
                </a:rPr>
                <a:t>Thank you for attention!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Text Box 4"/>
            <p:cNvSpPr/>
            <p:nvPr/>
          </p:nvSpPr>
          <p:spPr>
            <a:xfrm>
              <a:off x="142560" y="728280"/>
              <a:ext cx="8854920" cy="59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Text Box 5"/>
          <p:cNvSpPr/>
          <p:nvPr/>
        </p:nvSpPr>
        <p:spPr>
          <a:xfrm>
            <a:off x="1908000" y="1557360"/>
            <a:ext cx="6480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888000" cy="2111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5292720" y="222120"/>
            <a:ext cx="3851280" cy="2090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3"/>
          <a:stretch/>
        </p:blipFill>
        <p:spPr>
          <a:xfrm>
            <a:off x="324000" y="2637000"/>
            <a:ext cx="3889080" cy="2112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4"/>
          <a:stretch/>
        </p:blipFill>
        <p:spPr>
          <a:xfrm>
            <a:off x="5400720" y="2637000"/>
            <a:ext cx="3743280" cy="2033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5"/>
          <a:stretch/>
        </p:blipFill>
        <p:spPr>
          <a:xfrm>
            <a:off x="2484360" y="4697280"/>
            <a:ext cx="3888000" cy="21099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755640" y="765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5580000" y="765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971640" y="3429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5796000" y="3357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771640" y="530064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1" descr=""/>
          <p:cNvPicPr/>
          <p:nvPr/>
        </p:nvPicPr>
        <p:blipFill>
          <a:blip r:embed="rId6"/>
          <a:stretch/>
        </p:blipFill>
        <p:spPr>
          <a:xfrm>
            <a:off x="7524720" y="1268280"/>
            <a:ext cx="1428840" cy="1390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"/>
          <p:cNvPicPr/>
          <p:nvPr/>
        </p:nvPicPr>
        <p:blipFill>
          <a:blip r:embed="rId7"/>
          <a:stretch/>
        </p:blipFill>
        <p:spPr>
          <a:xfrm>
            <a:off x="7451640" y="3860640"/>
            <a:ext cx="1441440" cy="1211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"/>
          <p:cNvPicPr/>
          <p:nvPr/>
        </p:nvPicPr>
        <p:blipFill>
          <a:blip r:embed="rId8"/>
          <a:stretch/>
        </p:blipFill>
        <p:spPr>
          <a:xfrm>
            <a:off x="395280" y="1197000"/>
            <a:ext cx="1220760" cy="1301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"/>
          <p:cNvPicPr/>
          <p:nvPr/>
        </p:nvPicPr>
        <p:blipFill>
          <a:blip r:embed="rId9"/>
          <a:stretch/>
        </p:blipFill>
        <p:spPr>
          <a:xfrm>
            <a:off x="108000" y="3645000"/>
            <a:ext cx="1611360" cy="14079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5"/>
          <p:cNvSpPr/>
          <p:nvPr/>
        </p:nvSpPr>
        <p:spPr>
          <a:xfrm>
            <a:off x="468360" y="26028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971640" y="26028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1619280" y="26028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2195640" y="260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2916360" y="260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5651640" y="33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6156360" y="333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2"/>
          <p:cNvSpPr/>
          <p:nvPr/>
        </p:nvSpPr>
        <p:spPr>
          <a:xfrm>
            <a:off x="6948360" y="33336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7667640" y="333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8317080" y="33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1042920" y="2708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1547640" y="2708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2268360" y="2708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2987640" y="2708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9"/>
          <p:cNvSpPr/>
          <p:nvPr/>
        </p:nvSpPr>
        <p:spPr>
          <a:xfrm>
            <a:off x="3492360" y="2708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5651640" y="2781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31"/>
          <p:cNvSpPr/>
          <p:nvPr/>
        </p:nvSpPr>
        <p:spPr>
          <a:xfrm>
            <a:off x="6227640" y="278136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6877080" y="278136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33"/>
          <p:cNvSpPr/>
          <p:nvPr/>
        </p:nvSpPr>
        <p:spPr>
          <a:xfrm>
            <a:off x="7524720" y="2781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34"/>
          <p:cNvSpPr/>
          <p:nvPr/>
        </p:nvSpPr>
        <p:spPr>
          <a:xfrm>
            <a:off x="8172360" y="2781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35"/>
          <p:cNvSpPr/>
          <p:nvPr/>
        </p:nvSpPr>
        <p:spPr>
          <a:xfrm>
            <a:off x="2843280" y="4797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36"/>
          <p:cNvSpPr/>
          <p:nvPr/>
        </p:nvSpPr>
        <p:spPr>
          <a:xfrm>
            <a:off x="3419640" y="47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7"/>
          <p:cNvSpPr/>
          <p:nvPr/>
        </p:nvSpPr>
        <p:spPr>
          <a:xfrm>
            <a:off x="4067280" y="4797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38"/>
          <p:cNvSpPr/>
          <p:nvPr/>
        </p:nvSpPr>
        <p:spPr>
          <a:xfrm>
            <a:off x="4716360" y="4797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39"/>
          <p:cNvSpPr/>
          <p:nvPr/>
        </p:nvSpPr>
        <p:spPr>
          <a:xfrm>
            <a:off x="5435640" y="4797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cc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3657600" y="1676520"/>
            <a:ext cx="4876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8040" algn="ctr">
              <a:lnSpc>
                <a:spcPct val="100000"/>
              </a:lnSpc>
              <a:spcBef>
                <a:spcPts val="1100"/>
              </a:spcBef>
              <a:buClr>
                <a:srgbClr val="eaeaea"/>
              </a:buClr>
              <a:buFont typeface="Gill Sans MT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Gill Sans MT"/>
              </a:rPr>
              <a:t>What do we do at the lesson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2679840" cy="36511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2209680" y="228600"/>
            <a:ext cx="6553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Group 2"/>
          <p:cNvGrpSpPr/>
          <p:nvPr/>
        </p:nvGrpSpPr>
        <p:grpSpPr>
          <a:xfrm>
            <a:off x="0" y="549360"/>
            <a:ext cx="9142560" cy="4965480"/>
            <a:chOff x="0" y="549360"/>
            <a:chExt cx="9142560" cy="4965480"/>
          </a:xfrm>
        </p:grpSpPr>
        <p:pic>
          <p:nvPicPr>
            <p:cNvPr id="210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549360"/>
              <a:ext cx="9142560" cy="49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4"/>
            <p:cNvSpPr/>
            <p:nvPr/>
          </p:nvSpPr>
          <p:spPr>
            <a:xfrm>
              <a:off x="0" y="549360"/>
              <a:ext cx="9142560" cy="49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Text Box 5"/>
          <p:cNvSpPr/>
          <p:nvPr/>
        </p:nvSpPr>
        <p:spPr>
          <a:xfrm>
            <a:off x="684360" y="1700280"/>
            <a:ext cx="7921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oose the word with a general mea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square, museum, city, park, gar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librarian, musician, occupation, actor, danc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Wo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Group 2"/>
          <p:cNvGrpSpPr/>
          <p:nvPr/>
        </p:nvGrpSpPr>
        <p:grpSpPr>
          <a:xfrm>
            <a:off x="0" y="907920"/>
            <a:ext cx="8891640" cy="4827600"/>
            <a:chOff x="0" y="907920"/>
            <a:chExt cx="8891640" cy="4827600"/>
          </a:xfrm>
        </p:grpSpPr>
        <p:pic>
          <p:nvPicPr>
            <p:cNvPr id="215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8891640" cy="4827600"/>
            </a:xfrm>
            <a:prstGeom prst="rect">
              <a:avLst/>
            </a:prstGeom>
            <a:ln w="57240">
              <a:solidFill>
                <a:srgbClr val="000000"/>
              </a:solidFill>
              <a:miter/>
            </a:ln>
          </p:spPr>
        </p:pic>
        <p:sp>
          <p:nvSpPr>
            <p:cNvPr id="216" name="Text Box 4"/>
            <p:cNvSpPr/>
            <p:nvPr/>
          </p:nvSpPr>
          <p:spPr>
            <a:xfrm>
              <a:off x="0" y="907920"/>
              <a:ext cx="8891640" cy="48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Text Box 5"/>
          <p:cNvSpPr/>
          <p:nvPr/>
        </p:nvSpPr>
        <p:spPr>
          <a:xfrm>
            <a:off x="1079640" y="987480"/>
            <a:ext cx="68421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tch the antonyms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sband                                  si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cle                                       w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ther                                     sin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ried                                    a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2484360" y="263700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Word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Group 2"/>
          <p:cNvGrpSpPr/>
          <p:nvPr/>
        </p:nvGrpSpPr>
        <p:grpSpPr>
          <a:xfrm>
            <a:off x="0" y="907920"/>
            <a:ext cx="8891640" cy="5615280"/>
            <a:chOff x="0" y="907920"/>
            <a:chExt cx="8891640" cy="5615280"/>
          </a:xfrm>
        </p:grpSpPr>
        <p:pic>
          <p:nvPicPr>
            <p:cNvPr id="22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907920"/>
              <a:ext cx="8891640" cy="56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4"/>
            <p:cNvSpPr/>
            <p:nvPr/>
          </p:nvSpPr>
          <p:spPr>
            <a:xfrm>
              <a:off x="0" y="907920"/>
              <a:ext cx="8891640" cy="56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Text Box 5"/>
          <p:cNvSpPr/>
          <p:nvPr/>
        </p:nvSpPr>
        <p:spPr>
          <a:xfrm>
            <a:off x="1042920" y="549360"/>
            <a:ext cx="6842160" cy="71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Form the names of occupations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sic –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t –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wim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ach 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ort 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Word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Group 2"/>
          <p:cNvGrpSpPr/>
          <p:nvPr/>
        </p:nvGrpSpPr>
        <p:grpSpPr>
          <a:xfrm>
            <a:off x="0" y="1111320"/>
            <a:ext cx="8891640" cy="4827600"/>
            <a:chOff x="0" y="1111320"/>
            <a:chExt cx="8891640" cy="4827600"/>
          </a:xfrm>
        </p:grpSpPr>
        <p:pic>
          <p:nvPicPr>
            <p:cNvPr id="226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1111320"/>
              <a:ext cx="8891640" cy="48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4"/>
            <p:cNvSpPr/>
            <p:nvPr/>
          </p:nvSpPr>
          <p:spPr>
            <a:xfrm>
              <a:off x="0" y="1111320"/>
              <a:ext cx="8891640" cy="48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Text Box 5"/>
          <p:cNvSpPr/>
          <p:nvPr/>
        </p:nvSpPr>
        <p:spPr>
          <a:xfrm>
            <a:off x="1042920" y="836640"/>
            <a:ext cx="684216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 algn="ctr">
              <a:spcBef>
                <a:spcPts val="17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tch the words and the descri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unt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on or daughter of an a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iece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ife of an un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usin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le 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252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ther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aughter of a brother or s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50000">
              <a:srgbClr val="ffffff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Grammar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Group 2"/>
          <p:cNvGrpSpPr/>
          <p:nvPr/>
        </p:nvGrpSpPr>
        <p:grpSpPr>
          <a:xfrm>
            <a:off x="395280" y="1052640"/>
            <a:ext cx="8747280" cy="4749840"/>
            <a:chOff x="395280" y="1052640"/>
            <a:chExt cx="8747280" cy="4749840"/>
          </a:xfrm>
        </p:grpSpPr>
        <p:pic>
          <p:nvPicPr>
            <p:cNvPr id="231" name="Picture 3" descr=""/>
            <p:cNvPicPr/>
            <p:nvPr/>
          </p:nvPicPr>
          <p:blipFill>
            <a:blip r:embed="rId1"/>
            <a:stretch/>
          </p:blipFill>
          <p:spPr>
            <a:xfrm>
              <a:off x="395280" y="1052640"/>
              <a:ext cx="8747280" cy="474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395280" y="1052640"/>
              <a:ext cx="8747280" cy="47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Text Box 5"/>
          <p:cNvSpPr/>
          <p:nvPr/>
        </p:nvSpPr>
        <p:spPr>
          <a:xfrm>
            <a:off x="971640" y="1916280"/>
            <a:ext cx="75610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ill in the appropriate article (a, the, -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London is the capital of    …   United Kingdo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van Petrov 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   best pupil in the cla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I live in   …   Green Stre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08:23:28Z</dcterms:created>
  <dc:creator>Семья</dc:creator>
  <dc:description/>
  <dc:language>en-US</dc:language>
  <cp:lastModifiedBy>Шмекит</cp:lastModifiedBy>
  <dcterms:modified xsi:type="dcterms:W3CDTF">2013-04-07T19:16:31Z</dcterms:modified>
  <cp:revision>42</cp:revision>
  <dc:subject/>
  <dc:title>Слайд 1</dc:title>
</cp:coreProperties>
</file>