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gif" ContentType="image/gif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12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678-5934-48AC-B49F-8937552F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0C0-ADA5-4071-905F-0D33A268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1FA-F584-4A69-9302-F3A80A7D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D9C-547A-4697-8283-3F484215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DC8-B023-498A-A2FD-8AF62BDA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670-8595-462D-B121-07E9CA2F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7DB-56C2-4A51-A7F5-8C8DF4A0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835-9325-4D3A-A3C8-98B73FE5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819-A3B7-4501-B815-8F3BF12A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847-25F0-4DA0-B6C8-9F96A6F2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A6F-5C8F-43AA-86E5-EED10807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EB0-4838-4837-9F0C-5A685A4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FCD6-1320-4BA7-A400-0E72DECA2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6.gi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2500200" cy="290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3" descr=""/>
          <p:cNvPicPr/>
          <p:nvPr/>
        </p:nvPicPr>
        <p:blipFill>
          <a:blip r:embed="rId3"/>
          <a:srcRect l="0" t="0" r="0" b="20522"/>
          <a:stretch/>
        </p:blipFill>
        <p:spPr>
          <a:xfrm>
            <a:off x="3276720" y="115920"/>
            <a:ext cx="696960" cy="8366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395280" y="1413000"/>
            <a:ext cx="8424360" cy="2410920"/>
            <a:chOff x="395280" y="1413000"/>
            <a:chExt cx="8424360" cy="2410920"/>
          </a:xfrm>
        </p:grpSpPr>
        <p:sp>
          <p:nvSpPr>
            <p:cNvPr id="47" name=""/>
            <p:cNvSpPr/>
            <p:nvPr/>
          </p:nvSpPr>
          <p:spPr>
            <a:xfrm>
              <a:off x="395280" y="1413000"/>
              <a:ext cx="8424360" cy="1726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4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5280" y="1536480"/>
              <a:ext cx="842436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80"/>
                  </a:solidFill>
                  <a:latin typeface="Candara"/>
                </a:rPr>
                <a:t>Деятельность- способ существования человека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877080" y="33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4321"/>
                </a:solidFill>
                <a:latin typeface="Candara"/>
              </a:rPr>
              <a:t>10</a:t>
            </a:r>
            <a:r>
              <a:rPr b="1" lang="ru-RU" sz="1800" spc="-1" strike="noStrike">
                <a:solidFill>
                  <a:srgbClr val="444321"/>
                </a:solidFill>
                <a:latin typeface="Candara"/>
              </a:rPr>
              <a:t>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3573360"/>
            <a:ext cx="589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Candara"/>
              </a:rPr>
              <a:t>Деятельность - </a:t>
            </a:r>
            <a:br>
              <a:rPr sz="2400"/>
            </a:br>
            <a:r>
              <a:rPr b="1" i="1" lang="en-US" sz="2400" spc="-1" strike="noStrike">
                <a:solidFill>
                  <a:srgbClr val="0066ff"/>
                </a:solidFill>
                <a:latin typeface="Candara"/>
              </a:rPr>
              <a:t>                  единственный путь к знаниям.</a:t>
            </a:r>
            <a:br>
              <a:rPr sz="1600"/>
            </a:br>
            <a:r>
              <a:rPr b="1" i="1" lang="en-US" sz="1600" spc="-1" strike="noStrike">
                <a:solidFill>
                  <a:srgbClr val="0066ff"/>
                </a:solidFill>
                <a:latin typeface="Candara"/>
              </a:rPr>
              <a:t>                                                         Б.Ш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067520" cy="90792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каким группам потребностей относятся данные высказыв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00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00050"/>
                </a:solidFill>
                <a:latin typeface="Arial"/>
              </a:rPr>
              <a:t>Аристотель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4442"/>
                </a:solidFill>
                <a:latin typeface="Candara"/>
              </a:rPr>
              <a:t>«Все люди от природы стремятся к знанию». </a:t>
            </a:r>
            <a:r>
              <a:rPr b="1" i="1" lang="en-US" sz="3200" spc="-1" strike="noStrike">
                <a:solidFill>
                  <a:srgbClr val="cc0000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00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00050"/>
                </a:solidFill>
                <a:latin typeface="Arial"/>
              </a:rPr>
              <a:t>Г.Белль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i="1" lang="en-US" sz="3200" spc="-1" strike="noStrike">
                <a:solidFill>
                  <a:srgbClr val="004442"/>
                </a:solidFill>
                <a:latin typeface="Candara"/>
              </a:rPr>
              <a:t>Сон прекрасен тем, что уравнивает человека и животное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ndara"/>
              </a:rPr>
              <a:t>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00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00050"/>
                </a:solidFill>
                <a:latin typeface="Arial"/>
              </a:rPr>
              <a:t>Ю.Нагибин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4442"/>
                </a:solidFill>
                <a:latin typeface="Candara"/>
              </a:rPr>
              <a:t>«Если определить его главную устремленность – он всегда кому-то помогал…Помогать было его призванием».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2421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2720" y="2276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Иде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3716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Биолог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57340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Соци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560" y="1916280"/>
            <a:ext cx="8445240" cy="45259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5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По характеру отношений к окружающему ми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Прак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Духов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По общественным сфер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Эконом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Духо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Со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Поли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484360" y="189000"/>
            <a:ext cx="6408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Классификация деятельности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  <p:pic>
        <p:nvPicPr>
          <p:cNvPr id="159" name="Picture 4" descr="ag00029_"/>
          <p:cNvPicPr/>
          <p:nvPr/>
        </p:nvPicPr>
        <p:blipFill>
          <a:blip r:embed="rId2"/>
          <a:stretch/>
        </p:blipFill>
        <p:spPr>
          <a:xfrm>
            <a:off x="6659640" y="486900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54720"/>
          </a:xfrm>
          <a:prstGeom prst="rect">
            <a:avLst/>
          </a:prstGeom>
          <a:noFill/>
          <a:ln w="9360">
            <a:solidFill>
              <a:srgbClr val="004442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По направленности хода исто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901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Прогресс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901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Реакцио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В зависимости от ценностей и социальных нор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Законная – незакон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 </a:t>
            </a: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Моральная - амор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ag00029_"/>
          <p:cNvPicPr/>
          <p:nvPr/>
        </p:nvPicPr>
        <p:blipFill>
          <a:blip r:embed="rId2"/>
          <a:stretch/>
        </p:blipFill>
        <p:spPr>
          <a:xfrm>
            <a:off x="6659640" y="4581360"/>
            <a:ext cx="1969920" cy="1562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484360" y="189000"/>
            <a:ext cx="6264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Классификация деятельности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608360"/>
          </a:xfrm>
          <a:prstGeom prst="rect">
            <a:avLst/>
          </a:prstGeom>
          <a:noFill/>
          <a:ln w="9360">
            <a:solidFill>
              <a:srgbClr val="004442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По количеству участ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Коллек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Масс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Индивиду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По новаторст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Инновацио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Изобретатель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Твор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Рутинн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ag00029_"/>
          <p:cNvPicPr/>
          <p:nvPr/>
        </p:nvPicPr>
        <p:blipFill>
          <a:blip r:embed="rId2"/>
          <a:stretch/>
        </p:blipFill>
        <p:spPr>
          <a:xfrm>
            <a:off x="6804000" y="4653000"/>
            <a:ext cx="1970280" cy="1562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2484360" y="189000"/>
            <a:ext cx="6264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Классификация деятельности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 txBox="1"/>
          <p:nvPr/>
        </p:nvSpPr>
        <p:spPr>
          <a:xfrm>
            <a:off x="2340000" y="189000"/>
            <a:ext cx="590400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Характеристика деятельности 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476360" y="2133720"/>
            <a:ext cx="1943280" cy="35856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2060640"/>
            <a:ext cx="0" cy="43164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1197000"/>
            <a:ext cx="5256360" cy="93492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форма взаимодействия с окружающим 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6000" y="2133720"/>
            <a:ext cx="0" cy="35856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2133720"/>
            <a:ext cx="1944720" cy="35856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565360"/>
            <a:ext cx="194436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492280"/>
            <a:ext cx="194472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Учё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2492280"/>
            <a:ext cx="194472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48360" y="2492280"/>
            <a:ext cx="1944720" cy="72072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Тр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4724280"/>
            <a:ext cx="7704000" cy="1656000"/>
          </a:xfrm>
          <a:prstGeom prst="flowChartAlternateProcess">
            <a:avLst/>
          </a:prstGeom>
          <a:solidFill>
            <a:srgbClr val="cc99ff">
              <a:alpha val="18000"/>
            </a:srgbClr>
          </a:soli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00050"/>
                </a:solidFill>
                <a:latin typeface="Candara"/>
              </a:rPr>
              <a:t>Игра</a:t>
            </a: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 – деятельность, моти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которой заключ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не в результате, а в процес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98880" y="3284640"/>
            <a:ext cx="1285560" cy="1092600"/>
            <a:chOff x="398880" y="3284640"/>
            <a:chExt cx="1285560" cy="109260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826920" y="3284640"/>
              <a:ext cx="6526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98880" y="4100400"/>
              <a:ext cx="1285560" cy="27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ndara"/>
                </a:rPr>
                <a:t>ребён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70760" y="3141720"/>
            <a:ext cx="1572120" cy="1307160"/>
            <a:chOff x="2570760" y="3141720"/>
            <a:chExt cx="1572120" cy="1307160"/>
          </a:xfrm>
        </p:grpSpPr>
        <p:pic>
          <p:nvPicPr>
            <p:cNvPr id="190" name="Picture 3" descr=""/>
            <p:cNvPicPr/>
            <p:nvPr/>
          </p:nvPicPr>
          <p:blipFill>
            <a:blip r:embed="rId3"/>
            <a:srcRect l="0" t="0" r="0" b="20522"/>
            <a:stretch/>
          </p:blipFill>
          <p:spPr>
            <a:xfrm>
              <a:off x="2987640" y="3141720"/>
              <a:ext cx="8398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570760" y="4172040"/>
              <a:ext cx="1572120" cy="27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ndara"/>
                </a:rPr>
                <a:t>школь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093080" y="3068640"/>
            <a:ext cx="1692000" cy="1660680"/>
            <a:chOff x="7093080" y="3068640"/>
            <a:chExt cx="1692000" cy="1660680"/>
          </a:xfrm>
        </p:grpSpPr>
        <p:pic>
          <p:nvPicPr>
            <p:cNvPr id="193" name="" descr=""/>
            <p:cNvPicPr/>
            <p:nvPr/>
          </p:nvPicPr>
          <p:blipFill>
            <a:blip r:embed="rId4"/>
            <a:srcRect l="0" t="0" r="0" b="15960"/>
            <a:stretch/>
          </p:blipFill>
          <p:spPr>
            <a:xfrm>
              <a:off x="7093080" y="3068640"/>
              <a:ext cx="169200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380360" y="4147920"/>
              <a:ext cx="1260360" cy="581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ndara"/>
                </a:rPr>
                <a:t>взросл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11280" y="4724280"/>
            <a:ext cx="7704000" cy="1656000"/>
          </a:xfrm>
          <a:prstGeom prst="flowChartAlternateProcess">
            <a:avLst/>
          </a:prstGeom>
          <a:solidFill>
            <a:srgbClr val="cc99ff">
              <a:alpha val="18000"/>
            </a:srgbClr>
          </a:soli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00050"/>
                </a:solidFill>
                <a:latin typeface="Candara"/>
              </a:rPr>
              <a:t>Учёба</a:t>
            </a: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 – деятельность по овлад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знаниями, умениями, навы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4724280"/>
            <a:ext cx="7704000" cy="1656000"/>
          </a:xfrm>
          <a:prstGeom prst="flowChartAlternateProcess">
            <a:avLst/>
          </a:prstGeom>
          <a:solidFill>
            <a:srgbClr val="cc99ff">
              <a:alpha val="18000"/>
            </a:srgbClr>
          </a:soli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00050"/>
                </a:solidFill>
                <a:latin typeface="Candara"/>
              </a:rPr>
              <a:t>Общение</a:t>
            </a: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– взаимные деловые и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дружеские отно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724280"/>
            <a:ext cx="8713800" cy="1656000"/>
          </a:xfrm>
          <a:prstGeom prst="flowChartAlternateProcess">
            <a:avLst/>
          </a:prstGeom>
          <a:solidFill>
            <a:srgbClr val="cc99ff">
              <a:alpha val="18000"/>
            </a:srgbClr>
          </a:soli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00050"/>
                </a:solidFill>
                <a:latin typeface="Candara"/>
              </a:rPr>
              <a:t>Труд</a:t>
            </a: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– деятельность, в проце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которой создаёт продукты, необходи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для удовлетворения потреб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овар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632720" cy="4525920"/>
          </a:xfrm>
          <a:prstGeom prst="rect">
            <a:avLst/>
          </a:prstGeom>
          <a:noFill/>
          <a:ln w="9360">
            <a:solidFill>
              <a:srgbClr val="004442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00050"/>
                </a:solidFill>
                <a:latin typeface="Candara"/>
              </a:rPr>
              <a:t>Самореализация –</a:t>
            </a:r>
            <a:r>
              <a:rPr b="0" lang="en-US" sz="5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5400" spc="-1" strike="noStrike">
                <a:solidFill>
                  <a:srgbClr val="004442"/>
                </a:solidFill>
                <a:latin typeface="Candara"/>
              </a:rPr>
              <a:t>воплощение в действительности планов, жизненных целе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ag00029_"/>
          <p:cNvPicPr/>
          <p:nvPr/>
        </p:nvPicPr>
        <p:blipFill>
          <a:blip r:embed="rId2"/>
          <a:stretch/>
        </p:blipFill>
        <p:spPr>
          <a:xfrm>
            <a:off x="7020000" y="486900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442"/>
                </a:solidFill>
                <a:latin typeface="Candara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76000" y="3284640"/>
            <a:ext cx="6551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andara"/>
                <a:ea typeface="Arial"/>
              </a:rPr>
              <a:t>§</a:t>
            </a:r>
            <a:r>
              <a:rPr b="1" lang="ru-RU" sz="5400" spc="-1" strike="noStrike">
                <a:solidFill>
                  <a:srgbClr val="000066"/>
                </a:solidFill>
                <a:latin typeface="Candara"/>
                <a:ea typeface="Arial"/>
              </a:rPr>
              <a:t>3,4, вопрос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8350200" cy="367200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andara"/>
              </a:rPr>
              <a:t>Гляди вперёд, вперёд стремись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Candara"/>
              </a:rPr>
              <a:t>И всё ж когда – нибудь остановись.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Candara"/>
              </a:rPr>
              <a:t>Остановись и оглянись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Candara"/>
              </a:rPr>
              <a:t>На пройденный свой путь.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Candara"/>
              </a:rPr>
              <a:t>                                  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Candara"/>
              </a:rPr>
              <a:t>Р. Гамз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50920" y="1700280"/>
            <a:ext cx="8570880" cy="21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3f4">
                  <a:alpha val="17254"/>
                </a:srgbClr>
              </a:gs>
              <a:gs pos="50000">
                <a:srgbClr val="ffffff"/>
              </a:gs>
              <a:gs pos="100000">
                <a:srgbClr val="e4f3f4">
                  <a:alpha val="17254"/>
                </a:srgbClr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«Деятельность — форма существ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человеческого общества; </a:t>
            </a:r>
            <a:r>
              <a:rPr b="1" i="1" lang="en-US" sz="2800" spc="-1" strike="noStrike">
                <a:solidFill>
                  <a:srgbClr val="500050"/>
                </a:solidFill>
                <a:latin typeface="Candara"/>
              </a:rPr>
              <a:t>проявление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субъекта, выражающейся в </a:t>
            </a:r>
            <a:r>
              <a:rPr b="1" i="1" lang="en-US" sz="2800" spc="-1" strike="noStrike">
                <a:solidFill>
                  <a:srgbClr val="500050"/>
                </a:solidFill>
                <a:latin typeface="Candara"/>
              </a:rPr>
              <a:t>целесообраз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 </a:t>
            </a: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изменении окружающего мира, а такж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50"/>
                </a:solidFill>
                <a:latin typeface="Candara"/>
              </a:rPr>
              <a:t>преобразовании</a:t>
            </a: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 человеком самого себя».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076640"/>
            <a:ext cx="8497800" cy="20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3f4">
                  <a:alpha val="17254"/>
                </a:srgbClr>
              </a:gs>
              <a:gs pos="50000">
                <a:srgbClr val="ffffff"/>
              </a:gs>
              <a:gs pos="100000">
                <a:srgbClr val="e4f3f4">
                  <a:alpha val="17254"/>
                </a:srgbClr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4149720"/>
            <a:ext cx="82202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ndara"/>
              </a:rPr>
              <a:t>«Деятельность— форма </a:t>
            </a:r>
            <a:r>
              <a:rPr b="1" i="1" lang="en-US" sz="2800" spc="-1" strike="noStrike">
                <a:solidFill>
                  <a:srgbClr val="000066"/>
                </a:solidFill>
                <a:latin typeface="Candara"/>
              </a:rPr>
              <a:t>психической активности</a:t>
            </a:r>
            <a:r>
              <a:rPr b="1" lang="en-US" sz="2800" spc="-1" strike="noStrike">
                <a:solidFill>
                  <a:srgbClr val="000066"/>
                </a:solidFill>
                <a:latin typeface="Candara"/>
              </a:rPr>
              <a:t> субъекта, заключающаяся в мотивационном достижении сознательно поставленной цели познания или преобразования объекта».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08000" y="189000"/>
            <a:ext cx="662472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Times New Roman"/>
              </a:rPr>
              <a:t>Сравните два определения: 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3"/>
          <p:cNvSpPr/>
          <p:nvPr/>
        </p:nvSpPr>
        <p:spPr>
          <a:xfrm>
            <a:off x="539640" y="5661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andara"/>
              </a:rPr>
              <a:t>Приведите примеры, когда поведение животных пох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andara"/>
              </a:rPr>
              <a:t>на деятельность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0" y="2060640"/>
          <a:ext cx="1676520" cy="164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60640"/>
                    <a:ext cx="16765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Object 5" descr=""/>
          <p:cNvPicPr/>
          <p:nvPr/>
        </p:nvPicPr>
        <p:blipFill>
          <a:blip r:embed="rId4"/>
          <a:stretch/>
        </p:blipFill>
        <p:spPr>
          <a:xfrm>
            <a:off x="0" y="4076640"/>
            <a:ext cx="2340000" cy="16621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6"/>
          <p:cNvGrpSpPr/>
          <p:nvPr/>
        </p:nvGrpSpPr>
        <p:grpSpPr>
          <a:xfrm>
            <a:off x="2268360" y="4076640"/>
            <a:ext cx="2306520" cy="459720"/>
            <a:chOff x="2268360" y="4076640"/>
            <a:chExt cx="2306520" cy="459720"/>
          </a:xfrm>
        </p:grpSpPr>
        <p:sp>
          <p:nvSpPr>
            <p:cNvPr id="70" name="AutoShape 7"/>
            <p:cNvSpPr/>
            <p:nvPr/>
          </p:nvSpPr>
          <p:spPr>
            <a:xfrm flipH="1">
              <a:off x="2268360" y="4152960"/>
              <a:ext cx="457200" cy="304920"/>
            </a:xfrm>
            <a:prstGeom prst="leftArrow">
              <a:avLst>
                <a:gd name="adj1" fmla="val 50000"/>
                <a:gd name="adj2" fmla="val 37485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2673720" y="4076640"/>
              <a:ext cx="1901160" cy="45972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00050"/>
                  </a:solidFill>
                  <a:latin typeface="Candara"/>
                </a:rPr>
                <a:t>ИНСТИНК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16000" y="3500280"/>
            <a:ext cx="4165920" cy="2897640"/>
            <a:chOff x="4716000" y="3500280"/>
            <a:chExt cx="4165920" cy="2897640"/>
          </a:xfrm>
        </p:grpSpPr>
        <p:sp>
          <p:nvSpPr>
            <p:cNvPr id="73" name="AutoShape 10"/>
            <p:cNvSpPr/>
            <p:nvPr/>
          </p:nvSpPr>
          <p:spPr>
            <a:xfrm flipH="1">
              <a:off x="4715640" y="4221000"/>
              <a:ext cx="484200" cy="304920"/>
            </a:xfrm>
            <a:prstGeom prst="leftArrow">
              <a:avLst>
                <a:gd name="adj1" fmla="val 50000"/>
                <a:gd name="adj2" fmla="val 39699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1"/>
            <p:cNvSpPr/>
            <p:nvPr/>
          </p:nvSpPr>
          <p:spPr>
            <a:xfrm>
              <a:off x="5219640" y="3500280"/>
              <a:ext cx="3662280" cy="289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00050"/>
                  </a:solidFill>
                  <a:latin typeface="Candara"/>
                </a:rPr>
                <a:t>ПРИСПОСОБЛЕН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Candar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ndara"/>
                </a:rPr>
                <a:t>путём перестрой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ndara"/>
                </a:rPr>
                <a:t>собственного организм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00050"/>
                  </a:solidFill>
                  <a:latin typeface="Candara"/>
                </a:rPr>
                <a:t>ЦЕЛЕСООБРАЗ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2"/>
          <p:cNvGrpSpPr/>
          <p:nvPr/>
        </p:nvGrpSpPr>
        <p:grpSpPr>
          <a:xfrm>
            <a:off x="1402920" y="1989000"/>
            <a:ext cx="3197520" cy="825480"/>
            <a:chOff x="1402920" y="1989000"/>
            <a:chExt cx="3197520" cy="825480"/>
          </a:xfrm>
        </p:grpSpPr>
        <p:sp>
          <p:nvSpPr>
            <p:cNvPr id="76" name="AutoShape 13"/>
            <p:cNvSpPr/>
            <p:nvPr/>
          </p:nvSpPr>
          <p:spPr>
            <a:xfrm flipH="1">
              <a:off x="1402560" y="2239920"/>
              <a:ext cx="456840" cy="304560"/>
            </a:xfrm>
            <a:prstGeom prst="leftArrow">
              <a:avLst>
                <a:gd name="adj1" fmla="val 50000"/>
                <a:gd name="adj2" fmla="val 37500"/>
              </a:avLst>
            </a:prstGeom>
            <a:solidFill>
              <a:srgbClr val="bbe0e3"/>
            </a:solidFill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4"/>
            <p:cNvSpPr/>
            <p:nvPr/>
          </p:nvSpPr>
          <p:spPr>
            <a:xfrm>
              <a:off x="1923480" y="1989000"/>
              <a:ext cx="2676960" cy="825480"/>
            </a:xfrm>
            <a:prstGeom prst="rect">
              <a:avLst/>
            </a:prstGeom>
            <a:noFill/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00050"/>
                  </a:solidFill>
                  <a:latin typeface="Candara"/>
                </a:rPr>
                <a:t>РАЗУМ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00050"/>
                  </a:solidFill>
                  <a:latin typeface="Candara"/>
                </a:rPr>
                <a:t> </a:t>
              </a:r>
              <a:r>
                <a:rPr b="1" lang="en-US" sz="2400" spc="-1" strike="noStrike">
                  <a:solidFill>
                    <a:srgbClr val="500050"/>
                  </a:solidFill>
                  <a:latin typeface="Candara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72000" y="1628640"/>
            <a:ext cx="4321080" cy="1513080"/>
            <a:chOff x="4572000" y="1628640"/>
            <a:chExt cx="4321080" cy="1513080"/>
          </a:xfrm>
        </p:grpSpPr>
        <p:sp>
          <p:nvSpPr>
            <p:cNvPr id="79" name="AutoShape 16"/>
            <p:cNvSpPr/>
            <p:nvPr/>
          </p:nvSpPr>
          <p:spPr>
            <a:xfrm flipH="1">
              <a:off x="4572000" y="2205000"/>
              <a:ext cx="457200" cy="304920"/>
            </a:xfrm>
            <a:prstGeom prst="leftArrow">
              <a:avLst>
                <a:gd name="adj1" fmla="val 50000"/>
                <a:gd name="adj2" fmla="val 37485"/>
              </a:avLst>
            </a:prstGeom>
            <a:solidFill>
              <a:srgbClr val="99ccff"/>
            </a:solidFill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5148360" y="1628640"/>
              <a:ext cx="3744720" cy="1513080"/>
            </a:xfrm>
            <a:prstGeom prst="rect">
              <a:avLst/>
            </a:prstGeom>
            <a:noFill/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00050"/>
                  </a:solidFill>
                  <a:latin typeface="Candara"/>
                </a:rPr>
                <a:t>ПРЕОБРАЗОВАНИЕ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создание искусствен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реды существования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00050"/>
                  </a:solidFill>
                  <a:latin typeface="Candara"/>
                </a:rPr>
                <a:t>ЦЕЛЕПОЛАГ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16" descr="ag00029_"/>
          <p:cNvPicPr/>
          <p:nvPr/>
        </p:nvPicPr>
        <p:blipFill>
          <a:blip r:embed="rId5"/>
          <a:stretch/>
        </p:blipFill>
        <p:spPr>
          <a:xfrm>
            <a:off x="900000" y="765000"/>
            <a:ext cx="1285920" cy="1019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619280" y="189000"/>
            <a:ext cx="734544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Деятельность человека и поведение животных 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rot="16200000">
            <a:off x="4390920" y="728280"/>
            <a:ext cx="360360" cy="864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25000 h 8640720"/>
              <a:gd name="textAreaBottom" fmla="*/ 8415720 h 864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85"/>
                </a:lnTo>
                <a:cubicBezTo>
                  <a:pt x="10800" y="10485"/>
                  <a:pt x="5400" y="11385"/>
                  <a:pt x="0" y="11385"/>
                </a:cubicBezTo>
                <a:cubicBezTo>
                  <a:pt x="5400" y="11385"/>
                  <a:pt x="10800" y="12285"/>
                  <a:pt x="10800" y="1318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984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611280" y="5516640"/>
            <a:ext cx="8136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0050"/>
                </a:solidFill>
                <a:latin typeface="Candara"/>
              </a:rPr>
              <a:t>Удовлетворение потреб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189000"/>
            <a:ext cx="590400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Характеристика деятельности 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76360" y="2133720"/>
            <a:ext cx="1943280" cy="35856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2060640"/>
            <a:ext cx="0" cy="43164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197000"/>
            <a:ext cx="5256360" cy="93492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форма взаимодействия с окружающим 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2133720"/>
            <a:ext cx="0" cy="35856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6000" y="2133720"/>
            <a:ext cx="1944720" cy="35856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3357720"/>
            <a:ext cx="0" cy="215640"/>
          </a:xfrm>
          <a:prstGeom prst="line">
            <a:avLst/>
          </a:prstGeom>
          <a:ln w="414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3213000"/>
            <a:ext cx="0" cy="360360"/>
          </a:xfrm>
          <a:prstGeom prst="line">
            <a:avLst/>
          </a:prstGeom>
          <a:ln w="414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3284640"/>
            <a:ext cx="0" cy="288720"/>
          </a:xfrm>
          <a:prstGeom prst="line">
            <a:avLst/>
          </a:prstGeom>
          <a:ln w="414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3284640"/>
            <a:ext cx="0" cy="288720"/>
          </a:xfrm>
          <a:prstGeom prst="line">
            <a:avLst/>
          </a:prstGeom>
          <a:ln w="414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565360"/>
            <a:ext cx="194436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на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2492280"/>
            <a:ext cx="194472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2492280"/>
            <a:ext cx="194472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8360" y="2492280"/>
            <a:ext cx="194472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образу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250920" y="3573360"/>
            <a:ext cx="2017440" cy="1224000"/>
          </a:xfrm>
          <a:prstGeom prst="flowChartAlternateProcess">
            <a:avLst/>
          </a:prstGeom>
          <a:solidFill>
            <a:srgbClr val="e5fd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50"/>
                </a:solidFill>
                <a:latin typeface="Candara"/>
              </a:rPr>
              <a:t>ставит ц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50"/>
                </a:solidFill>
                <a:latin typeface="Candara"/>
              </a:rPr>
              <a:t>предви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50"/>
                </a:solidFill>
                <a:latin typeface="Candara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2411280" y="3573360"/>
            <a:ext cx="2057400" cy="1150920"/>
          </a:xfrm>
          <a:prstGeom prst="flowChartAlternateProcess">
            <a:avLst/>
          </a:prstGeom>
          <a:solidFill>
            <a:srgbClr val="e5fd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50"/>
                </a:solidFill>
                <a:latin typeface="Candara"/>
              </a:rPr>
              <a:t>полу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50"/>
                </a:solidFill>
                <a:latin typeface="Candara"/>
              </a:rPr>
              <a:t>результа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50"/>
                </a:solidFill>
                <a:latin typeface="Candara"/>
              </a:rPr>
              <a:t>проду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0"/>
          <p:cNvSpPr/>
          <p:nvPr/>
        </p:nvSpPr>
        <p:spPr>
          <a:xfrm>
            <a:off x="6948360" y="3573360"/>
            <a:ext cx="1944720" cy="1224000"/>
          </a:xfrm>
          <a:prstGeom prst="flowChartAlternateProcess">
            <a:avLst/>
          </a:prstGeom>
          <a:solidFill>
            <a:srgbClr val="e5fd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изме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окружаю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 </a:t>
            </a: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мира и сам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1"/>
          <p:cNvSpPr/>
          <p:nvPr/>
        </p:nvSpPr>
        <p:spPr>
          <a:xfrm>
            <a:off x="4643280" y="3573360"/>
            <a:ext cx="2133720" cy="1219320"/>
          </a:xfrm>
          <a:prstGeom prst="flowChartAlternateProcess">
            <a:avLst/>
          </a:prstGeom>
          <a:solidFill>
            <a:srgbClr val="e5fd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вступает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 </a:t>
            </a: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раз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межлично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3"/>
          <p:cNvSpPr/>
          <p:nvPr/>
        </p:nvSpPr>
        <p:spPr>
          <a:xfrm>
            <a:off x="3276720" y="6021360"/>
            <a:ext cx="5722920" cy="520560"/>
          </a:xfrm>
          <a:prstGeom prst="rect">
            <a:avLst/>
          </a:prstGeom>
          <a:solidFill>
            <a:srgbClr val="cc99ff">
              <a:alpha val="23000"/>
            </a:srgbClr>
          </a:solidFill>
          <a:ln w="2232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50"/>
                </a:solidFill>
                <a:latin typeface="Constantia"/>
              </a:rPr>
              <a:t>Основная схема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11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1501920" cy="1531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6012000" y="1628640"/>
            <a:ext cx="29527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Резуль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ject 15" descr=""/>
          <p:cNvPicPr/>
          <p:nvPr/>
        </p:nvPicPr>
        <p:blipFill>
          <a:blip r:embed="rId3"/>
          <a:stretch/>
        </p:blipFill>
        <p:spPr>
          <a:xfrm>
            <a:off x="6804000" y="2997360"/>
            <a:ext cx="1954080" cy="2103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ag00029_"/>
          <p:cNvPicPr/>
          <p:nvPr/>
        </p:nvPicPr>
        <p:blipFill>
          <a:blip r:embed="rId4"/>
          <a:stretch/>
        </p:blipFill>
        <p:spPr>
          <a:xfrm>
            <a:off x="0" y="907920"/>
            <a:ext cx="1487520" cy="1179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050920" y="189000"/>
            <a:ext cx="648036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Структура  деятельности 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  <p:sp>
        <p:nvSpPr>
          <p:cNvPr id="115" name=""/>
          <p:cNvSpPr/>
          <p:nvPr/>
        </p:nvSpPr>
        <p:spPr>
          <a:xfrm rot="19281600">
            <a:off x="1692360" y="5084280"/>
            <a:ext cx="1600200" cy="50508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3366"/>
          </a:solidFill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7902200">
            <a:off x="5402160" y="3284280"/>
            <a:ext cx="1817640" cy="576360"/>
          </a:xfrm>
          <a:custGeom>
            <a:avLst/>
            <a:gdLst>
              <a:gd name="textAreaLeft" fmla="*/ 319680 w 1817640"/>
              <a:gd name="textAreaRight" fmla="*/ 1333800 w 1817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99" hR="21600" stAng="10800000" swAng="-5400000"/>
                <a:lnTo>
                  <a:pt x="12052" y="21600"/>
                </a:lnTo>
                <a:arcTo wR="7599" hR="21600" stAng="5400000" swAng="-1696970"/>
                <a:lnTo>
                  <a:pt x="20361" y="11820"/>
                </a:lnTo>
                <a:lnTo>
                  <a:pt x="17424" y="0"/>
                </a:lnTo>
                <a:lnTo>
                  <a:pt x="12008" y="11820"/>
                </a:lnTo>
                <a:lnTo>
                  <a:pt x="13958" y="11820"/>
                </a:lnTo>
                <a:arcTo wR="7599" hR="21600" stAng="3703030" swAng="1327770"/>
                <a:lnTo>
                  <a:pt x="9825" y="20652"/>
                </a:lnTo>
                <a:arcTo wR="7599" hR="21600" stAng="5769200" swAng="5030800"/>
                <a:close/>
              </a:path>
              <a:path fill="darkenLess" w="21600" h="21600">
                <a:moveTo>
                  <a:pt x="0" y="0"/>
                </a:moveTo>
                <a:arcTo wR="7599" hR="21600" stAng="10800000" swAng="-5400000"/>
                <a:lnTo>
                  <a:pt x="12052" y="21600"/>
                </a:lnTo>
                <a:arcTo wR="7599" hR="21600" stAng="5400000" swAng="369200"/>
                <a:lnTo>
                  <a:pt x="9825" y="20652"/>
                </a:lnTo>
                <a:arcTo wR="7599" hR="21600" stAng="5769200" swAng="5030800"/>
                <a:close/>
              </a:path>
            </a:pathLst>
          </a:custGeom>
          <a:solidFill>
            <a:srgbClr val="993366"/>
          </a:solidFill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124000" y="3284640"/>
            <a:ext cx="3560760" cy="136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Ср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дост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Candara"/>
              </a:rPr>
              <a:t>(</a:t>
            </a: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предметы труда, орудия труда, технолог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50920" y="4869000"/>
            <a:ext cx="1584360" cy="1019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Ц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ject 6" descr=""/>
          <p:cNvPicPr/>
          <p:nvPr/>
        </p:nvPicPr>
        <p:blipFill>
          <a:blip r:embed="rId5"/>
          <a:stretch/>
        </p:blipFill>
        <p:spPr>
          <a:xfrm>
            <a:off x="571680" y="2565360"/>
            <a:ext cx="928440" cy="1998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19538400">
            <a:off x="4211640" y="1773360"/>
            <a:ext cx="2479680" cy="65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500050"/>
                </a:solidFill>
                <a:latin typeface="Candara"/>
              </a:rPr>
              <a:t>действия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500050"/>
              </a:solidFill>
              <a:latin typeface="Candara"/>
              <a:ea typeface="Candar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373720"/>
            <a:ext cx="15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42"/>
                </a:solidFill>
                <a:latin typeface="Arial"/>
              </a:rPr>
              <a:t>об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42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5240" y="227664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42"/>
                </a:solidFill>
                <a:latin typeface="Arial"/>
              </a:rPr>
              <a:t>итог,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3"/>
          <p:cNvSpPr/>
          <p:nvPr/>
        </p:nvSpPr>
        <p:spPr>
          <a:xfrm>
            <a:off x="147960" y="1989000"/>
            <a:ext cx="8913240" cy="520560"/>
          </a:xfrm>
          <a:prstGeom prst="rect">
            <a:avLst/>
          </a:prstGeom>
          <a:noFill/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Субъект - тот, кто осуществляет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55640" y="4724280"/>
            <a:ext cx="7704000" cy="947160"/>
          </a:xfrm>
          <a:prstGeom prst="rect">
            <a:avLst/>
          </a:prstGeom>
          <a:noFill/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Объект -  то, на что направлена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ject 5" descr=""/>
          <p:cNvPicPr/>
          <p:nvPr/>
        </p:nvPicPr>
        <p:blipFill>
          <a:blip r:embed="rId2"/>
          <a:stretch/>
        </p:blipFill>
        <p:spPr>
          <a:xfrm>
            <a:off x="1295280" y="2666880"/>
            <a:ext cx="2514600" cy="190044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6" descr=""/>
          <p:cNvPicPr/>
          <p:nvPr/>
        </p:nvPicPr>
        <p:blipFill>
          <a:blip r:embed="rId3"/>
          <a:stretch/>
        </p:blipFill>
        <p:spPr>
          <a:xfrm>
            <a:off x="4267080" y="2666880"/>
            <a:ext cx="180828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468360" y="5589720"/>
            <a:ext cx="8172360" cy="873720"/>
          </a:xfrm>
          <a:prstGeom prst="rect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447"/>
                </a:solidFill>
                <a:latin typeface="Candara"/>
              </a:rPr>
              <a:t>Определите, объекты и субъекты деятель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Object 8" descr=""/>
          <p:cNvPicPr/>
          <p:nvPr/>
        </p:nvPicPr>
        <p:blipFill>
          <a:blip r:embed="rId4"/>
          <a:stretch/>
        </p:blipFill>
        <p:spPr>
          <a:xfrm>
            <a:off x="6696000" y="2743200"/>
            <a:ext cx="153360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ag00029_"/>
          <p:cNvPicPr/>
          <p:nvPr/>
        </p:nvPicPr>
        <p:blipFill>
          <a:blip r:embed="rId5"/>
          <a:stretch/>
        </p:blipFill>
        <p:spPr>
          <a:xfrm>
            <a:off x="7656480" y="765000"/>
            <a:ext cx="1487520" cy="117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268360" y="189000"/>
            <a:ext cx="6121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Компоненты  деятельности 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Как вы думаете, что побуждает человека к деятель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Candara"/>
              </a:rPr>
              <a:t>Прочитайте прит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Candara"/>
              </a:rPr>
              <a:t>«Старательный дровосек честно собирал хворост, ему хорошо платили и хвалили за трудолюбие. Только одно от него скрывали: хворост шёл на костры инквизиции, где сжигали люд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Candara"/>
              </a:rPr>
              <a:t>О чем притча?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Candara"/>
              </a:rPr>
              <a:t>Человек всегда должен осмысливать свои поступки, предвидеть их последствия, знать, что получится в результате – добро или з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95640" y="0"/>
            <a:ext cx="5688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Потребности и интересы 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37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ndara"/>
              </a:rPr>
              <a:t>Мотив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- </a:t>
            </a:r>
            <a:r>
              <a:rPr b="1" i="1" lang="en-US" sz="3200" spc="-1" strike="noStrike">
                <a:solidFill>
                  <a:srgbClr val="000066"/>
                </a:solidFill>
                <a:latin typeface="Candara"/>
              </a:rPr>
              <a:t>побудительная причина, повод к какому-либо действию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ndara"/>
              </a:rPr>
              <a:t>Потреб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3200" spc="-1" strike="noStrike">
                <a:solidFill>
                  <a:srgbClr val="000066"/>
                </a:solidFill>
                <a:latin typeface="Candara"/>
              </a:rPr>
              <a:t>— это переживаемая и осознаваемая человеком нужда в том, что необходимо для поддержания его организма и развития лич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(</a:t>
            </a:r>
            <a:r>
              <a:rPr b="1" i="1" lang="en-US" sz="3200" spc="-1" strike="noStrike">
                <a:solidFill>
                  <a:srgbClr val="500050"/>
                </a:solidFill>
                <a:latin typeface="Candara"/>
              </a:rPr>
              <a:t>Биологические потребности, социальные потребности,</a:t>
            </a: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 </a:t>
            </a:r>
            <a:r>
              <a:rPr b="1" i="1" lang="en-US" sz="3200" spc="-1" strike="noStrike">
                <a:solidFill>
                  <a:srgbClr val="500050"/>
                </a:solidFill>
                <a:latin typeface="Candara"/>
              </a:rPr>
              <a:t>идеальные потребности</a:t>
            </a: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5877000"/>
            <a:ext cx="87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Убеждения, интересы, идеалы, влечения.</a:t>
            </a:r>
            <a:r>
              <a:rPr b="1" lang="en-US" sz="2800" spc="-1" strike="noStrike">
                <a:solidFill>
                  <a:srgbClr val="004442"/>
                </a:solidFill>
                <a:latin typeface="Candar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68360" y="0"/>
            <a:ext cx="6264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Что движет деятельностью?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3:05:33Z</dcterms:created>
  <dc:creator>Егоркина</dc:creator>
  <dc:description/>
  <dc:language>en-US</dc:language>
  <cp:lastModifiedBy>Егоркина</cp:lastModifiedBy>
  <dcterms:modified xsi:type="dcterms:W3CDTF">2012-10-09T17:44:16Z</dcterms:modified>
  <cp:revision>2</cp:revision>
  <dc:subject/>
  <dc:title>Слайд 1</dc:title>
</cp:coreProperties>
</file>