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D3A3-FF2F-470E-A171-7460286D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397C-17CC-408D-8FE6-6DECA15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F023-3279-44A2-B388-EA539558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0795-BA31-4A58-86E7-5DB277F7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9C38-0A0E-48DD-94F4-F6B4CE9F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6A1-E553-4F8C-92BA-FC7E4660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7D0F-A3C8-410E-9668-D240EB5F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1660-58F3-4326-B379-1EB0DE8D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2005-79E7-4C83-B73F-96AC46B9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2AF-E877-41D4-8398-06BED3F7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AB33-442E-4349-8D7A-32BE3C2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0E0B-B6BE-478F-A728-FFB57C6A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7520-6197-48C1-9400-8967BB6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8055-8CD1-406E-9A1C-1A5249F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BC23-1B21-4DFD-A458-BDED6FAB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AE88-438B-4988-8D82-2C1A4217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FA62-4F6A-4BF7-989C-02E70FAE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E550-5B82-4344-96DC-3ABCD1FC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19E7-447B-4350-87FA-2E0FA1C4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ECFD-A4EE-484F-8DB7-D5E39E3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0AF9-EBC1-4AD5-AB1E-A6A521F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2F8D-A76B-41D7-B6F9-DFC49B0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4BCD-A33C-49D0-BB0B-C0B3AB5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4C3B-2BF7-482B-8606-C65FF8F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C9F1-FBA7-4FB2-8065-BC859BD02D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67D-8047-48EB-901D-CA8F49B227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Экономические циклы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Экономические цикл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— циклические изменения экономической конъюнктуры, регулярные колебания уровня деловой активности от экономического подъема (бума) до спад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 претерпевает циклические изменения вслед за изменениями в других областях социальной структуры, как и любая другая система, подверженная перепадам и скачкам. Эти изменения, влекомые мировыми событиями, могут сказываться на уровне жизни населения государства, отражать его, и стремиться к следующей фазе ци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зы экономических цик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ъ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ikicycle"/>
          <p:cNvPicPr/>
          <p:nvPr/>
        </p:nvPicPr>
        <p:blipFill>
          <a:blip r:embed="rId1"/>
          <a:stretch/>
        </p:blipFill>
        <p:spPr>
          <a:xfrm>
            <a:off x="-25236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ъё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ё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аступает после достижения низшей точки цикла (дна). Характеризуется постепенным ростом занятости и производства. Многие экономисты полагают, что данной стадии присущи невысокие темпы инфляции. Происходит внедрение инноваций в экономике с коротким сроком окупаемости. Реализуется спрос, отложенный во время предыдуще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сшая точка экономического подъема. В этой фазе безработица обычно достигает самого низкого уровня, а производственные мощности работают с максимальной нагрузкой, (в производстве задействуются практически все имеющиеся в стране материальные и трудовые ресурсы). Обычно, во время пиков усиливается инфляция. Постепенное насыщение рынков усиливает конкуренцию, что снижает норму прибыли и увеличивает средний срок окупаемости. Возрастает потребность в долгосрочном кредитовании с постепенным снижением возможностей погашения кред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рецессия) характеризуется сокращением объёмов производства и снижением деловой и инвестиционной активности. Вследствие этого увеличивается рост безработицы. Официально фазой экономического спада, или рецессией, считают падения деловой активности, продолжающееся свыше трёх месяцев подря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депрессия) экономического цикла — это «низшая точка» производства и занятости. Данная фаза цикла обычно не бывает продолжитель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ч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ды и подъёмы происходят под воздействием реальных факт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ение новых технологий(в индустриальных странах) или урожа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рожай(в аграрн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с-мажорные ситу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йна, революция, стихийные бед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ях подъёма или спада вся экономика колеблется, стремясь прийти в равновес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ается или возрастает совокупный 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ается или увеличивается оборот розничной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массово начинают экономить или больше тра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20:11:15Z</dcterms:created>
  <dc:creator>Garage</dc:creator>
  <dc:description/>
  <dc:language>en-US</dc:language>
  <cp:lastModifiedBy>u</cp:lastModifiedBy>
  <dcterms:modified xsi:type="dcterms:W3CDTF">2013-01-06T12:00:10Z</dcterms:modified>
  <cp:revision>6</cp:revision>
  <dc:subject/>
  <dc:title>Экономические циклы </dc:title>
</cp:coreProperties>
</file>