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A4CC-A6A2-445A-AA4D-C73F8233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99FF-85F4-4DC0-8020-6A5AAA3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CECB-8A4D-4AA6-99BA-E912E927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1288-1698-4B38-9F57-24CF2703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068-F9D3-441E-9F57-C38D3929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5443-7A9E-4BB9-85B6-8D460C78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1676-E30D-4297-87E0-F361BFFE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E2E9-2137-4718-8E63-D18F3197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ECF9-76F2-4ACC-9434-FA56DBA2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B096-75FD-45CB-8EBF-F6EFE636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A8F-9E37-462A-B0D6-D40BD8B2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B09C-8525-4011-8168-BA965E4C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5DD-9A28-440A-867B-A30A470C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CAE8-B26C-4207-9C95-D3D2C15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7DC6-46A4-4506-AB43-77911F1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50C3-1F44-4059-9E64-6016BB22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ACCD-940A-47DE-B756-54F7615A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3027-4754-4BCD-8A2E-424EF810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EFC7-F259-4886-A394-64AD571D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7658-41F4-40DB-B2AA-87BA3CE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01D0-B73B-4507-A059-A8B1404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368D-E364-4776-BC27-CF4E1CC9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069A-D774-42C5-855E-81411E9F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3083-C24C-4CF1-A000-42610A0F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7F82-F0C9-47CE-BD33-9B77D4D5E9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CF6B-6FDC-4CD4-AE44-A0373682BD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Экономические циклы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Экономические цикл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— циклические изменения экономической конъюнктуры, регулярные колебания уровня деловой активности от экономического подъема (бума) до спад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 претерпевает циклические изменения вслед за изменениями в других областях социальной структуры, как и любая другая система, подверженная перепадам и скачкам. Эти изменения, влекомые мировыми событиями, могут сказываться на уровне жизни населения государства, отражать его, и стремиться к следующей фазе ци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азы экономических цикл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ъё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ikicycle"/>
          <p:cNvPicPr/>
          <p:nvPr/>
        </p:nvPicPr>
        <p:blipFill>
          <a:blip r:embed="rId1"/>
          <a:stretch/>
        </p:blipFill>
        <p:spPr>
          <a:xfrm>
            <a:off x="-252360" y="0"/>
            <a:ext cx="961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ъё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ё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аступает после достижения низшей точки цикла (дна). Характеризуется постепенным ростом занятости и производства. Многие экономисты полагают, что данной стадии присущи невысокие темпы инфляции. Происходит внедрение инноваций в экономике с коротким сроком окупаемости. Реализуется спрос, отложенный во время предыдуще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и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сшая точка экономического подъема. В этой фазе безработица обычно достигает самого низкого уровня, а производственные мощности работают с максимальной нагрузкой, (в производстве задействуются практически все имеющиеся в стране материальные и трудовые ресурсы). Обычно, во время пиков усиливается инфляция. Постепенное насыщение рынков усиливает конкуренцию, что снижает норму прибыли и увеличивает средний срок окупаемости. Возрастает потребность в долгосрочном кредитовании с постепенным снижением возможностей погашения кред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рецессия) характеризуется сокращением объёмов производства и снижением деловой и инвестиционной активности. Вследствие этого увеличивается рост безработицы. Официально фазой экономического спада, или рецессией, считают падения деловой активности, продолжающееся свыше трёх месяцев подря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(депрессия) экономического цикла — это «низшая точка» производства и занятости. Данная фаза цикла обычно не бывает продолжительн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ч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ады и подъёмы происходят под воздействием реальных факт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явление новых технологий(в индустриальных странах) или урожа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урожай(в аграрны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с-мажорные ситу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ойна, революция, стихийные бед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учаях подъёма или спада вся экономика колеблется, стремясь прийти в равновес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ается или возрастает совокупный 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ается или увеличивается оборот розничной торгов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массово начинают экономить или больше тра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20:11:15Z</dcterms:created>
  <dc:creator>Garage</dc:creator>
  <dc:description/>
  <dc:language>en-US</dc:language>
  <cp:lastModifiedBy>u</cp:lastModifiedBy>
  <dcterms:modified xsi:type="dcterms:W3CDTF">2013-01-06T12:00:10Z</dcterms:modified>
  <cp:revision>6</cp:revision>
  <dc:subject/>
  <dc:title>Экономические циклы </dc:title>
</cp:coreProperties>
</file>