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1AF-4F72-4D91-A37A-6F7242DC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9F1-FF24-4A8A-AA6A-F0EA9305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814-347E-4243-B22A-78FEB189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D09-BCCD-4537-9454-EDA85BB9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3A5-E1DE-4E37-98B7-2BE178F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765-8564-42D8-A9F3-5B3D2F78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A9E-DDD8-4F5A-82E7-9C7A0F78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2D1-83B9-4EBE-9837-E04D709A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BC6-956A-4483-86B0-87C928D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227-1347-44A7-9FC9-7EC0946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013-B0FA-4FFD-AAF5-BA29D894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C4C7-CF70-47B0-9E8A-718AB868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E77D-D115-4D52-A39B-C915E7824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250920" y="2060640"/>
            <a:ext cx="8642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есня на уроке английского язы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95280" y="4508640"/>
            <a:ext cx="514836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826920" y="333360"/>
            <a:ext cx="7490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стер - клас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отка фонетики 3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за диктором всей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под музыку вместе с дикто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слов песни за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вместе с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запомин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4452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пособы запоминания тек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Неполная фраз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Снежный ком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Цеп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ревновани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Order the Lines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т работа над содержанием песни. Задаются проблемные вопросы. Выявляется исторический фон песни. Извлекается социокультурная информ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old Horace do every day? What is his daily rout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he got any bad habits? What are they? What makes you think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old Horace like his Master? Why do you think so? Prove your point of view by using the text of the song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под музыку с   дик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 только под музыку, без ди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учащимся предлагается вообразить и описать место действий песни: город, дом, квартиру, где живут главные герои. Работа идет без предварительной подготовки. Дома можно сделать коллаж или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183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 под музы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на лучшее исполнение песни (2-3 команд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описание внешности и характера действующих лиц, предположительный возраст, профессия, образ жизни, любимая пища и одежда и т.д., используя фразы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my point of view, in my opin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5183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нение песни самостоятель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речи: рассказ от ли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роев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ter, old Hora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name is old Horace. I am a cat. I am young and large. And of course, I am strong and brave. My fur is red and fluffy. I have got large green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рок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на лучшее исполнение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диалогической ре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and act out a dialogue between the Master and old Horace when he comes back home. Whose dialogue will be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ster wants old Horace to stop catching birds. Imagine and act out a dialogue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ение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исание иллюстраций к пес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альнейшем эти творческие работы используются для развития речи по соответствующим темам («Внешность», «Квартира», «Город» и т.д.) Можно предложить учащимся рассказать о будущем главных героев: что произойдет с ними через несколько лет, как изменится их внешность, привычки, образ жизни, место жительства и т.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в зависимости от методической задачи отдельного этапа песенный материал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для фонетической зарядки на начальном этапе уро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на этапе введения, первичного закрепления, а также тренировки детей в употреблении лексического и грамматического материа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на любом этапе урока как стимул для развития речевых навыков и ум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как своего рода релаксация в середине или конце урока, когда учащимся необходима разрядка, снимающая напряжение и восстанавливающая их работоспособность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4452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овместное пение на уро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могучее педагогическое средство, которое организует, объединяет школьников, воспитывает их чув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.Д.Ушин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8408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сн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- важный элемент люб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есн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это великолепное средство повышения интереса как к стране изучаемого языка, так и интереса к самому языку, а также весьма эффективный способ повторения языкового материа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спекты работы над пес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й (способы запоми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я пес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сический (содержание пес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 – лингвистический, страновед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апы работы над песн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дготовка к работе с песней;                           - прослушивание и пе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бота над лексическим и грамматическим материалом, содержащимся в данном песенном текст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буждение к творческой работе (интерпретация песни, игры, работа с дополнительным материалом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работы над песней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0-12 уро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м уроке для этого отводи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5-7 мину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в классе не практиковалась ранее работа над песней, то возможно начать ее с выяснения отношения учащихся к пению и музы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 над песней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 Old Horace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МК И.Н.Верещагиной и О.В.Афанасьевой, 5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«Мозговой штур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imagine when you think about  the title of the s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ld Hor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se                                                    Cowb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539640" y="8469360"/>
            <a:ext cx="860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 flipH="1" flipV="1">
            <a:off x="2268000" y="4149720"/>
            <a:ext cx="10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5076720" y="414936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268000" y="4941720"/>
            <a:ext cx="7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08720" y="49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H="1">
            <a:off x="1692360" y="5229360"/>
            <a:ext cx="180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4500720" y="530064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V="1">
            <a:off x="4211640" y="4149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40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строение предположений относительно содержания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is song about? What are your ideas? Combine all these  words in a short story. One sentence for each word. Try to b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choice (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ее     подготовленном клас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is:            an old 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o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lives:       in a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vil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Horace likes:       slee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in the ga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ок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бота над грамматической стороной песни (1 куп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Horace…with me          to knoc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…home at 3          to r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…at the door                   to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…on the floor                 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…to sit with me             to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уется употребление глаголов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Inde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тно отрабатыва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требление предлогов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 и нареч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над фонети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батываем чтение 1 куплета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вук- сочетание звуков – слово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осочет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алее идет работа над грамматическими явлениями 2 куплета пес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Урок 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ая отработка 2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ение за диктором 1 и 2 купл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ая отработка 3 куп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3:22:35Z</dcterms:created>
  <dc:creator>Лариса</dc:creator>
  <dc:description/>
  <dc:language>en-US</dc:language>
  <cp:lastModifiedBy>User</cp:lastModifiedBy>
  <dcterms:modified xsi:type="dcterms:W3CDTF">2013-04-08T17:57:52Z</dcterms:modified>
  <cp:revision>5</cp:revision>
  <dc:subject/>
  <dc:title>Разработан Домановой Л.Б., учи</dc:title>
</cp:coreProperties>
</file>