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8C2-5AFE-4BE8-BED7-44A1BF1D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087A-8D06-4A78-A7E9-6E509FEC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F89-2928-4FAE-90CC-4B9AC9B6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15A-CDA0-4705-8765-DA68D5A6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0ED-2BB8-4F99-AFDF-942B1E1A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6025-AD5A-48BB-92B8-CA8B6BF8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361-5062-41CE-9192-1A30F6E9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A3DF-F98A-4A72-917F-EA86E47F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A93-3898-4AFE-9144-FB629181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6C9-6290-40D0-B76B-809D793A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BF2-6CF5-4B8E-9BA1-D707048C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987E-1192-4E65-9D8B-E0F999F0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7970-2805-46C9-8353-B3E0284D5E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250920" y="2060640"/>
            <a:ext cx="86421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сня на уроке английского язы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95280" y="4508640"/>
            <a:ext cx="5148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WordArt 11"/>
          <p:cNvSpPr txBox="1"/>
          <p:nvPr/>
        </p:nvSpPr>
        <p:spPr>
          <a:xfrm>
            <a:off x="826920" y="333360"/>
            <a:ext cx="74901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стер - класс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рок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аботка фонетики 3 куп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ение за диктором всей пес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ение песни под музыку вместе с диктор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рок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ение слов песни за дикт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ение песни вместе с дикт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над запомин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4452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пособы запоминания тек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Неполная фраз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Снежный ком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Цеп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ревновани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Order the Lines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рок 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ru-RU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т работа над содержанием песни. Задаются проблемные вопросы. Выявляется исторический фон песни. Извлекается социокультурная информац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old Horace do every day? What is his daily rout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he got any bad habits? What are they? What makes you think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old Horace like his Master? Why do you think so? Prove your point of view by using the text of the song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рок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ение песни под музыку с   дикт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ение песни самостоятельно только под музыку, без дик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речи: учащимся предлагается вообразить и описать место действий песни: город, дом, квартиру, где живут главные герои. Работа идет без предварительной подготовки. Дома можно сделать коллаж или рису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5183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рок 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ение песни самостоятельно под музы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урс на лучшее исполнение песни (2-3 команд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речи: описание внешности и характера действующих лиц, предположительный возраст, профессия, образ жизни, любимая пища и одежда и т.д., используя фразы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my point of view, in my opi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5183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рок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нение песни самостоятель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тие речи: рассказ от лиц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ероев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ter, old Horac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name is old Horace. I am a cat. I am young and large. And of course, I am strong and brave. My fur is red and fluffy. I have got large green ey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рок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урс на лучшее исполнение пес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диалогической ре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and act out a dialogue between the Master and old Horace when he comes back home. Whose dialogue will be the b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ster wants old Horace to stop catching birds. Imagine and act out a dialogue between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рок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ение пе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ание иллюстраций к пес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альнейшем эти творческие работы используются для развития речи по соответствующим темам («Внешность», «Квартира», «Город» и т.д.) Можно предложить учащимся рассказать о будущем главных героев: что произойдет с ними через несколько лет, как изменится их внешность, привычки, образ жизни, место жительства и т.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ак, в зависимости от методической задачи отдельного этапа песенный материал использу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для фонетической зарядки на начальном этапе уро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на этапе введения, первичного закрепления, а также тренировки детей в употреблении лексического и грамматического 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а любом этапе урока как стимул для развития речевых навыков и ум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как своего рода релаксация в середине или конце урока, когда учащимся необходима разрядка, снимающая напряжение и восстанавливающая их работоспособность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4452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овместное пение на урок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могучее педагогическое средство, которое организует, объединяет школьников, воспитывает их чув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.Д.Уши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88408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есн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важный элемент любого язы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есн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это великолепное средство повышения интереса как к стране изучаемого языка, так и интереса к самому языку, а также весьма эффективный способ повторения языкового материал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спекты работы над пес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мма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е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ческий (способы запомин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я песн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сический (содержание песн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о – лингвистический, страноведче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тапы работы над песней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дготовка к работе с песней;                           - прослушивание и пени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бота над лексическим и грамматическим материалом, содержащимся в данном песенном текст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буждение к творческой работе (интерпретация песни, игры, работа с дополнительным материалом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 работы над песней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0-12 урок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ждом уроке для этого отвод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-7 мину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 классе не практиковалась ранее работа над песней, то возможно начать ее с выяснения отношения учащихся к пению и му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713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над песней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 Old Horac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МК И.Н.Верещагиной и О.В.Афанасьевой, 5 к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рок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Мозговой штур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imagine when you think about  the title of the so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ld Hor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se                                                    Cowb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>
            <a:off x="539640" y="8469360"/>
            <a:ext cx="8604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"/>
          <p:cNvSpPr/>
          <p:nvPr/>
        </p:nvSpPr>
        <p:spPr>
          <a:xfrm flipH="1" flipV="1">
            <a:off x="2268000" y="4149720"/>
            <a:ext cx="1008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 flipV="1">
            <a:off x="5076720" y="4149360"/>
            <a:ext cx="1440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268000" y="4941720"/>
            <a:ext cx="7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5508720" y="49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 flipH="1">
            <a:off x="1692360" y="5229360"/>
            <a:ext cx="1800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4500720" y="5300640"/>
            <a:ext cx="20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 flipV="1">
            <a:off x="4211640" y="414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840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строение предположений относительно содержания пе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is song about? What are your ideas? Combine all these  words in a short story. One sentence for each word. Try to b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 choice (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нее     подготовленном класс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Horace is:            an old 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o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Horace lives:       in a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vill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f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Horace likes:       slee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in the ga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рок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бота над грамматической стороной песни (1 куп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Horace…with me          to knock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…home at 3          to r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…at the door                  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…on the floor                 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…to sit with me            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нируется употребление глаголов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Indefi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утно отрабатыва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отребление предлогов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образ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и сравнения прилагательных и наречий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820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рок 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над фонет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абатываем чтение 1 куплета: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вук- сочетание звуков – слово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осочет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Далее идет работа над грамматическими явлениями 2 куплета пес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рок 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етическая отработка 2 куп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ение за диктором 1 и 2 купл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мматическая отработка 3 куп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3:22:35Z</dcterms:created>
  <dc:creator>Лариса</dc:creator>
  <dc:description/>
  <dc:language>en-US</dc:language>
  <cp:lastModifiedBy>User</cp:lastModifiedBy>
  <dcterms:modified xsi:type="dcterms:W3CDTF">2013-04-08T17:57:52Z</dcterms:modified>
  <cp:revision>5</cp:revision>
  <dc:subject/>
  <dc:title>Разработан Домановой Л.Б., учи</dc:title>
</cp:coreProperties>
</file>