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975C-81F1-4C19-867C-5C5FFE870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35AF-3B4C-4570-8005-156B25490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3A79-6A95-48CF-99F1-2F6408480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8DAF-9452-427E-AE3C-04EA3D8AB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BB5D-4183-4D41-8389-3BCCE116A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33A7-B4F5-4131-A6EA-924E652A9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7D05-A046-437A-8F12-CF991D95F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0929-051C-4C77-A456-5D8353551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C883-3095-4081-A087-B1BA6FC7F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EEA4-C71D-4905-A654-F9717BF22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A6B1-D5DC-4660-A6C2-3F2E91E06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4849-50C6-481C-8FBC-EF69E16C3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3FD26-1C9E-4A2E-9C7B-9F2D4DE0974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Скругленный прямоугольник 6"/>
          <p:cNvGrpSpPr/>
          <p:nvPr/>
        </p:nvGrpSpPr>
        <p:grpSpPr>
          <a:xfrm>
            <a:off x="115920" y="158760"/>
            <a:ext cx="8912160" cy="6595920"/>
            <a:chOff x="115920" y="158760"/>
            <a:chExt cx="8912160" cy="6595920"/>
          </a:xfrm>
        </p:grpSpPr>
        <p:pic>
          <p:nvPicPr>
            <p:cNvPr id="6" name="Скругленный прямоугольник 6" descr=""/>
            <p:cNvPicPr/>
            <p:nvPr/>
          </p:nvPicPr>
          <p:blipFill>
            <a:blip r:embed="rId3"/>
            <a:stretch/>
          </p:blipFill>
          <p:spPr>
            <a:xfrm>
              <a:off x="115920" y="158760"/>
              <a:ext cx="8912160" cy="659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" name=""/>
            <p:cNvSpPr/>
            <p:nvPr/>
          </p:nvSpPr>
          <p:spPr>
            <a:xfrm>
              <a:off x="495360" y="504720"/>
              <a:ext cx="8153280" cy="584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Rectangle 1"/>
          <p:cNvSpPr/>
          <p:nvPr/>
        </p:nvSpPr>
        <p:spPr>
          <a:xfrm>
            <a:off x="187920" y="6596280"/>
            <a:ext cx="1621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9d9d9"/>
                </a:solidFill>
                <a:latin typeface="Arial"/>
                <a:ea typeface="Calibri"/>
              </a:rPr>
              <a:t>FokinaLida.75@mail.ru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77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f7f7f"/>
                </a:solidFill>
                <a:latin typeface="Arial"/>
                <a:ea typeface="Arial"/>
              </a:rPr>
              <a:t>Как нарисовать собаку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2852640"/>
            <a:ext cx="64008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Поэтапное рисова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Прямоугольник 4"/>
          <p:cNvSpPr/>
          <p:nvPr/>
        </p:nvSpPr>
        <p:spPr>
          <a:xfrm>
            <a:off x="2484360" y="522936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Автор - составител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Скоросуева Кристина Эдуард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2011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Используемые источник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исунок поэтапного рисования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ttp://s50.radikal.ru/i127/0901/bc/f83809516c88t.jp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обак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ttp://www.jameskwan.com/images/petmedog_screenshot1.jp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обаки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ttp://www.konik.ru/upload/larsen/large/H19.jp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Телевизор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ttp://img.cifrovik.ru/images/catalog/rolsen/rl/rl-32d50/rolsen_rl-32d50_1_extra.jp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Загадка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ttp://www.dogster.ru/cicero/humor/1027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1"/>
          <p:cNvSpPr/>
          <p:nvPr/>
        </p:nvSpPr>
        <p:spPr>
          <a:xfrm>
            <a:off x="3708360" y="549360"/>
            <a:ext cx="4572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ежит - молчит, 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ойдешь - 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ворчит. 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то к хозяину идёт, 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на знать даёт.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Рисунок 2" descr="petmedog_screenshot1.jpg"/>
          <p:cNvPicPr/>
          <p:nvPr/>
        </p:nvPicPr>
        <p:blipFill>
          <a:blip r:embed="rId1"/>
          <a:stretch/>
        </p:blipFill>
        <p:spPr>
          <a:xfrm>
            <a:off x="468360" y="1916280"/>
            <a:ext cx="4124160" cy="45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"/>
          <p:cNvSpPr/>
          <p:nvPr/>
        </p:nvSpPr>
        <p:spPr>
          <a:xfrm>
            <a:off x="468360" y="549360"/>
            <a:ext cx="82803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 не знаете, как нарисовать собаку? Не отчаивайтесь! Возьмите в руки карандаш. Помните, рисовать нужно плавно, легкими штрихами, едва касаясь бумаги, так как часть линий у нас будет вспомогательными, и в конце работы нам придется их стереть. Итак, приступим к обучению поэтапного рисов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" descr=""/>
          <p:cNvPicPr/>
          <p:nvPr/>
        </p:nvPicPr>
        <p:blipFill>
          <a:blip r:embed="rId1"/>
          <a:stretch/>
        </p:blipFill>
        <p:spPr>
          <a:xfrm>
            <a:off x="6300720" y="3645000"/>
            <a:ext cx="193356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рямоугольник 1"/>
          <p:cNvSpPr/>
          <p:nvPr/>
        </p:nvSpPr>
        <p:spPr>
          <a:xfrm>
            <a:off x="468360" y="476280"/>
            <a:ext cx="8351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f7f7f"/>
                </a:solidFill>
                <a:latin typeface="Arial"/>
              </a:rPr>
              <a:t>Этап 1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Для начала изобразим на листе бумаги круг (это будет головой), затем проведем линию спины, и где-то на ее середине изобразим такого же размера круг, как и у голов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" descr=""/>
          <p:cNvPicPr/>
          <p:nvPr/>
        </p:nvPicPr>
        <p:blipFill>
          <a:blip r:embed="rId1"/>
          <a:stretch/>
        </p:blipFill>
        <p:spPr>
          <a:xfrm>
            <a:off x="5580000" y="1689120"/>
            <a:ext cx="2664000" cy="47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"/>
          <p:cNvSpPr/>
          <p:nvPr/>
        </p:nvSpPr>
        <p:spPr>
          <a:xfrm>
            <a:off x="468360" y="549360"/>
            <a:ext cx="799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f7f7f"/>
                </a:solidFill>
                <a:latin typeface="Arial"/>
              </a:rPr>
              <a:t>Этап 2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Теперь можем нарисовать ей нос и грудку с шейк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4500720" y="685800"/>
            <a:ext cx="338436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Прямоугольник 1"/>
          <p:cNvSpPr/>
          <p:nvPr/>
        </p:nvSpPr>
        <p:spPr>
          <a:xfrm>
            <a:off x="468360" y="549360"/>
            <a:ext cx="8207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f7f7f"/>
                </a:solidFill>
                <a:latin typeface="Arial"/>
              </a:rPr>
              <a:t>Этап 3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Затем пририсовываем ей лапки в виде продольных линий и овалов на конце, не забываем про ушки и глазки, а также рисуем ей роти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5292720" y="1916280"/>
            <a:ext cx="2664000" cy="46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Прямоугольник 1"/>
          <p:cNvSpPr/>
          <p:nvPr/>
        </p:nvSpPr>
        <p:spPr>
          <a:xfrm>
            <a:off x="395280" y="476280"/>
            <a:ext cx="8497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f7f7f"/>
                </a:solidFill>
                <a:latin typeface="Arial"/>
              </a:rPr>
              <a:t>Этап 4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один из наиболее важны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десь мы поэтапно прорисовываем каждую деталь. Изображаем хвостик и прорисовываем пальчики на лапках и колени, дорисовываем носик, добавляем брови и ошейник на ше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5724360" y="2460600"/>
            <a:ext cx="2341800" cy="41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Прямоугольник 1"/>
          <p:cNvSpPr/>
          <p:nvPr/>
        </p:nvSpPr>
        <p:spPr>
          <a:xfrm>
            <a:off x="395280" y="549360"/>
            <a:ext cx="8497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f7f7f"/>
                </a:solidFill>
                <a:latin typeface="Arial"/>
              </a:rPr>
              <a:t>Этап 5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Теперь рисуем ей шерстку на хвосте и грудке, под ухом и на коленях, выделяем щечку. Стираем все вспомогательные и уже не нужные нам линии. Теперь можно обвести собаку поярче и даже красиво разукрасит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5867280" y="2225520"/>
            <a:ext cx="2808360" cy="463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Группа 9"/>
          <p:cNvGrpSpPr/>
          <p:nvPr/>
        </p:nvGrpSpPr>
        <p:grpSpPr>
          <a:xfrm>
            <a:off x="900000" y="1052640"/>
            <a:ext cx="5400720" cy="5306760"/>
            <a:chOff x="900000" y="1052640"/>
            <a:chExt cx="5400720" cy="5306760"/>
          </a:xfrm>
        </p:grpSpPr>
        <p:pic>
          <p:nvPicPr>
            <p:cNvPr id="63" name="Рисунок 5" descr="rolsen_rl-32d50_1_extra.jpg"/>
            <p:cNvPicPr/>
            <p:nvPr/>
          </p:nvPicPr>
          <p:blipFill>
            <a:blip r:embed="rId1"/>
            <a:stretch/>
          </p:blipFill>
          <p:spPr>
            <a:xfrm>
              <a:off x="900000" y="1052640"/>
              <a:ext cx="5400720" cy="5306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4" name="Группа 6"/>
            <p:cNvGrpSpPr/>
            <p:nvPr/>
          </p:nvGrpSpPr>
          <p:grpSpPr>
            <a:xfrm>
              <a:off x="1404000" y="1484640"/>
              <a:ext cx="4392720" cy="2808360"/>
              <a:chOff x="1404000" y="1484640"/>
              <a:chExt cx="4392720" cy="2808360"/>
            </a:xfrm>
          </p:grpSpPr>
          <p:pic>
            <p:nvPicPr>
              <p:cNvPr id="65" name="Рисунок 7" descr="H19.jpg"/>
              <p:cNvPicPr/>
              <p:nvPr/>
            </p:nvPicPr>
            <p:blipFill>
              <a:blip r:embed="rId2"/>
              <a:srcRect l="5115" t="9839" r="53666" b="9839"/>
              <a:stretch/>
            </p:blipFill>
            <p:spPr>
              <a:xfrm>
                <a:off x="1404000" y="1484640"/>
                <a:ext cx="2196360" cy="2808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Рисунок 8" descr="H19.jpg"/>
              <p:cNvPicPr/>
              <p:nvPr/>
            </p:nvPicPr>
            <p:blipFill>
              <a:blip r:embed="rId3"/>
              <a:srcRect l="53666" t="11020" r="6036" b="9839"/>
              <a:stretch/>
            </p:blipFill>
            <p:spPr>
              <a:xfrm>
                <a:off x="3600360" y="1484640"/>
                <a:ext cx="2196360" cy="2808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67" name="Picture 3" descr=""/>
          <p:cNvPicPr/>
          <p:nvPr/>
        </p:nvPicPr>
        <p:blipFill>
          <a:blip r:embed="rId4"/>
          <a:stretch/>
        </p:blipFill>
        <p:spPr>
          <a:xfrm>
            <a:off x="6227640" y="3068640"/>
            <a:ext cx="2252880" cy="3284640"/>
          </a:xfrm>
          <a:prstGeom prst="rect">
            <a:avLst/>
          </a:prstGeom>
          <a:ln w="0">
            <a:noFill/>
          </a:ln>
        </p:spPr>
      </p:pic>
      <p:sp>
        <p:nvSpPr>
          <p:cNvPr id="68" name="Прямоугольник 2"/>
          <p:cNvSpPr/>
          <p:nvPr/>
        </p:nvSpPr>
        <p:spPr>
          <a:xfrm>
            <a:off x="1692360" y="404640"/>
            <a:ext cx="602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ра! Мы нарисовали собаку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3T06:16:26Z</dcterms:created>
  <dc:creator>Компас</dc:creator>
  <dc:description/>
  <dc:language>en-US</dc:language>
  <cp:lastModifiedBy>user</cp:lastModifiedBy>
  <dcterms:modified xsi:type="dcterms:W3CDTF">2013-04-08T15:06:57Z</dcterms:modified>
  <cp:revision>10</cp:revision>
  <dc:subject/>
  <dc:title>Слайд 1</dc:title>
</cp:coreProperties>
</file>