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EACD-EDE3-4B82-A708-3D22469A1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CDD9-47D7-4D18-8684-11AC34D2F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A934-47EC-422A-AD27-0936EA945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E22C-D3D2-4236-A95B-068691856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1096-5E12-434A-ABC8-2FADF6B35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E1CE-8ADC-4771-98C6-BFD7B2DBB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EE1B-0E0A-4FC9-B59B-5612B03E3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B131-8B8A-457A-81E3-EA7C4D75C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6BC8-3543-4307-AB2F-780398567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3207-BFB4-45B7-AC5D-5FE24BF1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F97E-5870-4004-896E-6C677A6F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6DE1-E11E-46DF-AFB2-48CF60EC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76F6E-F43E-4D84-8E40-6B17D3C834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Скругленный прямоугольник 6"/>
          <p:cNvGrpSpPr/>
          <p:nvPr/>
        </p:nvGrpSpPr>
        <p:grpSpPr>
          <a:xfrm>
            <a:off x="115920" y="158760"/>
            <a:ext cx="8912160" cy="6595920"/>
            <a:chOff x="115920" y="158760"/>
            <a:chExt cx="8912160" cy="6595920"/>
          </a:xfrm>
        </p:grpSpPr>
        <p:pic>
          <p:nvPicPr>
            <p:cNvPr id="6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115920" y="158760"/>
              <a:ext cx="8912160" cy="659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495360" y="504720"/>
              <a:ext cx="8153280" cy="584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Rectangle 1"/>
          <p:cNvSpPr/>
          <p:nvPr/>
        </p:nvSpPr>
        <p:spPr>
          <a:xfrm>
            <a:off x="187920" y="6596280"/>
            <a:ext cx="1621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9d9d9"/>
                </a:solidFill>
                <a:latin typeface="Arial"/>
                <a:ea typeface="Calibri"/>
              </a:rPr>
              <a:t>FokinaLida.75@mail.r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7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f7f7f"/>
                </a:solidFill>
                <a:latin typeface="Arial"/>
                <a:ea typeface="Arial"/>
              </a:rPr>
              <a:t>Как нарисовать собаку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оэтапное рисо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4"/>
          <p:cNvSpPr/>
          <p:nvPr/>
        </p:nvSpPr>
        <p:spPr>
          <a:xfrm>
            <a:off x="2484360" y="52293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Автор - состави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Скоросуева Кристина Эдуард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2011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спользуемые источник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исунок поэтапного рисовани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ttp://s50.radikal.ru/i127/0901/bc/f83809516c88t.jp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бак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ttp://www.jameskwan.com/images/petmedog_screenshot1.jp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баки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www.konik.ru/upload/larsen/large/H19.jp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елевизор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img.cifrovik.ru/images/catalog/rolsen/rl/rl-32d50/rolsen_rl-32d50_1_extra.jp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гадк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www.dogster.ru/cicero/humor/1027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3708360" y="549360"/>
            <a:ext cx="4572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жит - молчит,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ойдешь -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ворчит.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то к хозяину идёт,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а знать даёт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2" descr="petmedog_screenshot1.jpg"/>
          <p:cNvPicPr/>
          <p:nvPr/>
        </p:nvPicPr>
        <p:blipFill>
          <a:blip r:embed="rId1"/>
          <a:stretch/>
        </p:blipFill>
        <p:spPr>
          <a:xfrm>
            <a:off x="468360" y="1916280"/>
            <a:ext cx="412416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468360" y="549360"/>
            <a:ext cx="8280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 не знаете, как нарисовать собаку? Не отчаивайтесь! Возьмите в руки карандаш. Помните, рисовать нужно плавно, легкими штрихами, едва касаясь бумаги, так как часть линий у нас будет вспомогательными, и в конце работы нам придется их стереть. Итак, приступим к обучению поэтапного рис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6300720" y="3645000"/>
            <a:ext cx="193356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468360" y="476280"/>
            <a:ext cx="835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7f7f"/>
                </a:solidFill>
                <a:latin typeface="Arial"/>
              </a:rPr>
              <a:t>Этап 1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ля начала изобразим на листе бумаги круг (это будет головой), затем проведем линию спины, и где-то на ее середине изобразим такого же размера круг, как и у голов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5580000" y="1689120"/>
            <a:ext cx="266400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468360" y="549360"/>
            <a:ext cx="799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7f7f"/>
                </a:solidFill>
                <a:latin typeface="Arial"/>
              </a:rPr>
              <a:t>Этап 2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еперь можем нарисовать ей нос и грудку с шей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4500720" y="685800"/>
            <a:ext cx="33843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468360" y="549360"/>
            <a:ext cx="8207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7f7f"/>
                </a:solidFill>
                <a:latin typeface="Arial"/>
              </a:rPr>
              <a:t>Этап 3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атем пририсовываем ей лапки в виде продольных линий и овалов на конце, не забываем про ушки и глазки, а также рисуем ей рот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5292720" y="1916280"/>
            <a:ext cx="2664000" cy="46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1"/>
          <p:cNvSpPr/>
          <p:nvPr/>
        </p:nvSpPr>
        <p:spPr>
          <a:xfrm>
            <a:off x="395280" y="476280"/>
            <a:ext cx="8497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7f7f"/>
                </a:solidFill>
                <a:latin typeface="Arial"/>
              </a:rPr>
              <a:t>Этап 4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один из наиболее важн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десь мы поэтапно прорисовываем каждую деталь. Изображаем хвостик и прорисовываем пальчики на лапках и колени, дорисовываем носик, добавляем брови и ошейник на ше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5724360" y="2460600"/>
            <a:ext cx="2341800" cy="41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395280" y="549360"/>
            <a:ext cx="8497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7f7f"/>
                </a:solidFill>
                <a:latin typeface="Arial"/>
              </a:rPr>
              <a:t>Этап 5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еперь рисуем ей шерстку на хвосте и грудке, под ухом и на коленях, выделяем щечку. Стираем все вспомогательные и уже не нужные нам линии. Теперь можно обвести собаку поярче и даже красиво разукраси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5867280" y="2225520"/>
            <a:ext cx="2808360" cy="46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Группа 9"/>
          <p:cNvGrpSpPr/>
          <p:nvPr/>
        </p:nvGrpSpPr>
        <p:grpSpPr>
          <a:xfrm>
            <a:off x="900000" y="1052640"/>
            <a:ext cx="5400720" cy="5306760"/>
            <a:chOff x="900000" y="1052640"/>
            <a:chExt cx="5400720" cy="5306760"/>
          </a:xfrm>
        </p:grpSpPr>
        <p:pic>
          <p:nvPicPr>
            <p:cNvPr id="63" name="Рисунок 5" descr="rolsen_rl-32d50_1_extra.jpg"/>
            <p:cNvPicPr/>
            <p:nvPr/>
          </p:nvPicPr>
          <p:blipFill>
            <a:blip r:embed="rId1"/>
            <a:stretch/>
          </p:blipFill>
          <p:spPr>
            <a:xfrm>
              <a:off x="900000" y="1052640"/>
              <a:ext cx="5400720" cy="5306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" name="Группа 6"/>
            <p:cNvGrpSpPr/>
            <p:nvPr/>
          </p:nvGrpSpPr>
          <p:grpSpPr>
            <a:xfrm>
              <a:off x="1404000" y="1484640"/>
              <a:ext cx="4392720" cy="2808360"/>
              <a:chOff x="1404000" y="1484640"/>
              <a:chExt cx="4392720" cy="2808360"/>
            </a:xfrm>
          </p:grpSpPr>
          <p:pic>
            <p:nvPicPr>
              <p:cNvPr id="65" name="Рисунок 7" descr="H19.jpg"/>
              <p:cNvPicPr/>
              <p:nvPr/>
            </p:nvPicPr>
            <p:blipFill>
              <a:blip r:embed="rId2"/>
              <a:srcRect l="5115" t="9839" r="53666" b="9839"/>
              <a:stretch/>
            </p:blipFill>
            <p:spPr>
              <a:xfrm>
                <a:off x="1404000" y="1484640"/>
                <a:ext cx="2196360" cy="2808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Рисунок 8" descr="H19.jpg"/>
              <p:cNvPicPr/>
              <p:nvPr/>
            </p:nvPicPr>
            <p:blipFill>
              <a:blip r:embed="rId3"/>
              <a:srcRect l="53666" t="11020" r="6036" b="9839"/>
              <a:stretch/>
            </p:blipFill>
            <p:spPr>
              <a:xfrm>
                <a:off x="3600360" y="1484640"/>
                <a:ext cx="2196360" cy="2808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67" name="Picture 3" descr=""/>
          <p:cNvPicPr/>
          <p:nvPr/>
        </p:nvPicPr>
        <p:blipFill>
          <a:blip r:embed="rId4"/>
          <a:stretch/>
        </p:blipFill>
        <p:spPr>
          <a:xfrm>
            <a:off x="6227640" y="3068640"/>
            <a:ext cx="2252880" cy="328464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2"/>
          <p:cNvSpPr/>
          <p:nvPr/>
        </p:nvSpPr>
        <p:spPr>
          <a:xfrm>
            <a:off x="1692360" y="404640"/>
            <a:ext cx="602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а! Мы нарисовали собак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3T06:16:26Z</dcterms:created>
  <dc:creator>Компас</dc:creator>
  <dc:description/>
  <dc:language>en-US</dc:language>
  <cp:lastModifiedBy>user</cp:lastModifiedBy>
  <dcterms:modified xsi:type="dcterms:W3CDTF">2013-04-08T15:06:57Z</dcterms:modified>
  <cp:revision>10</cp:revision>
  <dc:subject/>
  <dc:title>Слайд 1</dc:title>
</cp:coreProperties>
</file>