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AE3-D132-4C61-9EB9-E50D15F3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F7F-61C5-44B2-9705-AC4BB8D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D60-D1E3-47C6-89A0-96B21EB9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0AA-7BA9-48F7-A5A7-C3DF64B1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4F0-E97E-46E6-809E-67996BB9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F4F5-F959-4304-8EDD-F4CB7F1C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027-30D4-424A-94DE-514740F9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21F-3A02-4B9F-A786-CD5636D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888-6095-4E9F-96B6-BFBF676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5D2-229B-42C2-B78D-5C0BDCD3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1CD-0A09-4907-8E17-E3B41B9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0E9-41E5-4635-A4C0-DF7F4815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DCD5DF-A353-4031-8B8F-58E4A580B13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852640"/>
            <a:ext cx="46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uess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multiple cho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76280"/>
            <a:ext cx="7920000" cy="57610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they study at collegiate for two years to enter the univer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chools only for elementary students, junior high students and high school students. They do not go to the same building all 1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art school in January and finish in Nov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lesson at junior high school i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5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lo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primary school, junior secondary school and senior secondary school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udents pass school exams to get the Certificate of Education after each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manga draw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vacations students and teachers go on excursions to other cities or countries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4-5 students in class pass their exams successfully and enter the un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junior high and high school students have to wear uni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51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got special shelves for things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island country famous for its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finish at 4 o’clock in the afternoon but student don’t go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borders Vietnam and Thai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ituated in the Indian s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three levels of education: six years of elementary school, three years of junior high school, three years of high school, two or four years of univers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leep in class in the middle of the day because it’s too hot to study in the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ituated in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country and an island. It is situated in the Pacific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476280"/>
            <a:ext cx="7920000" cy="57610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Japan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n Africa. It’s very h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robotechnic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yl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wear traditional clothes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English from Primary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tudy 8:4: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they visit a lot of after school activities and cour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20:26:15Z</dcterms:created>
  <dc:creator>Ирина</dc:creator>
  <dc:description/>
  <dc:language>en-US</dc:language>
  <cp:lastModifiedBy>Ирина</cp:lastModifiedBy>
  <dcterms:modified xsi:type="dcterms:W3CDTF">2013-02-12T19:29:41Z</dcterms:modified>
  <cp:revision>5</cp:revision>
  <dc:subject/>
  <dc:title>Слайд 1</dc:title>
</cp:coreProperties>
</file>