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948-6747-4CE0-95F1-6550DDE9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5E5-32E6-4215-9DE3-95E2345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D64-C34B-45F9-B91E-EC94779F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4C9-056A-4EC0-9060-CEAF924B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031-34A7-4A16-9E20-2A5F20E9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DB9-48EE-4537-AF6B-C3D8968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79B-568B-4D0B-B3AE-DC8E4A6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0CE-3114-44BB-95C8-4D06EE16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B5A-7B1C-44BC-A392-5ABDB00C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161-BEE1-4BCB-9F70-7DCCD98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56E-CCFB-4448-B699-0E43EDD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536-96C1-4BFE-BB83-D5A4417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14389B-DF10-4C56-8C30-821253A31E5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852640"/>
            <a:ext cx="46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uess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multiple ch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76280"/>
            <a:ext cx="7920000" cy="57610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they study at collegiate for two years to enter the univer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chools only for elementary students, junior high students and high school students. They do not go to the same building all 12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rt school in January and finish in Nov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lesson at junior high school 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s lo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got primary school, junior secondary school and senior secondary school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udents pass school exams to get the Certificate of Education after each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got manga draw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vacations students and teachers go on excursions to other cities or countrie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-5 students in class pass their exams successfully and enter the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junior high and high school students have to wear uni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51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got special shelves for things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island country famous for its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finish at 4 o’clock in the afternoon but student don’t go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orders Vietnam and Thai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ituated in the Indian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ree levels of education: six years of elementary school, three years of junior high school, three years of high school, two or four years of univer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leep in class in the middle of the day because it’s too hot to study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ituated in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country and an island. It is situated in the Pacific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76280"/>
            <a:ext cx="7920000" cy="57610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udy Japa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 Africa. It’s very h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robotechnic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wear traditional clothes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udy English from Primary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udy 8:4: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they visit a lot of after school activities and cour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20:26:15Z</dcterms:created>
  <dc:creator>Ирина</dc:creator>
  <dc:description/>
  <dc:language>en-US</dc:language>
  <cp:lastModifiedBy>Ирина</cp:lastModifiedBy>
  <dcterms:modified xsi:type="dcterms:W3CDTF">2013-02-12T19:29:41Z</dcterms:modified>
  <cp:revision>5</cp:revision>
  <dc:subject/>
  <dc:title>Слайд 1</dc:title>
</cp:coreProperties>
</file>