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9F3C-ACE2-4866-89B0-402A3F0B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8F28-F55C-46A3-B089-F339714F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4EB-1E76-483A-9AD9-C258FA24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7123-FE77-4464-93B7-969A8C00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B4A8-334C-428C-BE01-B21D34F6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C31F-EAAD-4E6C-82B9-47D6798B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FFE2-FD55-4B4C-AAA1-624C3EEB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C003-868D-4706-BA45-36B06C9D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8A15-0AAB-4B22-993A-9E1D8DAF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7A9D-B066-4C31-89A8-9586011E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59DD-D3EB-4F11-8F46-7CA0E094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F821-F546-483F-A5DB-EB4FC8F7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8192-96A1-448F-AFDB-45F494E1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6769-3DAA-48C7-9CAA-6B4B0875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A8A3-8C88-46C8-80AF-8D91078E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1845-8642-460E-836B-5D23E506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A319-2A34-49B1-B5AB-DC0B1B53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A5FCA-EB0B-4FDA-B040-AB34D9D5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6AD49-9FCE-4CF8-ABF0-0CFFD7E6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0D874-BBB5-4DF5-A8C5-56A2E23D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4A996-1963-429E-ACF7-08BCE166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E3524-EFB1-4184-9230-17F7DC7E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A449-0AF7-459A-8406-6042743F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E8807-8555-4CC8-8AA6-803A3DDC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5F815-92D6-4E2D-9D5B-AAFC5D2C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8AD24-AE08-4509-8D95-40280DCE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ABA8E-F6C5-4A2E-9173-EB809200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C7740-7C6D-463C-AEED-2C525EFD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3EE0B-FC85-4A13-AD59-7D370192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847C8-82B5-44D4-9668-221D212B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EF890-394E-46AE-B0D7-9AC605BA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3D521-1D6A-4563-97CE-07726930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DC25D-A6CD-4A92-84B4-28D087B8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B670-E46F-4C23-ADDF-F0842A53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04BC8-6A6F-4C2C-B8DD-B33E6B05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3F344-E4E9-48CA-87F3-D59A8405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11AF5-A4FC-4AE6-8E38-247BE443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7B5C7-EA83-45F2-9115-90C9478D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96B4F-9677-435B-8B30-B0F6ED5F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BD5E7-0BED-447A-B037-83859902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CA505-B8B4-4A2E-9CD6-4E6102A8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70003-C71F-4BB7-931E-C19AE6D5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C28D5-0055-401C-ACA1-3A3ACF9A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E604-D43B-45E1-A11A-12F8C4B9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2F23-21FF-4336-AC16-16B89F37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3E16-6F38-4F51-8D59-AB8F876D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7B36-22CD-46BB-A1BC-4BFE8F49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D5FF-D5D1-4ADA-AC22-C9A2E534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931AC6-E84C-45AD-B236-AB9ADD63D7B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AF7E79-A615-4594-A007-41815DDD196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B0FA4C-60F4-42D9-BA59-BB2FE6DA619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C8F65A-2170-44F5-B1F8-06FE3114705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24000" y="1773000"/>
            <a:ext cx="6696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Игровая деятельность детей дошкольного возраста</a:t>
            </a:r>
            <a:br>
              <a:rPr sz="6000"/>
            </a:b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-244800"/>
            <a:ext cx="75438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иды игр в зависимости от меры непосредственного участия взрослого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99840" y="2276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зрослый принимает косвенное участие в их подготовке и проведении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зрослый даёт фиксированную программу действ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Как развивается сюжетно-ролевая игра 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ЛАДШИЙ ВОЗРА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ю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товые (семья, парикмахерская, магазин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продолжительный 3-5 м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стойчив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одерж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вное воспроизведение действий взросл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о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ль не осознаётся т.е. выполняя роль ребёнок видит свою маму, т.е. конкретный об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стойчив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гре мало ролей 2-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гровые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гко нарушают последовательность игровых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уется игровой материал для выполнения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гровые прав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 игровых прав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ИЙ ВОЗРАСТ.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ю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то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ее продолжительн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ее устойчив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одерж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вное воспроизведение отношения между людьми (нормы поведения, вежливость главный компонен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о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знаётся т.е. роль воплощает в себе обобщённый образ человека, данной профессии (вообще парикмахер, доктор, а не тот который его лечил, не мам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ее устойчи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растает количество ролей 4-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гровые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рушают последовательность игровых действий, но не объясняют почему нельз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ы заместители используют чащ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 проговаривание игровых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гровые прав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т соблюдать правила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ШИЙ ВОЗРАСТ.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ю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товой, общественный, политическ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олжительный (дням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ойчивый (игра имеет логическое завершени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одерж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гое соблюдение прав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о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ойчи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ичество ролей до 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гровые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ъясняет почему нельзя нарушать последовательность игровых действий (из личного опыт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яет игровые действия словесно (проговаривае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ее активен с предметами заместител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гровые прав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ют и соблюдают правила иг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1280" y="141120"/>
            <a:ext cx="8137440" cy="618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Условия формирования сюжетно-ролевой игры: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·    </a:t>
            </a: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 Знакомство ребенка с реальным миром;</a:t>
            </a:r>
            <a:br>
              <a:rPr sz="2900"/>
            </a:b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·     Овладение игровыми умениями в раннем возрасте;</a:t>
            </a:r>
            <a:br>
              <a:rPr sz="2900"/>
            </a:b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·    Планирование системы предварительной работы с детьми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326520"/>
            <a:ext cx="823284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азвитие творческих способностей детей через игру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гры-драматиз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ключение сказочных сюжетов в игр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готовка игрового пространств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готовление необходимых игрушек или заместите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Кто занимался проблемами игры в дошкольном возрасте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.К. Крупска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.В. Менджерицка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.П. Усов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.И. Жуковска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.Л. Новосёло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326520"/>
            <a:ext cx="823284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006633"/>
                </a:solidFill>
                <a:latin typeface="Garamond"/>
              </a:rPr>
              <a:t>Современные технологии сюжетно-ролевых игр детей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Н.Я. Михайленко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Н.Ф. Тарловска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В.И. Турченко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460440"/>
            <a:ext cx="82328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Технология Н.Ф.Тарловско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точники игровых целей де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вый источник – действия взрослого, которые вызывают у малыша вспышку интереса, привлекают его внимание и побуждают к похожим действия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торой источник – это цели, которые специально ставятся перед ним взрослы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460440"/>
            <a:ext cx="82328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собенности технологи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Н.Ф. Тарловская предлагает такой путь организации игры, при котором основным побудителем является  не подражание взрослому, а общение с ним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460440"/>
            <a:ext cx="82328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гра ребенка - дошкольни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073240" y="1979640"/>
            <a:ext cx="5486400" cy="41148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60440"/>
            <a:ext cx="82328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собенности технологи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ействие относительно самого ребенк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игровые действия с самим ребенком «понарошку»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мена ролей (игровые действия ребенка относительно взрослого: полечить, сделать прическу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60440"/>
            <a:ext cx="82328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Задачи: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накомить детей с разнообразием игровых цел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буждать самостоятельно ставить игровые цели и таким образом проявлять игровую инициативу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епенно подводить детей к самостоятельному поиску средств и способов достижения цел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ктиковать игры с двумя-тремя связанными между собой целя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60440"/>
            <a:ext cx="82328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оветы педагога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старайтесь часто вносить в группу новые игрушки, лучше показывать как можно по-разному использовать одни и те же игруш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грая с детьми, нужно учитывать их интересы и предпочтения. В игре всегда решающее слово должно оказаться за ребенк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ебенок вас примет как партнера, если вы будете искренне и уважительно относится к его игровым возможностя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ем богаче диапазон игровых целей, тем свободнее действует в соответствии с ними ребенок, тем интереснее будет для него игр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460440"/>
            <a:ext cx="82328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оследовательность превращений в игр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99640" y="1618920"/>
            <a:ext cx="7543800" cy="51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вестные детям и привлекательные для них животные и птиц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ресные малышам предметы, в первую очередь движущиеся – паровоз,машин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зрослые, чья профессиональная деятельность имеет характерные внешние атрибут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пособы подготовки детей к принятию роле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рганизованные наблюдения за профессиональными действиями взросл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пизодические целевые воздействия на самостоятельную игру дет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460440"/>
            <a:ext cx="82328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емы руководства игрой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прием «параллельная игра – роль»;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образцы содержательных ролевых диалогов.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328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иемы руководства при планировании иг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учение игровым действиям через развертывание игровой деятельно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полнение воспитателем главной рол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рганизация игр по сюжету, разработанному воспитателем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несение кукольного персонажа, постановка правил поведения от его лиц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юрпризное появление игрушк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здание воображаемой ситуаци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вет, напоминание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новление игровых уголков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ведение игрового тренинга, правил поведен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ыгрывание воображаемой ситуаци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несение образных игруш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360360"/>
            <a:ext cx="88934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Терминологическое пространство 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75840" y="2568240"/>
            <a:ext cx="754380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гра – ведущий вид деятельности ребенка-дошкольник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Игровая деятельность – отражение окружающего мира через особые игровые действия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460440"/>
            <a:ext cx="82328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Этапы игр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анипулятивные действ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едметная деятельност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чало сюжетно-ролевой игр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южетная игра, как творческа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414000"/>
            <a:ext cx="82296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006633"/>
                </a:solidFill>
                <a:latin typeface="Garamond"/>
              </a:rPr>
              <a:t>Этапы игры и вид общения с ребенком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анипулятивные действия – эмоциональный контак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метная деятельность- деловое общ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чало сюжетно-ролевой игры – речевое общение (объяснение, разъяснение, напоминание)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южетно-ролевая игра, как творческая – внеситуативно-познавательная, внеситуативно-личностная форма общения с ребенк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5346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Особенности творческой детской иг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820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0" algn="ctr">
              <a:spcBef>
                <a:spcPts val="75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6600" indent="0" algn="ctr">
              <a:spcBef>
                <a:spcPts val="75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етское творчество проявляется в замысле игры и в поиске средств для его реализаци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5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80" y="-32040"/>
            <a:ext cx="89647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очему игра -  развивающий вид деятельности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92000" y="2160360"/>
            <a:ext cx="1018728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10134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гра - всегда импровизац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10134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несение определенных заместител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10134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огика игровых действ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10134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готовка необходимой игровой сре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10134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игровых средств требует включения воображения, памяти, логическог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10760"/>
                <a:tab algn="l" pos="1013472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ыш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280" y="302760"/>
            <a:ext cx="807084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Характеристика детской иг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979640"/>
            <a:ext cx="842472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гра - форма деятельности в условных ситуациях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Tahoma"/>
              <a:buChar char="-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а существования всех без исключения сторон жизнедеятельности человека и коллекти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Tahoma"/>
              <a:buChar char="-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гра - вид непродуктивной деятельности, мотив которой заключается не в ее результатах, а в самом процессе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Классификации игр</a:t>
            </a:r>
            <a:br>
              <a:rPr sz="4200"/>
            </a:b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Д.В.Менджерицкой:</a:t>
            </a:r>
            <a:br>
              <a:rPr sz="4200"/>
            </a:br>
            <a:br>
              <a:rPr sz="4200"/>
            </a:b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-ознакомительная игра</a:t>
            </a:r>
            <a:br>
              <a:rPr sz="4200"/>
            </a:b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-отобразительная игра</a:t>
            </a:r>
            <a:br>
              <a:rPr sz="4200"/>
            </a:b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-</a:t>
            </a: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сюжетно-ролевая игра</a:t>
            </a:r>
            <a:br>
              <a:rPr sz="4200"/>
            </a:b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-</a:t>
            </a: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собственно-ролевая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200"/>
            </a:b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игра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</dc:creator>
  <dc:description/>
  <dc:language>en-US</dc:language>
  <cp:lastModifiedBy>Медведева</cp:lastModifiedBy>
  <dcterms:modified xsi:type="dcterms:W3CDTF">2010-01-25T19:06:44Z</dcterms:modified>
  <cp:revision>4</cp:revision>
  <dc:subject/>
  <dc:title>Муниципальное образовательное учреждение для детей дошкольного и младшего школьного возраста начальная школа детский сад компенсирующего вида № 440</dc:title>
</cp:coreProperties>
</file>