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277-263D-4D29-A795-737FADB8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B31-F5D1-429D-9422-2C3FDF08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6C0-767C-4078-B576-7DB6ECEC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307-6F1E-4409-A561-A4B287E3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D0D6-3C00-4FBF-851A-16414C85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89E7-2C04-4AC5-B2D2-8388524D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0985-1C9C-4E3C-ADB5-90C4BB06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2DD8-9B64-472A-ABBA-11E167AB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80E7-B91D-4EFA-A1B5-00C4D8E7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E117-DB58-4541-9FED-5048A9C9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7049-F34E-4450-8A98-D84FA29A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671-ADBE-46CA-BF38-93B74C10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3E89-A1EB-43E5-A36C-BF34D94E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C029-F56A-4018-9CFB-A5E182D2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EEA7-A8CF-4636-AE01-AE3A3B11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5611-D5C2-4582-9912-53F70108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E2E0-0275-4127-A043-BE27C547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A149-7B32-4B82-889A-CF3C8FAE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4F66-37EB-429B-B846-D96F8A4F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9CBD-E23C-4730-B951-47587457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201E1-6FAF-498C-BB4F-5F540181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32B81-B421-464C-9CFD-510AF250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F7C-DE53-4F4F-823B-9BD3A297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1611-5F3C-491B-8668-B4A1A200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3C62-5044-4C51-BB50-657E6B94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DF37-69C6-45BB-ADD7-4F1DA31E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0DB8-C4D6-4BC7-BC62-F2CA0B5D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7CCC-AF58-4F54-A861-5476B81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05E0-1B8A-4775-9ED4-B573292D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D2069-2D06-4F76-8ACC-A957E8E9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2A8A3-7015-42A3-92F7-25D23892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C85C0-3AE7-4AF9-BB0D-C6E53AF0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218E-C0B9-41DD-9E39-0128FFF2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325-647A-4DB4-B8BC-FD4B623E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F30F-94DD-433F-BD16-EBE81AC5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4799-40B2-4C59-A335-832EB9AA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D99F-C9D1-4F9D-B44E-3DC5D2F8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E14EE-298D-4496-A9ED-1A75A872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CBD86-253A-490D-A7E6-3F6D3CC6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3AC7-5E0F-45B3-9C9F-039150F1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F9BD-5FB4-4968-AD61-7143A1B7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1B303-B798-488B-982F-E3293DDB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F29F7-80E0-49CF-AD59-2D315CDF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891-D881-4C64-BC5E-BB4DAAC8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0C4-01D2-42A3-A9B6-F1A73D35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B4F-0E5C-4EDF-9B49-06F55925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95C-490F-4569-B1AE-6B7D2AFA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BBD-0B01-48CC-951E-183B87F7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B459A3-0AE0-47FE-AB76-3302E7BAC6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4D44D7-D73C-42AB-82F4-38929D74D63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5A59BD-D735-40A6-BD75-C6E74F496F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929DDF-8539-478B-BFB6-BE55DF4347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24000" y="1773000"/>
            <a:ext cx="669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Игровая деятельность детей дошкольного возраста</a:t>
            </a:r>
            <a:br>
              <a:rPr sz="6000"/>
            </a:b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-244800"/>
            <a:ext cx="75438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ды игр в зависимости от меры непосредственного участия взрослого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9984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зрослый принимает косвенное участие в их подготовке и проведении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зрослый даёт фиксированную программу действ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ак развивается сюжетно-ролевая игра 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АДШИЙ ВОЗРА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ю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ые (семья, парикмахерская, магази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одолжительный 3-5 м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стойчив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ое воспроизведение действий взросл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ль не осознаётся т.е. выполняя роль ребёнок видит свою маму, т.е. конкретный об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стойчив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гре мало ролей 2-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ов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нарушают последовательность игров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уется игровой материал для выполнения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овые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игровых пра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ВОЗРАСТ.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ю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е продолжитель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е устойчив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ое воспроизведение отношения между людьми (нормы поведения, вежливость главный компонен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знаётся т.е. роль воплощает в себе обобщённый образ человека, данной профессии (вообще парикмахер, доктор, а не тот который его лечил, не мам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е устойчи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ает количество ролей 4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ов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рушают последовательность игровых действий, но не объясняют почему нельз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заместители используют ча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оговаривание игров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овые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т соблюдать правила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ИЙ ВОЗРАСТ.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ю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ой, общественный, политиче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ый (дня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ойчивый (игра имеет логическое заверш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гое соблюдение прав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ойчи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ролей до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ов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ясняет почему нельзя нарушать последовательность игровых действий (из личного опы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ет игровые действия словесно (проговарива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е активен с предметами замести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овые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ют и соблюдают правила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141120"/>
            <a:ext cx="8137440" cy="618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Условия формирования сюжетно-ролевой игры: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·    </a:t>
            </a: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 Знакомство ребенка с реальным миром;</a:t>
            </a:r>
            <a:br>
              <a:rPr sz="2900"/>
            </a:b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·     Овладение игровыми умениями в раннем возрасте;</a:t>
            </a:r>
            <a:br>
              <a:rPr sz="2900"/>
            </a:b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·    Планирование системы предварительной работы с детьми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326520"/>
            <a:ext cx="82328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азвитие творческих способностей детей через игру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гры-драматиз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ключение сказочных сюжетов в иг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игрового пространств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готовление необходимых игрушек или замест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то занимался проблемами игры в дошкольном возрасте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К. Крупск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.В. Менджерицка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П. Усо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.И. Жуковска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.Л. Новосёло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26520"/>
            <a:ext cx="82328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6633"/>
                </a:solidFill>
                <a:latin typeface="Garamond"/>
              </a:rPr>
              <a:t>Современные технологии сюжетно-ролевых игр детей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Н.Я. Михайленко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Н.Ф. Тарловска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В.И. Турченко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хнология Н.Ф.Тарловско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точники игровых целей де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вый источник – действия взрослого, которые вызывают у малыша вспышку интереса, привлекают его внимание и побуждают к похожим действи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источник – это цели, которые специально ставятся перед ним взрослы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обенности технолог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Н.Ф. Тарловская предлагает такой путь организации игры, при котором основным побудителем является  не подражание взрослому, а общение с ним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гра ребенка - дошкольн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073240" y="1979640"/>
            <a:ext cx="5486400" cy="41148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обенности технолог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йствие относительно самого ребен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игровые действия с самим ребенком «понарошку»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мена ролей (игровые действия ребенка относительно взрослого: полечить, сделать прическу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дачи: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накомить детей с разнообразием игровых ц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буждать самостоятельно ставить игровые цели и таким образом проявлять игровую инициатив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епенно подводить детей к самостоятельному поиску средств и способов достижения ц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ковать игры с двумя-тремя связанными между собой цел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веты педагога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старайтесь часто вносить в группу новые игрушки, лучше показывать как можно по-разному использовать одни и те же игруш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грая с детьми, нужно учитывать их интересы и предпочтения. В игре всегда решающее слово должно оказаться за ребенк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бенок вас примет как партнера, если вы будете искренне и уважительно относится к его игровым возможностя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м богаче диапазон игровых целей, тем свободнее действует в соответствии с ними ребенок, тем интереснее будет для него иг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следовательность превращений в иг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18920"/>
            <a:ext cx="75438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вестные детям и привлекательные для них животные и птиц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есные малышам предметы, в первую очередь движущиеся – паровоз,машин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зрослые, чья профессиональная деятельность имеет характерные внешние атрибу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пособы подготовки детей к принятию роле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ованные наблюдения за профессиональными действиями взросл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пизодические целевые воздействия на самостоятельную игру де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емы руководства игрой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ием «параллельная игра – роль»;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образцы содержательных ролевых диалогов.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емы руководства при планировании иг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учение игровым действиям через развертывание игровой деятель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нение воспитателем главной рол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игр по сюжету, разработанному воспитателе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несение кукольного персонажа, постановка правил поведения от его лиц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юрпризное появление игруш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здание воображаемой ситу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вет, напоминани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новление игровых уголк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ведение игрового тренинга, правил повед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ыгрывание воображаемой ситу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несение образных игруш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360360"/>
            <a:ext cx="8893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Терминологическое пространство 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75840" y="2568240"/>
            <a:ext cx="754380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гра – ведущий вид деятельности ребенка-дошкольни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гровая деятельность – отражение окружающего мира через особые игровые действия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Этапы иг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нипулятивные действ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едметная деятельност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чало сюжетно-ролевой иг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южетная игра, как творческа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41400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006633"/>
                </a:solidFill>
                <a:latin typeface="Garamond"/>
              </a:rPr>
              <a:t>Этапы игры и вид общения с ребенком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нипулятивные действия – эмоциональный конта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ная деятельность- деловое общ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чало сюжетно-ролевой игры – речевое общение (объяснение, разъяснение, напоминание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южетно-ролевая игра, как творческая – внеситуативно-познавательная, внеситуативно-личностная форма общения с ребен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5346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Особенности творческой детской иг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820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 algn="ctr">
              <a:spcBef>
                <a:spcPts val="75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6600" indent="0" algn="ctr">
              <a:spcBef>
                <a:spcPts val="75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тское творчество проявляется в замысле игры и в поиске средств для его реализ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5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-32040"/>
            <a:ext cx="8964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чему игра -  развивающий вид деятельности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92000" y="2160360"/>
            <a:ext cx="101872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гра - всегда импровизац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есение определенных замести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огика игровых действ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готовка необходимой игровой ср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игровых средств требует включения воображения, памяти, логическо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280" y="302760"/>
            <a:ext cx="80708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Характеристика детской иг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979640"/>
            <a:ext cx="842472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гра - форма деятельности в условных ситуациях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Tahoma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 существования всех без исключения сторон жизнедеятельности человека и коллекти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Tahoma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гра - вид непродуктивной деятельности, мотив которой заключается не в ее результатах, а в самом процессе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Классификации игр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Д.В.Менджерицкой:</a:t>
            </a:r>
            <a:br>
              <a:rPr sz="4200"/>
            </a:b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-ознакомительная игра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-отобразительная игра</a:t>
            </a: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сюжетно-ролевая игра</a:t>
            </a: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собственно-ролева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игра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</dc:creator>
  <dc:description/>
  <dc:language>en-US</dc:language>
  <cp:lastModifiedBy>Медведева</cp:lastModifiedBy>
  <dcterms:modified xsi:type="dcterms:W3CDTF">2010-01-25T19:06:44Z</dcterms:modified>
  <cp:revision>4</cp:revision>
  <dc:subject/>
  <dc:title>Муниципальное образовательное учреждение для детей дошкольного и младшего школьного возраста начальная школа детский сад компенсирующего вида № 440</dc:title>
</cp:coreProperties>
</file>