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6.gif" ContentType="image/gif"/>
  <Override PartName="/ppt/media/image8.gif" ContentType="image/gif"/>
  <Override PartName="/ppt/media/image12.gif" ContentType="image/gif"/>
  <Override PartName="/ppt/media/image3.jpeg" ContentType="image/jpeg"/>
  <Override PartName="/ppt/media/image16.png" ContentType="image/png"/>
  <Override PartName="/ppt/media/image7.gif" ContentType="image/gif"/>
  <Override PartName="/ppt/media/image18.png" ContentType="image/png"/>
  <Override PartName="/ppt/media/image15.gif" ContentType="image/gif"/>
  <Override PartName="/ppt/media/image14.gif" ContentType="image/gif"/>
  <Override PartName="/ppt/media/image17.png" ContentType="image/png"/>
  <Override PartName="/ppt/media/image1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8361-2995-4243-A23F-256162CE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5B9F-2812-433F-8D6E-37FA0E89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621D-21B1-48B7-97E7-ACD3B320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469C-05D9-4019-857D-046B044E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1B60-9C3F-4E47-BFD5-19C3B309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CAE7-99BD-4F23-A315-D9669140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4FB0-E291-4D81-9ED7-77A31792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2E09-D1EC-4FBD-8AE2-C3E1EBEC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A153-BBCB-4D32-B33C-137A039D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D9F5-7DEB-4436-A8C8-829D0AF1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182E-D1A8-409E-BD58-F952E44E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537-99F9-472A-85AB-1277A670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C8EF-7CD3-43DF-AD3E-D46D4CE3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5B81-B591-4437-8087-EF676803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EF03-8D6C-4A10-9166-5CA4FE05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7751-04A1-4164-A09F-345A4FA8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8C15-4382-427A-8191-BC9E415A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0AAF-0966-4EFC-A51C-1A70C83A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C736-857B-45E6-AEF5-016E1EE2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CF87-41F0-4AB6-9ACE-E969424C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61A1-232F-43B4-910C-77AACE5A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EB45-215B-4D69-8921-B4EB28CD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1E75-D3B0-4622-AA3C-D236B3D4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8F2C-D822-4F47-AD75-287D734A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8CD4-072A-4845-8EA0-D5C4C49283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5B45-3D03-4DF3-897C-76CA323796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" Target="slide19.xml"/><Relationship Id="rId9" Type="http://schemas.openxmlformats.org/officeDocument/2006/relationships/slide" Target="slide21.xml"/><Relationship Id="rId10" Type="http://schemas.openxmlformats.org/officeDocument/2006/relationships/slide" Target="slide23.xml"/><Relationship Id="rId11" Type="http://schemas.openxmlformats.org/officeDocument/2006/relationships/slide" Target="slide25.xml"/><Relationship Id="rId12" Type="http://schemas.openxmlformats.org/officeDocument/2006/relationships/slide" Target="slide27.xml"/><Relationship Id="rId13" Type="http://schemas.openxmlformats.org/officeDocument/2006/relationships/slide" Target="slide29.xml"/><Relationship Id="rId14" Type="http://schemas.openxmlformats.org/officeDocument/2006/relationships/slide" Target="slide31.xml"/><Relationship Id="rId15" Type="http://schemas.openxmlformats.org/officeDocument/2006/relationships/slide" Target="slide33.xml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0" y="0"/>
            <a:ext cx="9144000" cy="659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ButtonPour">
              <a:avLst>
                <a:gd name="adj1" fmla="val 10800006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2" name="Рисунок 2" descr=""/>
          <p:cNvPicPr/>
          <p:nvPr/>
        </p:nvPicPr>
        <p:blipFill>
          <a:blip r:embed="rId3"/>
          <a:stretch/>
        </p:blipFill>
        <p:spPr>
          <a:xfrm>
            <a:off x="-468360" y="-395280"/>
            <a:ext cx="10866600" cy="7388280"/>
          </a:xfrm>
          <a:prstGeom prst="rect">
            <a:avLst/>
          </a:prstGeom>
          <a:ln w="0">
            <a:noFill/>
          </a:ln>
        </p:spPr>
      </p:pic>
    </p:spTree>
  </p:cSld>
  <p:transition spd="med"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900000" y="49104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3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а. Плотность серной кислоты 1800 кг/ м 3. В 500 мл вмещается 900 г серной кислот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950280" y="595008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BOTTLE"/>
          <p:cNvPicPr/>
          <p:nvPr/>
        </p:nvPicPr>
        <p:blipFill>
          <a:blip r:embed="rId2"/>
          <a:stretch/>
        </p:blipFill>
        <p:spPr>
          <a:xfrm>
            <a:off x="3780000" y="3500280"/>
            <a:ext cx="1496880" cy="22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900000" y="28764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4.   Почему мокрую цветную ткань нельзя на длительное время оставлять в соприкосновении с бело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4114800" y="602136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2"/>
          <a:srcRect l="0" t="0" r="0" b="5840"/>
          <a:stretch/>
        </p:blipFill>
        <p:spPr>
          <a:xfrm>
            <a:off x="2987640" y="2708280"/>
            <a:ext cx="303696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826920" y="26064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4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роизойдет окрашивание белой ткани из-за диффуз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950280" y="595008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3419640" y="2637000"/>
            <a:ext cx="219996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900000" y="56196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5.   Приведите примеры, когда инерция приносит пользу и когда – вред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971880" y="530064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CAR004"/>
          <p:cNvPicPr/>
          <p:nvPr/>
        </p:nvPicPr>
        <p:blipFill>
          <a:blip r:embed="rId2"/>
          <a:stretch/>
        </p:blipFill>
        <p:spPr>
          <a:xfrm>
            <a:off x="2700360" y="3068640"/>
            <a:ext cx="3743280" cy="135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25920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асаживание инструмента на черенок, рукоятку; стряхивание воды; выколачивание пыли; можно перепрыгнуть с разгона большое препятствие или метнуть спортивный снаряд и т. д. – полезные проявления инерц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адение, если вы споткнулись; необходимо большое время для остановки транспортного средства и т. д. - вредные проявления инер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3950280" y="595008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6149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900000" y="56196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6.   Почему капли воды при резком встряхивании слетают с одеж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3971880" y="530064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4" descr="AN037"/>
          <p:cNvPicPr/>
          <p:nvPr/>
        </p:nvPicPr>
        <p:blipFill>
          <a:blip r:embed="rId2"/>
          <a:stretch/>
        </p:blipFill>
        <p:spPr>
          <a:xfrm>
            <a:off x="3059280" y="2565360"/>
            <a:ext cx="309708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900000" y="406080"/>
            <a:ext cx="720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6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ри встряхивании, например одежды, одежда приводится резко в движение, а капли, сохраняя по инерции состояние покоя отделяются и падают на земл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0280" y="595008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900000" y="56196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7.   Для чего опытные мастера перед ввинчиванием смазывают мылом или смачивают шуруп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925440" y="5300640"/>
            <a:ext cx="12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556000" y="2276640"/>
            <a:ext cx="36288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826920" y="105264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7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ля уменьшения тр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3924360" y="595008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36291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900000" y="836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8.   Для чего делается насечка на шляпке гвозд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3925440" y="5300640"/>
            <a:ext cx="12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AN134"/>
          <p:cNvPicPr/>
          <p:nvPr/>
        </p:nvPicPr>
        <p:blipFill>
          <a:blip r:embed="rId1"/>
          <a:stretch/>
        </p:blipFill>
        <p:spPr>
          <a:xfrm>
            <a:off x="3295800" y="2205000"/>
            <a:ext cx="217944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м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ал преподаватель-организатор ОБЖ, учитель физики, информати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язев Олег Анатоль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БОУ СОШ №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. Новопетровс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снодарского кр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76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012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826920" y="105264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8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ля увеличения тр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3924360" y="595008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900000" y="56196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9.   Приведите примеры, когда трение приносит пользу и когда вред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925440" y="5300640"/>
            <a:ext cx="12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CAR006"/>
          <p:cNvPicPr/>
          <p:nvPr/>
        </p:nvPicPr>
        <p:blipFill>
          <a:blip r:embed="rId1"/>
          <a:stretch/>
        </p:blipFill>
        <p:spPr>
          <a:xfrm>
            <a:off x="2556000" y="2276640"/>
            <a:ext cx="3960720" cy="25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0" y="8110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9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Трение приносит пользу при торможении, ходьбе, удерживает резьбовые соединения, гвозди, узлы и т. д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Трение вредно в подшипниках, в насосе, при пахоте, бороновании и т. 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924360" y="595008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900000" y="56196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0. Для чего верхний край лопаты, на который нажимают ногой, изогну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925440" y="5300640"/>
            <a:ext cx="12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267520" cy="35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826920" y="50364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1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Увеличивается площадь опоры и уменьшается давление на подошву обув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3924360" y="595008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900000" y="56196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1. Для чего при вытаскивании гвоздей из доски под гвоздодер подкладывают дощечк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925440" y="5300640"/>
            <a:ext cx="12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826920" y="50364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11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Увеличивают площадь опоры и уменьшают давление на дощечку, чтобы не повредить е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924360" y="595008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900000" y="56196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2. Объясните назначение наперстка, надеваемого на палец при шитье иглой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3925440" y="5300640"/>
            <a:ext cx="12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3203640" y="2421000"/>
            <a:ext cx="2560680" cy="28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826920" y="50364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1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Увеличивают площадь опоры и уменьшают давление на палец, что бы не травмировать ег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924360" y="595008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2195640" y="3141720"/>
            <a:ext cx="2560680" cy="28810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"/>
          <p:cNvPicPr/>
          <p:nvPr/>
        </p:nvPicPr>
        <p:blipFill>
          <a:blip r:embed="rId2"/>
          <a:stretch/>
        </p:blipFill>
        <p:spPr>
          <a:xfrm>
            <a:off x="5148360" y="3429000"/>
            <a:ext cx="2089080" cy="20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900000" y="56196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3.  Почему задние колеса грузовых автомобилей спаренны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3925440" y="5300640"/>
            <a:ext cx="12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"/>
          <p:cNvSpPr/>
          <p:nvPr/>
        </p:nvSpPr>
        <p:spPr>
          <a:xfrm>
            <a:off x="468360" y="528480"/>
            <a:ext cx="770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Comic Sans MS"/>
              </a:rPr>
              <a:t>Правила иг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Comic Sans MS"/>
              </a:rPr>
              <a:t>1. Выберите дорож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Comic Sans MS"/>
              </a:rPr>
              <a:t>2. Выберите в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Comic Sans MS"/>
              </a:rPr>
              <a:t>3. Правильно ответив, делаете шаг впере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Comic Sans MS"/>
              </a:rPr>
              <a:t>4. Побеждает тот, кто первым пройдет свою дорож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174480" y="5081760"/>
            <a:ext cx="35899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99ff99"/>
                </a:solidFill>
                <a:uFillTx/>
                <a:latin typeface="Bookman Old Style"/>
                <a:hlinkClick r:id="rId1" action="ppaction://hlinksldjump"/>
              </a:rPr>
              <a:t>Вы готовы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40"/>
                            </p:stCondLst>
                            <p:childTnLst>
                              <p:par>
                                <p:cTn id="11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826920" y="50364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13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Увеличивают площадь опоры и уменьшают давление на грунт, что бы не разрушить ег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924360" y="595008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900000" y="56196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4. Из баллона выпустили половину газа. Как изменилось давление газ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3925440" y="5300640"/>
            <a:ext cx="12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4" descr="AN135"/>
          <p:cNvPicPr/>
          <p:nvPr/>
        </p:nvPicPr>
        <p:blipFill>
          <a:blip r:embed="rId1"/>
          <a:stretch/>
        </p:blipFill>
        <p:spPr>
          <a:xfrm>
            <a:off x="2844720" y="2205000"/>
            <a:ext cx="290196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595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826920" y="334800"/>
            <a:ext cx="720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14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авление уменьшится в два раза, т. к. уменьшится в два раза количество молекул, а, следовательно, уменьшится в два раза количество соударений молекул со стенками балло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924360" y="595008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900000" y="28764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5. В частично заполненный водой сосуд опустили деревянный брусок. Изменилось ли давление воды на дно сосуд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925440" y="5300640"/>
            <a:ext cx="12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65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826920" y="50364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15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Уровень воды сосуде увеличится и увеличится гидростатическое давление  на дно сосуд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3924360" y="595008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771640" y="0"/>
            <a:ext cx="3168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Кип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2" action="ppaction://hlinksldjump"/>
              </a:rPr>
              <a:t>Кос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3" action="ppaction://hlinksldjump"/>
              </a:rPr>
              <a:t>Плот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4" action="ppaction://hlinksldjump"/>
              </a:rPr>
              <a:t>Стир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5" action="ppaction://hlinksldjump"/>
              </a:rPr>
              <a:t>Инер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6" action="ppaction://hlinksldjump"/>
              </a:rPr>
              <a:t>Куп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7" action="ppaction://hlinksldjump"/>
              </a:rPr>
              <a:t>Строитель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8" action="ppaction://hlinksldjump"/>
              </a:rPr>
              <a:t>Гвоз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9" action="ppaction://hlinksldjump"/>
              </a:rPr>
              <a:t>Тр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10" action="ppaction://hlinksldjump"/>
              </a:rPr>
              <a:t>Дав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11" action="ppaction://hlinksldjump"/>
              </a:rPr>
              <a:t>Подлож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12" action="ppaction://hlinksldjump"/>
              </a:rPr>
              <a:t>Шить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13" action="ppaction://hlinksldjump"/>
              </a:rPr>
              <a:t>Грузов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14" action="ppaction://hlinksldjump"/>
              </a:rPr>
              <a:t>Г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ru-RU" sz="2400" spc="-1" strike="noStrike" u="sng">
                <a:solidFill>
                  <a:srgbClr val="99ff99"/>
                </a:solidFill>
                <a:uFillTx/>
                <a:latin typeface="Times New Roman"/>
                <a:hlinkClick r:id="rId15" action="ppaction://hlinksldjump"/>
              </a:rPr>
              <a:t>Пла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767240" y="333360"/>
            <a:ext cx="52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Сделайте свой выбо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4" descr="pencle"/>
          <p:cNvPicPr/>
          <p:nvPr/>
        </p:nvPicPr>
        <p:blipFill>
          <a:blip r:embed="rId16"/>
          <a:stretch/>
        </p:blipFill>
        <p:spPr>
          <a:xfrm>
            <a:off x="6689880" y="4329000"/>
            <a:ext cx="2454120" cy="2529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proffesor"/>
          <p:cNvPicPr/>
          <p:nvPr/>
        </p:nvPicPr>
        <p:blipFill>
          <a:blip r:embed="rId17"/>
          <a:stretch/>
        </p:blipFill>
        <p:spPr>
          <a:xfrm>
            <a:off x="324000" y="1916280"/>
            <a:ext cx="2435040" cy="29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900000" y="836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. Изменится ли масса воды, если часть ее обратится в пар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3971880" y="530064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7" descr="OBJEC~21"/>
          <p:cNvPicPr/>
          <p:nvPr/>
        </p:nvPicPr>
        <p:blipFill>
          <a:blip r:embed="rId2"/>
          <a:stretch/>
        </p:blipFill>
        <p:spPr>
          <a:xfrm>
            <a:off x="2916360" y="1916280"/>
            <a:ext cx="3457440" cy="34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35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900000" y="550440"/>
            <a:ext cx="720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1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Масса воды в жидком состоянии уменьшится , так как часть вещества прейдет 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газообразное состоя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950280" y="530064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OBJEC~21"/>
          <p:cNvPicPr/>
          <p:nvPr/>
        </p:nvPicPr>
        <p:blipFill>
          <a:blip r:embed="rId2"/>
          <a:stretch/>
        </p:blipFill>
        <p:spPr>
          <a:xfrm>
            <a:off x="468360" y="3976560"/>
            <a:ext cx="2881440" cy="28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900000" y="56196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2.   Почему дым костра в воздухе через некоторое время рассеиваетс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3971880" y="530064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OBJEC~31"/>
          <p:cNvPicPr/>
          <p:nvPr/>
        </p:nvPicPr>
        <p:blipFill>
          <a:blip r:embed="rId2"/>
          <a:stretch/>
        </p:blipFill>
        <p:spPr>
          <a:xfrm>
            <a:off x="2771640" y="2349360"/>
            <a:ext cx="3382920" cy="296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900000" y="76536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твет на вопрос №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ым рассеивается вследствие диффуз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3950280" y="595008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Дале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OBJEC~31"/>
          <p:cNvPicPr/>
          <p:nvPr/>
        </p:nvPicPr>
        <p:blipFill>
          <a:blip r:embed="rId2"/>
          <a:stretch/>
        </p:blipFill>
        <p:spPr>
          <a:xfrm>
            <a:off x="2916360" y="3141720"/>
            <a:ext cx="3382920" cy="296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900000" y="56196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3.   В бутылку вмещается 500 мл воды. Вместится ли в эту бутылку 720 г серной кислот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971880" y="530064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Отв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BOTTLE"/>
          <p:cNvPicPr/>
          <p:nvPr/>
        </p:nvPicPr>
        <p:blipFill>
          <a:blip r:embed="rId2"/>
          <a:stretch/>
        </p:blipFill>
        <p:spPr>
          <a:xfrm>
            <a:off x="3780000" y="2708280"/>
            <a:ext cx="1496880" cy="22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0:26:33Z</dcterms:created>
  <dc:creator>Демкин</dc:creator>
  <dc:description/>
  <dc:language>en-US</dc:language>
  <cp:lastModifiedBy>Олег</cp:lastModifiedBy>
  <dcterms:modified xsi:type="dcterms:W3CDTF">2012-10-12T20:19:23Z</dcterms:modified>
  <cp:revision>24</cp:revision>
  <dc:subject/>
  <dc:title>Слайд 1</dc:title>
</cp:coreProperties>
</file>