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12.gif" ContentType="image/gif"/>
  <Override PartName="/ppt/media/image3.jpeg" ContentType="image/jpeg"/>
  <Override PartName="/ppt/media/image16.png" ContentType="image/png"/>
  <Override PartName="/ppt/media/image7.gif" ContentType="image/gif"/>
  <Override PartName="/ppt/media/image18.png" ContentType="image/png"/>
  <Override PartName="/ppt/media/image15.gif" ContentType="image/gif"/>
  <Override PartName="/ppt/media/image14.gif" ContentType="image/gif"/>
  <Override PartName="/ppt/media/image17.png" ContentType="image/png"/>
  <Override PartName="/ppt/media/image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4A8-A15F-4867-BFF3-69536F60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512-F470-4313-96EB-865AFB2B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45B-CA4C-4457-9838-AB9557BB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5D7-CEA6-49FB-888D-B0625EAF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113B-9FC4-4AF9-B4B3-E565EEDB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C71F-3631-4E71-8DCD-AE3D8D96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8191-116A-4ADD-9176-AFC2E908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A0CA-E88E-48E0-A89D-C307D0B3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E001-B53E-4B38-9C61-97B54C05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E945-332B-4B4F-A531-A9ECB4FC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774-C002-4BE2-9569-8EAEC49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9C8-83B6-4D8E-9C0E-F7734A3A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3204-7DCE-46AD-AAC9-2D89762B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AC7B-E5FA-4434-8ADD-A02862AC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FF2C-202D-446E-8CF1-6D46F286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4D80-C015-42FF-B00B-6D7FBF56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DB68-25F8-46FE-8A91-A0858C1A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82B-ECE5-463E-BC45-0AC6D5D1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DA4-ABE8-41AD-B40E-3677D19F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4CB-55E9-4160-B519-CD6CA081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309-D760-430D-A620-4F818907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A70-F4E2-4D40-B9E4-C0400ECC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F54-17C1-4D93-8E73-A9E98887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3C3-6EC3-42FD-B095-90C36E75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F1FE-D423-44B4-B756-4F91C09F47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D9E3-A431-4CCF-A866-13BA9F629C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0" y="0"/>
            <a:ext cx="914400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6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2" name="Рисунок 2" descr=""/>
          <p:cNvPicPr/>
          <p:nvPr/>
        </p:nvPicPr>
        <p:blipFill>
          <a:blip r:embed="rId3"/>
          <a:stretch/>
        </p:blipFill>
        <p:spPr>
          <a:xfrm>
            <a:off x="-468360" y="-395280"/>
            <a:ext cx="10866600" cy="738828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900000" y="4910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3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а. Плотность серной кислоты 1800 кг/ м 3. В 500 мл вмещается 900 г серной кисло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950280" y="59500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BOTTLE"/>
          <p:cNvPicPr/>
          <p:nvPr/>
        </p:nvPicPr>
        <p:blipFill>
          <a:blip r:embed="rId2"/>
          <a:stretch/>
        </p:blipFill>
        <p:spPr>
          <a:xfrm>
            <a:off x="3780000" y="3500280"/>
            <a:ext cx="14968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900000" y="28764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4.   Почему мокрую цветную ткань нельзя на длительное время оставлять в соприкосновении с бело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114800" y="602136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2"/>
          <a:srcRect l="0" t="0" r="0" b="5840"/>
          <a:stretch/>
        </p:blipFill>
        <p:spPr>
          <a:xfrm>
            <a:off x="2987640" y="2708280"/>
            <a:ext cx="303696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826920" y="26064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оизойдет окрашивание белой ткани из-за диффуз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0280" y="59500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3419640" y="2637000"/>
            <a:ext cx="21999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5.   Приведите примеры, когда инерция приносит пользу и когда – вред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971880" y="53006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CAR004"/>
          <p:cNvPicPr/>
          <p:nvPr/>
        </p:nvPicPr>
        <p:blipFill>
          <a:blip r:embed="rId2"/>
          <a:stretch/>
        </p:blipFill>
        <p:spPr>
          <a:xfrm>
            <a:off x="2700360" y="3068640"/>
            <a:ext cx="3743280" cy="13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2592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асаживание инструмента на черенок, рукоятку; стряхивание воды; выколачивание пыли; можно перепрыгнуть с разгона большое препятствие или метнуть спортивный снаряд и т. д. – полезные проявления инер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адение, если вы споткнулись; необходимо большое время для остановки транспортного средства и т. д. - вредные проявления инер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950280" y="59500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6149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6.   Почему капли воды при резком встряхивании слетают с одеж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971880" y="53006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AN037"/>
          <p:cNvPicPr/>
          <p:nvPr/>
        </p:nvPicPr>
        <p:blipFill>
          <a:blip r:embed="rId2"/>
          <a:stretch/>
        </p:blipFill>
        <p:spPr>
          <a:xfrm>
            <a:off x="3059280" y="2565360"/>
            <a:ext cx="309708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900000" y="40608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и встряхивании, например одежды, одежда приводится резко в движение, а капли, сохраняя по инерции состояние покоя отделяются и падают на земл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0280" y="59500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7.   Для чего опытные мастера перед ввинчиванием смазывают мылом или смачивают шуруп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36288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826920" y="1052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ля уменьшения тр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6291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900000" y="836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8.   Для чего делается насечка на шляпке гвозд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AN134"/>
          <p:cNvPicPr/>
          <p:nvPr/>
        </p:nvPicPr>
        <p:blipFill>
          <a:blip r:embed="rId1"/>
          <a:stretch/>
        </p:blipFill>
        <p:spPr>
          <a:xfrm>
            <a:off x="3295800" y="2205000"/>
            <a:ext cx="217944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 преподаватель-организатор ОБЖ, учитель физики, информати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язев Олег Анатол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ОУ СОШ №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. Новопетров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одарского к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826920" y="1052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ля увеличения тр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9.   Приведите примеры, когда трение приносит пользу и когда вред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CAR006"/>
          <p:cNvPicPr/>
          <p:nvPr/>
        </p:nvPicPr>
        <p:blipFill>
          <a:blip r:embed="rId1"/>
          <a:stretch/>
        </p:blipFill>
        <p:spPr>
          <a:xfrm>
            <a:off x="2556000" y="2276640"/>
            <a:ext cx="3960720" cy="25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8110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рение приносит пользу при торможении, ходьбе, удерживает резьбовые соединения, гвозди, узлы и т. д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рение вредно в подшипниках, в насосе, при пахоте, бороновании и т. 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0. Для чего верхний край лопаты, на который нажимают ногой, изогну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26752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826920" y="503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величивается площадь опоры и уменьшается давление на подошву обув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1. Для чего при вытаскивании гвоздей из доски под гвоздодер подкладывают дощечк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826920" y="503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величивают площадь опоры и уменьшают давление на дощечку, чтобы не повредить е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2. Объясните назначение наперстка, надеваемого на палец при шитье иглой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256068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826920" y="503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величивают площадь опоры и уменьшают давление на палец, что бы не травмировать е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2195640" y="3141720"/>
            <a:ext cx="2560680" cy="2881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2"/>
          <a:stretch/>
        </p:blipFill>
        <p:spPr>
          <a:xfrm>
            <a:off x="5148360" y="3429000"/>
            <a:ext cx="2089080" cy="20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3.  Почему задние колеса грузовых автомобилей спаренны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468360" y="52848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равила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Comic Sans MS"/>
              </a:rPr>
              <a:t>1. Выберите дорож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Comic Sans MS"/>
              </a:rPr>
              <a:t>2. Выберите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Comic Sans MS"/>
              </a:rPr>
              <a:t>3. Правильно ответив, делаете шаг впере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Comic Sans MS"/>
              </a:rPr>
              <a:t>4. Побеждает тот, кто первым пройдет свою дорож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174480" y="5081760"/>
            <a:ext cx="3589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99ff99"/>
                </a:solidFill>
                <a:uFillTx/>
                <a:latin typeface="Bookman Old Style"/>
                <a:hlinkClick r:id="rId1" action="ppaction://hlinksldjump"/>
              </a:rPr>
              <a:t>Вы готовы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40"/>
                            </p:stCondLst>
                            <p:childTnLst>
                              <p:par>
                                <p:cTn id="11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826920" y="503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3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величивают площадь опоры и уменьшают давление на грунт, что бы не разрушить е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4. Из баллона выпустили половину газа. Как изменилось давление газ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4" descr="AN135"/>
          <p:cNvPicPr/>
          <p:nvPr/>
        </p:nvPicPr>
        <p:blipFill>
          <a:blip r:embed="rId1"/>
          <a:stretch/>
        </p:blipFill>
        <p:spPr>
          <a:xfrm>
            <a:off x="2844720" y="2205000"/>
            <a:ext cx="29019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826920" y="3348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авление уменьшится в два раза, т. к. уменьшится в два раза количество молекул, а, следовательно, уменьшится в два раза количество соударений молекул со стенками балло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900000" y="28764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5. В частично заполненный водой сосуд опустили деревянный брусок. Изменилось ли давление воды на дно сосуд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826920" y="503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ровень воды сосуде увеличится и увеличится гидростатическое давление  на дно сосу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771640" y="0"/>
            <a:ext cx="3168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Кип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2" action="ppaction://hlinksldjump"/>
              </a:rPr>
              <a:t>Кос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3" action="ppaction://hlinksldjump"/>
              </a:rPr>
              <a:t>Пло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4" action="ppaction://hlinksldjump"/>
              </a:rPr>
              <a:t>Сти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5" action="ppaction://hlinksldjump"/>
              </a:rPr>
              <a:t>Инер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6" action="ppaction://hlinksldjump"/>
              </a:rPr>
              <a:t>Куп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7" action="ppaction://hlinksldjump"/>
              </a:rPr>
              <a:t>Строитель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8" action="ppaction://hlinksldjump"/>
              </a:rPr>
              <a:t>Гвоз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9" action="ppaction://hlinksldjump"/>
              </a:rPr>
              <a:t>Т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0" action="ppaction://hlinksldjump"/>
              </a:rPr>
              <a:t>Д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1" action="ppaction://hlinksldjump"/>
              </a:rPr>
              <a:t>Подлож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2" action="ppaction://hlinksldjump"/>
              </a:rPr>
              <a:t>Шить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3" action="ppaction://hlinksldjump"/>
              </a:rPr>
              <a:t>Грузов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4" action="ppaction://hlinksldjump"/>
              </a:rPr>
              <a:t>Г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5" action="ppaction://hlinksldjump"/>
              </a:rPr>
              <a:t>Пла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767240" y="333360"/>
            <a:ext cx="52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делайте свой выб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pencle"/>
          <p:cNvPicPr/>
          <p:nvPr/>
        </p:nvPicPr>
        <p:blipFill>
          <a:blip r:embed="rId16"/>
          <a:stretch/>
        </p:blipFill>
        <p:spPr>
          <a:xfrm>
            <a:off x="6689880" y="4329000"/>
            <a:ext cx="2454120" cy="2529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proffesor"/>
          <p:cNvPicPr/>
          <p:nvPr/>
        </p:nvPicPr>
        <p:blipFill>
          <a:blip r:embed="rId17"/>
          <a:stretch/>
        </p:blipFill>
        <p:spPr>
          <a:xfrm>
            <a:off x="324000" y="1916280"/>
            <a:ext cx="2435040" cy="29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900000" y="836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. Изменится ли масса воды, если часть ее обратится в пар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971880" y="53006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OBJEC~21"/>
          <p:cNvPicPr/>
          <p:nvPr/>
        </p:nvPicPr>
        <p:blipFill>
          <a:blip r:embed="rId2"/>
          <a:stretch/>
        </p:blipFill>
        <p:spPr>
          <a:xfrm>
            <a:off x="2916360" y="191628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900000" y="550440"/>
            <a:ext cx="72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асса воды в жидком состоянии уменьшится , так как часть вещества прейдет 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газообразное состоя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950280" y="53006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OBJEC~21"/>
          <p:cNvPicPr/>
          <p:nvPr/>
        </p:nvPicPr>
        <p:blipFill>
          <a:blip r:embed="rId2"/>
          <a:stretch/>
        </p:blipFill>
        <p:spPr>
          <a:xfrm>
            <a:off x="468360" y="3976560"/>
            <a:ext cx="288144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2.   Почему дым костра в воздухе через некоторое время рассеиваетс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971880" y="53006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OBJEC~31"/>
          <p:cNvPicPr/>
          <p:nvPr/>
        </p:nvPicPr>
        <p:blipFill>
          <a:blip r:embed="rId2"/>
          <a:stretch/>
        </p:blipFill>
        <p:spPr>
          <a:xfrm>
            <a:off x="2771640" y="2349360"/>
            <a:ext cx="3382920" cy="296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900000" y="76536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ым рассеивается вследствие диффуз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3950280" y="59500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OBJEC~31"/>
          <p:cNvPicPr/>
          <p:nvPr/>
        </p:nvPicPr>
        <p:blipFill>
          <a:blip r:embed="rId2"/>
          <a:stretch/>
        </p:blipFill>
        <p:spPr>
          <a:xfrm>
            <a:off x="2916360" y="3141720"/>
            <a:ext cx="3382920" cy="29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3.   В бутылку вмещается 500 мл воды. Вместится ли в эту бутылку 720 г серной кислот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971880" y="53006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BOTTLE"/>
          <p:cNvPicPr/>
          <p:nvPr/>
        </p:nvPicPr>
        <p:blipFill>
          <a:blip r:embed="rId2"/>
          <a:stretch/>
        </p:blipFill>
        <p:spPr>
          <a:xfrm>
            <a:off x="3780000" y="2708280"/>
            <a:ext cx="14968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0:26:33Z</dcterms:created>
  <dc:creator>Демкин</dc:creator>
  <dc:description/>
  <dc:language>en-US</dc:language>
  <cp:lastModifiedBy>Олег</cp:lastModifiedBy>
  <dcterms:modified xsi:type="dcterms:W3CDTF">2012-10-12T20:19:23Z</dcterms:modified>
  <cp:revision>24</cp:revision>
  <dc:subject/>
  <dc:title>Слайд 1</dc:title>
</cp:coreProperties>
</file>