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6F1-A31D-47A0-9C3A-38C066CF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35B-7FE7-495B-B6DC-3C7E2A6E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CC4-6091-47AE-87BC-1323F812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A99-6CA8-43BC-9880-031B0001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5884-72D2-4845-AC9C-DE05AB54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2C5F-46ED-4579-B7CD-FA4187D6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4884-C21D-40E1-9AD7-F27DFB59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7D8A-FB70-4F7F-BB66-BB509FD5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7B49-EF0A-4382-804E-27B55559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57EB-9F5E-41B8-B68E-BAEB94F2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854A-AD23-4AA5-8D6E-1C86F274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C59-8FC3-49C0-B170-DE3E6104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35B9-624F-4E55-9FA5-C0206CB6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6AEE-8BCA-46D5-9409-659FBE51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FA43-C0A6-4CB7-B16E-77D178A2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5AD2-23ED-48E7-8A9C-47030BE6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A2C6-6AEC-4E52-A622-68017541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36825-FB2D-4193-8214-63560BF5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ED564-8D5A-4077-86E1-E2B95DD6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BC990-78D6-4138-85A3-C28A25C8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D1967-F555-4E63-A970-597E8580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D11C1-8393-4713-BD52-C1F48CB2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21A-CB37-497A-A46C-A75E56FC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B1C0E-5032-4059-BE1E-F7F066BC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A80E0-DBFD-4CB4-87D2-B009CC0A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B3182-5338-4D9B-B358-3C3CC0DC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0CC0C-B4B8-4316-BAAA-148E8CC7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781F3-55CB-4BC4-B68F-9484D1AD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938BF-EF4E-44E0-833E-F64198AF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15329-7110-4FA8-A21F-56D4EC0A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BEED4-0D96-4514-9E2C-7520078C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85343-3AF1-414E-AFDD-489C787C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6A02A-CEA1-4166-9F56-33047901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070-B5F9-425E-B1C4-16FC7AAC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A483A-FB3F-40F3-97C9-6BA176A1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D95B7-1B61-4BC5-8C37-198D31C6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94D26-AEE6-4F1D-A3FC-E3AFB495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79BB-23A5-4573-A42D-3AACBCC1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89541-3154-499A-ADD5-5077F26D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8B99A-0A6D-4C29-BE1A-9CF3EA94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35A2D-B2A1-498B-B90B-7FE05917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CF668-DE02-400E-8968-F1635D9B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68BF1-DF6C-4E55-A37F-68979ABF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94222-38B6-4B4A-BB36-5083D643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649-D798-48B9-A6F0-566E0692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C1A7F-2758-4ECE-B0AD-6CFDD3B2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CCA68-E38F-41E3-97B1-E378E3FA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B34C0-95B0-4EDC-85D2-F15771ED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33048-90B5-4736-8B96-ECE156EB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856B9-AE28-48DA-BEF7-AEF16D52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18E26-41DD-45E2-9008-2D3B3530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5ADCE-E88B-443A-98FF-42F73DFA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39754-9FB9-403B-A33E-1157FE0F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4062D-32CF-4413-B54C-EAB9443B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77D51-0223-4434-8763-664F5B68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158-02C9-4622-8B14-A8E30DCC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10EDB-BA6E-422B-A098-750B7CC3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0CD7F-B921-47AB-85C6-4B1F089E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B1922-B8E7-41AC-86C8-15951F81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5C646-E406-45C2-9DD2-BE2F1E0A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0351B-02B9-48D6-9E07-ABD34A2A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65CBA-1EB3-41B6-957A-51A293F9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04C6A-BC9C-4C24-AA87-2CB7AFAA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B4CF1-DA14-4854-9953-6AFB371B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91427-85F9-498C-B2B8-15898495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2D32E-93D7-4587-8348-71FA6A90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FAE-2576-42E4-9986-3C488DD1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080FB-80B2-4C53-B4A0-D68C29E7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8A2B3-6701-4D58-8E2A-0FCF33AF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B1E9E-111A-4490-A145-99C3835B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0A950-042A-4BB5-975A-01231FC2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26AC3-BCD7-48A1-9157-37F96D73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971AE-6D9A-4607-8B41-3D14FAA1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670B4-D39E-4955-84A0-13FFB9DF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4356C-1F94-4F3B-A366-1BC9D064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C0085-9086-4D45-9A5A-533AC13C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FADF7-7376-4165-833F-D24021F3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2A8-E316-4830-A0A1-7E4EF393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97C05-5108-49AA-9483-668C7FBE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0A217-8D1D-4F61-B109-6D2DBC45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A31D9-2E71-43F6-9404-9788B6A4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318AF-E85D-46A7-AB2E-B4F7C604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3727F-05AC-48B8-8534-02F7B51A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305EC-46ED-4039-A8B5-2EBB73AF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7D570-2CCF-40C4-8AF9-225120FD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B6AB7-04D8-45FA-A596-1CBBE03A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8D898-C66E-4B2A-BF2E-1D4EAF6D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ABF9B-4E08-46BC-AC88-9EBB4D93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CE1-1425-40A8-8FA5-388FBA53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D5D9E-896C-4BBE-8FE2-1FB6788A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4C8E4-1E1B-48D3-B84B-A2BB8632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E8525-B9AC-4F11-A8D8-D5AA5987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928D2-1544-4493-9E72-5B3CFB3C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99099-B686-49A7-8584-001BE694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40313-3345-40CD-8594-AD24F73D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F58D1-263C-4A63-9FAE-5F4C1C81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5647-A2E3-4CC7-A43A-AB22D438BAF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82AA-83F8-41B2-8B13-451053675F8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4DCF-533B-4E9D-AFBD-3933D296926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0A51-DA82-4AC9-83B2-18A2D9E2AC4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E61B-08FF-4C6F-B3C0-954E72C286A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541F-FAF9-4C6B-9A3E-10D9FD3A89B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E85E-897E-469A-A398-6F1D5C8C52F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ADCF-97DF-47A1-9B9D-6CC7FEB6E2E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sites.google.com/site/happyenglishwithme" TargetMode="External"/><Relationship Id="rId3" Type="http://schemas.openxmlformats.org/officeDocument/2006/relationships/hyperlink" Target="https://sites.google.com/site/happyenglishwithme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4868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2214720" y="600084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: Е.В. Заводч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2"/>
          <p:cNvSpPr/>
          <p:nvPr/>
        </p:nvSpPr>
        <p:spPr>
          <a:xfrm>
            <a:off x="285840" y="28584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6. Настройка оформления 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3" descr="scrin1-300x298.jpg"/>
          <p:cNvPicPr/>
          <p:nvPr/>
        </p:nvPicPr>
        <p:blipFill>
          <a:blip r:embed="rId1"/>
          <a:stretch/>
        </p:blipFill>
        <p:spPr>
          <a:xfrm>
            <a:off x="2214720" y="1087560"/>
            <a:ext cx="49291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extBox 1" descr=""/>
          <p:cNvPicPr/>
          <p:nvPr/>
        </p:nvPicPr>
        <p:blipFill>
          <a:blip r:embed="rId1"/>
          <a:stretch/>
        </p:blipFill>
        <p:spPr>
          <a:xfrm>
            <a:off x="433440" y="523800"/>
            <a:ext cx="8289720" cy="42084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2" descr="сохранить страницу.png"/>
          <p:cNvPicPr/>
          <p:nvPr/>
        </p:nvPicPr>
        <p:blipFill>
          <a:blip r:embed="rId2"/>
          <a:stretch/>
        </p:blipFill>
        <p:spPr>
          <a:xfrm>
            <a:off x="1357200" y="1285920"/>
            <a:ext cx="60724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extBox 1" descr=""/>
          <p:cNvPicPr/>
          <p:nvPr/>
        </p:nvPicPr>
        <p:blipFill>
          <a:blip r:embed="rId1"/>
          <a:stretch/>
        </p:blipFill>
        <p:spPr>
          <a:xfrm>
            <a:off x="360360" y="384120"/>
            <a:ext cx="8650440" cy="695520"/>
          </a:xfrm>
          <a:prstGeom prst="rect">
            <a:avLst/>
          </a:prstGeom>
          <a:ln w="0">
            <a:noFill/>
          </a:ln>
        </p:spPr>
      </p:pic>
      <p:sp>
        <p:nvSpPr>
          <p:cNvPr id="398" name="TextBox 2"/>
          <p:cNvSpPr/>
          <p:nvPr/>
        </p:nvSpPr>
        <p:spPr>
          <a:xfrm>
            <a:off x="428760" y="1071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алее – выбрать шаблон, тип страницы и определить ей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3" descr="уровень.png"/>
          <p:cNvPicPr/>
          <p:nvPr/>
        </p:nvPicPr>
        <p:blipFill>
          <a:blip r:embed="rId2"/>
          <a:stretch/>
        </p:blipFill>
        <p:spPr>
          <a:xfrm>
            <a:off x="2643120" y="1643040"/>
            <a:ext cx="39290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extBox 1" descr=""/>
          <p:cNvPicPr/>
          <p:nvPr/>
        </p:nvPicPr>
        <p:blipFill>
          <a:blip r:embed="rId1"/>
          <a:stretch/>
        </p:blipFill>
        <p:spPr>
          <a:xfrm>
            <a:off x="433440" y="384120"/>
            <a:ext cx="8004240" cy="4208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2" descr="сохранить страницу.png"/>
          <p:cNvPicPr/>
          <p:nvPr/>
        </p:nvPicPr>
        <p:blipFill>
          <a:blip r:embed="rId2"/>
          <a:stretch/>
        </p:blipFill>
        <p:spPr>
          <a:xfrm>
            <a:off x="1500120" y="1430280"/>
            <a:ext cx="621504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b060030084_204062.jpg"/>
          <p:cNvPicPr/>
          <p:nvPr/>
        </p:nvPicPr>
        <p:blipFill>
          <a:blip r:embed="rId1"/>
          <a:stretch/>
        </p:blipFill>
        <p:spPr>
          <a:xfrm>
            <a:off x="1571760" y="500040"/>
            <a:ext cx="5810040" cy="4076640"/>
          </a:xfrm>
          <a:prstGeom prst="rect">
            <a:avLst/>
          </a:prstGeom>
          <a:ln w="0">
            <a:noFill/>
          </a:ln>
        </p:spPr>
      </p:pic>
      <p:pic>
        <p:nvPicPr>
          <p:cNvPr id="403" name="TextBox 2" descr=""/>
          <p:cNvPicPr/>
          <p:nvPr/>
        </p:nvPicPr>
        <p:blipFill>
          <a:blip r:embed="rId2"/>
          <a:stretch/>
        </p:blipFill>
        <p:spPr>
          <a:xfrm>
            <a:off x="1494000" y="4883040"/>
            <a:ext cx="601020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1" descr="image22.jpg"/>
          <p:cNvPicPr/>
          <p:nvPr/>
        </p:nvPicPr>
        <p:blipFill>
          <a:blip r:embed="rId1"/>
          <a:stretch/>
        </p:blipFill>
        <p:spPr>
          <a:xfrm>
            <a:off x="285840" y="1071720"/>
            <a:ext cx="8640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500040" y="42876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http://mail.google.com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гистрация почтового ящ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3" descr="аккаунт.png"/>
          <p:cNvPicPr/>
          <p:nvPr/>
        </p:nvPicPr>
        <p:blipFill>
          <a:blip r:embed="rId1"/>
          <a:stretch/>
        </p:blipFill>
        <p:spPr>
          <a:xfrm>
            <a:off x="1785960" y="857160"/>
            <a:ext cx="5224320" cy="41436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2857680" y="5429160"/>
            <a:ext cx="58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мя пользователя – </a:t>
            </a:r>
            <a:r>
              <a:rPr b="0" lang="en-US" sz="1800" spc="-1" strike="noStrike">
                <a:solidFill>
                  <a:srgbClr val="000000"/>
                </a:solidFill>
                <a:latin typeface="Lucida Bright"/>
              </a:rPr>
              <a:t>IvanovAN@mail.com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ароль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1"/>
          <p:cNvSpPr/>
          <p:nvPr/>
        </p:nvSpPr>
        <p:spPr>
          <a:xfrm>
            <a:off x="642960" y="13572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Заходим в свою почту, вверху – ссылка Сай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3" descr="cайты.png"/>
          <p:cNvPicPr/>
          <p:nvPr/>
        </p:nvPicPr>
        <p:blipFill>
          <a:blip r:embed="rId1"/>
          <a:stretch/>
        </p:blipFill>
        <p:spPr>
          <a:xfrm>
            <a:off x="1000080" y="2214720"/>
            <a:ext cx="72900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extBox 1" descr=""/>
          <p:cNvPicPr/>
          <p:nvPr/>
        </p:nvPicPr>
        <p:blipFill>
          <a:blip r:embed="rId1"/>
          <a:stretch/>
        </p:blipFill>
        <p:spPr>
          <a:xfrm>
            <a:off x="480960" y="353880"/>
            <a:ext cx="8169480" cy="6033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2"/>
          <p:cNvSpPr/>
          <p:nvPr/>
        </p:nvSpPr>
        <p:spPr>
          <a:xfrm>
            <a:off x="642960" y="1000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ригинальное название сайта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appy English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улин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642960" y="1571760"/>
            <a:ext cx="8001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sites.google.com/site/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appyenglishwith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kylinaria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642960" y="2214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 Отмечаем общий доступ или просмотр для выбранных 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5" descr="q3.png"/>
          <p:cNvPicPr/>
          <p:nvPr/>
        </p:nvPicPr>
        <p:blipFill>
          <a:blip r:embed="rId4"/>
          <a:stretch/>
        </p:blipFill>
        <p:spPr>
          <a:xfrm>
            <a:off x="3071880" y="2643120"/>
            <a:ext cx="34290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"/>
          <p:cNvSpPr/>
          <p:nvPr/>
        </p:nvSpPr>
        <p:spPr>
          <a:xfrm>
            <a:off x="571680" y="35712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 Редактировани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Рисунок 2" descr="scrin2-300x255.jpg"/>
          <p:cNvPicPr/>
          <p:nvPr/>
        </p:nvPicPr>
        <p:blipFill>
          <a:blip r:embed="rId1"/>
          <a:stretch/>
        </p:blipFill>
        <p:spPr>
          <a:xfrm>
            <a:off x="1857240" y="1000080"/>
            <a:ext cx="583272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"/>
          <p:cNvSpPr/>
          <p:nvPr/>
        </p:nvSpPr>
        <p:spPr>
          <a:xfrm>
            <a:off x="357120" y="35712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4. Редактирование страницы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2" descr="theme_1.png"/>
          <p:cNvPicPr/>
          <p:nvPr/>
        </p:nvPicPr>
        <p:blipFill>
          <a:blip r:embed="rId1"/>
          <a:stretch/>
        </p:blipFill>
        <p:spPr>
          <a:xfrm>
            <a:off x="142920" y="1071720"/>
            <a:ext cx="87408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500040" y="4287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. Добавление изображения, видео и других интересных гаджетов (инструмен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Рисунок 2" descr="интересный сайт.png"/>
          <p:cNvPicPr/>
          <p:nvPr/>
        </p:nvPicPr>
        <p:blipFill>
          <a:blip r:embed="rId1"/>
          <a:stretch/>
        </p:blipFill>
        <p:spPr>
          <a:xfrm>
            <a:off x="1714680" y="1000080"/>
            <a:ext cx="59292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428760" y="28584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. Добавление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Рисунок 2" descr="ris6_1.gif"/>
          <p:cNvPicPr/>
          <p:nvPr/>
        </p:nvPicPr>
        <p:blipFill>
          <a:blip r:embed="rId1"/>
          <a:stretch/>
        </p:blipFill>
        <p:spPr>
          <a:xfrm>
            <a:off x="1214280" y="1643040"/>
            <a:ext cx="6686640" cy="2581200"/>
          </a:xfrm>
          <a:prstGeom prst="rect">
            <a:avLst/>
          </a:prstGeom>
          <a:ln w="0">
            <a:noFill/>
          </a:ln>
        </p:spPr>
      </p:pic>
      <p:sp>
        <p:nvSpPr>
          <p:cNvPr id="392" name="TextBox 3"/>
          <p:cNvSpPr/>
          <p:nvPr/>
        </p:nvSpPr>
        <p:spPr>
          <a:xfrm>
            <a:off x="785880" y="4714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ждой странице обязательно давайте своё название, оно будет появляться в окне навиг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4:14:34Z</dcterms:created>
  <dc:creator>1</dc:creator>
  <dc:description/>
  <dc:language>en-US</dc:language>
  <cp:lastModifiedBy>1</cp:lastModifiedBy>
  <dcterms:modified xsi:type="dcterms:W3CDTF">2012-03-11T16:45:35Z</dcterms:modified>
  <cp:revision>12</cp:revision>
  <dc:subject/>
  <dc:title>Как создать сайт на Google</dc:title>
</cp:coreProperties>
</file>