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5.jpeg" ContentType="image/jpeg"/>
  <Override PartName="/ppt/media/image13.jpeg" ContentType="image/jpeg"/>
  <Override PartName="/ppt/media/image8.jpeg" ContentType="image/jpeg"/>
  <Override PartName="/ppt/media/image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B1F0-7D54-480C-A4C7-16A367667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B280-085F-4875-82C4-2372F9EFB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0857-AD20-4505-A363-D7F545DD9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7F24-661F-404F-BE8A-27AADE953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CF4F7-ADAA-487A-9AC9-9B89584A8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0BA6E-8438-4B38-B310-009A3505C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F037A-7B14-4286-9294-FD1CB1112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EB463-AFBC-4156-873F-F916621B4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20473-CA4A-4BCD-94C3-D65F88C35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17E75-23DC-44D9-8FD5-C3F7F15C6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7ADA7-01B1-452E-8C36-9BA88C27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B74F-1BB1-40A2-A5BF-32A38C91C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BD7F0-8FB7-450F-A2AC-271ACCBA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48D47-D13F-4DAA-A684-2E517EAD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1A1F3-C00D-45D4-9CBD-17F16246B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DFDFF-69E1-49BF-B2DC-4EEF85B92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E4A13-30F7-477F-B90B-E22D6E5CC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06B3E-76BF-484C-8BDE-D20084C3D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CB99B-5523-43E9-99A9-99C42F3C8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13506-874D-429E-BDDB-6BE80455C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F231F-29B3-4710-A901-9F48928C9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FFA2E-6A19-42BB-8AC7-42F219318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3EE6-E238-4857-AE96-67D800076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7E0BC-5349-423B-9A32-B7274A6A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F6AD7-3FF8-4A57-9071-81EF142A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9C6CE-CCDD-4C2E-A5D9-1282679F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E8F54-B34E-4620-B2F0-B7FCA0C9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198B6-E8AD-40E2-A64F-23A1E119F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BD3AF-C5CC-4788-AA47-3B4051376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BC31E-1ADA-4AD8-9C9A-3BADFF1C4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1DC66-426A-42FE-96D9-58359E41C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41109-9584-4A4F-A622-D9B407FFD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51829-20DD-4520-B0D0-8E2FE8EE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7FAD-1E2E-4D4D-8AF1-18AAE57F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C96B2-A42F-4E38-B22F-6EE99430A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C633C-75EE-4BDA-9103-C44CF0523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9FE57-1240-45D0-B69B-5D33862FE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99613-0BE2-43B7-9E43-2C136027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9B8EF-7B09-44EF-9386-DC2EE414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6DE09-7187-4F09-BB8C-F447B922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2E55C-CAC8-4F8D-BA1E-18E6D3FE4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66553-196C-40B9-8A8E-B24B909AD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31A43-1545-4118-BDEE-5345B90E6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F7A35-2E0E-4C57-95D9-7941A3B24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DE7F-EE28-43A0-9594-F6E06C257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2C585-F887-4AC6-8A05-183EA1E43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3AB72-35C9-45BC-BBA3-13F7881D8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5E67B-5213-4B27-8856-74FD759A5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96A3F-AC9E-4511-AE9B-2BCCE4DA0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15D4B-ADBD-4EFC-8089-C2202068C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1126A-D33D-4001-BA25-5E173071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843E8-9507-4826-B767-0C9164FF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24750-95C0-43F2-941A-9F24C4AB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F8335-CCCB-4DF2-8462-E935B0B17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54A5E-2A44-4A3A-95EB-DDA78E815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CE95-3B3A-44FF-BF4F-2F9CECAE2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D81D1-F576-4D78-8BBD-CDA420C5A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F5E96-8C0B-4D81-AD79-C942E5051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527A9-725E-4BAB-9248-96FE67D5E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9AFAB-6639-4181-B9F1-63729335C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B8F4B-A4AA-4C46-94D5-460F22929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60E19-A1EB-4275-A946-CFCBF5BCA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58B91-5785-407F-B7F8-057A16CC0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AAE697-9FDC-4413-943A-02A7269E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64956-3445-4F5F-9575-C2203348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A0066-2E0E-4590-965F-57EBB74C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5A05-3BCB-47DF-AA72-521D9073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11703-6A70-4661-ADC6-36A19491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AE12C-A175-4DDC-8505-F66AD8757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F38FA-5D94-48A6-BF87-6A57838A8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314F0-6EAF-435C-9F1D-3345586D1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D30FF-311A-4D3E-A4C9-AF02A9258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607299-BC6B-44D5-BC6A-9CFAA525E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51A43-2AFD-4DD8-A770-C32DCE12B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90863-5858-411B-89A0-599F5A11F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A1CCB4-9193-4807-AD3C-4703CA562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AFAAC4-E867-4A01-8A36-91D27131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4EE7-2B07-4BDF-BD9E-CF3E0C8B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C9E4B-E35F-40FE-B3B5-DF008607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1BEA8-A22F-4E7D-A224-90898110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FD546F-21EE-4816-B880-86C702F89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B478B-7F39-4C01-9C4B-A276FABE3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F46D6-DEE5-4B13-975A-E5399BD1D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231522-842B-45F2-BEA5-CDB255BAB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5B5A16-7D43-4E08-9B0A-9B532CD34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546875-523B-4617-9096-6F418B46A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B7A610-A0A6-40FD-AFF9-E0710D7B8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F33FD3-11D5-46CA-B5C1-FE6419E4D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7D44-9777-4FAC-AAE7-6537D17C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C78995-9996-4CF2-A0BA-90BCAF47B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30C6B-CD1A-4529-9E22-813BF0DC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F2078-4CEF-441B-9A53-74B05B2A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ACEFDA-1820-43D1-88C7-6383525B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023261-C064-49AB-A58B-EFDE3DE98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9F2196-05F2-4774-8BFA-73CA6DE54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18F037-704D-4DBC-9645-771B39866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CD7D9-A694-4B38-A008-6282AE2F8FD4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F66B5-DD64-4697-900C-1F54ED864948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9E6D9-21C5-48C0-94A6-925CF25AD9EE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8D91F-8BEC-4046-8EAA-B57FAF92D00F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A5984-7462-4FAB-8718-CB6F20D692CD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5E26B-6B0B-4D6D-B210-619F7B5784C9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4013C-F51C-4B8E-85A1-015214032657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CD5DD-ACC2-4660-8234-2C593FCCF64E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s://sites.google.com/site/happyenglishwithme" TargetMode="External"/><Relationship Id="rId3" Type="http://schemas.openxmlformats.org/officeDocument/2006/relationships/hyperlink" Target="https://sites.google.com/site/happyenglishwithme" TargetMode="External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24868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2" name="TextBox 3"/>
          <p:cNvSpPr/>
          <p:nvPr/>
        </p:nvSpPr>
        <p:spPr>
          <a:xfrm>
            <a:off x="2214720" y="6000840"/>
            <a:ext cx="671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подаватель: Е.В. Заводчик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Box 2"/>
          <p:cNvSpPr/>
          <p:nvPr/>
        </p:nvSpPr>
        <p:spPr>
          <a:xfrm>
            <a:off x="285840" y="285840"/>
            <a:ext cx="864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6. Настройка оформления сай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Рисунок 3" descr="scrin1-300x298.jpg"/>
          <p:cNvPicPr/>
          <p:nvPr/>
        </p:nvPicPr>
        <p:blipFill>
          <a:blip r:embed="rId1"/>
          <a:stretch/>
        </p:blipFill>
        <p:spPr>
          <a:xfrm>
            <a:off x="2214720" y="1087560"/>
            <a:ext cx="492912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TextBox 1" descr=""/>
          <p:cNvPicPr/>
          <p:nvPr/>
        </p:nvPicPr>
        <p:blipFill>
          <a:blip r:embed="rId1"/>
          <a:stretch/>
        </p:blipFill>
        <p:spPr>
          <a:xfrm>
            <a:off x="433440" y="523800"/>
            <a:ext cx="8289720" cy="420840"/>
          </a:xfrm>
          <a:prstGeom prst="rect">
            <a:avLst/>
          </a:prstGeom>
          <a:ln w="0">
            <a:noFill/>
          </a:ln>
        </p:spPr>
      </p:pic>
      <p:pic>
        <p:nvPicPr>
          <p:cNvPr id="396" name="Рисунок 2" descr="сохранить страницу.png"/>
          <p:cNvPicPr/>
          <p:nvPr/>
        </p:nvPicPr>
        <p:blipFill>
          <a:blip r:embed="rId2"/>
          <a:stretch/>
        </p:blipFill>
        <p:spPr>
          <a:xfrm>
            <a:off x="1357200" y="1285920"/>
            <a:ext cx="607248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TextBox 1" descr=""/>
          <p:cNvPicPr/>
          <p:nvPr/>
        </p:nvPicPr>
        <p:blipFill>
          <a:blip r:embed="rId1"/>
          <a:stretch/>
        </p:blipFill>
        <p:spPr>
          <a:xfrm>
            <a:off x="360360" y="384120"/>
            <a:ext cx="8650440" cy="695520"/>
          </a:xfrm>
          <a:prstGeom prst="rect">
            <a:avLst/>
          </a:prstGeom>
          <a:ln w="0">
            <a:noFill/>
          </a:ln>
        </p:spPr>
      </p:pic>
      <p:sp>
        <p:nvSpPr>
          <p:cNvPr id="398" name="TextBox 2"/>
          <p:cNvSpPr/>
          <p:nvPr/>
        </p:nvSpPr>
        <p:spPr>
          <a:xfrm>
            <a:off x="428760" y="10717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Далее – выбрать шаблон, тип страницы и определить ей мест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Рисунок 3" descr="уровень.png"/>
          <p:cNvPicPr/>
          <p:nvPr/>
        </p:nvPicPr>
        <p:blipFill>
          <a:blip r:embed="rId2"/>
          <a:stretch/>
        </p:blipFill>
        <p:spPr>
          <a:xfrm>
            <a:off x="2643120" y="1643040"/>
            <a:ext cx="392904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TextBox 1" descr=""/>
          <p:cNvPicPr/>
          <p:nvPr/>
        </p:nvPicPr>
        <p:blipFill>
          <a:blip r:embed="rId1"/>
          <a:stretch/>
        </p:blipFill>
        <p:spPr>
          <a:xfrm>
            <a:off x="433440" y="384120"/>
            <a:ext cx="8004240" cy="420840"/>
          </a:xfrm>
          <a:prstGeom prst="rect">
            <a:avLst/>
          </a:prstGeom>
          <a:ln w="0">
            <a:noFill/>
          </a:ln>
        </p:spPr>
      </p:pic>
      <p:pic>
        <p:nvPicPr>
          <p:cNvPr id="401" name="Рисунок 2" descr="сохранить страницу.png"/>
          <p:cNvPicPr/>
          <p:nvPr/>
        </p:nvPicPr>
        <p:blipFill>
          <a:blip r:embed="rId2"/>
          <a:stretch/>
        </p:blipFill>
        <p:spPr>
          <a:xfrm>
            <a:off x="1500120" y="1430280"/>
            <a:ext cx="6215040" cy="40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Рисунок 1" descr="b060030084_204062.jpg"/>
          <p:cNvPicPr/>
          <p:nvPr/>
        </p:nvPicPr>
        <p:blipFill>
          <a:blip r:embed="rId1"/>
          <a:stretch/>
        </p:blipFill>
        <p:spPr>
          <a:xfrm>
            <a:off x="1571760" y="500040"/>
            <a:ext cx="5810040" cy="4076640"/>
          </a:xfrm>
          <a:prstGeom prst="rect">
            <a:avLst/>
          </a:prstGeom>
          <a:ln w="0">
            <a:noFill/>
          </a:ln>
        </p:spPr>
      </p:pic>
      <p:pic>
        <p:nvPicPr>
          <p:cNvPr id="403" name="TextBox 2" descr=""/>
          <p:cNvPicPr/>
          <p:nvPr/>
        </p:nvPicPr>
        <p:blipFill>
          <a:blip r:embed="rId2"/>
          <a:stretch/>
        </p:blipFill>
        <p:spPr>
          <a:xfrm>
            <a:off x="1494000" y="4883040"/>
            <a:ext cx="601020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Рисунок 1" descr="image22.jpg"/>
          <p:cNvPicPr/>
          <p:nvPr/>
        </p:nvPicPr>
        <p:blipFill>
          <a:blip r:embed="rId1"/>
          <a:stretch/>
        </p:blipFill>
        <p:spPr>
          <a:xfrm>
            <a:off x="285840" y="1071720"/>
            <a:ext cx="86407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Box 1"/>
          <p:cNvSpPr/>
          <p:nvPr/>
        </p:nvSpPr>
        <p:spPr>
          <a:xfrm>
            <a:off x="500040" y="428760"/>
            <a:ext cx="80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http://mail.google.com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регистрация почтового ящ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Рисунок 3" descr="аккаунт.png"/>
          <p:cNvPicPr/>
          <p:nvPr/>
        </p:nvPicPr>
        <p:blipFill>
          <a:blip r:embed="rId1"/>
          <a:stretch/>
        </p:blipFill>
        <p:spPr>
          <a:xfrm>
            <a:off x="1785960" y="857160"/>
            <a:ext cx="5224320" cy="4143600"/>
          </a:xfrm>
          <a:prstGeom prst="rect">
            <a:avLst/>
          </a:prstGeom>
          <a:ln w="0">
            <a:noFill/>
          </a:ln>
        </p:spPr>
      </p:pic>
      <p:sp>
        <p:nvSpPr>
          <p:cNvPr id="376" name="TextBox 4"/>
          <p:cNvSpPr/>
          <p:nvPr/>
        </p:nvSpPr>
        <p:spPr>
          <a:xfrm>
            <a:off x="2857680" y="5429160"/>
            <a:ext cx="585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Имя пользователя – </a:t>
            </a:r>
            <a:r>
              <a:rPr b="0" lang="en-US" sz="1800" spc="-1" strike="noStrike">
                <a:solidFill>
                  <a:srgbClr val="000000"/>
                </a:solidFill>
                <a:latin typeface="Lucida Bright"/>
              </a:rPr>
              <a:t>IvanovAN@mail.com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Пароль: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*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Box 1"/>
          <p:cNvSpPr/>
          <p:nvPr/>
        </p:nvSpPr>
        <p:spPr>
          <a:xfrm>
            <a:off x="642960" y="1357200"/>
            <a:ext cx="82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Заходим в свою почту, вверху – ссылка Сай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Рисунок 3" descr="cайты.png"/>
          <p:cNvPicPr/>
          <p:nvPr/>
        </p:nvPicPr>
        <p:blipFill>
          <a:blip r:embed="rId1"/>
          <a:stretch/>
        </p:blipFill>
        <p:spPr>
          <a:xfrm>
            <a:off x="1000080" y="2214720"/>
            <a:ext cx="729000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TextBox 1" descr=""/>
          <p:cNvPicPr/>
          <p:nvPr/>
        </p:nvPicPr>
        <p:blipFill>
          <a:blip r:embed="rId1"/>
          <a:stretch/>
        </p:blipFill>
        <p:spPr>
          <a:xfrm>
            <a:off x="480960" y="353880"/>
            <a:ext cx="8169480" cy="603360"/>
          </a:xfrm>
          <a:prstGeom prst="rect">
            <a:avLst/>
          </a:prstGeom>
          <a:ln w="0">
            <a:noFill/>
          </a:ln>
        </p:spPr>
      </p:pic>
      <p:sp>
        <p:nvSpPr>
          <p:cNvPr id="380" name="TextBox 2"/>
          <p:cNvSpPr/>
          <p:nvPr/>
        </p:nvSpPr>
        <p:spPr>
          <a:xfrm>
            <a:off x="642960" y="10000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Оригинальное название сайта: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Happy English with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Кулина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3"/>
          <p:cNvSpPr/>
          <p:nvPr/>
        </p:nvSpPr>
        <p:spPr>
          <a:xfrm>
            <a:off x="642960" y="1571760"/>
            <a:ext cx="80010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2. </a:t>
            </a:r>
            <a:r>
              <a:rPr b="0" lang="ru-RU" sz="18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http://sites.google.com/site/</a:t>
            </a:r>
            <a:r>
              <a:rPr b="0" lang="en-US" sz="18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happyenglishwith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kylinaria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4"/>
          <p:cNvSpPr/>
          <p:nvPr/>
        </p:nvSpPr>
        <p:spPr>
          <a:xfrm>
            <a:off x="642960" y="22147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. Отмечаем общий доступ или просмотр для выбранных пользова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Рисунок 5" descr="q3.png"/>
          <p:cNvPicPr/>
          <p:nvPr/>
        </p:nvPicPr>
        <p:blipFill>
          <a:blip r:embed="rId4"/>
          <a:stretch/>
        </p:blipFill>
        <p:spPr>
          <a:xfrm>
            <a:off x="3071880" y="2643120"/>
            <a:ext cx="3429000" cy="40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Box 1"/>
          <p:cNvSpPr/>
          <p:nvPr/>
        </p:nvSpPr>
        <p:spPr>
          <a:xfrm>
            <a:off x="571680" y="357120"/>
            <a:ext cx="82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. Редактирование ст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Рисунок 2" descr="scrin2-300x255.jpg"/>
          <p:cNvPicPr/>
          <p:nvPr/>
        </p:nvPicPr>
        <p:blipFill>
          <a:blip r:embed="rId1"/>
          <a:stretch/>
        </p:blipFill>
        <p:spPr>
          <a:xfrm>
            <a:off x="1857240" y="1000080"/>
            <a:ext cx="5832720" cy="49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Box 1"/>
          <p:cNvSpPr/>
          <p:nvPr/>
        </p:nvSpPr>
        <p:spPr>
          <a:xfrm>
            <a:off x="357120" y="357120"/>
            <a:ext cx="842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4. Редактирование страницы (продолж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Рисунок 2" descr="theme_1.png"/>
          <p:cNvPicPr/>
          <p:nvPr/>
        </p:nvPicPr>
        <p:blipFill>
          <a:blip r:embed="rId1"/>
          <a:stretch/>
        </p:blipFill>
        <p:spPr>
          <a:xfrm>
            <a:off x="142920" y="1071720"/>
            <a:ext cx="874080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Box 1"/>
          <p:cNvSpPr/>
          <p:nvPr/>
        </p:nvSpPr>
        <p:spPr>
          <a:xfrm>
            <a:off x="500040" y="42876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5. Добавление изображения, видео и других интересных гаджетов (инструмент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Рисунок 2" descr="интересный сайт.png"/>
          <p:cNvPicPr/>
          <p:nvPr/>
        </p:nvPicPr>
        <p:blipFill>
          <a:blip r:embed="rId1"/>
          <a:stretch/>
        </p:blipFill>
        <p:spPr>
          <a:xfrm>
            <a:off x="1714680" y="1000080"/>
            <a:ext cx="59292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Box 1"/>
          <p:cNvSpPr/>
          <p:nvPr/>
        </p:nvSpPr>
        <p:spPr>
          <a:xfrm>
            <a:off x="428760" y="285840"/>
            <a:ext cx="67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5. Добавление изобра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Рисунок 2" descr="ris6_1.gif"/>
          <p:cNvPicPr/>
          <p:nvPr/>
        </p:nvPicPr>
        <p:blipFill>
          <a:blip r:embed="rId1"/>
          <a:stretch/>
        </p:blipFill>
        <p:spPr>
          <a:xfrm>
            <a:off x="1214280" y="1643040"/>
            <a:ext cx="6686640" cy="2581200"/>
          </a:xfrm>
          <a:prstGeom prst="rect">
            <a:avLst/>
          </a:prstGeom>
          <a:ln w="0">
            <a:noFill/>
          </a:ln>
        </p:spPr>
      </p:pic>
      <p:sp>
        <p:nvSpPr>
          <p:cNvPr id="392" name="TextBox 3"/>
          <p:cNvSpPr/>
          <p:nvPr/>
        </p:nvSpPr>
        <p:spPr>
          <a:xfrm>
            <a:off x="785880" y="4714920"/>
            <a:ext cx="77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Каждой странице обязательно давайте своё название, оно будет появляться в окне навиг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14:14:34Z</dcterms:created>
  <dc:creator>1</dc:creator>
  <dc:description/>
  <dc:language>en-US</dc:language>
  <cp:lastModifiedBy>1</cp:lastModifiedBy>
  <dcterms:modified xsi:type="dcterms:W3CDTF">2012-03-11T16:45:35Z</dcterms:modified>
  <cp:revision>12</cp:revision>
  <dc:subject/>
  <dc:title>Как создать сайт на Google</dc:title>
</cp:coreProperties>
</file>