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AB0-7788-4D92-A062-F548B214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8EA-67FB-4BCA-9DC8-1821E1D4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0FE-2CB6-469C-9386-14183A08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45F-6088-4E75-AB69-031FA6CF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42C-366F-4751-95DE-C56ED61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ADA-EC12-47D6-B569-C1102C85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0A5-29B1-4353-B7D0-DE361B54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E82-61FF-41B3-8262-2BB2EB5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DDB-1A58-4025-9343-80ED6DC0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CEA-2E79-4F2F-B466-9E0D019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397-9248-439F-BD71-BF2E700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75B-9B62-4DF7-9233-70A9440D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F555-4DBE-4FE8-ABEF-2B5C68E30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000080" y="612720"/>
            <a:ext cx="7429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Кондратьева Надежда Константиновна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Город Москва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Северо-восточный округ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Преподаватель МСВУ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(Московского Суворовского военного училища)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4360" y="333360"/>
            <a:ext cx="7092720" cy="1052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260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ды неполных квадратных уравнений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4932360" y="1773360"/>
            <a:ext cx="3743280" cy="720720"/>
            <a:chOff x="4932360" y="1773360"/>
            <a:chExt cx="3743280" cy="720720"/>
          </a:xfrm>
        </p:grpSpPr>
        <p:sp>
          <p:nvSpPr>
            <p:cNvPr id="109" name="Text Box 5"/>
            <p:cNvSpPr/>
            <p:nvPr/>
          </p:nvSpPr>
          <p:spPr>
            <a:xfrm>
              <a:off x="4932360" y="179064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6156360" y="1773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7359480" y="1773360"/>
              <a:ext cx="131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c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8"/>
          <p:cNvGrpSpPr/>
          <p:nvPr/>
        </p:nvGrpSpPr>
        <p:grpSpPr>
          <a:xfrm>
            <a:off x="250920" y="1700280"/>
            <a:ext cx="4391640" cy="1044000"/>
            <a:chOff x="250920" y="1700280"/>
            <a:chExt cx="4391640" cy="1044000"/>
          </a:xfrm>
        </p:grpSpPr>
        <p:grpSp>
          <p:nvGrpSpPr>
            <p:cNvPr id="113" name="Group 9"/>
            <p:cNvGrpSpPr/>
            <p:nvPr/>
          </p:nvGrpSpPr>
          <p:grpSpPr>
            <a:xfrm>
              <a:off x="250920" y="1881000"/>
              <a:ext cx="4391640" cy="863280"/>
              <a:chOff x="250920" y="1881000"/>
              <a:chExt cx="4391640" cy="863280"/>
            </a:xfrm>
          </p:grpSpPr>
          <p:grpSp>
            <p:nvGrpSpPr>
              <p:cNvPr id="114" name="Group 10"/>
              <p:cNvGrpSpPr/>
              <p:nvPr/>
            </p:nvGrpSpPr>
            <p:grpSpPr>
              <a:xfrm>
                <a:off x="570960" y="1881000"/>
                <a:ext cx="4071600" cy="825120"/>
                <a:chOff x="570960" y="1881000"/>
                <a:chExt cx="4071600" cy="825120"/>
              </a:xfrm>
            </p:grpSpPr>
            <p:sp>
              <p:nvSpPr>
                <p:cNvPr id="115" name="Text Box 11"/>
                <p:cNvSpPr/>
                <p:nvPr/>
              </p:nvSpPr>
              <p:spPr>
                <a:xfrm>
                  <a:off x="1536480" y="2023560"/>
                  <a:ext cx="514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2"/>
                <p:cNvSpPr/>
                <p:nvPr/>
              </p:nvSpPr>
              <p:spPr>
                <a:xfrm>
                  <a:off x="1858680" y="1881000"/>
                  <a:ext cx="3859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7" name="Object 13"/>
                    <p:cNvSpPr txBox="1"/>
                    <p:nvPr/>
                  </p:nvSpPr>
                  <p:spPr>
                    <a:xfrm>
                      <a:off x="2407680" y="1977480"/>
                      <a:ext cx="215280" cy="40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8" name="Text Box 14"/>
                <p:cNvSpPr/>
                <p:nvPr/>
              </p:nvSpPr>
              <p:spPr>
                <a:xfrm>
                  <a:off x="2759040" y="2023560"/>
                  <a:ext cx="320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=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5"/>
                <p:cNvSpPr/>
                <p:nvPr/>
              </p:nvSpPr>
              <p:spPr>
                <a:xfrm>
                  <a:off x="3079800" y="1881000"/>
                  <a:ext cx="4507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48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16"/>
                <p:cNvSpPr/>
                <p:nvPr/>
              </p:nvSpPr>
              <p:spPr>
                <a:xfrm>
                  <a:off x="3466800" y="2023560"/>
                  <a:ext cx="11757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17"/>
                <p:cNvSpPr/>
                <p:nvPr/>
              </p:nvSpPr>
              <p:spPr>
                <a:xfrm>
                  <a:off x="570960" y="1881000"/>
                  <a:ext cx="5004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800" spc="-1" strike="noStrike">
                      <a:solidFill>
                        <a:srgbClr val="000000"/>
                      </a:solidFill>
                      <a:latin typeface="Comic Sans MS"/>
                    </a:rPr>
                    <a:t>а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18"/>
              <p:cNvSpPr/>
              <p:nvPr/>
            </p:nvSpPr>
            <p:spPr>
              <a:xfrm>
                <a:off x="250920" y="1881000"/>
                <a:ext cx="4373640" cy="86328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1031760" y="1700280"/>
              <a:ext cx="587160" cy="973080"/>
              <a:chOff x="1031760" y="1700280"/>
              <a:chExt cx="587160" cy="973080"/>
            </a:xfrm>
          </p:grpSpPr>
          <p:sp>
            <p:nvSpPr>
              <p:cNvPr id="124" name="AutoShape 20"/>
              <p:cNvSpPr/>
              <p:nvPr/>
            </p:nvSpPr>
            <p:spPr>
              <a:xfrm>
                <a:off x="1031760" y="1700280"/>
                <a:ext cx="587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1386360" y="1778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1131480" y="1834920"/>
                <a:ext cx="30996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55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1" i="1" lang="en-US" sz="5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23"/>
          <p:cNvGrpSpPr/>
          <p:nvPr/>
        </p:nvGrpSpPr>
        <p:grpSpPr>
          <a:xfrm>
            <a:off x="324000" y="2997360"/>
            <a:ext cx="4373280" cy="1044360"/>
            <a:chOff x="324000" y="2997360"/>
            <a:chExt cx="4373280" cy="1044360"/>
          </a:xfrm>
        </p:grpSpPr>
        <p:sp>
          <p:nvSpPr>
            <p:cNvPr id="128" name="Text Box 24"/>
            <p:cNvSpPr/>
            <p:nvPr/>
          </p:nvSpPr>
          <p:spPr>
            <a:xfrm>
              <a:off x="1609560" y="3321000"/>
              <a:ext cx="51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1932120" y="3178080"/>
              <a:ext cx="38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6"/>
            <p:cNvSpPr/>
            <p:nvPr/>
          </p:nvSpPr>
          <p:spPr>
            <a:xfrm>
              <a:off x="2484360" y="335592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2843280" y="3178080"/>
              <a:ext cx="45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8"/>
            <p:cNvSpPr/>
            <p:nvPr/>
          </p:nvSpPr>
          <p:spPr>
            <a:xfrm>
              <a:off x="644400" y="3178080"/>
              <a:ext cx="50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24000" y="3178080"/>
              <a:ext cx="4373280" cy="86364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30"/>
            <p:cNvGrpSpPr/>
            <p:nvPr/>
          </p:nvGrpSpPr>
          <p:grpSpPr>
            <a:xfrm>
              <a:off x="1104840" y="2997360"/>
              <a:ext cx="587160" cy="973080"/>
              <a:chOff x="1104840" y="2997360"/>
              <a:chExt cx="587160" cy="973080"/>
            </a:xfrm>
          </p:grpSpPr>
          <p:sp>
            <p:nvSpPr>
              <p:cNvPr id="135" name="AutoShape 31"/>
              <p:cNvSpPr/>
              <p:nvPr/>
            </p:nvSpPr>
            <p:spPr>
              <a:xfrm>
                <a:off x="1104840" y="2997360"/>
                <a:ext cx="587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1459440" y="30751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1204560" y="3132000"/>
                <a:ext cx="30996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55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1" i="1" lang="en-US" sz="5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34"/>
          <p:cNvGrpSpPr/>
          <p:nvPr/>
        </p:nvGrpSpPr>
        <p:grpSpPr>
          <a:xfrm>
            <a:off x="4932360" y="4581360"/>
            <a:ext cx="3743280" cy="721080"/>
            <a:chOff x="4932360" y="4581360"/>
            <a:chExt cx="3743280" cy="721080"/>
          </a:xfrm>
        </p:grpSpPr>
        <p:sp>
          <p:nvSpPr>
            <p:cNvPr id="139" name="Text Box 35"/>
            <p:cNvSpPr/>
            <p:nvPr/>
          </p:nvSpPr>
          <p:spPr>
            <a:xfrm>
              <a:off x="4932360" y="459900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156360" y="4581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b</a:t>
              </a:r>
              <a:r>
                <a:rPr b="0" i="1" lang="ru-RU" sz="40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7359480" y="4581360"/>
              <a:ext cx="131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c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324000" y="4365720"/>
            <a:ext cx="4373280" cy="1044360"/>
            <a:chOff x="324000" y="4365720"/>
            <a:chExt cx="4373280" cy="1044360"/>
          </a:xfrm>
        </p:grpSpPr>
        <p:sp>
          <p:nvSpPr>
            <p:cNvPr id="143" name="Text Box 39"/>
            <p:cNvSpPr/>
            <p:nvPr/>
          </p:nvSpPr>
          <p:spPr>
            <a:xfrm>
              <a:off x="1932120" y="4546440"/>
              <a:ext cx="38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40"/>
            <p:cNvSpPr/>
            <p:nvPr/>
          </p:nvSpPr>
          <p:spPr>
            <a:xfrm>
              <a:off x="1692360" y="4721400"/>
              <a:ext cx="3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1"/>
            <p:cNvSpPr/>
            <p:nvPr/>
          </p:nvSpPr>
          <p:spPr>
            <a:xfrm>
              <a:off x="2124000" y="4581360"/>
              <a:ext cx="45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2"/>
            <p:cNvSpPr/>
            <p:nvPr/>
          </p:nvSpPr>
          <p:spPr>
            <a:xfrm>
              <a:off x="644400" y="4546440"/>
              <a:ext cx="50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324000" y="4546440"/>
              <a:ext cx="4373280" cy="86364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44"/>
            <p:cNvGrpSpPr/>
            <p:nvPr/>
          </p:nvGrpSpPr>
          <p:grpSpPr>
            <a:xfrm>
              <a:off x="1104840" y="4365720"/>
              <a:ext cx="587160" cy="973080"/>
              <a:chOff x="1104840" y="4365720"/>
              <a:chExt cx="587160" cy="973080"/>
            </a:xfrm>
          </p:grpSpPr>
          <p:sp>
            <p:nvSpPr>
              <p:cNvPr id="149" name="AutoShape 45"/>
              <p:cNvSpPr/>
              <p:nvPr/>
            </p:nvSpPr>
            <p:spPr>
              <a:xfrm>
                <a:off x="1104840" y="4365720"/>
                <a:ext cx="587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1459440" y="4443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1204560" y="4500360"/>
                <a:ext cx="30996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55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1" i="1" lang="en-US" sz="5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48"/>
          <p:cNvGrpSpPr/>
          <p:nvPr/>
        </p:nvGrpSpPr>
        <p:grpSpPr>
          <a:xfrm>
            <a:off x="4932360" y="3141720"/>
            <a:ext cx="3743280" cy="720720"/>
            <a:chOff x="4932360" y="3141720"/>
            <a:chExt cx="3743280" cy="720720"/>
          </a:xfrm>
        </p:grpSpPr>
        <p:sp>
          <p:nvSpPr>
            <p:cNvPr id="153" name="Text Box 49"/>
            <p:cNvSpPr/>
            <p:nvPr/>
          </p:nvSpPr>
          <p:spPr>
            <a:xfrm>
              <a:off x="4932360" y="315900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6156360" y="314172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b</a:t>
              </a:r>
              <a:r>
                <a:rPr b="0" i="1" lang="ru-RU" sz="40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7359480" y="3141720"/>
              <a:ext cx="131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52"/>
          <p:cNvSpPr/>
          <p:nvPr/>
        </p:nvSpPr>
        <p:spPr>
          <a:xfrm>
            <a:off x="2411280" y="1916280"/>
            <a:ext cx="29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ШЕН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ПОЛНЫХ   КВАДРАТНЫХ  УРАВНЕН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в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с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с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вх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в,с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50920" y="3409920"/>
            <a:ext cx="288108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Перенос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с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в правую часть уравнения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а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/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g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-два решения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1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         и  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2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l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- нет решений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3348000" y="3573360"/>
            <a:ext cx="26640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Вынесение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за скобки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(ах + в) = 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   Разбиение уравне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на два равносильных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=0     и     ах + в = 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  Два решения: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и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-в/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300720" y="3573360"/>
            <a:ext cx="2519280" cy="149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Одно решение: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4500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161928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7308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2"/>
              <p:cNvSpPr txBox="1"/>
              <p:nvPr/>
            </p:nvSpPr>
            <p:spPr>
              <a:xfrm>
                <a:off x="971640" y="5589720"/>
                <a:ext cx="43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3"/>
              <p:cNvSpPr txBox="1"/>
              <p:nvPr/>
            </p:nvSpPr>
            <p:spPr>
              <a:xfrm>
                <a:off x="2556000" y="5589720"/>
                <a:ext cx="43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333360"/>
            <a:ext cx="7092720" cy="1052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463840" y="1004760"/>
            <a:ext cx="51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311120" y="1004760"/>
            <a:ext cx="67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вать коэффициенты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31720" y="1865160"/>
                <a:ext cx="2386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31720" y="3000240"/>
                <a:ext cx="2465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1984320" y="4908600"/>
                <a:ext cx="978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492120" y="4062240"/>
                <a:ext cx="3273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10"/>
          <p:cNvSpPr/>
          <p:nvPr/>
        </p:nvSpPr>
        <p:spPr>
          <a:xfrm>
            <a:off x="5148360" y="198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8  0  1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148360" y="2924280"/>
            <a:ext cx="29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7  1  0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148360" y="3789360"/>
            <a:ext cx="29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9  1  4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4932360" y="1557360"/>
            <a:ext cx="2900160" cy="3024000"/>
            <a:chOff x="4932360" y="1557360"/>
            <a:chExt cx="2900160" cy="3024000"/>
          </a:xfrm>
        </p:grpSpPr>
        <p:sp>
          <p:nvSpPr>
            <p:cNvPr id="185" name="Text Box 14"/>
            <p:cNvSpPr/>
            <p:nvPr/>
          </p:nvSpPr>
          <p:spPr>
            <a:xfrm>
              <a:off x="4932360" y="3021120"/>
              <a:ext cx="26114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5167080" y="1557360"/>
              <a:ext cx="26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а       б       с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5024160" y="206064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5814720" y="1557360"/>
              <a:ext cx="180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6751440" y="155736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0"/>
            <a:ext cx="4643280" cy="76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0" y="907920"/>
                <a:ext cx="2376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2843280" y="907920"/>
                <a:ext cx="2303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867280" y="981000"/>
                <a:ext cx="2592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5"/>
          <p:cNvSpPr/>
          <p:nvPr/>
        </p:nvSpPr>
        <p:spPr>
          <a:xfrm>
            <a:off x="0" y="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РЕШИ  УРАВНЕНИЯ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0" y="765000"/>
                <a:ext cx="47829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3"/>
          <p:cNvSpPr/>
          <p:nvPr/>
        </p:nvSpPr>
        <p:spPr>
          <a:xfrm>
            <a:off x="0" y="0"/>
            <a:ext cx="5292720" cy="76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160" y="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РЕШИ  УРАВНЕНИЯ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 flipH="1" rot="765600">
            <a:off x="7950960" y="7343280"/>
            <a:ext cx="82800" cy="352440"/>
          </a:xfrm>
          <a:custGeom>
            <a:avLst/>
            <a:gdLst>
              <a:gd name="textAreaLeft" fmla="*/ 360 w 82800"/>
              <a:gd name="textAreaRight" fmla="*/ 83520 w 828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755640" y="549360"/>
            <a:ext cx="468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95280" y="47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Работа  в группах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042920" y="1916280"/>
            <a:ext cx="6193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826920" y="1268280"/>
            <a:ext cx="7705800" cy="62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 х + 2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+ ( х -3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= 1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х + 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 0   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 49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81 = 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9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5"/>
              <p:cNvSpPr txBox="1"/>
              <p:nvPr/>
            </p:nvSpPr>
            <p:spPr>
              <a:xfrm>
                <a:off x="1211400" y="1341360"/>
                <a:ext cx="2927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8256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Comic Sans MS"/>
              </a:rPr>
              <a:t>При каком значении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i="1" lang="en-US" sz="32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99cc00"/>
                </a:solidFill>
                <a:latin typeface="Comic Sans MS"/>
              </a:rPr>
              <a:t>уравнение</a:t>
            </a:r>
            <a:r>
              <a:rPr b="0" i="1" lang="ru-RU" sz="24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2050920" y="1197000"/>
                <a:ext cx="4969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4"/>
          <p:cNvSpPr/>
          <p:nvPr/>
        </p:nvSpPr>
        <p:spPr>
          <a:xfrm>
            <a:off x="755640" y="2133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cc00"/>
                </a:solidFill>
                <a:latin typeface="Comic Sans MS"/>
              </a:rPr>
              <a:t>обращается в неполное квадратное уравнение?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2028960" y="4191120"/>
                <a:ext cx="5011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х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6"/>
          <p:cNvSpPr/>
          <p:nvPr/>
        </p:nvSpPr>
        <p:spPr>
          <a:xfrm>
            <a:off x="684360" y="32814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e00"/>
                </a:solidFill>
                <a:latin typeface="Comic Sans MS"/>
              </a:rPr>
              <a:t>При каком значении</a:t>
            </a:r>
            <a:r>
              <a:rPr b="1" i="1" lang="ru-RU" sz="32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US" sz="32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7e00"/>
                </a:solidFill>
                <a:latin typeface="Comic Sans MS"/>
              </a:rPr>
              <a:t>уравнение</a:t>
            </a:r>
            <a:r>
              <a:rPr b="0" i="1" lang="ru-RU" sz="24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971640" y="4941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e00"/>
                </a:solidFill>
                <a:latin typeface="Comic Sans MS"/>
              </a:rPr>
              <a:t>обращается в неполное квадратное уравнение?</a:t>
            </a:r>
            <a:r>
              <a:rPr b="0" i="1" lang="ru-RU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250920" y="189000"/>
            <a:ext cx="7489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4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самостоятельная работ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166760" y="129384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116000" y="126828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914400" y="1617840"/>
            <a:ext cx="73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042920" y="620640"/>
            <a:ext cx="55450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за каждое правильное решение 1 бал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2"/>
              <p:cNvSpPr txBox="1"/>
              <p:nvPr/>
            </p:nvSpPr>
            <p:spPr>
              <a:xfrm>
                <a:off x="1692360" y="1989000"/>
                <a:ext cx="540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Text Box 14"/>
          <p:cNvSpPr/>
          <p:nvPr/>
        </p:nvSpPr>
        <p:spPr>
          <a:xfrm>
            <a:off x="1130400" y="3490920"/>
            <a:ext cx="20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1095480" y="3597120"/>
            <a:ext cx="693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(2 балла) Составить неполное квадратное уравнение имеющее корни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и -3                       0 и 6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(3 балла) Решить уравнение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6"/>
              <p:cNvSpPr txBox="1"/>
              <p:nvPr/>
            </p:nvSpPr>
            <p:spPr>
              <a:xfrm>
                <a:off x="1476360" y="4941720"/>
                <a:ext cx="6551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Прямая соединительная линия 11"/>
          <p:cNvSpPr/>
          <p:nvPr/>
        </p:nvSpPr>
        <p:spPr>
          <a:xfrm>
            <a:off x="4429080" y="2000160"/>
            <a:ext cx="0" cy="1428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3"/>
          <p:cNvSpPr/>
          <p:nvPr/>
        </p:nvSpPr>
        <p:spPr>
          <a:xfrm>
            <a:off x="5148360" y="4253040"/>
            <a:ext cx="0" cy="318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5"/>
          <p:cNvSpPr/>
          <p:nvPr/>
        </p:nvSpPr>
        <p:spPr>
          <a:xfrm>
            <a:off x="457200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0" y="69228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Rectangle 3"/>
          <p:cNvSpPr/>
          <p:nvPr/>
        </p:nvSpPr>
        <p:spPr>
          <a:xfrm>
            <a:off x="0" y="0"/>
            <a:ext cx="5364000" cy="76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60" y="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РЕШИ  УРАВНЕНИЯ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33360" y="4145040"/>
            <a:ext cx="34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4786200"/>
            <a:ext cx="84582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7812000" y="0"/>
            <a:ext cx="0" cy="685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79280" y="2421000"/>
            <a:ext cx="77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ужас"/>
          <p:cNvPicPr/>
          <p:nvPr/>
        </p:nvPicPr>
        <p:blipFill>
          <a:blip r:embed="rId2"/>
          <a:stretch/>
        </p:blipFill>
        <p:spPr>
          <a:xfrm>
            <a:off x="4500720" y="3395520"/>
            <a:ext cx="4464000" cy="3462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250920" y="1125360"/>
            <a:ext cx="525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29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129ff"/>
                </a:solidFill>
                <a:latin typeface="Arial Black"/>
                <a:ea typeface="Arial Unicode MS"/>
              </a:rPr>
              <a:t>п. 21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  «3»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502,522аб,524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 «4»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504,522вг,526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29ff"/>
                </a:solidFill>
                <a:latin typeface="Arial Black"/>
                <a:ea typeface="Arial Unicode MS"/>
              </a:rPr>
              <a:t> 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  <a:ea typeface="Arial"/>
              </a:rPr>
              <a:t>Задание на самоподготовку:</a:t>
            </a:r>
            <a:r>
              <a:rPr b="1" lang="ru-RU" sz="4400" spc="-1" strike="noStrike">
                <a:solidFill>
                  <a:srgbClr val="333399"/>
                </a:solidFill>
                <a:latin typeface="Monotype Corsiva"/>
                <a:ea typeface="Arial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ужас"/>
          <p:cNvPicPr/>
          <p:nvPr/>
        </p:nvPicPr>
        <p:blipFill>
          <a:blip r:embed="rId3"/>
          <a:stretch/>
        </p:blipFill>
        <p:spPr>
          <a:xfrm>
            <a:off x="4500720" y="3395520"/>
            <a:ext cx="4464000" cy="3462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9"/>
          <p:cNvSpPr/>
          <p:nvPr/>
        </p:nvSpPr>
        <p:spPr>
          <a:xfrm>
            <a:off x="428760" y="4357800"/>
            <a:ext cx="428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 «5»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511,523вг,527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2843280" y="765000"/>
            <a:ext cx="565776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полные 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вадратные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равнения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382920" y="592308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21.12.1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мы занимались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все получ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2920" y="400068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Arial"/>
              </a:rPr>
              <a:t>ЗА 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5"/>
          <p:cNvSpPr/>
          <p:nvPr/>
        </p:nvSpPr>
        <p:spPr>
          <a:xfrm>
            <a:off x="2268360" y="580536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Arial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37"/>
              <p:cNvSpPr txBox="1"/>
              <p:nvPr/>
            </p:nvSpPr>
            <p:spPr>
              <a:xfrm>
                <a:off x="1619280" y="2538360"/>
                <a:ext cx="36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43"/>
              <p:cNvSpPr txBox="1"/>
              <p:nvPr/>
            </p:nvSpPr>
            <p:spPr>
              <a:xfrm>
                <a:off x="1716120" y="3716280"/>
                <a:ext cx="3693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1"/>
              <p:cNvSpPr txBox="1"/>
              <p:nvPr/>
            </p:nvSpPr>
            <p:spPr>
              <a:xfrm>
                <a:off x="1692360" y="1441440"/>
                <a:ext cx="3166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55"/>
              <p:cNvSpPr txBox="1"/>
              <p:nvPr/>
            </p:nvSpPr>
            <p:spPr>
              <a:xfrm>
                <a:off x="1835280" y="4786200"/>
                <a:ext cx="4032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3"/>
          <p:cNvSpPr txBox="1"/>
          <p:nvPr/>
        </p:nvSpPr>
        <p:spPr>
          <a:xfrm>
            <a:off x="0" y="692280"/>
            <a:ext cx="914400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рка самоподготовки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3300"/>
                </a:solidFill>
                <a:uFillTx/>
                <a:latin typeface="Comic Sans MS"/>
              </a:rPr>
              <a:t>ОПРЕДЕЛЕНИЕ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Квадратным уравнением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 называетс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уравнение ви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lang="ru-RU" sz="4400" spc="-1" strike="noStrike" baseline="30000">
                <a:solidFill>
                  <a:srgbClr val="cc3300"/>
                </a:solidFill>
                <a:latin typeface="Comic Sans MS"/>
              </a:rPr>
              <a:t>2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+ вх +с = 0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где 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–переменна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 в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и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 с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 некоторые чис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причем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а </a:t>
            </a:r>
            <a:r>
              <a:rPr b="1" lang="ru-RU" sz="4400" spc="-1" strike="noStrike">
                <a:solidFill>
                  <a:srgbClr val="7575d1"/>
                </a:solidFill>
                <a:latin typeface="Comic Sans MS"/>
              </a:rPr>
              <a:t>не равно   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0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333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Comic Sans MS"/>
              </a:rPr>
              <a:t>Общий вид квадратного уравнения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87280" y="2708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0000"/>
                </a:solidFill>
                <a:latin typeface="Comic Sans MS"/>
              </a:rPr>
              <a:t>а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835280" y="285264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- Первый коэффицие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87280" y="3429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b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835280" y="3500280"/>
            <a:ext cx="54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- Второй коэффицие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187280" y="407664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c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816200" y="4173480"/>
            <a:ext cx="62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вободный коэффицие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1643040" y="1214280"/>
            <a:ext cx="5070960" cy="1071000"/>
            <a:chOff x="1643040" y="1214280"/>
            <a:chExt cx="5070960" cy="1071000"/>
          </a:xfrm>
        </p:grpSpPr>
        <mc:AlternateContent>
          <mc:Choice xmlns:a14="http://schemas.microsoft.com/office/drawing/2010/main" Requires="a14">
            <p:sp>
              <p:nvSpPr>
                <p:cNvPr id="61" name="Object 10"/>
                <p:cNvSpPr txBox="1"/>
                <p:nvPr/>
              </p:nvSpPr>
              <p:spPr>
                <a:xfrm>
                  <a:off x="2523960" y="1214280"/>
                  <a:ext cx="679320" cy="9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62" name="Group 11"/>
            <p:cNvGrpSpPr/>
            <p:nvPr/>
          </p:nvGrpSpPr>
          <p:grpSpPr>
            <a:xfrm>
              <a:off x="1643040" y="1366200"/>
              <a:ext cx="5070960" cy="919080"/>
              <a:chOff x="1643040" y="1366200"/>
              <a:chExt cx="5070960" cy="919080"/>
            </a:xfrm>
          </p:grpSpPr>
          <p:grpSp>
            <p:nvGrpSpPr>
              <p:cNvPr id="63" name="Group 12"/>
              <p:cNvGrpSpPr/>
              <p:nvPr/>
            </p:nvGrpSpPr>
            <p:grpSpPr>
              <a:xfrm>
                <a:off x="2012760" y="1366200"/>
                <a:ext cx="4701240" cy="825120"/>
                <a:chOff x="2012760" y="1366200"/>
                <a:chExt cx="4701240" cy="825120"/>
              </a:xfrm>
            </p:grpSpPr>
            <p:sp>
              <p:nvSpPr>
                <p:cNvPr id="64" name="Text Box 13"/>
                <p:cNvSpPr/>
                <p:nvPr/>
              </p:nvSpPr>
              <p:spPr>
                <a:xfrm>
                  <a:off x="3127680" y="1518120"/>
                  <a:ext cx="594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14"/>
                <p:cNvSpPr/>
                <p:nvPr/>
              </p:nvSpPr>
              <p:spPr>
                <a:xfrm>
                  <a:off x="3499560" y="1366200"/>
                  <a:ext cx="4453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800" spc="-1" strike="noStrike">
                      <a:solidFill>
                        <a:srgbClr val="cc0000"/>
                      </a:solidFill>
                      <a:latin typeface="Comic Sans MS"/>
                    </a:rPr>
                    <a:t>b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6" name="Object 15"/>
                    <p:cNvSpPr txBox="1"/>
                    <p:nvPr/>
                  </p:nvSpPr>
                  <p:spPr>
                    <a:xfrm>
                      <a:off x="4092480" y="1518120"/>
                      <a:ext cx="540000" cy="61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х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67" name="Text Box 16"/>
                <p:cNvSpPr/>
                <p:nvPr/>
              </p:nvSpPr>
              <p:spPr>
                <a:xfrm>
                  <a:off x="4539240" y="1518120"/>
                  <a:ext cx="370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17"/>
                <p:cNvSpPr/>
                <p:nvPr/>
              </p:nvSpPr>
              <p:spPr>
                <a:xfrm>
                  <a:off x="4909320" y="1366200"/>
                  <a:ext cx="5205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4800" spc="-1" strike="noStrike">
                      <a:solidFill>
                        <a:srgbClr val="cc0000"/>
                      </a:solidFill>
                      <a:latin typeface="Comic Sans MS"/>
                    </a:rPr>
                    <a:t>с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Text Box 18"/>
                <p:cNvSpPr/>
                <p:nvPr/>
              </p:nvSpPr>
              <p:spPr>
                <a:xfrm>
                  <a:off x="5356440" y="1518120"/>
                  <a:ext cx="1357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= 0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19"/>
                <p:cNvSpPr/>
                <p:nvPr/>
              </p:nvSpPr>
              <p:spPr>
                <a:xfrm>
                  <a:off x="2012760" y="1366200"/>
                  <a:ext cx="5781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800" spc="-1" strike="noStrike">
                      <a:solidFill>
                        <a:srgbClr val="cc0000"/>
                      </a:solidFill>
                      <a:latin typeface="Comic Sans MS"/>
                    </a:rPr>
                    <a:t>а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Rectangle 20"/>
              <p:cNvSpPr/>
              <p:nvPr/>
            </p:nvSpPr>
            <p:spPr>
              <a:xfrm>
                <a:off x="1643040" y="1366200"/>
                <a:ext cx="5050080" cy="91908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 rot="765000">
            <a:off x="6850080" y="6977160"/>
            <a:ext cx="1143000" cy="585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57120" y="1857240"/>
            <a:ext cx="385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ПОЛНЫЕ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88000" y="1916280"/>
            <a:ext cx="392724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НЕПОЛНЫЕ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56000" y="357120"/>
            <a:ext cx="4032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2071440" y="1341360"/>
            <a:ext cx="1276200" cy="444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5219640" y="1341360"/>
            <a:ext cx="1297080" cy="57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071720" y="3357720"/>
            <a:ext cx="28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 в ≠ 0,   с ≠ 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148360" y="3857760"/>
            <a:ext cx="3066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 в = 0,  с = 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2286000" y="3071880"/>
            <a:ext cx="571680" cy="2858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6572160" y="3500280"/>
            <a:ext cx="0" cy="358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071720" y="4221000"/>
            <a:ext cx="2928960" cy="24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+5х-7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6х+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-3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-8х-7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5-10х+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5643720" y="4572000"/>
            <a:ext cx="250020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3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-2х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2х+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25+5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9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-81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 flipH="1">
            <a:off x="2124000" y="3786120"/>
            <a:ext cx="876240" cy="434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4"/>
          <p:cNvSpPr/>
          <p:nvPr/>
        </p:nvSpPr>
        <p:spPr>
          <a:xfrm flipH="1">
            <a:off x="6714720" y="4214880"/>
            <a:ext cx="500040" cy="2858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Text Box 13"/>
          <p:cNvSpPr/>
          <p:nvPr/>
        </p:nvSpPr>
        <p:spPr>
          <a:xfrm>
            <a:off x="0" y="1643040"/>
            <a:ext cx="45007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а)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– х  + 4  = 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б) 12х -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+ 7 = 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в) 8 + 5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=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г) х –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=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д) - х +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= 15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716360" y="1714680"/>
            <a:ext cx="4427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6, в = -1, с = 4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-1, в = 12, с = 7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5, в = 0, с = 8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-6, в =1, с = 0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1, в =-1, с = -15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0" y="3333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Определите коэффициенты квадратного уравнения и запишите  их в тетрад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260280"/>
            <a:ext cx="7092720" cy="1052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8360" y="1890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129ff"/>
                </a:solidFill>
                <a:latin typeface="Comic Sans MS"/>
              </a:rPr>
              <a:t>Восстановите квадратное уравнение по его коэффициентам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14200" y="155736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) 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3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-2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85840" y="22766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1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2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5840" y="292428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3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0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14200" y="35733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4) 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-4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0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14200" y="422100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5) 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= 9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0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 -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57120" y="478620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6) 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= 3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 -4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5580000" y="1484280"/>
                <a:ext cx="2664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5580000" y="1916280"/>
                <a:ext cx="2156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5691240" y="2778120"/>
                <a:ext cx="2000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5364000" y="3357720"/>
                <a:ext cx="19256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5580000" y="4076640"/>
                <a:ext cx="1944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5"/>
              <p:cNvSpPr txBox="1"/>
              <p:nvPr/>
            </p:nvSpPr>
            <p:spPr>
              <a:xfrm>
                <a:off x="5580000" y="4724280"/>
                <a:ext cx="216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Прямоугольник 1"/>
          <p:cNvSpPr/>
          <p:nvPr/>
        </p:nvSpPr>
        <p:spPr>
          <a:xfrm>
            <a:off x="4357800" y="60148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задания консультирует учащих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Ф</cp:lastModifiedBy>
  <dcterms:modified xsi:type="dcterms:W3CDTF">2013-04-07T19:31:40Z</dcterms:modified>
  <cp:revision>44</cp:revision>
  <dc:subject/>
  <dc:title>Числовые  выражения.</dc:title>
</cp:coreProperties>
</file>