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36C82-D3F8-415A-815A-648E3FFC4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1AB36-D402-47D1-9FAC-7DB611C4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576E3-940B-4DEB-A407-99A47B7FD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28460-0671-4ABA-897F-A6483A436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245EA-9329-4938-B0D0-32C499AA0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C9CB1-D921-4F96-B39B-46F9543EB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484F6-CD89-49D9-84A5-F55FEE895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C9A4A-0BD0-4EFD-85D5-FF2AB719C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59DF7-43C4-4C16-B748-1D859DE08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9B80D-61E7-4B8F-A976-20DED89C1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24171-5A2C-4014-B86B-B4EBECE52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2BAC2-CFC4-48E9-B115-DAD23FB03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CC801-E2AF-4FF3-B4C3-7055130B5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693CB-51A2-4B0D-AD7C-75EF77DA5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B3148-C717-4C01-8304-48A61F5BA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F3AF8-EFDB-43EA-8DFA-B3EC759C7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17204-7034-48FB-BC91-45B493ADB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F1F92-EA2C-4305-9F84-3E29CC593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76607-49E8-4AC7-B760-5982AFE67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CED7B-F804-41D7-86CB-B4C05D6F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1D1A5-895A-41CA-8AFE-DF149103F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EA38-EF9A-479D-A686-0D83C54F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9AC9-AF56-49B2-A344-F4490D21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A339-0F8E-475E-A680-ADDD78A69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4C0A-E071-48B3-B97C-F360D90026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B537-F693-41F2-A4C2-35E677AE2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КУБАНЬ – МНОГОНАЦИОНАЛЬНЫЙ КРАЙ</a:t>
            </a:r>
            <a:endParaRPr b="0" lang="en-US" sz="42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МАОУ ЛИЦЕЙ № 3</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Г. КРОПОТКИН</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Роденко Л.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НЕМЦЫ</a:t>
            </a:r>
            <a:endParaRPr b="0" lang="en-US" sz="4200" spc="-1" strike="noStrike">
              <a:solidFill>
                <a:srgbClr val="ffffff"/>
              </a:solidFill>
              <a:latin typeface="Arial"/>
            </a:endParaRPr>
          </a:p>
        </p:txBody>
      </p:sp>
      <p:grpSp>
        <p:nvGrpSpPr>
          <p:cNvPr id="128" name=""/>
          <p:cNvGrpSpPr/>
          <p:nvPr/>
        </p:nvGrpSpPr>
        <p:grpSpPr>
          <a:xfrm>
            <a:off x="457200" y="1268280"/>
            <a:ext cx="3035160" cy="5400720"/>
            <a:chOff x="457200" y="1268280"/>
            <a:chExt cx="3035160" cy="5400720"/>
          </a:xfrm>
        </p:grpSpPr>
        <p:pic>
          <p:nvPicPr>
            <p:cNvPr id="129" name="" descr=""/>
            <p:cNvPicPr/>
            <p:nvPr/>
          </p:nvPicPr>
          <p:blipFill>
            <a:blip r:embed="rId1"/>
            <a:stretch/>
          </p:blipFill>
          <p:spPr>
            <a:xfrm>
              <a:off x="457200" y="1268280"/>
              <a:ext cx="3035160" cy="5400720"/>
            </a:xfrm>
            <a:prstGeom prst="rect">
              <a:avLst/>
            </a:prstGeom>
            <a:ln w="0">
              <a:noFill/>
            </a:ln>
          </p:spPr>
        </p:pic>
        <p:sp>
          <p:nvSpPr>
            <p:cNvPr id="130" name=""/>
            <p:cNvSpPr txBox="1"/>
            <p:nvPr/>
          </p:nvSpPr>
          <p:spPr>
            <a:xfrm>
              <a:off x="457200" y="1268280"/>
              <a:ext cx="3035160" cy="54007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31" name="PlaceHolder 2"/>
          <p:cNvSpPr>
            <a:spLocks noGrp="1"/>
          </p:cNvSpPr>
          <p:nvPr>
            <p:ph/>
          </p:nvPr>
        </p:nvSpPr>
        <p:spPr>
          <a:xfrm>
            <a:off x="3564000" y="1196640"/>
            <a:ext cx="54720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Немцы</a:t>
            </a:r>
            <a:r>
              <a:rPr b="0" lang="en-US" sz="1800" spc="-1" strike="noStrike">
                <a:solidFill>
                  <a:srgbClr val="000000"/>
                </a:solidFill>
                <a:latin typeface="Arial"/>
              </a:rPr>
              <a:t>. </a:t>
            </a:r>
            <a:r>
              <a:rPr b="1" lang="en-US" sz="1800" spc="-1" strike="noStrike">
                <a:solidFill>
                  <a:srgbClr val="000000"/>
                </a:solidFill>
                <a:latin typeface="Arial"/>
              </a:rPr>
              <a:t>Родной язык - немецкий германской ветви индоевропейской языковой семьи. Большинство верующих немцев – лютеране.</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Немцы –старожильческое население Кубани, первые немецкие поселения здесь относятся к середине ХIХ в.</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В годы Великой отечественной войны немцы были депортированы с территории края, в 1960-х гг. после реабилитации возвращаются в места прежнего проживания.</a:t>
            </a:r>
            <a:endParaRPr b="0" lang="en-US" sz="18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По данным переписи населения 1989 г. на территории Краснодарского края проживало 29946 немцев. На 01.01.2001г. их численность составляла 15513 человек. Уменьшение численности немецкого населения края связано с массовой миграцией на историческую родину при отрицательном естественном приросте</a:t>
            </a:r>
            <a:r>
              <a:rPr b="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КУБАНЬ СЕГОДНЯ</a:t>
            </a:r>
            <a:endParaRPr b="0" lang="en-US" sz="4200" spc="-1" strike="noStrike">
              <a:solidFill>
                <a:srgbClr val="ffffff"/>
              </a:solidFill>
              <a:latin typeface="Arial"/>
            </a:endParaRPr>
          </a:p>
        </p:txBody>
      </p:sp>
      <p:grpSp>
        <p:nvGrpSpPr>
          <p:cNvPr id="133" name=""/>
          <p:cNvGrpSpPr/>
          <p:nvPr/>
        </p:nvGrpSpPr>
        <p:grpSpPr>
          <a:xfrm>
            <a:off x="609480" y="1600200"/>
            <a:ext cx="3889440" cy="4419720"/>
            <a:chOff x="609480" y="1600200"/>
            <a:chExt cx="3889440" cy="4419720"/>
          </a:xfrm>
        </p:grpSpPr>
        <p:pic>
          <p:nvPicPr>
            <p:cNvPr id="134" name="" descr=""/>
            <p:cNvPicPr/>
            <p:nvPr/>
          </p:nvPicPr>
          <p:blipFill>
            <a:blip r:embed="rId1"/>
            <a:stretch/>
          </p:blipFill>
          <p:spPr>
            <a:xfrm>
              <a:off x="609480" y="1600200"/>
              <a:ext cx="3889440" cy="4419720"/>
            </a:xfrm>
            <a:prstGeom prst="rect">
              <a:avLst/>
            </a:prstGeom>
            <a:ln w="0">
              <a:noFill/>
            </a:ln>
          </p:spPr>
        </p:pic>
        <p:sp>
          <p:nvSpPr>
            <p:cNvPr id="135" name=""/>
            <p:cNvSpPr txBox="1"/>
            <p:nvPr/>
          </p:nvSpPr>
          <p:spPr>
            <a:xfrm>
              <a:off x="609480" y="1600200"/>
              <a:ext cx="38894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36"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Кубани  расположены знаменитые Анапа, Туапсе, Геленджик и, конечно же, Сочи — столица будущих ХIV зимних Олимпийских игр. Эти места вызывают ассоциации с отдыхом, отпусками, морем и ласковым солнце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КУБАНЬ СЕГОДНЯ</a:t>
            </a:r>
            <a:endParaRPr b="0" lang="en-US" sz="4200" spc="-1" strike="noStrike">
              <a:solidFill>
                <a:srgbClr val="ffffff"/>
              </a:solidFill>
              <a:latin typeface="Arial"/>
            </a:endParaRPr>
          </a:p>
        </p:txBody>
      </p:sp>
      <p:grpSp>
        <p:nvGrpSpPr>
          <p:cNvPr id="138" name=""/>
          <p:cNvGrpSpPr/>
          <p:nvPr/>
        </p:nvGrpSpPr>
        <p:grpSpPr>
          <a:xfrm>
            <a:off x="609480" y="1600200"/>
            <a:ext cx="3889440" cy="4419720"/>
            <a:chOff x="609480" y="1600200"/>
            <a:chExt cx="3889440" cy="4419720"/>
          </a:xfrm>
        </p:grpSpPr>
        <p:pic>
          <p:nvPicPr>
            <p:cNvPr id="139" name="" descr=""/>
            <p:cNvPicPr/>
            <p:nvPr/>
          </p:nvPicPr>
          <p:blipFill>
            <a:blip r:embed="rId1"/>
            <a:stretch/>
          </p:blipFill>
          <p:spPr>
            <a:xfrm>
              <a:off x="609480" y="1600200"/>
              <a:ext cx="3889440" cy="4419720"/>
            </a:xfrm>
            <a:prstGeom prst="rect">
              <a:avLst/>
            </a:prstGeom>
            <a:ln w="0">
              <a:noFill/>
            </a:ln>
          </p:spPr>
        </p:pic>
        <p:sp>
          <p:nvSpPr>
            <p:cNvPr id="140" name=""/>
            <p:cNvSpPr txBox="1"/>
            <p:nvPr/>
          </p:nvSpPr>
          <p:spPr>
            <a:xfrm>
              <a:off x="609480" y="1600200"/>
              <a:ext cx="38894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41"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Но Кубань менее всего рифмуется с беззаботностью и праздностью. Это край- работяга, где производят зерно, выращивают для всей страны фрукты и овощи, развивают портовое хозяйство, машиностроение, туристический бизне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Послесловие</a:t>
            </a: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ятимиллионная многонациональная Кубань по сравнению с другими регионами выглядит спокойно в плане межнациональной терпимости. Так сложилось, что исторически на территории Краснодарского края проживают представители более чем 124 этнических общностей. На Кубани осуществляют свою деятельность 105 национально-культурных общественных организаций. Среди них не выявлено организаций крайне радикальной, экстремистской направленности.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анализировав межнациональную обстановку в крае, специалисты утверждают, что осложнить состояние межнациональных отношений и спровоцировать экстремистские действия может близость Кубани к горячим точкам, неблагоприятная социально-экономическая обстановка. Кроме того, в связи с предстоящей Олимпиадой 2014 года происходит активизация различных радикально настроенных организаций и групп, провоцирующих антиобщественные настроения.</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 нас на Кубани случаи проявления национальной ненависти единичны, но они все-таки есть. Анализ показал неоднозначность мнений и оценок в отношении кубанской молодежи к экстремизму". Большинство за мир и согласие между народам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Многонациональность Краснодарского края</a:t>
            </a:r>
            <a:endParaRPr b="0" lang="en-US" sz="3800" spc="-1" strike="noStrike">
              <a:solidFill>
                <a:srgbClr val="ffffff"/>
              </a:solidFill>
              <a:latin typeface="Arial"/>
            </a:endParaRPr>
          </a:p>
        </p:txBody>
      </p:sp>
      <p:sp>
        <p:nvSpPr>
          <p:cNvPr id="94" name="PlaceHolder 2"/>
          <p:cNvSpPr>
            <a:spLocks noGrp="1"/>
          </p:cNvSpPr>
          <p:nvPr>
            <p:ph/>
          </p:nvPr>
        </p:nvSpPr>
        <p:spPr>
          <a:xfrm>
            <a:off x="4648320" y="1413000"/>
            <a:ext cx="4038480" cy="47131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убань – один из самых многонациональных регионов Российской Федерации. Современный этнический состав населения Кубани начал складываться со второй половины XVIII в. Особенно интенсивно процесс формирования протекал во второй половине ХIХ в, получив новый толчок в 70-90-е гг. ХХ в. На сегодняшний день здесь проживают свыше ста народов, различных по языку, хозяйственно-культурному типу, быту, традициям, вероисповеданию. Наиболее многочисленные группы населения: русские – 4 миллиона 3000 тысяч, украинцы – 200 тысяч, белорусы – 38 тысяч, греки - 30 тысяч, армяне - свыше 240 тысяч. Проживают на территории края абхазы, адыги, корейцы, азербайджанцы, немцы, поляки, кубанские казаки, крымские татары и др.</a:t>
            </a:r>
            <a:endParaRPr b="0" lang="en-US" sz="1400" spc="-1" strike="noStrike">
              <a:solidFill>
                <a:srgbClr val="000000"/>
              </a:solidFill>
              <a:latin typeface="Arial"/>
            </a:endParaRPr>
          </a:p>
        </p:txBody>
      </p:sp>
      <p:pic>
        <p:nvPicPr>
          <p:cNvPr id="95" name="" descr=""/>
          <p:cNvPicPr/>
          <p:nvPr/>
        </p:nvPicPr>
        <p:blipFill>
          <a:blip r:embed="rId1"/>
          <a:stretch/>
        </p:blipFill>
        <p:spPr>
          <a:xfrm>
            <a:off x="609480" y="2060640"/>
            <a:ext cx="3889440" cy="349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Много воды утекло со времён основания на Кубани первых казачьих поселений. И стал наш край настоящей казачьей державой. Наши прадеды крепили рубежи земли русской, растили хлеб и детей своих, пели песни и слагали стихи о красоте родного края.</a:t>
            </a:r>
            <a:endParaRPr b="0" lang="en-US" sz="1600" spc="-1" strike="noStrike">
              <a:solidFill>
                <a:srgbClr val="ffffff"/>
              </a:solidFill>
              <a:latin typeface="Arial"/>
            </a:endParaRPr>
          </a:p>
        </p:txBody>
      </p:sp>
      <p:sp>
        <p:nvSpPr>
          <p:cNvPr id="97" name="PlaceHolder 2"/>
          <p:cNvSpPr>
            <a:spLocks noGrp="1"/>
          </p:cNvSpPr>
          <p:nvPr>
            <p:ph/>
          </p:nvPr>
        </p:nvSpPr>
        <p:spPr>
          <a:xfrm>
            <a:off x="4648320" y="2060280"/>
            <a:ext cx="4038480" cy="4608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заки кубанские</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 сыночки панские</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 земли – от матушки,</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 кормильца – батюшки,</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 реки полёт их быстрый,</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 полей горячих искры:</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 – и степью разлились,</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ва -  пожаром занялись!</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тец 2. Не тростник, что ветром клонит,</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дубы, что буря ломит!</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 птенцы, что к мамке жмутся,</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орля, что в небо рвутся!</a:t>
            </a:r>
            <a:r>
              <a:rPr b="0" lang="ru-RU" sz="2000" spc="-1" strike="noStrike">
                <a:solidFill>
                  <a:srgbClr val="000000"/>
                </a:solidFill>
                <a:latin typeface="Arial"/>
              </a:rPr>
              <a:t> </a:t>
            </a:r>
            <a:endParaRPr b="0" lang="en-US" sz="2000" spc="-1" strike="noStrike">
              <a:solidFill>
                <a:srgbClr val="000000"/>
              </a:solidFill>
              <a:latin typeface="Arial"/>
            </a:endParaRPr>
          </a:p>
        </p:txBody>
      </p:sp>
      <p:grpSp>
        <p:nvGrpSpPr>
          <p:cNvPr id="98" name=""/>
          <p:cNvGrpSpPr/>
          <p:nvPr/>
        </p:nvGrpSpPr>
        <p:grpSpPr>
          <a:xfrm>
            <a:off x="689040" y="2963880"/>
            <a:ext cx="3889440" cy="2955960"/>
            <a:chOff x="689040" y="2963880"/>
            <a:chExt cx="3889440" cy="2955960"/>
          </a:xfrm>
        </p:grpSpPr>
        <p:pic>
          <p:nvPicPr>
            <p:cNvPr id="99" name="" descr=""/>
            <p:cNvPicPr/>
            <p:nvPr/>
          </p:nvPicPr>
          <p:blipFill>
            <a:blip r:embed="rId1"/>
            <a:stretch/>
          </p:blipFill>
          <p:spPr>
            <a:xfrm>
              <a:off x="689040" y="2963880"/>
              <a:ext cx="3889440" cy="2955960"/>
            </a:xfrm>
            <a:prstGeom prst="rect">
              <a:avLst/>
            </a:prstGeom>
            <a:ln w="0">
              <a:noFill/>
            </a:ln>
          </p:spPr>
        </p:pic>
        <p:sp>
          <p:nvSpPr>
            <p:cNvPr id="100" name=""/>
            <p:cNvSpPr txBox="1"/>
            <p:nvPr/>
          </p:nvSpPr>
          <p:spPr>
            <a:xfrm>
              <a:off x="689040" y="2963880"/>
              <a:ext cx="3889440" cy="295596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НЕМНОГО ИСТОРИИ</a:t>
            </a:r>
            <a:endParaRPr b="0" lang="en-US" sz="4200" spc="-1" strike="noStrike">
              <a:solidFill>
                <a:srgbClr val="ffffff"/>
              </a:solidFill>
              <a:latin typeface="Arial"/>
            </a:endParaRPr>
          </a:p>
        </p:txBody>
      </p:sp>
      <p:sp>
        <p:nvSpPr>
          <p:cNvPr id="102" name="PlaceHolder 2"/>
          <p:cNvSpPr>
            <a:spLocks noGrp="1"/>
          </p:cNvSpPr>
          <p:nvPr>
            <p:ph/>
          </p:nvPr>
        </p:nvSpPr>
        <p:spPr>
          <a:xfrm>
            <a:off x="4648320" y="1600200"/>
            <a:ext cx="4316400" cy="49975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 IV в. до н.э. Причерноморье активно обживается греческими колонистами, основавшими города-государства позже объединившиеся в Боспорское царство (VI в. до н.э.), которое на рубеже тысячелетий находилось в составе Римской империи и было разрушено кочевыми гуннскими племенами. Длительное пребывание в составе Хазарского каганата, охватывавшего территорию от Азовского моря до Каспия и от Дона до Терека, сменяется периодом византийского правления, затем - генуэзского и, наконец, турецкого владычества</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03" name="" descr=""/>
          <p:cNvPicPr/>
          <p:nvPr/>
        </p:nvPicPr>
        <p:blipFill>
          <a:blip r:embed="rId1"/>
          <a:stretch/>
        </p:blipFill>
        <p:spPr>
          <a:xfrm>
            <a:off x="324000" y="1628640"/>
            <a:ext cx="4608360" cy="42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Коренное население края</a:t>
            </a:r>
            <a:endParaRPr b="0" lang="en-US" sz="4200" spc="-1" strike="noStrike">
              <a:solidFill>
                <a:srgbClr val="ffffff"/>
              </a:solidFill>
              <a:latin typeface="Arial"/>
            </a:endParaRPr>
          </a:p>
        </p:txBody>
      </p:sp>
      <p:sp>
        <p:nvSpPr>
          <p:cNvPr id="105"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дыги – название нескольких родственных народов. На территории края проживают адыгейцы ( коренное население края), а также черкесы и кабардинцы. Представители этих народов говорят на языках абхазо-адыгский ветки северокавказской языковой семьи. По конфессиональной принадлежности, в основном, мусульмане-сунниты.</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а 01.01.2001 г. на территории Краснодарского края проживают 23762 адыга, из них 19431 адыгейца, 3597 черкесов и 734 кабардинца.</a:t>
            </a:r>
            <a:endParaRPr b="0" lang="en-US" sz="1600" spc="-1" strike="noStrike">
              <a:solidFill>
                <a:srgbClr val="000000"/>
              </a:solidFill>
              <a:latin typeface="Arial"/>
            </a:endParaRPr>
          </a:p>
        </p:txBody>
      </p:sp>
      <p:pic>
        <p:nvPicPr>
          <p:cNvPr id="106" name="" descr=""/>
          <p:cNvPicPr/>
          <p:nvPr/>
        </p:nvPicPr>
        <p:blipFill>
          <a:blip r:embed="rId1"/>
          <a:stretch/>
        </p:blipFill>
        <p:spPr>
          <a:xfrm>
            <a:off x="108000" y="2060640"/>
            <a:ext cx="489564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Вторые по численности - армяне</a:t>
            </a:r>
            <a:endParaRPr b="0" lang="en-US" sz="3800" spc="-1" strike="noStrike">
              <a:solidFill>
                <a:srgbClr val="ffffff"/>
              </a:solidFill>
              <a:latin typeface="Arial"/>
            </a:endParaRPr>
          </a:p>
        </p:txBody>
      </p:sp>
      <p:grpSp>
        <p:nvGrpSpPr>
          <p:cNvPr id="108" name=""/>
          <p:cNvGrpSpPr/>
          <p:nvPr/>
        </p:nvGrpSpPr>
        <p:grpSpPr>
          <a:xfrm>
            <a:off x="457200" y="1125360"/>
            <a:ext cx="4038480" cy="5732640"/>
            <a:chOff x="457200" y="1125360"/>
            <a:chExt cx="4038480" cy="5732640"/>
          </a:xfrm>
        </p:grpSpPr>
        <p:pic>
          <p:nvPicPr>
            <p:cNvPr id="109" name="" descr=""/>
            <p:cNvPicPr/>
            <p:nvPr/>
          </p:nvPicPr>
          <p:blipFill>
            <a:blip r:embed="rId1"/>
            <a:stretch/>
          </p:blipFill>
          <p:spPr>
            <a:xfrm>
              <a:off x="457200" y="1125360"/>
              <a:ext cx="4038480" cy="5732640"/>
            </a:xfrm>
            <a:prstGeom prst="rect">
              <a:avLst/>
            </a:prstGeom>
            <a:ln w="0">
              <a:noFill/>
            </a:ln>
          </p:spPr>
        </p:pic>
        <p:sp>
          <p:nvSpPr>
            <p:cNvPr id="110" name=""/>
            <p:cNvSpPr txBox="1"/>
            <p:nvPr/>
          </p:nvSpPr>
          <p:spPr>
            <a:xfrm>
              <a:off x="457200" y="1125360"/>
              <a:ext cx="403848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1" name="PlaceHolder 2"/>
          <p:cNvSpPr>
            <a:spLocks noGrp="1"/>
          </p:cNvSpPr>
          <p:nvPr>
            <p:ph/>
          </p:nvPr>
        </p:nvSpPr>
        <p:spPr>
          <a:xfrm>
            <a:off x="4427280" y="1197000"/>
            <a:ext cx="4716360" cy="49291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мяне – старожильческое население Кубани, среди западных адыгов издавна проживала группа так называемых черкесских армян, или черкесогаев. Говорят на армянском языке армянской ветви индоевропейской языковой семьи. По вероисповеданию – григориане.</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о второй половине Х1Х – начале ХХ века, в период геноцида армян в Турции, на Кубани расселяются малоазийские (амшенские) армяне. Следующая значительная волна миграции армян пришлась на 1980 – 1990- е годы и продолжатся до настоящего времени.</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01.01.2001г. армянское население края насчитывало 244783 человека (второе место по численности после русски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Ассирийцы</a:t>
            </a:r>
            <a:endParaRPr b="0" lang="en-US" sz="4200" spc="-1" strike="noStrike">
              <a:solidFill>
                <a:srgbClr val="ffffff"/>
              </a:solidFill>
              <a:latin typeface="Arial"/>
            </a:endParaRPr>
          </a:p>
        </p:txBody>
      </p:sp>
      <p:grpSp>
        <p:nvGrpSpPr>
          <p:cNvPr id="113" name=""/>
          <p:cNvGrpSpPr/>
          <p:nvPr/>
        </p:nvGrpSpPr>
        <p:grpSpPr>
          <a:xfrm>
            <a:off x="609480" y="1600200"/>
            <a:ext cx="4378320" cy="4419720"/>
            <a:chOff x="609480" y="1600200"/>
            <a:chExt cx="4378320" cy="4419720"/>
          </a:xfrm>
        </p:grpSpPr>
        <p:pic>
          <p:nvPicPr>
            <p:cNvPr id="114" name="" descr=""/>
            <p:cNvPicPr/>
            <p:nvPr/>
          </p:nvPicPr>
          <p:blipFill>
            <a:blip r:embed="rId1"/>
            <a:stretch/>
          </p:blipFill>
          <p:spPr>
            <a:xfrm>
              <a:off x="609480" y="1600200"/>
              <a:ext cx="4378320" cy="4419720"/>
            </a:xfrm>
            <a:prstGeom prst="rect">
              <a:avLst/>
            </a:prstGeom>
            <a:ln w="0">
              <a:noFill/>
            </a:ln>
          </p:spPr>
        </p:pic>
        <p:sp>
          <p:nvSpPr>
            <p:cNvPr id="115" name=""/>
            <p:cNvSpPr txBox="1"/>
            <p:nvPr/>
          </p:nvSpPr>
          <p:spPr>
            <a:xfrm>
              <a:off x="609480" y="1600200"/>
              <a:ext cx="437832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6"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сирийцы</a:t>
            </a:r>
            <a:r>
              <a:rPr b="0" lang="ru-RU" sz="1800" spc="-1" strike="noStrike">
                <a:solidFill>
                  <a:srgbClr val="000000"/>
                </a:solidFill>
                <a:latin typeface="Arial"/>
              </a:rPr>
              <a:t> говорят на ассирийском языке семитской ветви афразийской языковой семьи. По вероисповеданию – христиане ( православные, несториане).</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Кубани ассирийцы появляются в первые десятилетия ХХ в. В 1924 г. на территории Курганинского района образован ассирийский хутор Урмия, который остается на сегодняшний день единственным компактным поселением ассирийцев на территории Росс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Болгары</a:t>
            </a:r>
            <a:endParaRPr b="0" lang="en-US" sz="4200" spc="-1" strike="noStrike">
              <a:solidFill>
                <a:srgbClr val="ffffff"/>
              </a:solidFill>
              <a:latin typeface="Arial"/>
            </a:endParaRPr>
          </a:p>
        </p:txBody>
      </p:sp>
      <p:grpSp>
        <p:nvGrpSpPr>
          <p:cNvPr id="118" name=""/>
          <p:cNvGrpSpPr/>
          <p:nvPr/>
        </p:nvGrpSpPr>
        <p:grpSpPr>
          <a:xfrm>
            <a:off x="0" y="2060640"/>
            <a:ext cx="5003640" cy="3600360"/>
            <a:chOff x="0" y="2060640"/>
            <a:chExt cx="5003640" cy="3600360"/>
          </a:xfrm>
        </p:grpSpPr>
        <p:pic>
          <p:nvPicPr>
            <p:cNvPr id="119" name="" descr=""/>
            <p:cNvPicPr/>
            <p:nvPr/>
          </p:nvPicPr>
          <p:blipFill>
            <a:blip r:embed="rId1"/>
            <a:stretch/>
          </p:blipFill>
          <p:spPr>
            <a:xfrm>
              <a:off x="0" y="2060640"/>
              <a:ext cx="5003640" cy="3600360"/>
            </a:xfrm>
            <a:prstGeom prst="rect">
              <a:avLst/>
            </a:prstGeom>
            <a:ln w="0">
              <a:noFill/>
            </a:ln>
          </p:spPr>
        </p:pic>
        <p:sp>
          <p:nvSpPr>
            <p:cNvPr id="120" name=""/>
            <p:cNvSpPr txBox="1"/>
            <p:nvPr/>
          </p:nvSpPr>
          <p:spPr>
            <a:xfrm>
              <a:off x="0" y="2060640"/>
              <a:ext cx="5003640" cy="360036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21"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олгары</a:t>
            </a:r>
            <a:r>
              <a:rPr b="0" lang="en-US" sz="2000" spc="-1" strike="noStrike">
                <a:solidFill>
                  <a:srgbClr val="000000"/>
                </a:solidFill>
                <a:latin typeface="Arial"/>
              </a:rPr>
              <a:t> на Кубань начали переселяться во второй половине Х1Х в. главным образом с территории Украины и Молдавии, Обосновались преимущественно в окрестностях Екатеринодара, Ейска, в некоторых казачьих станицах и, особенно, на Черноморском побережье.</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о данным Всесоюзной переписи населения 1989 г. на территории края болгарское население составляло 3531 челове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ГРЕКИ</a:t>
            </a:r>
            <a:endParaRPr b="0" lang="en-US" sz="4200" spc="-1" strike="noStrike">
              <a:solidFill>
                <a:srgbClr val="ffffff"/>
              </a:solidFill>
              <a:latin typeface="Arial"/>
            </a:endParaRPr>
          </a:p>
        </p:txBody>
      </p:sp>
      <p:grpSp>
        <p:nvGrpSpPr>
          <p:cNvPr id="123" name=""/>
          <p:cNvGrpSpPr/>
          <p:nvPr/>
        </p:nvGrpSpPr>
        <p:grpSpPr>
          <a:xfrm>
            <a:off x="609480" y="1600200"/>
            <a:ext cx="3889440" cy="4419720"/>
            <a:chOff x="609480" y="1600200"/>
            <a:chExt cx="3889440" cy="4419720"/>
          </a:xfrm>
        </p:grpSpPr>
        <p:pic>
          <p:nvPicPr>
            <p:cNvPr id="124" name="" descr=""/>
            <p:cNvPicPr/>
            <p:nvPr/>
          </p:nvPicPr>
          <p:blipFill>
            <a:blip r:embed="rId1"/>
            <a:stretch/>
          </p:blipFill>
          <p:spPr>
            <a:xfrm>
              <a:off x="609480" y="1600200"/>
              <a:ext cx="3889440" cy="4419720"/>
            </a:xfrm>
            <a:prstGeom prst="rect">
              <a:avLst/>
            </a:prstGeom>
            <a:ln w="0">
              <a:noFill/>
            </a:ln>
          </p:spPr>
        </p:pic>
        <p:sp>
          <p:nvSpPr>
            <p:cNvPr id="125" name=""/>
            <p:cNvSpPr txBox="1"/>
            <p:nvPr/>
          </p:nvSpPr>
          <p:spPr>
            <a:xfrm>
              <a:off x="609480" y="1600200"/>
              <a:ext cx="38894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26" name="PlaceHolder 2"/>
          <p:cNvSpPr>
            <a:spLocks noGrp="1"/>
          </p:cNvSpPr>
          <p:nvPr>
            <p:ph/>
          </p:nvPr>
        </p:nvSpPr>
        <p:spPr>
          <a:xfrm>
            <a:off x="4648320" y="1125000"/>
            <a:ext cx="4495680" cy="547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ворят на новогреческом языке греческой ветви индоевропейской языковой семьи. По вероисповеданию – в основном православные. Небольшая группа греков еще до переселения на Кубань приняла ислам и перешла на турецкий язык. Это так называемые греки-урумы.</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вое компактное поселение греков на Кубани было основано в 1862 г. вблизи Анапы. В конце ХIХ начале ХХ в. произошло массовое переселение греков из Турции.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1930-1940-е гг. часть греков была депортирована с территории края, после реабилитации в 1950-1960-х гг. возвратилась обратно. Численность греческого населения Кубани в 1989 г. – 28337 человек. В 2001г. – 30458 челове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03:54:45Z</dcterms:created>
  <dc:creator>K111</dc:creator>
  <dc:description/>
  <dc:language>en-US</dc:language>
  <cp:lastModifiedBy>K111</cp:lastModifiedBy>
  <dcterms:modified xsi:type="dcterms:W3CDTF">2011-05-18T11:01:34Z</dcterms:modified>
  <cp:revision>3</cp:revision>
  <dc:subject/>
  <dc:title> КУБАНЬ – МНОГОНАЦИОНАЛЬНЫЙ КРАЙ</dc:title>
</cp:coreProperties>
</file>