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68D-F019-47F8-A8DC-5875BF05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1D1-21C3-4048-B0D6-13DE2347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B48-A1E9-4867-B66B-2A2417B8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A57-28C2-4A52-BA57-6DC2C1CB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2B17-D43C-4C40-BCAB-9CA6C82A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50A9-03F7-44D3-B9C9-CD5C80FF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0C9B-07D1-4C1E-9604-9897BBEA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A446-7990-48C0-AF8B-94F72245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C542-C3C4-4CAC-B9EA-4EEB36B4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16EE-11F0-4F1F-98B3-7062812C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7DE9-88AE-4D4E-9824-1DA9E219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949-6EAF-425D-90D0-77DE10B9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8C4C-9FC2-43D8-9C24-E1AE02A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2DF2-4F71-42BF-8EF3-5C6D80B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59B8-915A-4DA5-8B12-307C95B8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EBAE-CD9F-4E93-9D78-EE421137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2E69-DACF-40B0-B7D0-450014F3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61C-4E24-4BCA-B02B-AEBA30F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3C8-D7F1-47DC-972C-D6C22E5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7AC-DD57-4AF6-BB17-6055200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180-8A09-484C-8AD0-B8106999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2E3-A84E-4D20-A95A-90AD38F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CCD-1B54-48EA-AA68-9867847F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E65-C5B3-4E78-ABD9-FF00C9D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BA2-9942-4995-8481-3A55CC88E3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7832-D58E-469A-AEBA-F1522F20B2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Лексикология 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һәм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сөйләм </a:t>
            </a:r>
            <a:br>
              <a:rPr sz="4800"/>
            </a:br>
            <a:br>
              <a:rPr sz="4800"/>
            </a:b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кул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ь</a:t>
            </a: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турасы бүлеген </a:t>
            </a:r>
            <a:br>
              <a:rPr sz="4800"/>
            </a:br>
            <a:br>
              <a:rPr sz="4800"/>
            </a:b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кабатлау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Түбәндәге сүзләр белән туры һәм күчерелмә мәг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ъ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нәле сүзтезмәләр төзеп языгы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айнар, тәмле, туры, алтын, җыл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Дөреслеген тикшер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0758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кайнар а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тәмле ал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туры сызы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алтын йөз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җылы кө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кайнар яш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тәмле тел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туры сүз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алтын кул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җылы караш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“ 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Кем күбрәк ? “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Умырзая “ сүзеннән кайсы төркем мөмкин кадәр күбрәк сүзләр төз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Түбәндәге мәкал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ь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ләрдән антонимнарны тап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Хезмәтнең тире ачы булса да, җимеше тат-л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Өең кысан булса да күңелең иркен булсы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Яхшы тел –яз кебек, яман тел көз кеб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Туры әйткән котылган, ялганлаган тотыл-г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өйдергән дә - тел, биздергән дә - т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үп сүзнең азы яхш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Бирелгән сүзләрнең синонимнарын уйлап я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Зифа, өлкән, эссе, дус, са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Дөреслеген тикшер 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858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Зифа, чибәр, сылу, кәркәм, нәфис,мату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Өлкән, эре, дәү, олы, зу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Эссе, кайнар, кыз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Дус, иптәш, ахирәт, сердәш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аф, па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, керсез, чи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Омоним сүзләр белән җөмләләр төзеге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Ат – ат, җәй – җәй, көзге – көзге, йөз – йөз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Фразеологизмнарны күрсәтеге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1.телен й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2. ризыгын й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3. су й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4. чәйнәп й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1. аш пешмә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2. борчак пешмә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3. бәрәңге пешмә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4. ботка пешмә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Йомгаклау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Дәрестә нинди уку мә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әләсен чиштек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Дәрескә гомуми бәя ку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Өй эш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258 нче күнег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Антонимнар кергән табышмаклар язып ки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әйтергә тәвәкәллек кирәк,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йөрәккә ялкын үткәрә;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киптерә, төп башына терәп,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меңнәрне яуга күтәрә.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зиһенне кайрый кайрак кебек,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сафларны ипли корычтай;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көрәшкә чыга байрак кебек,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дошманны кисә кылычтай.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</a:t>
            </a:r>
            <a:r>
              <a:rPr b="1" lang="tt-RU" sz="2400" spc="-1" strike="noStrike">
                <a:solidFill>
                  <a:srgbClr val="feec94"/>
                </a:solidFill>
                <a:latin typeface="Times New Roman"/>
              </a:rPr>
              <a:t>( Г. Афзал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tt-RU" sz="36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өйләгәндә төкрек чәчмәгез. Бәлки яулык илә авызыгызны каплагыз һәм башыгызны чит тарафка чөегез.”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“Бөекләр сөйләшкәндә, сүзгә катнаш-магыз. Бер сүзне күп мәртәбә кабатла-магыз.”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tt-RU" sz="3600" spc="-1" strike="noStrike">
                <a:solidFill>
                  <a:srgbClr val="feec94"/>
                </a:solidFill>
                <a:latin typeface="Times New Roman"/>
              </a:rPr>
              <a:t>“ </a:t>
            </a: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Кем генә булсагыз да, адәм балалары белән әдәпле мөгамәлә кылыгыз.”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“ Йомшак вә мөлаем сүзле, ихласлы булыгыз.” </a:t>
            </a:r>
            <a:br>
              <a:rPr sz="3200"/>
            </a:br>
            <a:br>
              <a:rPr sz="28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</a:t>
            </a:r>
            <a:r>
              <a:rPr b="1" lang="tt-RU" sz="2400" spc="-1" strike="noStrike">
                <a:solidFill>
                  <a:srgbClr val="feec94"/>
                </a:solidFill>
                <a:latin typeface="Times New Roman"/>
              </a:rPr>
              <a:t>Р. Фәхреддин</a:t>
            </a:r>
            <a:br>
              <a:rPr sz="24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әрсә ул лексика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Лексика (грекча – сүз) – сүзләр җыелмасы. Лексика дип теге яки бу телнең сүзлек составын, җирле сөйләшләрдәге сүзләр җыелмасын</a:t>
            </a: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теге яки бу кешенең сүзләр җыел-</a:t>
            </a: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масын, әдәби әсәрнең сүзлек соста-вын атыйлар.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52360" y="1915920"/>
            <a:ext cx="96472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Лексикология” бүлеге нәрсә өйрәнә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Лексикология – телнең лексика-сын өйрәнә торган фән атамас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ексикография дип нәрсә атала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7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Телдәге сүзләрне җыю, теркәү, сүзлекләр төзү, сүзлекләрнең төрләрен өйрәнүне лексикогра-фия башка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04:56Z</dcterms:created>
  <dc:creator>1</dc:creator>
  <dc:description/>
  <dc:language>en-US</dc:language>
  <cp:lastModifiedBy>Алия Ильм</cp:lastModifiedBy>
  <dcterms:modified xsi:type="dcterms:W3CDTF">2011-02-10T05:54:20Z</dcterms:modified>
  <cp:revision>63</cp:revision>
  <dc:subject/>
  <dc:title>Слайд 1</dc:title>
</cp:coreProperties>
</file>