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3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14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15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28E9A-7DB4-48B3-A6B0-ABC4F6CC43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218F-691B-4CF9-8838-8D25AF06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0F5-11FD-47CD-897A-5D0153C9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42B6-19B4-4580-AE9E-31D11681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7C5E-6331-4DA3-9852-C26E31C9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5EA6-E75D-4BEE-9602-8BD0EC38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ABE2-E3E7-44AA-8CA5-B9A76953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D7C0-541A-4595-B0E3-361A6B79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A0D3-2F9B-46B4-860F-04F5B5E7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B8F5-EBB4-418C-AFA8-2538D36E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3040" y="748800"/>
            <a:ext cx="77770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E723-9644-4DEA-BCDE-59F5EB77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1FC1-A5A9-4217-8AF7-E81AA401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8F92-9B23-4438-87A7-0B00B0BA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12FE-D553-4E39-A770-531A029C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7203-7E41-43E9-A631-E053D566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DF73-231F-4F42-BBCF-4F1878FF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78B8-B09E-4C9D-AA19-B794606D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102C-AA09-4073-B7BE-F24C880A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196C7-EB9F-4B43-B37D-5F67C5A5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9E7CA-B7F8-43C5-8B6F-9E68CD95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301D7-8279-44CB-9750-D10604A8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A1745-18B9-48CF-BA10-C14CB91C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B803D-3C37-421B-ADAF-E0876CB9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9E70-C928-43D7-9737-46CC58F1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33040" y="748800"/>
            <a:ext cx="77770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EDE28-A6ED-47EA-8ABE-77525930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FD796-17AF-4545-ADC8-7B0A98C5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FA9AA-7488-4DD9-B0EB-502EB52D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AE4E6-6ED1-4C50-A5CA-B57A1350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EC9F5-AB0E-4C88-977E-C0855004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BA57F-177F-4F61-A8D4-73F88DC8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E54A0-2009-463F-8975-79845DB3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57453-B810-4831-8C3D-47968F7F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8BCBC-0D2C-4680-A18D-24188B76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5D47B-D7AB-41ED-AC08-C9E55444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68C-637C-4C00-B9B7-1BC5F8DA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536EB-448A-483D-B3BA-CC0FF5AC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349BC-DC55-4988-8648-C94E90CB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833040" y="748800"/>
            <a:ext cx="77770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236E5-A374-4EA1-BC91-1F106BEA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AB7EE-03EF-4BB5-B66E-97A133FF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15DBE-6D61-407E-A23B-A23C4155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1D077-7BA0-453B-9321-CCC91EC8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279DC-7B1B-434D-80C8-B4A4D68B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C3560-D363-4600-B480-C43D3141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43800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8280" y="236232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83772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43800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8280" y="4305960"/>
            <a:ext cx="247608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1E5DD-E538-4E20-BCE0-E04FE72C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66E5-A54D-4BBC-88FA-CA037EC6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040" y="748800"/>
            <a:ext cx="77770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410-2A92-4CFE-A403-663F4CC1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5ADA-A2C7-4B1A-9544-ADA87643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8280" y="430596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2F5-C7AB-47CE-9D5E-379A174B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8280" y="2362320"/>
            <a:ext cx="375264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5960"/>
            <a:ext cx="768996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973-571F-4F1E-A7B4-E9F77050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7920" y="6248160"/>
            <a:ext cx="21272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160"/>
            <a:ext cx="2894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38800"/>
            <a:ext cx="583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47AA4-F68A-450C-AB3F-CFEBFD4123B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7920" y="6248160"/>
            <a:ext cx="21272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160"/>
            <a:ext cx="2894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45280"/>
            <a:ext cx="583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3CCDD7-1EF9-48B1-B2AC-A44522ABF989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720"/>
            <a:ext cx="766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5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6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99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3040" y="748800"/>
            <a:ext cx="7777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99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7920" y="6248160"/>
            <a:ext cx="21272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160"/>
            <a:ext cx="2894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84240" y="6238800"/>
            <a:ext cx="583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E100A4-0DD9-4BAB-A622-F195C9DBFE37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3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dt" idx="10"/>
          </p:nvPr>
        </p:nvSpPr>
        <p:spPr>
          <a:xfrm>
            <a:off x="2437920" y="6248160"/>
            <a:ext cx="21272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ftr" idx="11"/>
          </p:nvPr>
        </p:nvSpPr>
        <p:spPr>
          <a:xfrm>
            <a:off x="5790960" y="6248160"/>
            <a:ext cx="2894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12"/>
          </p:nvPr>
        </p:nvSpPr>
        <p:spPr>
          <a:xfrm>
            <a:off x="76320" y="6245280"/>
            <a:ext cx="583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529801-620A-45CE-A02A-5164D48979FA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title"/>
          </p:nvPr>
        </p:nvSpPr>
        <p:spPr>
          <a:xfrm>
            <a:off x="964800" y="1269720"/>
            <a:ext cx="7669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Аннотац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Презентация разработана для урока математики в 7классе по  теме «Линейная функция» с целью обобщения и систематизации знаний учащих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учителями математик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                                         </a:t>
            </a: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Евстафьева Н.Н. МОУ «СОШ №35»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                                         </a:t>
            </a: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Мокшина Е.В. МОУ «Лицей №31»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                                         </a:t>
            </a:r>
            <a:r>
              <a:rPr b="1" i="1" lang="en-GB" sz="2000" spc="-1" strike="noStrike">
                <a:solidFill>
                  <a:srgbClr val="008000"/>
                </a:solidFill>
                <a:latin typeface="Arial"/>
              </a:rPr>
              <a:t>Свешникова А.Г. МОУ «СОШ №27»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724360" y="1159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9311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Работа по график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64000" y="2349000"/>
            <a:ext cx="3780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). Что можно сказать про график данной функции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). Как бы вы назвали эту функцию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0" t="0" r="0" b="4460"/>
          <a:stretch/>
        </p:blipFill>
        <p:spPr>
          <a:xfrm>
            <a:off x="755640" y="2781360"/>
            <a:ext cx="4716360" cy="338292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1042920" y="3065040"/>
            <a:ext cx="4249800" cy="2838600"/>
            <a:chOff x="1042920" y="3065040"/>
            <a:chExt cx="4249800" cy="2838600"/>
          </a:xfrm>
        </p:grpSpPr>
        <p:sp>
          <p:nvSpPr>
            <p:cNvPr id="227" name=""/>
            <p:cNvSpPr/>
            <p:nvPr/>
          </p:nvSpPr>
          <p:spPr>
            <a:xfrm flipV="1">
              <a:off x="1042920" y="3425760"/>
              <a:ext cx="1008000" cy="10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50920" y="3429000"/>
              <a:ext cx="1325520" cy="24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376440" y="3065040"/>
              <a:ext cx="1916280" cy="283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dur="indefinite" fill="hold">
                      <p:stCondLst>
                        <p:cond delay="0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dur="indefinite" fill="hold">
                            <p:stCondLst>
                              <p:cond delay="640"/>
                            </p:stCondLst>
                            <p:childTnLst>
                              <p:par>
                                <p:cTn id="26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dur="indefinite" fill="hold">
                            <p:stCondLst>
                              <p:cond delay="1140"/>
                            </p:stCondLst>
                            <p:childTnLst>
                              <p:par>
                                <p:cTn id="27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dur="indefinite" fill="hold">
                            <p:stCondLst>
                              <p:cond delay="1640"/>
                            </p:stCondLst>
                            <p:childTnLst>
                              <p:par>
                                <p:cTn id="27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dur="indefinite" fill="hold">
                            <p:stCondLst>
                              <p:cond delay="2640"/>
                            </p:stCondLst>
                            <p:childTnLst>
                              <p:par>
                                <p:cTn id="28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Самостоятельная работа</a:t>
            </a:r>
            <a:br>
              <a:rPr sz="3600"/>
            </a:b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В.1.                                                  В.2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2362320"/>
            <a:ext cx="769320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Самостоятельная работа</a:t>
            </a:r>
            <a:br>
              <a:rPr sz="3600"/>
            </a:b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В.1.                                                  В.2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dur="indefinite" fill="hold">
                      <p:stCondLst>
                        <p:cond delay="0"/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3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32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Домашняя работ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Домашняя раб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dur="indefinite" fill="hold">
                      <p:stCondLst>
                        <p:cond delay="0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Тема урока:</a:t>
            </a:r>
            <a:br>
              <a:rPr sz="3200"/>
            </a:br>
            <a:br>
              <a:rPr sz="3200"/>
            </a:br>
            <a:r>
              <a:rPr b="0" i="1" lang="en-GB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 rot="1140000">
            <a:off x="1766520" y="2704680"/>
            <a:ext cx="4654440" cy="3049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инейная функ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0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Цель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Обобщить и систематизировать знания учащихся по теме «Линейная функция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Выработать способности обобщать частные случа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Формировать графическую культуру и навыки  самостоятельной работы учащихс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0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Устная раб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00000" y="2349360"/>
            <a:ext cx="79106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. Выделить из данных функций линейны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)  у=4х+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6) у = -5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)  У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7) у = -х-1,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)  у=1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8) у = 4х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5х-1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)  y=x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8                      9) у =      - 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)  у=х(х+3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588000" y="31464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979640" y="3141720"/>
                <a:ext cx="2779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003640" y="4005360"/>
                <a:ext cx="2494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0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 fill="hold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Устная раб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I. Среди выделенных функци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6600" indent="-6066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у=4х;          6) у=-5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6600" indent="-6066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У=х/7;         7) у=-х-1,7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6600" indent="-6066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У=11;          9) у=1/7х-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6600" indent="0"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назвать те, графики которых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6600" indent="0"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а) параллельны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6600" indent="0"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б) образуют острый угол с осью О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fill="hold">
                      <p:stCondLst>
                        <p:cond delay="0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Устная раб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II. Выяснит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а) принадлежат ли графику функци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у=1/7х-3 точки А(-7;-4)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В(-14;9)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С(8;-3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б) проходит ли прямая у=1/7х-3 через точку В(-14;9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0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Устная раб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76720" y="2852640"/>
            <a:ext cx="36720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Используя графи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а)найти значения функций при х=1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при х=-3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б)сравнить значения функций при х=0; х=1; х=-2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68360" y="4581360"/>
            <a:ext cx="1800" cy="1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63640" y="4581360"/>
            <a:ext cx="1800" cy="1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10653" t="4526" r="16170" b="18535"/>
          <a:stretch/>
        </p:blipFill>
        <p:spPr>
          <a:xfrm>
            <a:off x="826920" y="2637000"/>
            <a:ext cx="4248360" cy="393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dur="indefinite" fill="hold">
                      <p:stCondLst>
                        <p:cond delay="0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 fill="hold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Задач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280" y="2421000"/>
            <a:ext cx="7201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Задач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dur="indefinite" fill="hold">
                      <p:stCondLst>
                        <p:cond delay="0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«Сообрази»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«Сообрази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0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ма</dc:creator>
  <dc:description/>
  <dc:language>en-US</dc:language>
  <cp:lastModifiedBy>мама</cp:lastModifiedBy>
  <cp:revision>0</cp:revision>
  <dc:subject/>
  <dc:title>Тема урока:  «Линейная функция»</dc:title>
</cp:coreProperties>
</file>