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14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15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091F5-0E51-4A2D-AB08-9F03987CCF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1B6-D154-45D2-A031-FC798D18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3FC-815C-4798-B48D-0500D029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3983-3BD8-4836-AFFF-99FBD129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B75-AFA0-4019-A4C9-2F9CD72E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7799-D21D-4510-BC6A-81143116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A2B3-35D7-4EA4-9ACF-DA8205F2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16DC-4255-4ADD-A17D-85540586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6ED3-E4EA-4038-B155-76ACE8DD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F1BC-F178-467E-82CB-EB74FB9F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3040" y="748800"/>
            <a:ext cx="77770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915D-369D-4EE7-A56D-FC7A1746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4E19-1030-4D10-87AE-A0907A8B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1E9-181E-437B-9CB2-FAF1542C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AFAE-5CB0-4A58-B072-34A5E1C1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F891-491E-4C36-98FD-5E7DD6F1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AA45-3C76-4038-8A80-A9B3DAD8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88F9-419D-4B54-BC96-AC8B12A6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1E6F-F11F-442B-A571-1006364D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5C077-6BC6-4527-877C-EC88131D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436DE-B5AD-4E63-83CF-DFDA990D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F0265-B70A-46D2-B1F1-43C9C67D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DE276-1FBE-4BDA-838E-22509B65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FA972-9FB6-4E89-87D2-650FD9FB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F77-06A1-4DE8-A145-0C04D51A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33040" y="748800"/>
            <a:ext cx="77770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30B2C-BA00-4862-8561-5E32985E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FD141-3F4E-466E-9FC2-69A54349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7AB46-10FC-42C4-AC0C-82F070F1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8C5E0-8192-4181-9519-747609E7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5B486-25C4-4FEC-8F3F-E52C7199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019D8-415B-4518-95F2-9397FEA7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C95A5-4761-47A8-8C83-602265B7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A47F1-8F25-45AE-A2F5-48B3D560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E2EA3-A991-42F5-B6AE-3AAA8BC4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2E491-D4C6-4AEB-A61B-84E08CE4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5231-4429-4CF1-9105-3B2012C0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C73C8-FC28-48E2-8316-289E4D33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873F4-B848-4F6F-9784-21F0D6EB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833040" y="748800"/>
            <a:ext cx="77770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88ED2-ACA4-462C-8F37-C433392D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621D7-C0CE-458C-A15B-A0EE34D7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95DA8-EBB9-4A82-B63D-F74B714B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1AD79-370C-4617-B67B-E3B0A2C8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678CB-2779-4BDD-B181-D69B0D37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ECA04-B114-4987-9F94-41ADED28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927D0-0524-4C1A-AF6B-88EEFF26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37A1-67B8-4048-8B66-A5A8F010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040" y="748800"/>
            <a:ext cx="77770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782-3520-4911-B658-2B0FC538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E8B-4378-450A-8E88-0F498F57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5565-DF12-4618-A9E2-ADF32E4A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7A2B-8523-4757-BA2C-888FB01F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7920" y="6248160"/>
            <a:ext cx="21272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160"/>
            <a:ext cx="2894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38800"/>
            <a:ext cx="583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340B5-7F3F-48F8-AC4D-C58FCA6F948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7920" y="6248160"/>
            <a:ext cx="21272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160"/>
            <a:ext cx="2894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45280"/>
            <a:ext cx="583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B3F5EF-58BB-4F9B-AE14-651556A80161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720"/>
            <a:ext cx="766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5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6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9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7920" y="6248160"/>
            <a:ext cx="21272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160"/>
            <a:ext cx="2894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84240" y="6238800"/>
            <a:ext cx="583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F888B7-9330-4D69-83E1-ECDE3815082E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3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dt" idx="10"/>
          </p:nvPr>
        </p:nvSpPr>
        <p:spPr>
          <a:xfrm>
            <a:off x="2437920" y="6248160"/>
            <a:ext cx="21272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ftr" idx="11"/>
          </p:nvPr>
        </p:nvSpPr>
        <p:spPr>
          <a:xfrm>
            <a:off x="5790960" y="6248160"/>
            <a:ext cx="2894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12"/>
          </p:nvPr>
        </p:nvSpPr>
        <p:spPr>
          <a:xfrm>
            <a:off x="76320" y="6245280"/>
            <a:ext cx="583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98C4BC-ED27-41F4-8094-9A6FAD6BBF0F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title"/>
          </p:nvPr>
        </p:nvSpPr>
        <p:spPr>
          <a:xfrm>
            <a:off x="964800" y="1269720"/>
            <a:ext cx="766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Аннотац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Презентация разработана для урока математики в 7классе по  теме «Линейная функция» с целью обобщения и систематизации знаний учащих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учителями математик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                                         </a:t>
            </a: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Евстафьева Н.Н. МОУ «СОШ №35»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                                         </a:t>
            </a: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Мокшина Е.В. МОУ «Лицей №31»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                                         </a:t>
            </a: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Свешникова А.Г. МОУ «СОШ №27»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724360" y="1159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9311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Работа по график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64000" y="2349000"/>
            <a:ext cx="3780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). Что можно сказать про график данной функции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). Как бы вы назвали эту функцию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0" t="0" r="0" b="4460"/>
          <a:stretch/>
        </p:blipFill>
        <p:spPr>
          <a:xfrm>
            <a:off x="755640" y="2781360"/>
            <a:ext cx="4716360" cy="338292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1042920" y="3065040"/>
            <a:ext cx="4249800" cy="2838600"/>
            <a:chOff x="1042920" y="3065040"/>
            <a:chExt cx="4249800" cy="2838600"/>
          </a:xfrm>
        </p:grpSpPr>
        <p:sp>
          <p:nvSpPr>
            <p:cNvPr id="227" name=""/>
            <p:cNvSpPr/>
            <p:nvPr/>
          </p:nvSpPr>
          <p:spPr>
            <a:xfrm flipV="1">
              <a:off x="1042920" y="3425760"/>
              <a:ext cx="1008000" cy="10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50920" y="3429000"/>
              <a:ext cx="1325520" cy="24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376440" y="3065040"/>
              <a:ext cx="1916280" cy="283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dur="indefinite" fill="hold">
                      <p:stCondLst>
                        <p:cond delay="0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dur="indefinite" fill="hold">
                            <p:stCondLst>
                              <p:cond delay="640"/>
                            </p:stCondLst>
                            <p:childTnLst>
                              <p:par>
                                <p:cTn id="26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dur="indefinite" fill="hold">
                            <p:stCondLst>
                              <p:cond delay="1140"/>
                            </p:stCondLst>
                            <p:childTnLst>
                              <p:par>
                                <p:cTn id="27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dur="indefinite" fill="hold">
                            <p:stCondLst>
                              <p:cond delay="1640"/>
                            </p:stCondLst>
                            <p:childTnLst>
                              <p:par>
                                <p:cTn id="27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dur="indefinite" fill="hold">
                            <p:stCondLst>
                              <p:cond delay="2640"/>
                            </p:stCondLst>
                            <p:childTnLst>
                              <p:par>
                                <p:cTn id="28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Самостоятельная работа</a:t>
            </a:r>
            <a:br>
              <a:rPr sz="3600"/>
            </a:b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В.1.                                                  В.2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2362320"/>
            <a:ext cx="769320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Самостоятельная работа</a:t>
            </a:r>
            <a:br>
              <a:rPr sz="3600"/>
            </a:b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В.1.                                                  В.2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dur="indefinite" fill="hold">
                      <p:stCondLst>
                        <p:cond delay="0"/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3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32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Домашняя работ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Домашняя раб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dur="indefinite" fill="hold">
                      <p:stCondLst>
                        <p:cond delay="0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Тема урока:</a:t>
            </a:r>
            <a:br>
              <a:rPr sz="3200"/>
            </a:br>
            <a:br>
              <a:rPr sz="3200"/>
            </a:br>
            <a:r>
              <a:rPr b="0" i="1" lang="en-GB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 rot="1140000">
            <a:off x="1766520" y="2704680"/>
            <a:ext cx="4654440" cy="3049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инейная функ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0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Цель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Обобщить и систематизировать знания учащихся по теме «Линейная функция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Выработать способности обобщать частные случа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Формировать графическую культуру и навыки  самостоятельной работы учащих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0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Устная раб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00000" y="2349360"/>
            <a:ext cx="79106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. Выделить из данных функций линей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)  у=4х+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6) у = -5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)  У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7) у = -х-1,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)  у=1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8) у = 4х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5х-1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)  y=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8                      9) у =      - 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)  у=х(х+3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588000" y="31464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979640" y="3141720"/>
                <a:ext cx="2779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003640" y="4005360"/>
                <a:ext cx="2494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0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 fill="hold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Устная раб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I. Среди выделенных функц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6600" indent="-6066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у=4х;          6) у=-5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6600" indent="-6066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У=х/7;         7) у=-х-1,7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6600" indent="-6066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У=11;          9) у=1/7х-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6600" indent="0"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назвать те, графики которых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6600" indent="0"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а) параллельн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6600" indent="0"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б) образуют острый угол с осью О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0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Устная раб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II. Выяснит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а) принадлежат ли графику функци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у=1/7х-3 точки А(-7;-4)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В(-14;9)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С(8;-3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б) проходит ли прямая у=1/7х-3 через точку В(-14;9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0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Устная раб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76720" y="2852640"/>
            <a:ext cx="36720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Используя графи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а)найти значения функций при х=1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при х=-3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б)сравнить значения функций при х=0; х=1; х=-2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68360" y="4581360"/>
            <a:ext cx="1800" cy="1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63640" y="4581360"/>
            <a:ext cx="1800" cy="1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10653" t="4526" r="16170" b="18535"/>
          <a:stretch/>
        </p:blipFill>
        <p:spPr>
          <a:xfrm>
            <a:off x="826920" y="2637000"/>
            <a:ext cx="4248360" cy="393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dur="indefinite" fill="hold">
                      <p:stCondLst>
                        <p:cond delay="0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Задач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280" y="2421000"/>
            <a:ext cx="7201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Задач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dur="indefinite" fill="hold">
                      <p:stCondLst>
                        <p:cond delay="0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«Сообрази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«Сообрази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0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ма</dc:creator>
  <dc:description/>
  <dc:language>en-US</dc:language>
  <cp:lastModifiedBy>мама</cp:lastModifiedBy>
  <cp:revision>0</cp:revision>
  <dc:subject/>
  <dc:title>Тема урока:  «Линейная функция»</dc:title>
</cp:coreProperties>
</file>