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7F9E-F875-47A7-908B-2DF26659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10D0-B830-4A25-B290-F9F00DDA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BB02-3EB5-4836-83A0-1C25EF47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CA62-CAE7-4BFA-9C84-F5AA2FA8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6D95-B4DB-40EC-A080-1E5C5B09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20AA-8952-4F71-9B26-141E08DB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1853-D3CE-455F-B808-69B8DD9B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FAC5-CE7B-48F3-B9DE-A6A1B0A2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4CE9-0BCC-4FC7-A226-A5D14C0A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F572-E474-4840-9163-670E44F3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C503-9C26-4963-8CB2-2B01B9BB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6452-FE7A-4650-8193-897AB07D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1D5F-30F3-4FCB-B557-398E8D9F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EE4D-857E-4F0A-B5A4-71B6DC07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7FC6-F733-44E9-9E92-5F4B4CBE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076A-5B9E-4C9C-9582-0C4A75B3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E5D7-6101-4189-B36E-5F8810A2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F7522C-F8F5-4690-9038-BA4A8745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F88AC3-453A-459F-BDE1-B508F427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64EF6B-24E1-482F-A1CE-B0169C18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C37C5E-C914-458A-900F-8DCC9EED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D48E48-E557-465D-9574-EE4FEC07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7EE4-B9C7-4769-A38F-B1EEADE9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DCB171-1EDC-41ED-9F50-D668A2F6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87E492-2FD8-412B-BE71-2177D241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0F3D94-3303-4B68-81A5-62DB2D00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6834A4-144F-4FFF-8644-825A7BCB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D6E1A-244C-42BC-B500-CD1E09C4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C9ACC1-A522-45A4-B323-569F8683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F70345-939F-4E4E-A97C-9A5F8D2E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94BC-81D0-4521-B0D0-76628C8C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968E-09EE-4A69-999D-908A4887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D64B-9725-40BB-922D-45EC85CF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D31C-5A3A-45F5-A250-C0ED6ADB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4953-C9A3-42DF-8A5D-25C7C44F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CDC2-9C47-45B5-98AE-6EF24BAE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D319-1A63-4261-8FE8-C340E656E1F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E5E9-988C-48A4-A5FE-066A9A0B73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C950-A778-469E-90C2-1564C6D688F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14 ноября.</a:t>
            </a:r>
            <a:br>
              <a:rPr sz="4400"/>
            </a:b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Классная работа.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ешение неравенств методом интервал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1]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;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½]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-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3)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7; 1,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]              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бота по учебнику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3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34 в),г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Tahoma"/>
              </a:rPr>
              <a:t>Задание (готовимся к экзамену по алгебре)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йти все значения параметра а, при которых неравенство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+(2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+4)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+1≤0 не имеет реш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Решени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График функции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+(2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+4)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+1 – парабола, ветви которой направлены вверх. Значит, данное неравенство не имеет решений в том и только том случае, если вся парабола расположена в верхней полуплоск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сюда следует, что дискриминант квадратного трехчлена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+(2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+4)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+1 должен быть отрицателен. Имеем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(a+2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(8a+1)=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4a+3&lt;0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6300720" y="3141720"/>
            <a:ext cx="3384720" cy="2057400"/>
            <a:chOff x="6300720" y="3141720"/>
            <a:chExt cx="3384720" cy="2057400"/>
          </a:xfrm>
        </p:grpSpPr>
        <p:sp>
          <p:nvSpPr>
            <p:cNvPr id="162" name="AutoShape 5"/>
            <p:cNvSpPr/>
            <p:nvPr/>
          </p:nvSpPr>
          <p:spPr>
            <a:xfrm>
              <a:off x="6300720" y="3141720"/>
              <a:ext cx="338472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6"/>
            <p:cNvSpPr/>
            <p:nvPr/>
          </p:nvSpPr>
          <p:spPr>
            <a:xfrm flipV="1">
              <a:off x="7827120" y="3340440"/>
              <a:ext cx="0" cy="12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7428960" y="4070880"/>
              <a:ext cx="11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7974000" y="3713760"/>
              <a:ext cx="232200" cy="226800"/>
            </a:xfrm>
            <a:custGeom>
              <a:avLst/>
              <a:gdLst/>
              <a:ahLst/>
              <a:rect l="l" t="t" r="r" b="b"/>
              <a:pathLst>
                <a:path w="630" h="617">
                  <a:moveTo>
                    <a:pt x="0" y="15"/>
                  </a:moveTo>
                  <a:cubicBezTo>
                    <a:pt x="55" y="115"/>
                    <a:pt x="240" y="617"/>
                    <a:pt x="345" y="615"/>
                  </a:cubicBezTo>
                  <a:cubicBezTo>
                    <a:pt x="450" y="613"/>
                    <a:pt x="571" y="128"/>
                    <a:pt x="63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шим квадратное неравенство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4a+3&lt;0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метим на координатной прямой нули функци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=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4a+3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(а-1)(а-3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 теореме обратной теореме Виета а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+а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4, а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3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1, а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вет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&lt;a&lt;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1042920" y="53737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1403280" y="5300640"/>
            <a:ext cx="71640" cy="122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2340000" y="5300640"/>
            <a:ext cx="71280" cy="122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26072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219744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901080" y="5013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1693800" y="5300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2917440" y="5013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342144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Freeform 14"/>
          <p:cNvSpPr/>
          <p:nvPr/>
        </p:nvSpPr>
        <p:spPr>
          <a:xfrm>
            <a:off x="679320" y="4978440"/>
            <a:ext cx="797040" cy="438120"/>
          </a:xfrm>
          <a:custGeom>
            <a:avLst/>
            <a:gdLst/>
            <a:ahLst/>
            <a:rect l="l" t="t" r="r" b="b"/>
            <a:pathLst>
              <a:path w="502" h="276">
                <a:moveTo>
                  <a:pt x="0" y="10"/>
                </a:moveTo>
                <a:cubicBezTo>
                  <a:pt x="42" y="15"/>
                  <a:pt x="181" y="0"/>
                  <a:pt x="259" y="39"/>
                </a:cubicBezTo>
                <a:cubicBezTo>
                  <a:pt x="337" y="78"/>
                  <a:pt x="430" y="216"/>
                  <a:pt x="466" y="246"/>
                </a:cubicBezTo>
                <a:cubicBezTo>
                  <a:pt x="502" y="276"/>
                  <a:pt x="472" y="223"/>
                  <a:pt x="473" y="2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Freeform 15"/>
          <p:cNvSpPr/>
          <p:nvPr/>
        </p:nvSpPr>
        <p:spPr>
          <a:xfrm>
            <a:off x="1403280" y="5362560"/>
            <a:ext cx="911160" cy="330120"/>
          </a:xfrm>
          <a:custGeom>
            <a:avLst/>
            <a:gdLst/>
            <a:ahLst/>
            <a:rect l="l" t="t" r="r" b="b"/>
            <a:pathLst>
              <a:path w="574" h="208">
                <a:moveTo>
                  <a:pt x="0" y="19"/>
                </a:moveTo>
                <a:cubicBezTo>
                  <a:pt x="48" y="50"/>
                  <a:pt x="194" y="208"/>
                  <a:pt x="290" y="205"/>
                </a:cubicBezTo>
                <a:cubicBezTo>
                  <a:pt x="386" y="202"/>
                  <a:pt x="515" y="43"/>
                  <a:pt x="57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Freeform 16"/>
          <p:cNvSpPr/>
          <p:nvPr/>
        </p:nvSpPr>
        <p:spPr>
          <a:xfrm>
            <a:off x="2387520" y="5003640"/>
            <a:ext cx="1032120" cy="339840"/>
          </a:xfrm>
          <a:custGeom>
            <a:avLst/>
            <a:gdLst/>
            <a:ahLst/>
            <a:rect l="l" t="t" r="r" b="b"/>
            <a:pathLst>
              <a:path w="650" h="214">
                <a:moveTo>
                  <a:pt x="0" y="214"/>
                </a:moveTo>
                <a:cubicBezTo>
                  <a:pt x="46" y="183"/>
                  <a:pt x="168" y="70"/>
                  <a:pt x="276" y="35"/>
                </a:cubicBezTo>
                <a:cubicBezTo>
                  <a:pt x="384" y="0"/>
                  <a:pt x="572" y="12"/>
                  <a:pt x="650" y="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ahoma"/>
              </a:rPr>
              <a:t>Например: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 =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гд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(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+4)x+8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+1≤0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8x+17≤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16-17=-1&lt;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и а=2 неравенство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+(2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+4)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+1≤0 не имеет реш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дведение итогов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омашнее задание: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2. п15, стр. 88 (алгебра,9 класс, под ред. С. А. Теляковског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33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335 а), б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Для творчески мыслящих учащихся дополнительное задание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Найдите все значения параметра а, при которых неравенство  -х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+(2а+6)х-7а-1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&lt;0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выполняется для любых 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верка знаний, умений и навыков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риант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ари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 (х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1)(х+5)≥0;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а) (х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4)(х+7)≤0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–(х-1)(5-х)(х+20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0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) –(х-2)(9-х)(х+10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extBox 3" descr=""/>
          <p:cNvPicPr/>
          <p:nvPr/>
        </p:nvPicPr>
        <p:blipFill>
          <a:blip r:embed="rId1"/>
          <a:stretch/>
        </p:blipFill>
        <p:spPr>
          <a:xfrm>
            <a:off x="414360" y="1816200"/>
            <a:ext cx="8229600" cy="379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учающа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репление и систематизация знаний при решении неравенств методом интерв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ить знания, умения, навыки учащихся по теме «Решение неравенств с одной переменно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звивающа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устойчивого интереса к предме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логики и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оспитательна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ние уверенности в своих сил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ния владеть собой, выдерж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ние коллективизма, чувства значимости своей работ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верка домашнего задания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2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) х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-48;37)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42;+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)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-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 -0,7)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2,8; 9,2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-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18)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19; +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)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-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 -0,9)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3,2;+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)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[-3;8,5]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) х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[0,3; 8]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35. Верно ли записан ответ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) х</a:t>
            </a:r>
            <a:r>
              <a:rPr b="0" lang="ru-RU" sz="4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-7;21]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4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-4,7; 7,2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5280" y="99216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мотрим функцию      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(x)=(x-x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(x-x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…(x-x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,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переменная, числа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,х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,…,х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ули функции. Область определения функции разбивается нулями на промежутки, в каждом из которых функция сохраняет свой знак, а при переходе через нули ее знак меня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свойство используется для решения неравенств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x-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)(x-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)…(x-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)&gt;0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x-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)(x-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)…(x-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)&lt;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Актуализация опорных знаний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ahoma"/>
              </a:rPr>
              <a:t>Повторение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шить неравенство (х+8)(х-5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0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используя метод интервал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Найдем нули функции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=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х+8)(х-5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+8=0 или х-5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=-8            х=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 Отметим на координатной прямой нули функции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=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х+8)(х-5), т.е. точки -8 и 5, и укажем знаки функции в образовавшихся промежутка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&gt;0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 х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-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-8)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5;+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твет: х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-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-8)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5;+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2050920" y="5661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"/>
          <p:cNvSpPr/>
          <p:nvPr/>
        </p:nvSpPr>
        <p:spPr>
          <a:xfrm>
            <a:off x="2484360" y="5661000"/>
            <a:ext cx="73080" cy="7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6"/>
          <p:cNvSpPr/>
          <p:nvPr/>
        </p:nvSpPr>
        <p:spPr>
          <a:xfrm>
            <a:off x="3492360" y="5661000"/>
            <a:ext cx="73080" cy="7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343600" y="56610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346920" y="5661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Freeform 12"/>
          <p:cNvSpPr/>
          <p:nvPr/>
        </p:nvSpPr>
        <p:spPr>
          <a:xfrm>
            <a:off x="1652760" y="5261040"/>
            <a:ext cx="868320" cy="388800"/>
          </a:xfrm>
          <a:custGeom>
            <a:avLst/>
            <a:gdLst/>
            <a:ahLst/>
            <a:rect l="l" t="t" r="r" b="b"/>
            <a:pathLst>
              <a:path w="547" h="245">
                <a:moveTo>
                  <a:pt x="0" y="9"/>
                </a:moveTo>
                <a:cubicBezTo>
                  <a:pt x="55" y="14"/>
                  <a:pt x="242" y="0"/>
                  <a:pt x="333" y="39"/>
                </a:cubicBezTo>
                <a:cubicBezTo>
                  <a:pt x="424" y="78"/>
                  <a:pt x="503" y="202"/>
                  <a:pt x="547" y="2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Freeform 15"/>
          <p:cNvSpPr/>
          <p:nvPr/>
        </p:nvSpPr>
        <p:spPr>
          <a:xfrm>
            <a:off x="2521080" y="5624640"/>
            <a:ext cx="1071360" cy="417240"/>
          </a:xfrm>
          <a:custGeom>
            <a:avLst/>
            <a:gdLst/>
            <a:ahLst/>
            <a:rect l="l" t="t" r="r" b="b"/>
            <a:pathLst>
              <a:path w="675" h="263">
                <a:moveTo>
                  <a:pt x="0" y="61"/>
                </a:moveTo>
                <a:cubicBezTo>
                  <a:pt x="49" y="95"/>
                  <a:pt x="191" y="263"/>
                  <a:pt x="295" y="260"/>
                </a:cubicBezTo>
                <a:cubicBezTo>
                  <a:pt x="399" y="257"/>
                  <a:pt x="579" y="80"/>
                  <a:pt x="627" y="40"/>
                </a:cubicBezTo>
                <a:cubicBezTo>
                  <a:pt x="675" y="0"/>
                  <a:pt x="591" y="23"/>
                  <a:pt x="582" y="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Freeform 16"/>
          <p:cNvSpPr/>
          <p:nvPr/>
        </p:nvSpPr>
        <p:spPr>
          <a:xfrm>
            <a:off x="3564000" y="5243400"/>
            <a:ext cx="1312920" cy="417600"/>
          </a:xfrm>
          <a:custGeom>
            <a:avLst/>
            <a:gdLst/>
            <a:ahLst/>
            <a:rect l="l" t="t" r="r" b="b"/>
            <a:pathLst>
              <a:path w="827" h="263">
                <a:moveTo>
                  <a:pt x="0" y="263"/>
                </a:moveTo>
                <a:cubicBezTo>
                  <a:pt x="60" y="226"/>
                  <a:pt x="224" y="84"/>
                  <a:pt x="362" y="42"/>
                </a:cubicBezTo>
                <a:cubicBezTo>
                  <a:pt x="500" y="0"/>
                  <a:pt x="730" y="19"/>
                  <a:pt x="827" y="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4375440" y="5300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2843280" y="5661000"/>
            <a:ext cx="2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1927440" y="5300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4786920" y="55897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Разложите на множители выраже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169;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17-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1;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)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4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каких значениях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меет смысл выраже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1          б)  1       в) √х+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х-1,         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+3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1187280" y="5229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3348000" y="522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>
            <a:off x="5364000" y="47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зминка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Решить неравенств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)х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≥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0; б) х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2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0;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) (х+1)(х+3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≤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 г) (3-х)(х+5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0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д) (2х-3)(х+7)≤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Track No02.mp3" descr=""/>
          <p:cNvPicPr/>
          <p:nvPr/>
        </p:nvPicPr>
        <p:blipFill>
          <a:blip r:embed="rId1"/>
          <a:stretch/>
        </p:blipFill>
        <p:spPr>
          <a:xfrm>
            <a:off x="32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303395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0:14:09Z</dcterms:created>
  <dc:creator>3</dc:creator>
  <dc:description/>
  <dc:language>en-US</dc:language>
  <cp:lastModifiedBy>Марина</cp:lastModifiedBy>
  <dcterms:modified xsi:type="dcterms:W3CDTF">2013-04-07T07:30:06Z</dcterms:modified>
  <cp:revision>7</cp:revision>
  <dc:subject/>
  <dc:title>14 ноября. Классная работа.</dc:title>
</cp:coreProperties>
</file>