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943-8E21-4667-A31A-808D057E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B41-3DA7-47F1-B3C9-2F43B605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1AF-AD6C-44DD-96E0-C7944997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588-ACA4-4646-8761-31EB497F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B244-B24E-4048-B901-33BD70BA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78C1-9B86-46FC-ACB5-0B22273D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5CBD-DF2D-4DA3-B14B-7628C995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707E-48A6-4A11-A90E-BF51089B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6A8D-2FD7-4892-8E95-7452CF66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CB55-B4C3-4F7C-8AAC-743A713A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A31-0057-4EE3-BB52-00D0D4CF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7C7-2C6F-4F17-BD3F-2EE168B8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2F07-9134-45F7-A0C9-B7EEBFA3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C78B-09CB-4132-92E9-B6BA416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5368-06A7-41A9-9B6E-18C5E0F0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99EA-EA4F-4F88-A542-E41945EF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066F-441A-4911-AE52-CD179AF6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9F235-9108-4BAC-B795-D1BEABD7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1223C-686B-4CE8-A609-7668F738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B2701-EA1F-4B47-896E-0172B54A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C2A67-7642-4A6A-BF08-51848371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68526-5FF7-4A55-ABA4-272659BE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861-1642-4893-BD15-7E0E04DA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A429C-AB8D-414A-804E-BE214D09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8F079-9152-4E4E-B10A-B091C9E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D40A9-4645-48A6-98BB-39BE35D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3CA33-1A72-432E-BC78-CB5286A0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E06AB-C2C2-4079-B394-59E716F1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CCDCA-BA10-4F60-9628-8828D988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B9300-0BDA-45F0-BA06-96194F8B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79E-2994-4A1A-A376-96926D59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12D-D186-416C-8BD1-9572543F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96B-6DA7-4B1E-BC4C-806D0917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0F8-3224-4CEC-ACBD-5D7BCC73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E2F-B2E3-4CA7-8E3E-AD8CDD44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819-5AF2-4CA9-A66D-24A53A5B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62EF-6BEA-4B19-8F25-B456356B87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0260-4135-4A3F-B37C-9F7965A4CB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B20B-3E17-4A41-9803-7CCE48454A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14 ноября.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лассная работа.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шение неравенств методом интервал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1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½]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-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3)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7; 1,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            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а по учебнику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3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34 в),г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Задание (готовимся к экзамену по алгебре)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йти все значения параметра а, при которых неравенство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4)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1≤0 не имеет ре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График функци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4)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1 – парабола, ветви которой направлены вверх. Значит, данное неравенство не имеет решений в том и только том случае, если вся парабола расположена в верхней полуплоск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сюда следует, что дискриминант квадратного трехчле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4)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1 должен быть отрицателен. Имеем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(a+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(8a+1)=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4a+3&lt;0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300720" y="3141720"/>
            <a:ext cx="3384720" cy="2057400"/>
            <a:chOff x="6300720" y="3141720"/>
            <a:chExt cx="3384720" cy="2057400"/>
          </a:xfrm>
        </p:grpSpPr>
        <p:sp>
          <p:nvSpPr>
            <p:cNvPr id="162" name="AutoShape 5"/>
            <p:cNvSpPr/>
            <p:nvPr/>
          </p:nvSpPr>
          <p:spPr>
            <a:xfrm>
              <a:off x="6300720" y="3141720"/>
              <a:ext cx="338472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7827120" y="3340440"/>
              <a:ext cx="0" cy="12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7428960" y="4070880"/>
              <a:ext cx="11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7974000" y="3713760"/>
              <a:ext cx="232200" cy="226800"/>
            </a:xfrm>
            <a:custGeom>
              <a:avLst/>
              <a:gdLst/>
              <a:ahLst/>
              <a:rect l="l" t="t" r="r" b="b"/>
              <a:pathLst>
                <a:path w="630" h="617">
                  <a:moveTo>
                    <a:pt x="0" y="15"/>
                  </a:moveTo>
                  <a:cubicBezTo>
                    <a:pt x="55" y="115"/>
                    <a:pt x="240" y="617"/>
                    <a:pt x="345" y="615"/>
                  </a:cubicBezTo>
                  <a:cubicBezTo>
                    <a:pt x="450" y="613"/>
                    <a:pt x="571" y="128"/>
                    <a:pt x="63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шим квадратное неравенство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a+3&lt;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метим на координатной прямой нули функци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a+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(а-1)(а-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теореме обратной теореме Виета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4,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3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1,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&lt;a&lt;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1042920" y="5373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1403280" y="5300640"/>
            <a:ext cx="71640" cy="12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2340000" y="5300640"/>
            <a:ext cx="71280" cy="12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26072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19744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901080" y="501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693800" y="5300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917440" y="501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342144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14"/>
          <p:cNvSpPr/>
          <p:nvPr/>
        </p:nvSpPr>
        <p:spPr>
          <a:xfrm>
            <a:off x="679320" y="4978440"/>
            <a:ext cx="797040" cy="438120"/>
          </a:xfrm>
          <a:custGeom>
            <a:avLst/>
            <a:gdLst/>
            <a:ahLst/>
            <a:rect l="l" t="t" r="r" b="b"/>
            <a:pathLst>
              <a:path w="502" h="276">
                <a:moveTo>
                  <a:pt x="0" y="10"/>
                </a:moveTo>
                <a:cubicBezTo>
                  <a:pt x="42" y="15"/>
                  <a:pt x="181" y="0"/>
                  <a:pt x="259" y="39"/>
                </a:cubicBezTo>
                <a:cubicBezTo>
                  <a:pt x="337" y="78"/>
                  <a:pt x="430" y="216"/>
                  <a:pt x="466" y="246"/>
                </a:cubicBezTo>
                <a:cubicBezTo>
                  <a:pt x="502" y="276"/>
                  <a:pt x="472" y="223"/>
                  <a:pt x="473" y="2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Freeform 15"/>
          <p:cNvSpPr/>
          <p:nvPr/>
        </p:nvSpPr>
        <p:spPr>
          <a:xfrm>
            <a:off x="1403280" y="5362560"/>
            <a:ext cx="911160" cy="330120"/>
          </a:xfrm>
          <a:custGeom>
            <a:avLst/>
            <a:gdLst/>
            <a:ahLst/>
            <a:rect l="l" t="t" r="r" b="b"/>
            <a:pathLst>
              <a:path w="574" h="208">
                <a:moveTo>
                  <a:pt x="0" y="19"/>
                </a:moveTo>
                <a:cubicBezTo>
                  <a:pt x="48" y="50"/>
                  <a:pt x="194" y="208"/>
                  <a:pt x="290" y="205"/>
                </a:cubicBezTo>
                <a:cubicBezTo>
                  <a:pt x="386" y="202"/>
                  <a:pt x="515" y="43"/>
                  <a:pt x="5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reeform 16"/>
          <p:cNvSpPr/>
          <p:nvPr/>
        </p:nvSpPr>
        <p:spPr>
          <a:xfrm>
            <a:off x="2387520" y="5003640"/>
            <a:ext cx="1032120" cy="339840"/>
          </a:xfrm>
          <a:custGeom>
            <a:avLst/>
            <a:gdLst/>
            <a:ahLst/>
            <a:rect l="l" t="t" r="r" b="b"/>
            <a:pathLst>
              <a:path w="650" h="214">
                <a:moveTo>
                  <a:pt x="0" y="214"/>
                </a:moveTo>
                <a:cubicBezTo>
                  <a:pt x="46" y="183"/>
                  <a:pt x="168" y="70"/>
                  <a:pt x="276" y="35"/>
                </a:cubicBezTo>
                <a:cubicBezTo>
                  <a:pt x="384" y="0"/>
                  <a:pt x="572" y="12"/>
                  <a:pt x="650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Например: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 =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+4)x+8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+1≤0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8x+17≤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6-17=-1&l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 а=2 неравенств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4)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1≤0 не имеет реш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ведение итогов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2. п15, стр. 88 (алгебра,9 класс, под ред. С. А. Теляковског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3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335 а), 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Для творчески мыслящих учащихся дополнительное задание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Найдите все значения параметра а, при которых неравенство  -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+(2а+6)х-7а-1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lt;0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выполняется для любых 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верка знаний, умений и навыков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риант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ари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(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1)(х+5)≥0;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а) (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4)(х+7)≤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–(х-1)(5-х)(х+20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0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–(х-2)(9-х)(х+10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extBox 3" descr=""/>
          <p:cNvPicPr/>
          <p:nvPr/>
        </p:nvPicPr>
        <p:blipFill>
          <a:blip r:embed="rId1"/>
          <a:stretch/>
        </p:blipFill>
        <p:spPr>
          <a:xfrm>
            <a:off x="414360" y="1816200"/>
            <a:ext cx="8229600" cy="37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учающ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епление и систематизация знаний при решении неравенств методом интерв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ить знания, умения, навыки учащихся по теме «Решение неравенств с одной переменн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вивающ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устойчивого интереса к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логики 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уверенности в своих сил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я владеть собой, выдерж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коллективизма, чувства значимости своей рабо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верка домашнего задания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-48;37)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42;+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-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-0,7)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2,8; 9,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-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18)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9; +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-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-0,9)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3,2;+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-3;8,5]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) 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0,3; 8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35. Верно ли записан отве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х</a:t>
            </a:r>
            <a:r>
              <a:rPr b="0" lang="ru-RU" sz="4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-7;21]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4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-4,7; 7,2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992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м функцию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x)=(x-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(x-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…(x-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,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еременная, числа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х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…,х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ули функции. Область определения функции разбивается нулями на промежутки, в каждом из которых функция сохраняет свой знак, а при переходе через нули ее знак 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войство используется для решения неравенств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…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&gt;0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…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&lt;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ктуализация опорных знаний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Повторение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ить неравенство (х+8)(х-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спользуя метод интервал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Найдем нул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х+8)(х-5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+8=0 или х-5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=-8            х=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Отметим на координатной прямой нул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х+8)(х-5), т.е. точки -8 и 5, и укажем знаки функции в образовавшихся промежутк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&gt;0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 х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-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-8)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5;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: х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-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-8)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5;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050920" y="5661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484360" y="5661000"/>
            <a:ext cx="7308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3492360" y="5661000"/>
            <a:ext cx="7308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343600" y="5661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46920" y="566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2"/>
          <p:cNvSpPr/>
          <p:nvPr/>
        </p:nvSpPr>
        <p:spPr>
          <a:xfrm>
            <a:off x="1652760" y="5261040"/>
            <a:ext cx="868320" cy="388800"/>
          </a:xfrm>
          <a:custGeom>
            <a:avLst/>
            <a:gdLst/>
            <a:ahLst/>
            <a:rect l="l" t="t" r="r" b="b"/>
            <a:pathLst>
              <a:path w="547" h="245">
                <a:moveTo>
                  <a:pt x="0" y="9"/>
                </a:moveTo>
                <a:cubicBezTo>
                  <a:pt x="55" y="14"/>
                  <a:pt x="242" y="0"/>
                  <a:pt x="333" y="39"/>
                </a:cubicBezTo>
                <a:cubicBezTo>
                  <a:pt x="424" y="78"/>
                  <a:pt x="503" y="202"/>
                  <a:pt x="547" y="2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2521080" y="5624640"/>
            <a:ext cx="1071360" cy="417240"/>
          </a:xfrm>
          <a:custGeom>
            <a:avLst/>
            <a:gdLst/>
            <a:ahLst/>
            <a:rect l="l" t="t" r="r" b="b"/>
            <a:pathLst>
              <a:path w="675" h="263">
                <a:moveTo>
                  <a:pt x="0" y="61"/>
                </a:moveTo>
                <a:cubicBezTo>
                  <a:pt x="49" y="95"/>
                  <a:pt x="191" y="263"/>
                  <a:pt x="295" y="260"/>
                </a:cubicBezTo>
                <a:cubicBezTo>
                  <a:pt x="399" y="257"/>
                  <a:pt x="579" y="80"/>
                  <a:pt x="627" y="40"/>
                </a:cubicBezTo>
                <a:cubicBezTo>
                  <a:pt x="675" y="0"/>
                  <a:pt x="591" y="23"/>
                  <a:pt x="582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Freeform 16"/>
          <p:cNvSpPr/>
          <p:nvPr/>
        </p:nvSpPr>
        <p:spPr>
          <a:xfrm>
            <a:off x="3564000" y="5243400"/>
            <a:ext cx="1312920" cy="417600"/>
          </a:xfrm>
          <a:custGeom>
            <a:avLst/>
            <a:gdLst/>
            <a:ahLst/>
            <a:rect l="l" t="t" r="r" b="b"/>
            <a:pathLst>
              <a:path w="827" h="263">
                <a:moveTo>
                  <a:pt x="0" y="263"/>
                </a:moveTo>
                <a:cubicBezTo>
                  <a:pt x="60" y="226"/>
                  <a:pt x="224" y="84"/>
                  <a:pt x="362" y="42"/>
                </a:cubicBezTo>
                <a:cubicBezTo>
                  <a:pt x="500" y="0"/>
                  <a:pt x="730" y="19"/>
                  <a:pt x="827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4375440" y="530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843280" y="566100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1927440" y="530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4786920" y="558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Разложите на множители выра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169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17-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1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4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каких значениях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меет смысл выра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1          б)  1       в) √х+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х-1,         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3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1187280" y="522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3348000" y="522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5364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минк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ешить неравенств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≥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; б) 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2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0;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(х+1)(х+3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≤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 г) (3-х)(х+5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0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) (2х-3)(х+7)≤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Track No02.mp3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30339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0:14:09Z</dcterms:created>
  <dc:creator>3</dc:creator>
  <dc:description/>
  <dc:language>en-US</dc:language>
  <cp:lastModifiedBy>Марина</cp:lastModifiedBy>
  <dcterms:modified xsi:type="dcterms:W3CDTF">2013-04-07T07:30:06Z</dcterms:modified>
  <cp:revision>7</cp:revision>
  <dc:subject/>
  <dc:title>14 ноября. Классная работа.</dc:title>
</cp:coreProperties>
</file>