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687-A02A-47DF-8DD9-E9288E72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056-39F0-4858-9E66-A5AD042D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8B0-9B57-4E6F-9BF0-95ECDAC7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057-555D-4D19-A3A7-22BEDFA7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4D3-06ED-4213-8784-C1FCFADB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D47-CBDA-4584-A4F1-67849A9C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B4A-5380-4EDD-A059-69D09DDC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83-9A4D-43FB-8079-981645E6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E49-A65D-4920-BBDB-736E1C55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494-0AA2-4093-A117-9ABD2BB2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542-9E74-49AC-A871-CB51231E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AAF-47EF-4DEC-B491-A6A5A8F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ACF77A-6703-42BD-BF11-A72C005CF4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99680" y="-360"/>
            <a:ext cx="8643960" cy="64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0" name="Picture 2" descr="F:\Новая папка (2)\ыв.tif"/>
          <p:cNvPicPr/>
          <p:nvPr/>
        </p:nvPicPr>
        <p:blipFill>
          <a:blip r:embed="rId1"/>
          <a:stretch/>
        </p:blipFill>
        <p:spPr>
          <a:xfrm>
            <a:off x="533520" y="0"/>
            <a:ext cx="4190760" cy="642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Новая папка (2)\гш.tif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4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7</cp:lastModifiedBy>
  <dcterms:modified xsi:type="dcterms:W3CDTF">2013-04-07T20:21:25Z</dcterms:modified>
  <cp:revision>28</cp:revision>
  <dc:subject/>
  <dc:title>Роль ПНПО в развитии (модернизации) образования страны</dc:title>
</cp:coreProperties>
</file>