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5E4-F9F6-4E6B-95C6-A257DD14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11C-2345-41E0-8EDF-99A58FFF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8DD-B06E-43A5-B358-DC6167F2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889-45E5-4356-AB02-2A31B91F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C82-5966-478F-8E4C-6A63A03F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7CB-42F5-4419-AE06-F2642521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B7D-F9C2-4EE3-918B-A61C48A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255-6FE5-47E0-884F-40E22CE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788-077B-4393-8A36-7FFD867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BC5-8AA3-43E6-8142-7812240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0F1-3702-4B36-82EA-B89826C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8AB-5B8B-49B5-AB2F-86B71AE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0585DE-3E71-4FFC-9B80-DDB3DD4C28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99680" y="-360"/>
            <a:ext cx="8643960" cy="64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0" name="Picture 2" descr="F:\Новая папка (2)\ыв.tif"/>
          <p:cNvPicPr/>
          <p:nvPr/>
        </p:nvPicPr>
        <p:blipFill>
          <a:blip r:embed="rId1"/>
          <a:stretch/>
        </p:blipFill>
        <p:spPr>
          <a:xfrm>
            <a:off x="533520" y="0"/>
            <a:ext cx="4190760" cy="642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F:\Новая папка (2)\гш.tif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21:25Z</dcterms:modified>
  <cp:revision>28</cp:revision>
  <dc:subject/>
  <dc:title>Роль ПНПО в развитии (модернизации) образования страны</dc:title>
</cp:coreProperties>
</file>