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5F3-9102-4F59-9BEB-8BD4E5BE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FEEA-DED7-42EC-BB27-F0ECFAF6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124-0E08-4211-80DD-19832023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F96-E33C-4BA1-9159-66F41A0C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B98-EFE4-4A6F-88E8-2E018A89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3FE-CEDF-451F-AF34-026F7E95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7488-0797-4425-AF12-10C6BE9B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D21-0F90-45BE-A764-DC2D88BB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527F-BF2D-4134-8A2F-A7650A9E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3C61-48D7-4450-A00C-34B9AD43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B29-F33A-4C80-BA46-897D04E9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BEE-18C2-400A-A38A-C09507E6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3B646E-576B-4B90-B371-E647F4ABE2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0720" y="139680"/>
            <a:ext cx="775008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8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10" name="Picture 4" descr="H:\Новая папка (2)\ьб.tif"/>
          <p:cNvPicPr/>
          <p:nvPr/>
        </p:nvPicPr>
        <p:blipFill>
          <a:blip r:embed="rId1"/>
          <a:stretch/>
        </p:blipFill>
        <p:spPr>
          <a:xfrm>
            <a:off x="214776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0720" y="-7920"/>
            <a:ext cx="7750080" cy="68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12" name="Picture 4" descr="H:\Новая папка (2)\жд.tif"/>
          <p:cNvPicPr/>
          <p:nvPr/>
        </p:nvPicPr>
        <p:blipFill>
          <a:blip r:embed="rId1"/>
          <a:stretch/>
        </p:blipFill>
        <p:spPr>
          <a:xfrm>
            <a:off x="2114640" y="0"/>
            <a:ext cx="491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20720" y="139680"/>
            <a:ext cx="775008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14" name="Picture 4" descr="H:\Новая папка (2)\пр.tif"/>
          <p:cNvPicPr/>
          <p:nvPr/>
        </p:nvPicPr>
        <p:blipFill>
          <a:blip r:embed="rId1"/>
          <a:stretch/>
        </p:blipFill>
        <p:spPr>
          <a:xfrm>
            <a:off x="2127240" y="0"/>
            <a:ext cx="4889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7</cp:lastModifiedBy>
  <dcterms:modified xsi:type="dcterms:W3CDTF">2013-04-07T18:40:38Z</dcterms:modified>
  <cp:revision>30</cp:revision>
  <dc:subject/>
  <dc:title>Роль ПНПО в развитии (модернизации) образования страны</dc:title>
</cp:coreProperties>
</file>