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BF6-98CB-43E5-B157-4F36C92F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F73-78F7-434C-B782-90B5268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C43-4A97-48A6-AE0E-E2E46ACD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FEF-C1D0-4A30-8FCA-5DEB1284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30C-BFD9-49EE-96B9-D90C2541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489-E772-4260-8550-94B64880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676-7B92-4A64-9529-CAB3682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4C9-0C9F-496D-B992-6DF1F31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610-7C92-410D-990F-7912513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01D-A743-4BBE-8FAD-D9B6086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908-28A3-4874-B4E1-A168747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A0A-595E-4B8D-AC4C-910330A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8B4F2-0F27-4607-BA19-4D714B7FD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0" name="Picture 4" descr="H:\Новая папка (2)\ьб.tif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-7920"/>
            <a:ext cx="7750080" cy="68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2" name="Picture 4" descr="H:\Новая папка (2)\жд.tif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4" name="Picture 4" descr="H:\Новая папка (2)\пр.tif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40:38Z</dcterms:modified>
  <cp:revision>30</cp:revision>
  <dc:subject/>
  <dc:title>Роль ПНПО в развитии (модернизации) образования страны</dc:title>
</cp:coreProperties>
</file>