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55D-A393-430D-9438-3EA514E1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181-6641-4F9C-92E2-F7E66569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BB3-FF4E-4DA5-A0C8-C603FEE1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C78-B537-4132-BA69-9EB782584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6DF-1C53-4391-A0B7-323052D4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93C-1E23-4017-9A85-7C1EE063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C248-30D3-4922-93DD-44D2E9A3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160-73CC-474B-954F-CC841529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D86-E99D-4FAC-9832-95C9495F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0351-C8B3-46D6-AF4B-AF06ADA4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A2F-6B21-4F8B-AB92-5A903A2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3A0-B94A-419E-B85D-C626334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A33CB1-0C82-4E9E-856F-A746904105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14480"/>
            <a:ext cx="7940880" cy="674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0" name="Рисунок 3" descr="H:\Новая папка (2)\яч.tif"/>
          <p:cNvPicPr/>
          <p:nvPr/>
        </p:nvPicPr>
        <p:blipFill>
          <a:blip r:embed="rId1"/>
          <a:stretch/>
        </p:blipFill>
        <p:spPr>
          <a:xfrm>
            <a:off x="2127240" y="0"/>
            <a:ext cx="4889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0360" y="84240"/>
            <a:ext cx="8367840" cy="6773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2" name="Рисунок 3" descr="H:\Новая папка (2)\ит.tif"/>
          <p:cNvPicPr/>
          <p:nvPr/>
        </p:nvPicPr>
        <p:blipFill>
          <a:blip r:embed="rId1"/>
          <a:stretch/>
        </p:blipFill>
        <p:spPr>
          <a:xfrm>
            <a:off x="2128680" y="0"/>
            <a:ext cx="4886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4" name="Picture 4" descr="H:\Новая папка (2)\чс.tif"/>
          <p:cNvPicPr/>
          <p:nvPr/>
        </p:nvPicPr>
        <p:blipFill>
          <a:blip r:embed="rId1"/>
          <a:stretch/>
        </p:blipFill>
        <p:spPr>
          <a:xfrm>
            <a:off x="2130480" y="0"/>
            <a:ext cx="4883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67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800" spc="-1" strike="noStrike">
              <a:solidFill>
                <a:srgbClr val="b80047"/>
              </a:solidFill>
              <a:latin typeface="Arial"/>
            </a:endParaRPr>
          </a:p>
        </p:txBody>
      </p:sp>
      <p:pic>
        <p:nvPicPr>
          <p:cNvPr id="226" name="Picture 4" descr="H:\Новая папка (2)\ми.tif"/>
          <p:cNvPicPr/>
          <p:nvPr/>
        </p:nvPicPr>
        <p:blipFill>
          <a:blip r:embed="rId1"/>
          <a:stretch/>
        </p:blipFill>
        <p:spPr>
          <a:xfrm>
            <a:off x="4264200" y="0"/>
            <a:ext cx="48798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H:\Новая папка (2)\см.tif"/>
          <p:cNvPicPr/>
          <p:nvPr/>
        </p:nvPicPr>
        <p:blipFill>
          <a:blip r:embed="rId2"/>
          <a:stretch/>
        </p:blipFill>
        <p:spPr>
          <a:xfrm>
            <a:off x="0" y="0"/>
            <a:ext cx="4862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0360" y="0"/>
            <a:ext cx="7759800" cy="68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9" name="Picture 4" descr="H:\Новая папка (2)\ть.tif"/>
          <p:cNvPicPr/>
          <p:nvPr/>
        </p:nvPicPr>
        <p:blipFill>
          <a:blip r:embed="rId1"/>
          <a:stretch/>
        </p:blipFill>
        <p:spPr>
          <a:xfrm>
            <a:off x="2124000" y="0"/>
            <a:ext cx="4896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09928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4" descr="H:\Новая папка (2)\бю.tif"/>
          <p:cNvPicPr/>
          <p:nvPr/>
        </p:nvPicPr>
        <p:blipFill>
          <a:blip r:embed="rId1"/>
          <a:stretch/>
        </p:blipFill>
        <p:spPr>
          <a:xfrm>
            <a:off x="2120760" y="0"/>
            <a:ext cx="4902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18:39:20Z</dcterms:modified>
  <cp:revision>31</cp:revision>
  <dc:subject/>
  <dc:title>Роль ПНПО в развитии (модернизации) образования страны</dc:title>
</cp:coreProperties>
</file>