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94A-0FBE-4FB0-BDA3-7340442F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FC2-1573-4569-BCA5-FD2155AD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C4E-DC08-4419-A32F-4C6BFD6D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552-ADEB-47FA-986B-EF25F3EF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2D1-8D26-4FD0-A89C-68A89AE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126-9C69-4D18-96C9-7D2331D1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9AA-0217-402E-9132-B006679B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68B-CA9D-4C4F-A41D-8DAE8482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691-C11B-4091-ACB2-1900F293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D61-C5BA-4DAF-B6DF-F87DEFB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FD8-2AD9-4DA0-92E8-0C018CF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E74-6E84-4A6F-B7EF-80A2F1E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1BD723-5876-4479-9505-BA5662F9F6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14480"/>
            <a:ext cx="7940880" cy="674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0" name="Рисунок 3" descr="H:\Новая папка (2)\яч.tif"/>
          <p:cNvPicPr/>
          <p:nvPr/>
        </p:nvPicPr>
        <p:blipFill>
          <a:blip r:embed="rId1"/>
          <a:stretch/>
        </p:blipFill>
        <p:spPr>
          <a:xfrm>
            <a:off x="212724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84240"/>
            <a:ext cx="8367840" cy="6773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2" name="Рисунок 3" descr="H:\Новая папка (2)\ит.tif"/>
          <p:cNvPicPr/>
          <p:nvPr/>
        </p:nvPicPr>
        <p:blipFill>
          <a:blip r:embed="rId1"/>
          <a:stretch/>
        </p:blipFill>
        <p:spPr>
          <a:xfrm>
            <a:off x="2128680" y="0"/>
            <a:ext cx="4886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0720" y="184320"/>
            <a:ext cx="774864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4" name="Picture 4" descr="H:\Новая папка (2)\чс.tif"/>
          <p:cNvPicPr/>
          <p:nvPr/>
        </p:nvPicPr>
        <p:blipFill>
          <a:blip r:embed="rId1"/>
          <a:stretch/>
        </p:blipFill>
        <p:spPr>
          <a:xfrm>
            <a:off x="2130480" y="0"/>
            <a:ext cx="488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b80047"/>
              </a:solidFill>
              <a:latin typeface="Arial"/>
            </a:endParaRPr>
          </a:p>
        </p:txBody>
      </p:sp>
      <p:pic>
        <p:nvPicPr>
          <p:cNvPr id="226" name="Picture 4" descr="H:\Новая папка (2)\ми.tif"/>
          <p:cNvPicPr/>
          <p:nvPr/>
        </p:nvPicPr>
        <p:blipFill>
          <a:blip r:embed="rId1"/>
          <a:stretch/>
        </p:blipFill>
        <p:spPr>
          <a:xfrm>
            <a:off x="4264200" y="0"/>
            <a:ext cx="48798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H:\Новая папка (2)\см.tif"/>
          <p:cNvPicPr/>
          <p:nvPr/>
        </p:nvPicPr>
        <p:blipFill>
          <a:blip r:embed="rId2"/>
          <a:stretch/>
        </p:blipFill>
        <p:spPr>
          <a:xfrm>
            <a:off x="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77598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9" name="Picture 4" descr="H:\Новая папка (2)\ть.tif"/>
          <p:cNvPicPr/>
          <p:nvPr/>
        </p:nvPicPr>
        <p:blipFill>
          <a:blip r:embed="rId1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0992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4" descr="H:\Новая папка (2)\бю.tif"/>
          <p:cNvPicPr/>
          <p:nvPr/>
        </p:nvPicPr>
        <p:blipFill>
          <a:blip r:embed="rId1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18:39:20Z</dcterms:modified>
  <cp:revision>31</cp:revision>
  <dc:subject/>
  <dc:title>Роль ПНПО в развитии (модернизации) образования страны</dc:title>
</cp:coreProperties>
</file>