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CA6-2662-4C96-9720-96F05B57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C81-6342-4A2D-B348-2ED1DF85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AF3-EACA-4381-B15B-7BF742AF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DC8-7A26-4B6F-A9BA-0CC9F741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7AE7-BC63-408F-B5AD-62BFD144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157-CD0A-432B-A2B7-281061E0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624-A923-432A-9889-8DE264F7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F2A-BE93-4936-9634-FA5875E3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2FB-EF99-4966-85E2-B2432D08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5BC-D182-4529-98C5-5286DEEE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9B1-4971-449A-84D4-D7934C54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D78-41B9-4B88-9BB0-E535613A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507D9E-6B81-47EE-B7DC-240AF09046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674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0" name="Рисунок 4" descr="H:\Новая папка (2)\ен.tif"/>
          <p:cNvPicPr/>
          <p:nvPr/>
        </p:nvPicPr>
        <p:blipFill>
          <a:blip r:embed="rId1"/>
          <a:stretch/>
        </p:blipFill>
        <p:spPr>
          <a:xfrm>
            <a:off x="0" y="0"/>
            <a:ext cx="485784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F:\Новая папка (2)\йц.tif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84240"/>
            <a:ext cx="9144000" cy="6773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3" name="Рисунок 4" descr="F:\Новая папка (2)\ке - 0001.tif"/>
          <p:cNvPicPr/>
          <p:nvPr/>
        </p:nvPicPr>
        <p:blipFill>
          <a:blip r:embed="rId1"/>
          <a:stretch/>
        </p:blipFill>
        <p:spPr>
          <a:xfrm>
            <a:off x="0" y="0"/>
            <a:ext cx="442908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F:\Новая папка (2)\фы - 0001.tif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6" name="Рисунок 4" descr="F:\Новая папка (2)\фы.tif"/>
          <p:cNvPicPr/>
          <p:nvPr/>
        </p:nvPicPr>
        <p:blipFill>
          <a:blip r:embed="rId1"/>
          <a:stretch/>
        </p:blipFill>
        <p:spPr>
          <a:xfrm>
            <a:off x="214200" y="380880"/>
            <a:ext cx="3981600" cy="64771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F:\Новая папка (2)\фя.tif"/>
          <p:cNvPicPr/>
          <p:nvPr/>
        </p:nvPicPr>
        <p:blipFill>
          <a:blip r:embed="rId2"/>
          <a:stretch/>
        </p:blipFill>
        <p:spPr>
          <a:xfrm>
            <a:off x="4267080" y="371520"/>
            <a:ext cx="487692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800" spc="-1" strike="noStrike">
              <a:solidFill>
                <a:srgbClr val="b80047"/>
              </a:solidFill>
              <a:latin typeface="Arial"/>
            </a:endParaRPr>
          </a:p>
        </p:txBody>
      </p:sp>
      <p:pic>
        <p:nvPicPr>
          <p:cNvPr id="229" name="Рисунок 4" descr="F:\Новая папка (2)\цу.tif"/>
          <p:cNvPicPr/>
          <p:nvPr/>
        </p:nvPicPr>
        <p:blipFill>
          <a:blip r:embed="rId1"/>
          <a:stretch/>
        </p:blipFill>
        <p:spPr>
          <a:xfrm>
            <a:off x="0" y="214200"/>
            <a:ext cx="4495680" cy="66438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" descr="F:\Новая папка (2)\цы.tif"/>
          <p:cNvPicPr/>
          <p:nvPr/>
        </p:nvPicPr>
        <p:blipFill>
          <a:blip r:embed="rId2"/>
          <a:stretch/>
        </p:blipFill>
        <p:spPr>
          <a:xfrm>
            <a:off x="4572000" y="214200"/>
            <a:ext cx="4572000" cy="66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0360" y="158760"/>
            <a:ext cx="775980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32" name="Рисунок 3" descr="F:\Новая папка (2)\ке.tif"/>
          <p:cNvPicPr/>
          <p:nvPr/>
        </p:nvPicPr>
        <p:blipFill>
          <a:blip r:embed="rId1"/>
          <a:stretch/>
        </p:blipFill>
        <p:spPr>
          <a:xfrm>
            <a:off x="2179800" y="249120"/>
            <a:ext cx="47844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09928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b80047"/>
              </a:solidFill>
              <a:latin typeface="Arial"/>
            </a:endParaRPr>
          </a:p>
        </p:txBody>
      </p:sp>
      <p:pic>
        <p:nvPicPr>
          <p:cNvPr id="234" name="Рисунок 3" descr="F:\Новая папка (2)\ол.tif"/>
          <p:cNvPicPr/>
          <p:nvPr/>
        </p:nvPicPr>
        <p:blipFill>
          <a:blip r:embed="rId1"/>
          <a:stretch/>
        </p:blipFill>
        <p:spPr>
          <a:xfrm>
            <a:off x="2176560" y="106200"/>
            <a:ext cx="4790880" cy="664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18:58:03Z</dcterms:modified>
  <cp:revision>30</cp:revision>
  <dc:subject/>
  <dc:title>Роль ПНПО в развитии (модернизации) образования страны</dc:title>
</cp:coreProperties>
</file>