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5240" y="933120"/>
            <a:ext cx="4341960" cy="33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59576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E5A-C2E2-402D-871E-FB25EF7F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A3D-3B25-4F17-81CD-0E68A6D0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EB38-6A24-4E2A-A0E0-A169AEFC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C8EC-5363-4221-B61A-8E59E5E1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056-C5E4-4D0D-87CD-3C818335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E8C-1D64-475E-ABC4-FD467CB5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DBBC-1A8B-479A-A273-7525FF2C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C16-B1F4-46F0-A590-BE2A5A0F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F97-DE25-466D-85E8-76ADB64B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E03-EC6D-4BCF-BE02-23AE5BFC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1AB-BB73-4920-A1EE-98A8021A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C45-D758-477A-A27C-FCAD3211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83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497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28E49D-4A6B-4396-BA28-73D5663427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14480"/>
            <a:ext cx="9144000" cy="674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0" name="Рисунок 4" descr="H:\Новая папка (2)\ен.tif"/>
          <p:cNvPicPr/>
          <p:nvPr/>
        </p:nvPicPr>
        <p:blipFill>
          <a:blip r:embed="rId1"/>
          <a:stretch/>
        </p:blipFill>
        <p:spPr>
          <a:xfrm>
            <a:off x="0" y="0"/>
            <a:ext cx="485784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5" descr="F:\Новая папка (2)\йц.tif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84240"/>
            <a:ext cx="9144000" cy="6773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3" name="Рисунок 4" descr="F:\Новая папка (2)\ке - 0001.tif"/>
          <p:cNvPicPr/>
          <p:nvPr/>
        </p:nvPicPr>
        <p:blipFill>
          <a:blip r:embed="rId1"/>
          <a:stretch/>
        </p:blipFill>
        <p:spPr>
          <a:xfrm>
            <a:off x="0" y="0"/>
            <a:ext cx="442908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F:\Новая папка (2)\фы - 0001.tif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6" name="Рисунок 4" descr="F:\Новая папка (2)\фы.tif"/>
          <p:cNvPicPr/>
          <p:nvPr/>
        </p:nvPicPr>
        <p:blipFill>
          <a:blip r:embed="rId1"/>
          <a:stretch/>
        </p:blipFill>
        <p:spPr>
          <a:xfrm>
            <a:off x="214200" y="380880"/>
            <a:ext cx="3981600" cy="64771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5" descr="F:\Новая папка (2)\фя.tif"/>
          <p:cNvPicPr/>
          <p:nvPr/>
        </p:nvPicPr>
        <p:blipFill>
          <a:blip r:embed="rId2"/>
          <a:stretch/>
        </p:blipFill>
        <p:spPr>
          <a:xfrm>
            <a:off x="4267080" y="371520"/>
            <a:ext cx="487692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6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800" spc="-1" strike="noStrike">
              <a:solidFill>
                <a:srgbClr val="b80047"/>
              </a:solidFill>
              <a:latin typeface="Arial"/>
            </a:endParaRPr>
          </a:p>
        </p:txBody>
      </p:sp>
      <p:pic>
        <p:nvPicPr>
          <p:cNvPr id="229" name="Рисунок 4" descr="F:\Новая папка (2)\цу.tif"/>
          <p:cNvPicPr/>
          <p:nvPr/>
        </p:nvPicPr>
        <p:blipFill>
          <a:blip r:embed="rId1"/>
          <a:stretch/>
        </p:blipFill>
        <p:spPr>
          <a:xfrm>
            <a:off x="0" y="214200"/>
            <a:ext cx="4495680" cy="66438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F:\Новая папка (2)\цы.tif"/>
          <p:cNvPicPr/>
          <p:nvPr/>
        </p:nvPicPr>
        <p:blipFill>
          <a:blip r:embed="rId2"/>
          <a:stretch/>
        </p:blipFill>
        <p:spPr>
          <a:xfrm>
            <a:off x="4572000" y="214200"/>
            <a:ext cx="4572000" cy="66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20360" y="158760"/>
            <a:ext cx="7759800" cy="64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32" name="Рисунок 3" descr="F:\Новая папка (2)\ке.tif"/>
          <p:cNvPicPr/>
          <p:nvPr/>
        </p:nvPicPr>
        <p:blipFill>
          <a:blip r:embed="rId1"/>
          <a:stretch/>
        </p:blipFill>
        <p:spPr>
          <a:xfrm>
            <a:off x="2179800" y="249120"/>
            <a:ext cx="478440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09928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b80047"/>
              </a:solidFill>
              <a:latin typeface="Arial"/>
            </a:endParaRPr>
          </a:p>
        </p:txBody>
      </p:sp>
      <p:pic>
        <p:nvPicPr>
          <p:cNvPr id="234" name="Рисунок 3" descr="F:\Новая папка (2)\ол.tif"/>
          <p:cNvPicPr/>
          <p:nvPr/>
        </p:nvPicPr>
        <p:blipFill>
          <a:blip r:embed="rId1"/>
          <a:stretch/>
        </p:blipFill>
        <p:spPr>
          <a:xfrm>
            <a:off x="2176560" y="106200"/>
            <a:ext cx="4790880" cy="664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7</cp:lastModifiedBy>
  <dcterms:modified xsi:type="dcterms:W3CDTF">2013-04-07T18:58:03Z</dcterms:modified>
  <cp:revision>30</cp:revision>
  <dc:subject/>
  <dc:title>Роль ПНПО в развитии (модернизации) образования страны</dc:title>
</cp:coreProperties>
</file>