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6B68-080D-4F1E-9619-888FA6C6FC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4371-94D0-48EE-9CED-24E8739902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EBB-EEEE-4AFB-A7C6-8C29798B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EA6-7C4F-401F-8D8E-E8F2866D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524-EDB5-4501-8CB9-4C953412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86C-0A58-4DDB-B753-1903DB7D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7625-D02D-4471-B427-87D3D705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26A4-D208-4C10-9065-BC61EEF8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0926-3A46-4298-B066-DDA75298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B74D-8D55-4230-A18A-2C63D390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A190-9826-476F-A21D-6073C56D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5416-AF14-403B-9FEC-224DD390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EA9F-5735-49CA-8193-4295CE3A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22F-590D-4E60-A715-97FCAB80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95B7-88A2-4AA7-90A4-FDA9B70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AC14-6DF6-425F-8533-9429EEEF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99C9-3738-43F0-9B2A-DC77CCAE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C387-AB78-4259-8FB7-8D22A6CE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065C-CA8C-4508-9AAA-C8E7444A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FFA-5B26-4574-A459-2D46F72E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8FF-A5A3-4CC8-9AFC-73D508E0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00B-3413-4997-AEB1-FE3A2F72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62E-38E9-4F8D-852F-93EB9FF6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9AA-A8CB-4B42-89F3-B10A8CA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589-7101-4589-A386-EB6513C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52C-39E6-470F-B72B-0B6685EA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0C0D-3FBE-4D51-B48E-D65651E55D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9856-F8FB-4E1B-888F-2E52D9DD56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57480" y="3808440"/>
            <a:ext cx="36003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к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D:\документы по школе\кл.ч. УГ\986552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785880" y="5572080"/>
            <a:ext cx="7715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одготовил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ткова Татьяна Стани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лассный руководитель 8 «Б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ОУ-СОШ № 8 города Аткарска Сара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документы по школе\кл.ч. УГ\29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Заголовок 1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1353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D:\документы по школе\кл.ч. УГ\38.gif"/>
          <p:cNvPicPr/>
          <p:nvPr/>
        </p:nvPicPr>
        <p:blipFill>
          <a:blip r:embed="rId2"/>
          <a:stretch/>
        </p:blipFill>
        <p:spPr>
          <a:xfrm>
            <a:off x="0" y="1422360"/>
            <a:ext cx="9144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D:\документы по школе\кл.ч. УГ\30732300_c570f83a95a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D:\документы по школе\кл.ч. УГ\64561965_fantasy_vetton_ru_28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Narrow"/>
              </a:rPr>
              <a:t>              </a:t>
            </a:r>
            <a:r>
              <a:rPr b="0" lang="ru-RU" sz="4400" spc="-1" strike="noStrike">
                <a:solidFill>
                  <a:srgbClr val="ff0000"/>
                </a:solidFill>
                <a:latin typeface="Arial Narrow"/>
              </a:rPr>
              <a:t>Любов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483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宋体"/>
              </a:rPr>
              <a:t>Любовь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  <a:ea typeface="宋体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долго терпит, милосердству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宋体"/>
              </a:rPr>
              <a:t>Любовь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宋体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завидуе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Monotype Corsiva"/>
                <a:ea typeface="宋体"/>
              </a:rPr>
              <a:t>Любовь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宋体"/>
              </a:rPr>
              <a:t> </a:t>
            </a: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превозноситс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гордится, не бесчинствует, не ищет свое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раздражается, не мыслит зл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не радуется неправде, а сорадуется истин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Monotype Corsiva"/>
                <a:ea typeface="宋体"/>
              </a:rPr>
              <a:t>всё покрывает, всему верит, на всё надеется, всё переноси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D:\документы по школе\кл.ч. УГ\38.gif"/>
          <p:cNvPicPr/>
          <p:nvPr/>
        </p:nvPicPr>
        <p:blipFill>
          <a:blip r:embed="rId1"/>
          <a:stretch/>
        </p:blipFill>
        <p:spPr>
          <a:xfrm>
            <a:off x="5929200" y="0"/>
            <a:ext cx="32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20840" y="268200"/>
            <a:ext cx="8242200" cy="15112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3" descr="http://uo-prohladny.narod.ru/uchstranica/toler/kl4.jpg"/>
          <p:cNvPicPr/>
          <p:nvPr/>
        </p:nvPicPr>
        <p:blipFill>
          <a:blip r:embed="rId2"/>
          <a:stretch/>
        </p:blipFill>
        <p:spPr>
          <a:xfrm>
            <a:off x="2214720" y="2071800"/>
            <a:ext cx="47862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Содержимое 2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9156960" cy="6980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D:\документы по школе\кл.ч. УГ\160967.jpg"/>
          <p:cNvPicPr/>
          <p:nvPr/>
        </p:nvPicPr>
        <p:blipFill>
          <a:blip r:embed="rId2"/>
          <a:stretch/>
        </p:blipFill>
        <p:spPr>
          <a:xfrm>
            <a:off x="0" y="3429000"/>
            <a:ext cx="478620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cc0000"/>
                </a:solidFill>
                <a:latin typeface="Monotype Corsiva"/>
              </a:rPr>
              <a:t>Заглянем в прошлое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4648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   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На рубеже </a:t>
            </a:r>
            <a:r>
              <a:rPr b="0" lang="en-US" sz="3100" spc="-1" strike="noStrike">
                <a:solidFill>
                  <a:srgbClr val="7e3f00"/>
                </a:solidFill>
                <a:latin typeface="Times New Roman"/>
              </a:rPr>
              <a:t>XVIII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-</a:t>
            </a:r>
            <a:r>
              <a:rPr b="0" lang="en-US" sz="3100" spc="-1" strike="noStrike">
                <a:solidFill>
                  <a:srgbClr val="7e3f00"/>
                </a:solidFill>
                <a:latin typeface="Times New Roman"/>
              </a:rPr>
              <a:t>XIX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 веков во Франции жил некто </a:t>
            </a:r>
            <a:r>
              <a:rPr b="1" i="1" lang="ru-RU" sz="3100" spc="-1" strike="noStrike">
                <a:solidFill>
                  <a:srgbClr val="f69200"/>
                </a:solidFill>
                <a:latin typeface="Times New Roman"/>
              </a:rPr>
              <a:t>Талейран-Перигор, князь Беневентский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. Он отличился тем, что при разных правительствах (и при революционном, и при Наполеоне, и при короле Людовике </a:t>
            </a:r>
            <a:r>
              <a:rPr b="0" lang="en-US" sz="3100" spc="-1" strike="noStrike">
                <a:solidFill>
                  <a:srgbClr val="7e3f00"/>
                </a:solidFill>
                <a:latin typeface="Times New Roman"/>
              </a:rPr>
              <a:t>XVII</a:t>
            </a:r>
            <a:r>
              <a:rPr b="0" lang="ru-RU" sz="3100" spc="-1" strike="noStrike">
                <a:solidFill>
                  <a:srgbClr val="7e3f00"/>
                </a:solidFill>
                <a:latin typeface="Times New Roman"/>
              </a:rPr>
              <a:t>) оставался неизменно министром иностранных дел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tretch/>
        </p:blipFill>
        <p:spPr>
          <a:xfrm>
            <a:off x="5761080" y="1066680"/>
            <a:ext cx="3135240" cy="556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"/>
          <p:cNvPicPr/>
          <p:nvPr/>
        </p:nvPicPr>
        <p:blipFill>
          <a:blip r:embed="rId2"/>
          <a:stretch/>
        </p:blipFill>
        <p:spPr>
          <a:xfrm>
            <a:off x="5791320" y="1066680"/>
            <a:ext cx="3135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79280" y="1060200"/>
            <a:ext cx="6048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Этот Международный день был торжественно провозглашён в «Декларации принципов терпимости» ЮНЕСКО. Декларация была утверждена в 1995 году на 28-ой Генеральной конференции ЮНЕС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Под толерантностью в Декларации понимается </a:t>
            </a:r>
            <a:r>
              <a:rPr b="1" i="1" lang="ru-RU" sz="2000" spc="-1" strike="noStrike">
                <a:solidFill>
                  <a:srgbClr val="ff0000"/>
                </a:solidFill>
                <a:latin typeface="Book Antiqua"/>
                <a:ea typeface="Calibri"/>
              </a:rPr>
              <a:t>«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»</a:t>
            </a:r>
            <a:r>
              <a:rPr b="1" lang="ru-RU" sz="2000" spc="-1" strike="noStrike">
                <a:solidFill>
                  <a:srgbClr val="ff0000"/>
                </a:solidFill>
                <a:latin typeface="Book Antiqua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Декларация провозглашает 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  <a:ea typeface="Calibri"/>
              </a:rPr>
              <a:t>«признание того, что люди по своей природе различаются по внешнему виду, положению, речи, поведению и ценностям и обладают правом жить в мире и сохранять свою индивидуаль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324000" y="260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  <a:ea typeface="Calibri"/>
              </a:rPr>
              <a:t>Международный день, посвящённый терпимости— ежегодно отмечается 16 нояб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6345360" y="2054160"/>
            <a:ext cx="2433600" cy="5827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7358040" y="6453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ttp://www.taday.ru/text/20845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0" y="0"/>
            <a:ext cx="8858160" cy="6858000"/>
            <a:chOff x="0" y="0"/>
            <a:chExt cx="8858160" cy="6858000"/>
          </a:xfrm>
        </p:grpSpPr>
        <p:sp>
          <p:nvSpPr>
            <p:cNvPr id="109" name="AutoShape 19"/>
            <p:cNvSpPr/>
            <p:nvPr/>
          </p:nvSpPr>
          <p:spPr>
            <a:xfrm>
              <a:off x="0" y="0"/>
              <a:ext cx="88581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8"/>
            <p:cNvSpPr/>
            <p:nvPr/>
          </p:nvSpPr>
          <p:spPr>
            <a:xfrm>
              <a:off x="3125880" y="2999520"/>
              <a:ext cx="2777760" cy="142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Толерант-н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7"/>
            <p:cNvSpPr/>
            <p:nvPr/>
          </p:nvSpPr>
          <p:spPr>
            <a:xfrm>
              <a:off x="2952360" y="5500800"/>
              <a:ext cx="2777760" cy="13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Мило-серд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6"/>
            <p:cNvSpPr/>
            <p:nvPr/>
          </p:nvSpPr>
          <p:spPr>
            <a:xfrm>
              <a:off x="6071400" y="4786560"/>
              <a:ext cx="2777760" cy="207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Отзыв-чив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078600" y="2875680"/>
              <a:ext cx="2777760" cy="132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Сотрудни- ч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4"/>
            <p:cNvSpPr/>
            <p:nvPr/>
          </p:nvSpPr>
          <p:spPr>
            <a:xfrm>
              <a:off x="6078600" y="0"/>
              <a:ext cx="2777760" cy="1713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  <a:ea typeface="Calibri"/>
                </a:rPr>
                <a:t>Уваж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3071880" y="0"/>
              <a:ext cx="2922840" cy="1571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Любов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2"/>
            <p:cNvSpPr/>
            <p:nvPr/>
          </p:nvSpPr>
          <p:spPr>
            <a:xfrm>
              <a:off x="0" y="5026320"/>
              <a:ext cx="2777760" cy="183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Понима-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0" y="428400"/>
              <a:ext cx="2777760" cy="185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Тепло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0" y="3096360"/>
              <a:ext cx="2777760" cy="110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Спокой-ств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2285640" y="4202280"/>
              <a:ext cx="1188360" cy="9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778840" y="3539160"/>
              <a:ext cx="347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2713680" y="1713960"/>
              <a:ext cx="933480" cy="138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4470840" y="1642320"/>
              <a:ext cx="4536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 flipV="1">
              <a:off x="4341240" y="4422600"/>
              <a:ext cx="0" cy="11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4"/>
            <p:cNvSpPr/>
            <p:nvPr/>
          </p:nvSpPr>
          <p:spPr>
            <a:xfrm flipH="1" flipV="1">
              <a:off x="5558040" y="4201920"/>
              <a:ext cx="870840" cy="79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"/>
            <p:cNvSpPr/>
            <p:nvPr/>
          </p:nvSpPr>
          <p:spPr>
            <a:xfrm flipH="1">
              <a:off x="5383440" y="1713960"/>
              <a:ext cx="1330920" cy="138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"/>
            <p:cNvSpPr/>
            <p:nvPr/>
          </p:nvSpPr>
          <p:spPr>
            <a:xfrm flipH="1">
              <a:off x="5905080" y="3539160"/>
              <a:ext cx="17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28760" y="714240"/>
            <a:ext cx="3000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МЫ РАЗНЫЕ – В ЭТОМ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ШЕ БОГАТСТВО,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Ы ВМЕСТЕ – В ЭТОМ НАША СИЛА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D:\документы по школе\кл.ч. УГ\добро\img20.jpg"/>
          <p:cNvPicPr/>
          <p:nvPr/>
        </p:nvPicPr>
        <p:blipFill>
          <a:blip r:embed="rId1"/>
          <a:stretch/>
        </p:blipFill>
        <p:spPr>
          <a:xfrm>
            <a:off x="407196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кат из Герм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й Иисус – евр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й автомобиль – японск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й кофе – бразильски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и цифры – арабск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и буквы – латинск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я демократия – греческа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вой сосед после этого всего - лишь иностране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558ed5"/>
                </a:solidFill>
                <a:latin typeface="Arial"/>
              </a:rPr>
              <a:t>Упражнение</a:t>
            </a:r>
            <a:br>
              <a:rPr sz="2500"/>
            </a:br>
            <a:r>
              <a:rPr b="1" i="1" lang="ru-RU" sz="2500" spc="-1" strike="noStrike">
                <a:solidFill>
                  <a:srgbClr val="558ed5"/>
                </a:solidFill>
                <a:latin typeface="Arial"/>
              </a:rPr>
              <a:t>«Толерантная и интолерантная личност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99"/>
                </a:solidFill>
                <a:latin typeface="Times New Roman"/>
              </a:rPr>
              <a:t>Терпение, чувство юмора, непонимание, уважение мнения других, игнорирование, эгоизм, доброжелательность, умение владеть собой, нетерпимость, выражение пренебрежения, раздражительность, умение слушать собеседника, равнодушие, цинизм, понимание и принятие, чуткость, любознательность, гуманизм, немотивированная агрессивность</a:t>
            </a:r>
            <a:r>
              <a:rPr b="0" i="1" lang="ru-RU" sz="2800" spc="-1" strike="noStrike">
                <a:solidFill>
                  <a:srgbClr val="cc0099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4:27:16Z</dcterms:created>
  <dc:creator>Admin</dc:creator>
  <dc:description/>
  <dc:language>en-US</dc:language>
  <cp:lastModifiedBy>Admin</cp:lastModifiedBy>
  <dcterms:modified xsi:type="dcterms:W3CDTF">2013-04-08T16:01:18Z</dcterms:modified>
  <cp:revision>42</cp:revision>
  <dc:subject/>
  <dc:title>Слайд 1</dc:title>
</cp:coreProperties>
</file>