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AC6-3A76-40DD-9240-9982FE56C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8AD5-CAF5-45E3-A672-6960910D7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10B-BCFB-4E82-8DD9-E1EC1E6F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58F-B96F-4D90-9752-25FF6345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B93-BB4B-462A-BA1C-DF907301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298-D7B9-4218-A6AB-5262B5A5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8D4-A180-4B2C-B1E7-6AB71463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DA56-3E77-4578-8349-A9CEBA01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287F-B686-49DB-A234-578AF8E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09F9-5095-4713-A7F7-427BD92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416D-36F0-4D5F-98E6-00D8A282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402-7B9B-44B2-8EF6-B9563CBD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A00C-0422-4D28-A3A1-91387C9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8C0-14E5-4B86-9910-C5F4B967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8660-8A00-446D-8700-2AD41E3D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133A-3B46-47C0-BC12-A6DF235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D978-ED1D-4488-8C0E-05AB4F9F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0D67-B566-431F-A9B3-2B04AC7F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EE6D-80BB-431D-9837-F43045C4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1F4-AD9D-40F6-9A2E-49AF8A0E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19E-3BEA-4B6C-B7CB-B1F6B6C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8A4-1D1A-40A6-AF34-31168E88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F0C-BC48-46B0-A214-023D0E0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DC2-0900-4FD3-B73E-A5A24C34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7C3-4666-4A97-A0FA-2FA1106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3AA-D0C6-4C7C-9358-188CD663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2354-CBB1-4BFB-A43B-946BE0468F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D90-FBD9-4086-80CE-9770126976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7480" y="3808440"/>
            <a:ext cx="3600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D:\документы по школе\кл.ч. УГ\986552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785880" y="5572080"/>
            <a:ext cx="7715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дготовил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ткова Татьяна Стани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лассный руководитель 8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У-СОШ № 8 города Аткарск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документы по школе\кл.ч. УГ\29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53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D:\документы по школе\кл.ч. УГ\38.gif"/>
          <p:cNvPicPr/>
          <p:nvPr/>
        </p:nvPicPr>
        <p:blipFill>
          <a:blip r:embed="rId2"/>
          <a:stretch/>
        </p:blipFill>
        <p:spPr>
          <a:xfrm>
            <a:off x="0" y="142236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D:\документы по школе\кл.ч. УГ\30732300_c570f83a95a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D:\документы по школе\кл.ч. УГ\64561965_fantasy_vetton_ru_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Narrow"/>
              </a:rPr>
              <a:t>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 Narrow"/>
              </a:rPr>
              <a:t>Любо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483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宋体"/>
              </a:rPr>
              <a:t>Любовь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宋体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долго терпит, милосердству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宋体"/>
              </a:rPr>
              <a:t>Любовь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宋体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завиду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宋体"/>
              </a:rPr>
              <a:t>Любовь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宋体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превозносит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гордится, не бесчинствует, не ищет свое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раздражается, не мыслит зл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радуется неправде, а сорадуется истин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всё покрывает, всему верит, на всё надеется, всё переноси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D:\документы по школе\кл.ч. УГ\38.gif"/>
          <p:cNvPicPr/>
          <p:nvPr/>
        </p:nvPicPr>
        <p:blipFill>
          <a:blip r:embed="rId1"/>
          <a:stretch/>
        </p:blipFill>
        <p:spPr>
          <a:xfrm>
            <a:off x="5929200" y="0"/>
            <a:ext cx="32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242200" cy="15112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http://uo-prohladny.narod.ru/uchstranica/toler/kl4.jpg"/>
          <p:cNvPicPr/>
          <p:nvPr/>
        </p:nvPicPr>
        <p:blipFill>
          <a:blip r:embed="rId2"/>
          <a:stretch/>
        </p:blipFill>
        <p:spPr>
          <a:xfrm>
            <a:off x="2214720" y="2071800"/>
            <a:ext cx="47862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2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156960" cy="698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:\документы по школе\кл.ч. УГ\160967.jpg"/>
          <p:cNvPicPr/>
          <p:nvPr/>
        </p:nvPicPr>
        <p:blipFill>
          <a:blip r:embed="rId2"/>
          <a:stretch/>
        </p:blipFill>
        <p:spPr>
          <a:xfrm>
            <a:off x="0" y="3429000"/>
            <a:ext cx="4786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cc0000"/>
                </a:solidFill>
                <a:latin typeface="Monotype Corsiva"/>
              </a:rPr>
              <a:t>Заглянем в прошлое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   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На рубеже </a:t>
            </a:r>
            <a:r>
              <a:rPr b="0" lang="en-US" sz="3100" spc="-1" strike="noStrike">
                <a:solidFill>
                  <a:srgbClr val="7e3f00"/>
                </a:solidFill>
                <a:latin typeface="Times New Roman"/>
              </a:rPr>
              <a:t>XVIII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-</a:t>
            </a:r>
            <a:r>
              <a:rPr b="0" lang="en-US" sz="3100" spc="-1" strike="noStrike">
                <a:solidFill>
                  <a:srgbClr val="7e3f00"/>
                </a:solidFill>
                <a:latin typeface="Times New Roman"/>
              </a:rPr>
              <a:t>XIX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 веков во Франции жил некто </a:t>
            </a:r>
            <a:r>
              <a:rPr b="1" i="1" lang="ru-RU" sz="3100" spc="-1" strike="noStrike">
                <a:solidFill>
                  <a:srgbClr val="f69200"/>
                </a:solidFill>
                <a:latin typeface="Times New Roman"/>
              </a:rPr>
              <a:t>Талейран-Перигор, князь Беневентский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. Он отличился тем, что при разных правительствах (и при революционном, и при Наполеоне, и при короле Людовике </a:t>
            </a:r>
            <a:r>
              <a:rPr b="0" lang="en-US" sz="3100" spc="-1" strike="noStrike">
                <a:solidFill>
                  <a:srgbClr val="7e3f00"/>
                </a:solidFill>
                <a:latin typeface="Times New Roman"/>
              </a:rPr>
              <a:t>XVII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) оставался неизменно министром иностранных дел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tretch/>
        </p:blipFill>
        <p:spPr>
          <a:xfrm>
            <a:off x="5761080" y="1066680"/>
            <a:ext cx="3135240" cy="556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2"/>
          <a:stretch/>
        </p:blipFill>
        <p:spPr>
          <a:xfrm>
            <a:off x="5791320" y="1066680"/>
            <a:ext cx="3135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79280" y="1060200"/>
            <a:ext cx="604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Этот Международный день был торжественно провозглашён в «Декларации принципов терпимости» ЮНЕСКО. Декларация была утверждена в 1995 году на 28-ой Генеральной конференции ЮНЕС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Под толерантностью в Декларации понимается </a:t>
            </a:r>
            <a:r>
              <a:rPr b="1" i="1" lang="ru-RU" sz="2000" spc="-1" strike="noStrike">
                <a:solidFill>
                  <a:srgbClr val="ff0000"/>
                </a:solidFill>
                <a:latin typeface="Book Antiqua"/>
                <a:ea typeface="Calibri"/>
              </a:rPr>
              <a:t>«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»</a:t>
            </a:r>
            <a:r>
              <a:rPr b="1" lang="ru-RU" sz="2000" spc="-1" strike="noStrike">
                <a:solidFill>
                  <a:srgbClr val="ff0000"/>
                </a:solidFill>
                <a:latin typeface="Book Antiqua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Декларация провозглашает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«признание того, что люди по своей природе различаются по внешнему виду, положению, речи, поведению и ценностям и обладают правом жить в мире и сохранять свою индивидуаль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324000" y="260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  <a:ea typeface="Calibri"/>
              </a:rPr>
              <a:t>Международный день, посвящённый терпимости— ежегодно отмечается 16 но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345360" y="2054160"/>
            <a:ext cx="2433600" cy="5827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7358040" y="6453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taday.ru/text/20845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0" y="0"/>
            <a:ext cx="8858160" cy="6858000"/>
            <a:chOff x="0" y="0"/>
            <a:chExt cx="8858160" cy="6858000"/>
          </a:xfrm>
        </p:grpSpPr>
        <p:sp>
          <p:nvSpPr>
            <p:cNvPr id="109" name="AutoShape 19"/>
            <p:cNvSpPr/>
            <p:nvPr/>
          </p:nvSpPr>
          <p:spPr>
            <a:xfrm>
              <a:off x="0" y="0"/>
              <a:ext cx="8858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3125880" y="2999520"/>
              <a:ext cx="2777760" cy="14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Толерант-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2952360" y="5500800"/>
              <a:ext cx="2777760" cy="13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Мило-серд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6"/>
            <p:cNvSpPr/>
            <p:nvPr/>
          </p:nvSpPr>
          <p:spPr>
            <a:xfrm>
              <a:off x="6071400" y="4786560"/>
              <a:ext cx="2777760" cy="207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тзыв-чив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078600" y="2875680"/>
              <a:ext cx="2777760" cy="132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Сотрудни- ч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6078600" y="0"/>
              <a:ext cx="2777760" cy="171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Уваж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3071880" y="0"/>
              <a:ext cx="2922840" cy="157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Любов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2"/>
            <p:cNvSpPr/>
            <p:nvPr/>
          </p:nvSpPr>
          <p:spPr>
            <a:xfrm>
              <a:off x="0" y="5026320"/>
              <a:ext cx="2777760" cy="183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Понима-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0" y="428400"/>
              <a:ext cx="2777760" cy="185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епло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0" y="3096360"/>
              <a:ext cx="2777760" cy="110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Спокой-ств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2285640" y="4202280"/>
              <a:ext cx="1188360" cy="9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778840" y="3539160"/>
              <a:ext cx="34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2713680" y="1713960"/>
              <a:ext cx="933480" cy="13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4470840" y="1642320"/>
              <a:ext cx="4536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4341240" y="4422600"/>
              <a:ext cx="0" cy="11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"/>
            <p:cNvSpPr/>
            <p:nvPr/>
          </p:nvSpPr>
          <p:spPr>
            <a:xfrm flipH="1" flipV="1">
              <a:off x="5558040" y="4201920"/>
              <a:ext cx="87084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"/>
            <p:cNvSpPr/>
            <p:nvPr/>
          </p:nvSpPr>
          <p:spPr>
            <a:xfrm flipH="1">
              <a:off x="5383440" y="1713960"/>
              <a:ext cx="1330920" cy="13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"/>
            <p:cNvSpPr/>
            <p:nvPr/>
          </p:nvSpPr>
          <p:spPr>
            <a:xfrm flipH="1">
              <a:off x="5905080" y="353916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28760" y="714240"/>
            <a:ext cx="3000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МЫ РАЗНЫЕ – В ЭТОМ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ШЕ БОГАТСТВО,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Ы ВМЕСТЕ – В ЭТОМ НАША СИЛА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D:\документы по школе\кл.ч. УГ\добро\img20.jpg"/>
          <p:cNvPicPr/>
          <p:nvPr/>
        </p:nvPicPr>
        <p:blipFill>
          <a:blip r:embed="rId1"/>
          <a:stretch/>
        </p:blipFill>
        <p:spPr>
          <a:xfrm>
            <a:off x="407196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кат из Герм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Иисус – евр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автомобиль – японск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кофе – бразильск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и цифры – арабск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и буквы – латинск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я демократия – греческа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сосед после этого всего - лишь иностране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58ed5"/>
                </a:solidFill>
                <a:latin typeface="Arial"/>
              </a:rPr>
              <a:t>Упражнение</a:t>
            </a:r>
            <a:br>
              <a:rPr sz="2500"/>
            </a:br>
            <a:r>
              <a:rPr b="1" i="1" lang="ru-RU" sz="2500" spc="-1" strike="noStrike">
                <a:solidFill>
                  <a:srgbClr val="558ed5"/>
                </a:solidFill>
                <a:latin typeface="Arial"/>
              </a:rPr>
              <a:t>«Толерантная и интолерантная личност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Терпение, чувство юмора, непонимание, уважение мнения других, игнорирование, эгоизм, доброжелательность, умение владеть собой, нетерпимость, выражение пренебрежения, раздражительность, умение слушать собеседника, равнодушие, цинизм, понимание и принятие, чуткость, любознательность, гуманизм, немотивированная агрессивность</a:t>
            </a:r>
            <a:r>
              <a:rPr b="0" i="1" lang="ru-RU" sz="2800" spc="-1" strike="noStrike">
                <a:solidFill>
                  <a:srgbClr val="cc00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4:27:16Z</dcterms:created>
  <dc:creator>Admin</dc:creator>
  <dc:description/>
  <dc:language>en-US</dc:language>
  <cp:lastModifiedBy>Admin</cp:lastModifiedBy>
  <dcterms:modified xsi:type="dcterms:W3CDTF">2013-04-08T16:01:18Z</dcterms:modified>
  <cp:revision>42</cp:revision>
  <dc:subject/>
  <dc:title>Слайд 1</dc:title>
</cp:coreProperties>
</file>