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E69-E39F-4CAC-96E0-D356D5C1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17B-6CF3-449E-B75E-4EB1207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6C4-40A2-4BF0-8A55-101DA849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CD4-BFCE-4BAE-AB76-B1D3C4F6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7FE-32BC-4F2A-B0B2-AB03168A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C0D-15CF-44AB-A7FF-D8DEF24A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4A5-F7EA-4FD7-829C-A8E4D72B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A8FD-A8DF-456A-A5B2-FEBE325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D13-D4E1-498B-9DFF-796F5C74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716-DBF3-48F4-A08B-9C6AC14B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839-3E10-429A-A50D-A815F3D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B43-C6CE-41CB-84CC-0BEE05C4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D43FCC-E68D-4E3F-A3CA-AF24E2695F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42680" y="139680"/>
            <a:ext cx="56437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2" descr="F:\Новая папка (2)\дф.tif"/>
          <p:cNvPicPr/>
          <p:nvPr/>
        </p:nvPicPr>
        <p:blipFill>
          <a:blip r:embed="rId1"/>
          <a:stretch/>
        </p:blipFill>
        <p:spPr>
          <a:xfrm>
            <a:off x="2325600" y="214200"/>
            <a:ext cx="448164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2" name="Picture 2" descr="F:\Новая папка (2)\гшз.tif"/>
          <p:cNvPicPr/>
          <p:nvPr/>
        </p:nvPicPr>
        <p:blipFill>
          <a:blip r:embed="rId1"/>
          <a:stretch/>
        </p:blipFill>
        <p:spPr>
          <a:xfrm>
            <a:off x="714240" y="214200"/>
            <a:ext cx="3714840" cy="6643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F:\Новая папка (2)\ь..tif"/>
          <p:cNvPicPr/>
          <p:nvPr/>
        </p:nvPicPr>
        <p:blipFill>
          <a:blip r:embed="rId2"/>
          <a:stretch/>
        </p:blipFill>
        <p:spPr>
          <a:xfrm>
            <a:off x="4286160" y="214200"/>
            <a:ext cx="464832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5" name="Picture 2" descr="F:\Новая папка (2)\ар.tif"/>
          <p:cNvPicPr/>
          <p:nvPr/>
        </p:nvPicPr>
        <p:blipFill>
          <a:blip r:embed="rId1"/>
          <a:stretch/>
        </p:blipFill>
        <p:spPr>
          <a:xfrm>
            <a:off x="2214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7" name="Picture 2" descr="F:\Новая папка (2)\ав.tif"/>
          <p:cNvPicPr/>
          <p:nvPr/>
        </p:nvPicPr>
        <p:blipFill>
          <a:blip r:embed="rId1"/>
          <a:stretch/>
        </p:blipFill>
        <p:spPr>
          <a:xfrm>
            <a:off x="2000160" y="0"/>
            <a:ext cx="507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39:39Z</dcterms:modified>
  <cp:revision>30</cp:revision>
  <dc:subject/>
  <dc:title>Роль ПНПО в развитии (модернизации) образования страны</dc:title>
</cp:coreProperties>
</file>