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B7C-867E-4B93-A2A9-DFCBEF08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B17-B5B7-485D-AA61-830E10F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3B5-4D03-44AE-B9A9-A645A319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A54-EB29-4183-897F-E0A567C0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63F-27A1-4B95-913D-D7B5B0F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BF6-BE27-4D0C-97D1-B97C84E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C93-8914-4E9B-9C3D-1DB5D64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D50-BDFD-4666-BE2F-58FAA6B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638-FBF2-4106-8CFF-EE019C0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8C8-8ED9-4B3B-BBD3-E3DBBD4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D86-86E5-44C9-B122-F20F6A5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AD7-A407-4F4D-895C-E9111CF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5AA225-D8CC-4DAB-803E-9A7988670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дф.tif"/>
          <p:cNvPicPr/>
          <p:nvPr/>
        </p:nvPicPr>
        <p:blipFill>
          <a:blip r:embed="rId1"/>
          <a:stretch/>
        </p:blipFill>
        <p:spPr>
          <a:xfrm>
            <a:off x="2325600" y="214200"/>
            <a:ext cx="44816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гшз.tif"/>
          <p:cNvPicPr/>
          <p:nvPr/>
        </p:nvPicPr>
        <p:blipFill>
          <a:blip r:embed="rId1"/>
          <a:stretch/>
        </p:blipFill>
        <p:spPr>
          <a:xfrm>
            <a:off x="714240" y="214200"/>
            <a:ext cx="3714840" cy="6643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Новая папка (2)\ь..tif"/>
          <p:cNvPicPr/>
          <p:nvPr/>
        </p:nvPicPr>
        <p:blipFill>
          <a:blip r:embed="rId2"/>
          <a:stretch/>
        </p:blipFill>
        <p:spPr>
          <a:xfrm>
            <a:off x="4286160" y="214200"/>
            <a:ext cx="46483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5" name="Picture 2" descr="F:\Новая папка (2)\ар.tif"/>
          <p:cNvPicPr/>
          <p:nvPr/>
        </p:nvPicPr>
        <p:blipFill>
          <a:blip r:embed="rId1"/>
          <a:stretch/>
        </p:blipFill>
        <p:spPr>
          <a:xfrm>
            <a:off x="2214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7" name="Picture 2" descr="F:\Новая папка (2)\ав.tif"/>
          <p:cNvPicPr/>
          <p:nvPr/>
        </p:nvPicPr>
        <p:blipFill>
          <a:blip r:embed="rId1"/>
          <a:stretch/>
        </p:blipFill>
        <p:spPr>
          <a:xfrm>
            <a:off x="20001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39:39Z</dcterms:modified>
  <cp:revision>30</cp:revision>
  <dc:subject/>
  <dc:title>Роль ПНПО в развитии (модернизации) образования страны</dc:title>
</cp:coreProperties>
</file>