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D8D-1658-4D5F-A658-1875176A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C2A7-0792-4BFD-83DD-F9AE145C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FD7-6123-4789-BD69-1A1F98C7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FE1-41F3-43D1-92C8-CEE4D7C9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283-036C-48F6-8FFF-B0A3491A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A538-0E80-44B2-9C6B-B629FC76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6F7-4B71-4F82-8BA9-1A3DB89B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CDBA-C85D-4D08-9AEA-BB794973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D63-61DA-470D-B428-4330B7DA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55D-48B0-4D59-9360-39A6366B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30C-CACC-4DF9-94ED-F9E896F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DC7C-0472-43C8-83DF-A6354D5F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26CE1E-E6E8-42F9-B9DC-36AFACDD6D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2680" y="139680"/>
            <a:ext cx="56437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2" descr="F:\Новая папка (2)\фа.tif"/>
          <p:cNvPicPr/>
          <p:nvPr/>
        </p:nvPicPr>
        <p:blipFill>
          <a:blip r:embed="rId1"/>
          <a:stretch/>
        </p:blipFill>
        <p:spPr>
          <a:xfrm>
            <a:off x="1785960" y="0"/>
            <a:ext cx="55008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2" name="Picture 2" descr="F:\Новая папка (2)\дж.tif"/>
          <p:cNvPicPr/>
          <p:nvPr/>
        </p:nvPicPr>
        <p:blipFill>
          <a:blip r:embed="rId1"/>
          <a:stretch/>
        </p:blipFill>
        <p:spPr>
          <a:xfrm>
            <a:off x="1857240" y="214200"/>
            <a:ext cx="5286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2" descr="F:\Новая папка (2)\нг.tif"/>
          <p:cNvPicPr/>
          <p:nvPr/>
        </p:nvPicPr>
        <p:blipFill>
          <a:blip r:embed="rId1"/>
          <a:stretch/>
        </p:blipFill>
        <p:spPr>
          <a:xfrm>
            <a:off x="200016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914400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Picture 2" descr="F:\Новая папка (2)\во.tif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F:\Новая папка (2)\ек.tif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914400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9" name="Picture 2" descr="F:\Новая папка (2)\шз.tif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F:\Новая папка (2)\эр.tif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20:46:35Z</dcterms:modified>
  <cp:revision>33</cp:revision>
  <dc:subject/>
  <dc:title>Роль ПНПО в развитии (модернизации) образования страны</dc:title>
</cp:coreProperties>
</file>