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82C-A711-4CF6-9415-66C2FEC4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598-2BCB-41BB-BE4D-050AA3A2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8C9-292E-47E0-A6BE-41F06F67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58A-AF7E-4859-8B80-30DB63D2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E21-C755-4CBF-B9C6-043BAC50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832-CCEE-4FF4-9D28-2C002A46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F05-B131-44E1-AAF9-91DCB633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9FA-7A87-4688-8FD2-E2192702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7EA-5872-4244-A575-4C0FD243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C81-ABB5-46C3-8FC8-91A9961B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0D8-8791-4F0F-9A0B-CB1745E5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D3D-62D6-4D90-8EDE-24599D1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378317-90FF-444F-B9A4-3EBDB4653B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2680" y="139680"/>
            <a:ext cx="56437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2" descr="F:\Новая папка (2)\фа.tif"/>
          <p:cNvPicPr/>
          <p:nvPr/>
        </p:nvPicPr>
        <p:blipFill>
          <a:blip r:embed="rId1"/>
          <a:stretch/>
        </p:blipFill>
        <p:spPr>
          <a:xfrm>
            <a:off x="1785960" y="0"/>
            <a:ext cx="55008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2" name="Picture 2" descr="F:\Новая папка (2)\дж.tif"/>
          <p:cNvPicPr/>
          <p:nvPr/>
        </p:nvPicPr>
        <p:blipFill>
          <a:blip r:embed="rId1"/>
          <a:stretch/>
        </p:blipFill>
        <p:spPr>
          <a:xfrm>
            <a:off x="1857240" y="214200"/>
            <a:ext cx="5286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2" descr="F:\Новая папка (2)\нг.tif"/>
          <p:cNvPicPr/>
          <p:nvPr/>
        </p:nvPicPr>
        <p:blipFill>
          <a:blip r:embed="rId1"/>
          <a:stretch/>
        </p:blipFill>
        <p:spPr>
          <a:xfrm>
            <a:off x="200016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39680"/>
            <a:ext cx="914400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Picture 2" descr="F:\Новая папка (2)\во.tif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F:\Новая папка (2)\ек.tif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39680"/>
            <a:ext cx="914400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9" name="Picture 2" descr="F:\Новая папка (2)\шз.tif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F:\Новая папка (2)\эр.tif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20:46:35Z</dcterms:modified>
  <cp:revision>33</cp:revision>
  <dc:subject/>
  <dc:title>Роль ПНПО в развитии (модернизации) образования страны</dc:title>
</cp:coreProperties>
</file>