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FFAB-B60B-46D4-8E76-4F115BA1F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9EDF-FF85-4A64-B032-E086522F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C38E-CA62-4670-AF86-2D1F0490F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B8A2-0FCB-4D04-BB61-6E6BE1995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7339-13A6-4F28-90F6-25383618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38F5-2420-4092-8CC1-9B55A4DB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6014-85DF-454B-A089-424A6757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EEAF-836D-4705-81D6-73336761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A8DF-B0D6-4B0F-AFB6-A6D10AC5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CBDB-95AE-4EC2-A5F0-989EA0B6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6210-11DC-4871-92C5-C3502000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7716-4C06-451C-A2D8-96C8D1C7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183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18352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08764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4976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08764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AA73BF8-C363-4F77-BDEC-4A98277DF9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148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79148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148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79148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42680" y="139680"/>
            <a:ext cx="564372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0" name="Picture 2" descr="F:\Новая папка (2)\ат.tif"/>
          <p:cNvPicPr/>
          <p:nvPr/>
        </p:nvPicPr>
        <p:blipFill>
          <a:blip r:embed="rId1"/>
          <a:stretch/>
        </p:blipFill>
        <p:spPr>
          <a:xfrm>
            <a:off x="1857240" y="0"/>
            <a:ext cx="535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139680"/>
            <a:ext cx="914400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2" name="Picture 2" descr="F:\Новая папка (2)\ко.tif"/>
          <p:cNvPicPr/>
          <p:nvPr/>
        </p:nvPicPr>
        <p:blipFill>
          <a:blip r:embed="rId1"/>
          <a:stretch/>
        </p:blipFill>
        <p:spPr>
          <a:xfrm>
            <a:off x="228600" y="214200"/>
            <a:ext cx="89154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11:06:49Z</dcterms:created>
  <dc:creator>User User</dc:creator>
  <dc:description/>
  <dc:language>en-US</dc:language>
  <cp:lastModifiedBy>7</cp:lastModifiedBy>
  <dcterms:modified xsi:type="dcterms:W3CDTF">2013-04-07T20:49:52Z</dcterms:modified>
  <cp:revision>34</cp:revision>
  <dc:subject/>
  <dc:title>Роль ПНПО в развитии (модернизации) образования страны</dc:title>
</cp:coreProperties>
</file>