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27EA-C663-4483-AA27-BD2F63A7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64C-1D44-419E-A54E-40472616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123-0DB7-451F-AAC7-39370326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DA8-208B-4D7C-B095-D5C90357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093-B48E-484B-BD87-CF6E2361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63B-571D-4688-AE51-449A7C61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C75-E12A-485A-9F82-CDDA2762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C45-16B4-4DA7-B432-2CF01557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139-0F6A-4A9B-89E1-7FFDFD0C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FEA-FE6A-45BC-9EAE-603A0F47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11E9-6DE8-4F1E-A579-4F938371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0B5-EA29-4732-9F0C-452BC573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5F3CC9-B0E8-454D-84ED-2DEE4C0C56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42680" y="139680"/>
            <a:ext cx="56437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2" descr="F:\Новая папка (2)\ат.tif"/>
          <p:cNvPicPr/>
          <p:nvPr/>
        </p:nvPicPr>
        <p:blipFill>
          <a:blip r:embed="rId1"/>
          <a:stretch/>
        </p:blipFill>
        <p:spPr>
          <a:xfrm>
            <a:off x="1857240" y="0"/>
            <a:ext cx="535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39680"/>
            <a:ext cx="914400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2" name="Picture 2" descr="F:\Новая папка (2)\ко.tif"/>
          <p:cNvPicPr/>
          <p:nvPr/>
        </p:nvPicPr>
        <p:blipFill>
          <a:blip r:embed="rId1"/>
          <a:stretch/>
        </p:blipFill>
        <p:spPr>
          <a:xfrm>
            <a:off x="228600" y="214200"/>
            <a:ext cx="89154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7</cp:lastModifiedBy>
  <dcterms:modified xsi:type="dcterms:W3CDTF">2013-04-07T20:49:52Z</dcterms:modified>
  <cp:revision>34</cp:revision>
  <dc:subject/>
  <dc:title>Роль ПНПО в развитии (модернизации) образования страны</dc:title>
</cp:coreProperties>
</file>