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507-FA31-4B89-B41E-AB3D2773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3B2-4BEC-4912-BC5C-D20C5310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9A2-AD7E-4ED9-9B71-F57AA29F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786-F46B-4532-BB20-9D46AA0D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B1A3-E07F-4C87-8D8C-E8BA97F2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4805-A31E-4247-9931-B537CD9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817C-5B5E-4365-83B5-373DFA6E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345F-D39C-4209-B2A5-9FECF705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0F37-0DD9-40FE-9854-D1C4002D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F5E4-1F2C-408C-A996-B956C077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99CB-E377-4508-B999-38B0CCF3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A20-CA75-4F19-B460-6BCF80B5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51B2-A7B9-4565-BEB1-01F2A67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4052-C93E-428F-89B6-152D9311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4C31-6DB6-491F-8C29-5691ACEE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DD6A-1A1E-4F63-A3E2-A60D6A66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FBFE-AC31-474F-95E6-AD8011FE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54F-07F8-417F-9B5C-C97AB3E4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5BD-2385-4FF1-86C4-606923AF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33D-0316-4EC0-9A8C-955105C5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37A-B48E-4902-BCF2-DC332B0F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378-4398-41DA-B84B-C8176D5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B25-2F30-47C0-B97B-1F86C1C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170-60F8-42F8-B5D2-686F9057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D556-B0CD-4346-BCC0-D6DAC0BCCE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12FC-0434-45B7-9F00-7CA4CC295E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353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Между музыкой моего народа и музыкой других народов мира нет непереходимых грани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ecff"/>
                </a:solidFill>
                <a:latin typeface="Arial"/>
              </a:rPr>
              <a:t>МИР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ОМАЗО АЛЬБИНОНИ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671-175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ЛЮДОВИГ ВАН БЕТХОВЕН 1770-1827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190520"/>
            <a:ext cx="9144000" cy="56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КОМОРОХ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ЛАМЕНК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НЕ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НДОЛЬ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.И.ГЛИНКА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804—1857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НЕЦИАНСКАЯ НОЧ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6:33:45Z</dcterms:created>
  <dc:creator>1</dc:creator>
  <dc:description/>
  <dc:language>en-US</dc:language>
  <cp:lastModifiedBy>1</cp:lastModifiedBy>
  <dcterms:modified xsi:type="dcterms:W3CDTF">2013-01-27T13:43:24Z</dcterms:modified>
  <cp:revision>5</cp:revision>
  <dc:subject/>
  <dc:title>Слайд 1</dc:title>
</cp:coreProperties>
</file>