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126-3B84-4A2C-8CA0-5F8CFE90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9E4-E757-442A-BFBA-C245D803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9C4-D95B-466A-80CD-CFB85092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F9F-AEF5-44CC-B824-132DF11A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5362-6717-4C91-9CF5-9813A889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5BC1-63DF-41BC-B649-39111935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ABA9-120C-48DF-AB05-C61186CA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CA81-535B-4FE2-A386-0F242A18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9A74-9C82-4056-8DB5-4C3D171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2226-8955-4126-9236-90DCC556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BB14-6B3E-483C-B942-7533B680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9A3-FAB0-48F4-9D82-A2AA3B69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A6AA-24BE-4E9B-9541-5BF4133D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F63B-A6FF-46D7-B4EB-74380822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56B4-9DC3-4069-94E0-BB7D0CC9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67B5-622D-423A-A127-07E498E0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8601-E7B0-4DD5-8C25-77513F35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9EE-190A-46D1-99FF-7C9C76D3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7E6-76F4-48BB-90D8-518E9E5D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865-8B40-4D28-97D0-99E95B18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BF5-86B1-4E07-974C-AB834C26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9F8-249B-4C46-9392-2CD20037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A17-8BD9-4878-9E02-EC97878E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BDF-E3C3-4425-8A52-3273BC24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436A-E5EF-48E6-A089-78B8D2866B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1F1F-AB8D-485A-9903-9BBC45B6926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353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Между музыкой моего народа и музыкой других народов мира нет непереходимых грани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ecff"/>
                </a:solidFill>
                <a:latin typeface="Arial"/>
              </a:rPr>
              <a:t>МИР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ОМАЗО АЛЬБИНОНИ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671-175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ЛЮДОВИГ ВАН БЕТХОВЕН 1770-1827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190520"/>
            <a:ext cx="9144000" cy="56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КОМОРОХ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ЛАМЕНК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НЕ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НДОЛЬ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.И.ГЛИНКА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804—1857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НЕЦИАНСКАЯ НОЧ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6:33:45Z</dcterms:created>
  <dc:creator>1</dc:creator>
  <dc:description/>
  <dc:language>en-US</dc:language>
  <cp:lastModifiedBy>1</cp:lastModifiedBy>
  <dcterms:modified xsi:type="dcterms:W3CDTF">2013-01-27T13:43:24Z</dcterms:modified>
  <cp:revision>5</cp:revision>
  <dc:subject/>
  <dc:title>Слайд 1</dc:title>
</cp:coreProperties>
</file>