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7CB0-D867-41C7-9AD6-0E442DED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EFA-9CCC-4D98-ACD8-82D7E1EA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EA26-653E-4E9C-B375-7190CD17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3D6-73D3-4CDF-A582-F258CA79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A4ECC-59DE-407B-9329-2511357A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BB5E9-C677-4FEC-B5BC-04C47400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3B211-650D-4CF7-9040-5317C08B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101C2-A517-49B9-A3A7-AB5BE8E2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0299F-953D-49AD-8140-BD3A8D47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62E82-F9AF-4E7C-B20E-8C1288A7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B96B7-8F4A-412D-B7B4-40B2C95A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23E-F475-4317-B0CD-A524662C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91BC1-5B05-4E2B-B519-B30D251C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431AE-CDC6-4762-8C3E-BBE80E21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E3633-8B75-4256-99A0-466707AA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93617-E0EF-460F-A273-A139A8A6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11DF7-9645-4BD3-893D-1F5DF5A5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0E3A-0B5F-440A-BEE9-6AF5B656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5F2FC-61E3-4F77-BBC7-EE99F780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9851E-8411-4610-A3DB-9C2E3524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2A860-DB0B-4FA6-A4DE-32FDB2FE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01B36-5129-42C5-A324-46FB7B8E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2299-3555-4B42-9EFC-853B4BA1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D018E-6122-41CF-A9A0-E83413CF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E31D4-B562-47E4-9732-C7370BEE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7787B-40C0-4C4E-A1C9-270FC0AD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4C0DE-0342-475C-A0CB-33DAED69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27E32-D5D9-48E0-A2B8-912B5AFB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4A6FB-A24D-4335-9F4A-B9B575DA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65F67-EA23-472E-9384-BA84A5AA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FF8-4FDF-4E99-8630-208FD0BB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8AF-7927-44EB-8DF7-AF64AD9E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046-469C-41CB-AD3F-47CC8723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C844-D0AF-4FFB-B7D5-44276D6E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F289-516D-47F8-9905-F9C62B64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14C3-A2C7-48ED-A843-0256ABEA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6580-A3A0-45D7-A30D-B1499106F2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3DD7-2D1B-49E4-9F3F-BE0EED10482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AB24-597D-43D1-B2DB-6FCC7A8DCC3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files.ostrova.a1tv.ru/files/users/0014/5242/images/view/3681f3ab0a6ce08f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obolon.info/images/articles/20071106185947703_1.JPEG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klopp.ru/uploads/posts/2008-05/1210404377_46c0d5449f69d.jpg" TargetMode="External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Внеклассное мероприятие «Наследство Прометея»</a:t>
            </a:r>
            <a:br>
              <a:rPr sz="6000"/>
            </a:b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7 класс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зучая химию, мы научились зажигать костер без спичек.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5857920" y="542916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ы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гонь очень красив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сли долго смотреть на пламя, возникают сказочные видения. Вспомните сказку Ер</a:t>
            </a: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ш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ва П.П. «Конек-горбунок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7120" y="164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елый столб стоит на крыше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И растет все выше, выше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Вот дорос до небес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И исчез. 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6072120" y="335772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(?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Прямоугольник 3"/>
          <p:cNvSpPr/>
          <p:nvPr/>
        </p:nvSpPr>
        <p:spPr>
          <a:xfrm>
            <a:off x="4214880" y="5572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ыт «Дым без огня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559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олько на уроках химии можно увидеть дым без огня. А вообще дыма без огня не бывает. Огонь может быть злым и опасным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ного бед они приносят людям.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братите внимание на картину Карла Брюллова «Последний день Помпеи»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0" name="Picture 4" descr="b089_4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пыт «Извержение вулкана»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13" name="Picture 5" descr="Картинка 7 из 17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543040" cy="3809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Картинка 8 из 17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0200" y="0"/>
            <a:ext cx="3486240" cy="3333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http://im7-tub.yandex.net/i?id=42025539&amp;tov=7"/>
          <p:cNvPicPr/>
          <p:nvPr/>
        </p:nvPicPr>
        <p:blipFill>
          <a:blip r:embed="rId5"/>
          <a:stretch/>
        </p:blipFill>
        <p:spPr>
          <a:xfrm>
            <a:off x="0" y="3286080"/>
            <a:ext cx="3714840" cy="3571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Картинка 12 из 174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14840" y="3286080"/>
            <a:ext cx="5508360" cy="3571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http://im6-tub.yandex.net/i?id=24854438&amp;tov=6"/>
          <p:cNvPicPr/>
          <p:nvPr/>
        </p:nvPicPr>
        <p:blipFill>
          <a:blip r:embed="rId8"/>
          <a:stretch/>
        </p:blipFill>
        <p:spPr>
          <a:xfrm>
            <a:off x="5929200" y="0"/>
            <a:ext cx="325440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4200" y="2642760"/>
            <a:ext cx="851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Как можно потушить огонь?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Чтобы погасить огонь нужно нарушить одно из условий без которых огонь не может жить: 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-убрать источник тепла (залить огонь водой) -прекратить доступ 0</a:t>
            </a:r>
            <a:r>
              <a:rPr b="1" lang="ru-RU" sz="1400" spc="-1" strike="noStrike">
                <a:solidFill>
                  <a:srgbClr val="feec94"/>
                </a:solidFill>
                <a:latin typeface="Times New Roman"/>
              </a:rPr>
              <a:t>2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(забросить песком, накрыть плотной тканью, использовать огнетушитель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3840" y="214272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1. Почему в лесу опасно разводить костры? 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2.</a:t>
            </a:r>
            <a:r>
              <a:rPr b="1" lang="ru-RU" sz="3200" spc="-1" strike="noStrike">
                <a:solidFill>
                  <a:srgbClr val="feec94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очему нельзя оставлять в лесу битое стекло?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443640" y="433872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564000" y="2492280"/>
            <a:ext cx="2881080" cy="2529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324000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мия везде, химия во всем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 всем, чем мы дыши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 всем, что мы пье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 всем, во всем что мы носим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о всем, чем стира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то же еще мы про химию знае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наем немного. Пока! Но потом эту науку изучим, пойм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 rot="225600"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Comic Sans MS"/>
              </a:rPr>
              <a:t>До свидания! Спасибо за внимание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0040" y="328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Явлении, которое может быть и союзником, другом, и злым, неуправляемым врагом.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Что же это такое?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 Я в небе молнией рожден,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 И человеком приручен,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 С людьми умею я дружить,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 Но им могу и навредить.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(?)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Откуда пришел огонь?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9" name="Picture 28" descr="C:\Documents and Settings\678\Рабочий стол\ек.jpg"/>
          <p:cNvPicPr/>
          <p:nvPr/>
        </p:nvPicPr>
        <p:blipFill>
          <a:blip r:embed="rId1"/>
          <a:srcRect l="11370" t="7403" r="18004" b="6806"/>
          <a:stretch/>
        </p:blipFill>
        <p:spPr>
          <a:xfrm>
            <a:off x="2700360" y="3141720"/>
            <a:ext cx="3324240" cy="284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Легенда о Промете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584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начала люди не умели получать огонь, они лишь сохраняли его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 Как называется хранилище огня?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712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 многих языках мира это слово означает «дом». Первый дом человек построил для огня, чтобы защитить его от дождя и ветра.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Зачем людям нужен огонь?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 Докажите что он наш друг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876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Подумайте, что нужно для того, чтобы появился огонь?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356840" y="285840"/>
            <a:ext cx="73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96" name="Oval 19"/>
          <p:cNvSpPr/>
          <p:nvPr/>
        </p:nvSpPr>
        <p:spPr>
          <a:xfrm>
            <a:off x="3348000" y="2997360"/>
            <a:ext cx="2016000" cy="1800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0"/>
          <p:cNvSpPr/>
          <p:nvPr/>
        </p:nvSpPr>
        <p:spPr>
          <a:xfrm>
            <a:off x="3492360" y="3500280"/>
            <a:ext cx="16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Источник теп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Oval 21"/>
          <p:cNvSpPr/>
          <p:nvPr/>
        </p:nvSpPr>
        <p:spPr>
          <a:xfrm>
            <a:off x="5364000" y="2637000"/>
            <a:ext cx="2016360" cy="1800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Горючий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материа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Oval 24"/>
          <p:cNvSpPr/>
          <p:nvPr/>
        </p:nvSpPr>
        <p:spPr>
          <a:xfrm>
            <a:off x="1547640" y="2421000"/>
            <a:ext cx="1872000" cy="1800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25"/>
          <p:cNvSpPr/>
          <p:nvPr/>
        </p:nvSpPr>
        <p:spPr>
          <a:xfrm>
            <a:off x="1619280" y="306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Кислор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28" descr="C:\Documents and Settings\678\Рабочий стол\ек.jpg"/>
          <p:cNvPicPr/>
          <p:nvPr/>
        </p:nvPicPr>
        <p:blipFill>
          <a:blip r:embed="rId1"/>
          <a:srcRect l="11365" t="7406" r="18003" b="6814"/>
          <a:stretch/>
        </p:blipFill>
        <p:spPr>
          <a:xfrm>
            <a:off x="3203640" y="907920"/>
            <a:ext cx="2500200" cy="21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8:23:42Z</dcterms:created>
  <dc:creator>школа</dc:creator>
  <dc:description/>
  <dc:language>en-US</dc:language>
  <cp:lastModifiedBy>Булат</cp:lastModifiedBy>
  <dcterms:modified xsi:type="dcterms:W3CDTF">2008-12-08T21:24:45Z</dcterms:modified>
  <cp:revision>41</cp:revision>
  <dc:subject/>
  <dc:title>Слайд 1</dc:title>
</cp:coreProperties>
</file>