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53A9-1727-498F-8B67-DADA72A56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886B-1627-4559-8C2F-2DAD48148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2FBA-FB7F-4506-A9FB-22DC8F9FC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70D2-4283-4ECA-93A2-5ACB6FDAA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327953-149F-41C7-B317-5DA543DCB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63D5F7-5B55-429D-BD90-ACD8826D9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05BD27-65C2-479D-87A6-51D6049BA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DEEABC-9B48-4F11-9BB8-90FEA5264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9E02B6-3374-4151-B23F-95B1B977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69C44B-E639-4676-AB92-0F314B0EF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70B7F8-B0DB-4871-8380-077E918D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34B6-34F8-4E5E-A984-462E4CFFA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6CE65C-E23E-4FE6-9CB2-BD55BFEC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CFC0B9-77AA-4997-B469-73B05BC5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B5E1F0-D26F-42DA-8D6C-D7CABFBE1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685E10-31C4-4651-84B2-C6E3BF3D4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4FE044-34B7-41E0-A6BF-EA7CF5206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3112C-5194-4C23-A0F7-57D57CCFF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94DDB-3ACF-4DBD-987B-CD4561E8A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22CB2-AD9A-4C67-95DC-B88DCF365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A68BE-B28D-46FA-9FEC-F166E357F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BAFEA-3179-41EE-BF42-D37D9B097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0816-E3DB-4500-86E1-7FF1144AE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419BC-8382-4291-8064-8E8C42D30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A801D-14B0-43DA-93BB-E973B6B7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A028C-C23A-49AF-AFA4-48E5A463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14B75-E14D-405B-A086-9D36588C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5461A-CD7D-412C-B005-7C9FF2F28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7D21E-4D57-4D56-8970-7D553D00F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D276B-626B-4B47-BBB9-7ACFBCE4F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D3D5-7B85-4335-9107-42BB101C9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A923-27A3-4151-BDF2-BD485D2FD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1D25-D8B4-496A-90A5-FA1B315AD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8801-8E45-4E85-8172-AA424CB0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0327-CB1F-44DE-B56F-CBEA15FD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0FE2-EC4B-4000-88E6-12BB221E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01ADB-354D-49A9-8A5C-EC28EE22FA3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CDFF4-CC64-44FB-BE67-BC63FDDC1CE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2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94E99-04EC-40FA-B94C-8C14FB0672F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files.ostrova.a1tv.ru/files/users/0014/5242/images/view/3681f3ab0a6ce08f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obolon.info/images/articles/20071106185947703_1.JPEG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hyperlink" Target="http://klopp.ru/uploads/posts/2008-05/1210404377_46c0d5449f69d.jpg" TargetMode="External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ahoma"/>
              </a:rPr>
              <a:t>Внеклассное мероприятие «Наследство Прометея»</a:t>
            </a:r>
            <a:br>
              <a:rPr sz="6000"/>
            </a:br>
            <a:r>
              <a:rPr b="0" lang="en-US" sz="6000" spc="-1" strike="noStrike">
                <a:solidFill>
                  <a:srgbClr val="ffffcc"/>
                </a:solidFill>
                <a:latin typeface="Tahoma"/>
              </a:rPr>
              <a:t>7 класс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28760" y="171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Изучая химию, мы научились зажигать костер без спичек.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5857920" y="542916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пы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28760" y="2928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Огонь очень красив.</a:t>
            </a:r>
            <a:br>
              <a:rPr sz="4400"/>
            </a:b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Если долго смотреть на пламя, возникают сказочные видения. Вспомните сказку Ер</a:t>
            </a:r>
            <a:r>
              <a:rPr b="1" lang="en-US" sz="4400" spc="-1" strike="noStrike">
                <a:solidFill>
                  <a:srgbClr val="feec94"/>
                </a:solidFill>
                <a:latin typeface="Arial"/>
              </a:rPr>
              <a:t>ш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ова П.П. «Конек-горбунок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57120" y="164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Белый столб стоит на крыше</a:t>
            </a:r>
            <a:br>
              <a:rPr sz="4400"/>
            </a:b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И растет все выше, выше</a:t>
            </a:r>
            <a:br>
              <a:rPr sz="4400"/>
            </a:b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Вот дорос до небес</a:t>
            </a:r>
            <a:br>
              <a:rPr sz="4400"/>
            </a:b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И исчез. </a:t>
            </a:r>
            <a:br>
              <a:rPr sz="4400"/>
            </a:b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6" name="TextBox 2"/>
          <p:cNvSpPr/>
          <p:nvPr/>
        </p:nvSpPr>
        <p:spPr>
          <a:xfrm>
            <a:off x="6072120" y="335772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(?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Прямоугольник 3"/>
          <p:cNvSpPr/>
          <p:nvPr/>
        </p:nvSpPr>
        <p:spPr>
          <a:xfrm>
            <a:off x="4214880" y="55720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пыт «Дым без огня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50560" y="277560"/>
            <a:ext cx="8435880" cy="559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Только на уроках химии можно увидеть дым без огня. А вообще дыма без огня не бывает. Огонь может быть злым и опасным.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Много бед они приносят людям.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Обратите внимание на картину Карла Брюллова «Последний день Помпеи».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10" name="Picture 4" descr="b089_4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28760" y="128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пыт «Извержение вулкана»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13" name="Picture 5" descr="Картинка 7 из 174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543040" cy="38098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Картинка 8 из 174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00200" y="0"/>
            <a:ext cx="3486240" cy="33336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9" descr="http://im7-tub.yandex.net/i?id=42025539&amp;tov=7"/>
          <p:cNvPicPr/>
          <p:nvPr/>
        </p:nvPicPr>
        <p:blipFill>
          <a:blip r:embed="rId5"/>
          <a:stretch/>
        </p:blipFill>
        <p:spPr>
          <a:xfrm>
            <a:off x="0" y="3286080"/>
            <a:ext cx="3714840" cy="35719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1" descr="Картинка 12 из 1740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714840" y="3286080"/>
            <a:ext cx="5508360" cy="35719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3" descr="http://im6-tub.yandex.net/i?id=24854438&amp;tov=6"/>
          <p:cNvPicPr/>
          <p:nvPr/>
        </p:nvPicPr>
        <p:blipFill>
          <a:blip r:embed="rId8"/>
          <a:stretch/>
        </p:blipFill>
        <p:spPr>
          <a:xfrm>
            <a:off x="5929200" y="0"/>
            <a:ext cx="3254400" cy="328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4200" y="2642760"/>
            <a:ext cx="851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Как можно потушить огонь?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Чтобы погасить огонь нужно нарушить одно из условий без которых огонь не может жить: 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-убрать источник тепла (залить огонь водой) -прекратить доступ 0</a:t>
            </a:r>
            <a:r>
              <a:rPr b="1" lang="ru-RU" sz="1400" spc="-1" strike="noStrike">
                <a:solidFill>
                  <a:srgbClr val="feec94"/>
                </a:solidFill>
                <a:latin typeface="Times New Roman"/>
              </a:rPr>
              <a:t>2 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(забросить песком, накрыть плотной тканью, использовать огнетушитель)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3840" y="2142720"/>
            <a:ext cx="857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1. Почему в лесу опасно разводить костры? 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2.</a:t>
            </a:r>
            <a:r>
              <a:rPr b="1" lang="ru-RU" sz="3200" spc="-1" strike="noStrike">
                <a:solidFill>
                  <a:srgbClr val="feec94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Почему нельзя оставлять в лесу битое стекло?</a:t>
            </a:r>
            <a:br>
              <a:rPr sz="3200"/>
            </a:b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6443640" y="4338720"/>
            <a:ext cx="2519280" cy="25192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3564000" y="2492280"/>
            <a:ext cx="2881080" cy="25290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3240000" cy="240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1071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Химия везде, химия во всем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о всем, чем мы дышим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о всем, что мы пьем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о всем, во всем что мы носим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о всем, чем стирае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Что же еще мы про химию знаем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Знаем немного. Пока! Но потом эту науку изучим, пойме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 rot="225600">
            <a:off x="42876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Comic Sans MS"/>
              </a:rPr>
              <a:t>До свидания! Спасибо за внимание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0040" y="3285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Явлении, которое может быть и союзником, другом, и злым, неуправляемым врагом.</a:t>
            </a:r>
            <a:br>
              <a:rPr sz="3200"/>
            </a:b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 </a:t>
            </a:r>
            <a:br>
              <a:rPr sz="3200"/>
            </a:b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Что же это такое?</a:t>
            </a:r>
            <a:br>
              <a:rPr sz="3200"/>
            </a:b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 Я в небе молнией рожден,</a:t>
            </a:r>
            <a:br>
              <a:rPr sz="3200"/>
            </a:b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 И человеком приручен,</a:t>
            </a:r>
            <a:br>
              <a:rPr sz="3200"/>
            </a:b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 С людьми умею я дружить,</a:t>
            </a:r>
            <a:br>
              <a:rPr sz="3200"/>
            </a:b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 Но им могу и навредить.</a:t>
            </a:r>
            <a:br>
              <a:rPr sz="3200"/>
            </a:b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                                                (?)</a:t>
            </a:r>
            <a:br>
              <a:rPr sz="3200"/>
            </a:b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                                                     </a:t>
            </a:r>
            <a:br>
              <a:rPr sz="3200"/>
            </a:b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3200"/>
            </a:b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28760" y="171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Откуда пришел огонь?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89" name="Picture 28" descr="C:\Documents and Settings\678\Рабочий стол\ек.jpg"/>
          <p:cNvPicPr/>
          <p:nvPr/>
        </p:nvPicPr>
        <p:blipFill>
          <a:blip r:embed="rId1"/>
          <a:srcRect l="11370" t="7403" r="18004" b="6806"/>
          <a:stretch/>
        </p:blipFill>
        <p:spPr>
          <a:xfrm>
            <a:off x="2700360" y="3141720"/>
            <a:ext cx="3324240" cy="284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Легенда о Прометее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85840" y="2928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Сначала люди не умели получать огонь, они лишь сохраняли его.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  Как называется хранилище огня?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57120" y="23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На многих языках мира это слово означает «дом». Первый дом человек построил для огня, чтобы защитить его от дождя и ветра.</a:t>
            </a:r>
            <a:br>
              <a:rPr sz="4400"/>
            </a:b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 Зачем людям нужен огонь?</a:t>
            </a:r>
            <a:br>
              <a:rPr sz="4400"/>
            </a:b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 Докажите что он наш друг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28760" y="1499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Подумайте, что нужно для того, чтобы появился огонь?</a:t>
            </a:r>
            <a:br>
              <a:rPr sz="3200"/>
            </a:b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5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356840" y="285840"/>
            <a:ext cx="735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196" name="Oval 19"/>
          <p:cNvSpPr/>
          <p:nvPr/>
        </p:nvSpPr>
        <p:spPr>
          <a:xfrm>
            <a:off x="3348000" y="2997360"/>
            <a:ext cx="2016000" cy="1800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20"/>
          <p:cNvSpPr/>
          <p:nvPr/>
        </p:nvSpPr>
        <p:spPr>
          <a:xfrm>
            <a:off x="3492360" y="3500280"/>
            <a:ext cx="166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ff"/>
                </a:solidFill>
                <a:latin typeface="Times New Roman"/>
              </a:rPr>
              <a:t>Источник тепл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Oval 21"/>
          <p:cNvSpPr/>
          <p:nvPr/>
        </p:nvSpPr>
        <p:spPr>
          <a:xfrm>
            <a:off x="5364000" y="2637000"/>
            <a:ext cx="2016360" cy="1800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ff"/>
                </a:solidFill>
                <a:latin typeface="Times New Roman"/>
              </a:rPr>
              <a:t>Горючий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ff"/>
                </a:solidFill>
                <a:latin typeface="Times New Roman"/>
              </a:rPr>
              <a:t>материа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Oval 24"/>
          <p:cNvSpPr/>
          <p:nvPr/>
        </p:nvSpPr>
        <p:spPr>
          <a:xfrm>
            <a:off x="1547640" y="2421000"/>
            <a:ext cx="1872000" cy="1800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25"/>
          <p:cNvSpPr/>
          <p:nvPr/>
        </p:nvSpPr>
        <p:spPr>
          <a:xfrm>
            <a:off x="1619280" y="30686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ff"/>
                </a:solidFill>
                <a:latin typeface="Times New Roman"/>
              </a:rPr>
              <a:t>Кислоро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1" name="Picture 28" descr="C:\Documents and Settings\678\Рабочий стол\ек.jpg"/>
          <p:cNvPicPr/>
          <p:nvPr/>
        </p:nvPicPr>
        <p:blipFill>
          <a:blip r:embed="rId1"/>
          <a:srcRect l="11365" t="7406" r="18003" b="6814"/>
          <a:stretch/>
        </p:blipFill>
        <p:spPr>
          <a:xfrm>
            <a:off x="3203640" y="907920"/>
            <a:ext cx="2500200" cy="214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08:23:42Z</dcterms:created>
  <dc:creator>школа</dc:creator>
  <dc:description/>
  <dc:language>en-US</dc:language>
  <cp:lastModifiedBy>Булат</cp:lastModifiedBy>
  <dcterms:modified xsi:type="dcterms:W3CDTF">2008-12-08T21:24:45Z</dcterms:modified>
  <cp:revision>41</cp:revision>
  <dc:subject/>
  <dc:title>Слайд 1</dc:title>
</cp:coreProperties>
</file>