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DE97-B2F2-4E0E-93FE-E06B6DEF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74D-02A0-49CD-85E5-76C48A4F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C9E-6B2A-4B19-98B1-CF7065AB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0FFD-2B48-48F2-9A30-BF52EA8A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11F0-A8AE-48CB-9BC6-E5C2AB83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8598-E6B5-4C38-8D9F-6C1EBD39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6ED3-DB7F-4DB2-9EA0-0228BAF8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32EF-6848-4467-9908-3EE77880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14FB-390B-4724-BAAA-E91FD778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F09A-AA33-4ADD-B0B6-95D237CE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D1E1-D42A-42B0-BFCD-C1353B8C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B3CD-E084-4817-99B3-925FA5F6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3E04-B9A4-4D09-B1E4-DC8B57CA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A2AE-DE94-4AB6-9E6E-00436D24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1A1D-C7B7-4042-BD84-17B5E8A2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9CA5-D6F0-4EFE-AA07-9F0FF498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945C-3A7F-4F5D-A29B-0323BAB9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BE9-2A45-4637-9FE1-1D223CC0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D744-F48E-4BFE-A411-5B88883E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C9A-7D41-41E9-A768-BB94D5F9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7B8-684F-45B5-A662-339F5E92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6D6-49FE-41F6-9CB5-9429B49E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F4F-6958-4B90-9739-30BCDCF2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56B-95A4-4DE3-A06D-61CD37D7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7B07-637A-4CD5-A597-1647A58534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73A4-B918-49F9-A72E-6685C1D6875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Урок математики в 5 классе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по теме «Среднее арифметическое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ата проведения урок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06.04.20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47640" y="40464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У «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. Большая Осиновка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124000" y="4869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читель математики Фомина Е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амостоятельная рабо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100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ариант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Среднее арифметическое четырех чисел 1,4. А среднее арифметическое трех других чисел 2,1. Найдите среднее арифметическое этих семи чисе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Среднее арифметическое двух чисел 1,36. Одно число в 2,4 раза меньше другого. Найдите эти чис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16000" y="980640"/>
            <a:ext cx="4032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Среднее арифметическое пяти чисел 2,4. А среднее арифметическое трех других чисел 3,2. Найдите среднее арифметическое этих восьми чисе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Среднее арифметическое двух чисел 1,68. Одно из этих чисел в 3,2 раза больше другого. Найдите эти числ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оверк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40212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риант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 1,4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∙ 4 = 5,6 – сумма 4-х чисе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2) 2,1 ∙ 3 = 6,3 – сумма 3-х чисе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3) 5,6 + 6,3 = 11,9 – сумма семи чисе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4) 11,9 : 7 = 1,7 – среднее арифметическое семи чисе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Ответ: 1,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1844280"/>
            <a:ext cx="380988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риант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 2,4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∙ 5 = 12 – сумма пяти чисе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2) 3,2 ∙ 3 = 9,6 – сумма трех чисе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3) 12 + 9,6 = 21,6 – сумма восьми чисе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4) 21,6 : 8 = 2,7 – среднее арифметическое восьми чисе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Ответ: 2,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овер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31640" y="1844280"/>
            <a:ext cx="3660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риант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усть меньшее число равно х, тогда большее – 2,4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х + 2,4х) : 2 = 1,36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,4х : 2 = 1,36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,4х = 1,36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∙ 2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3,4х = 2,72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х = 0,8.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0,8 – одно число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2,4 ∙ 0,8 = 1,92 – другое числ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Ответ: 0,8 и 1,9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76720" y="1773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риант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усть меньшее число равно х, тогда большее – 3,2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х + 3,2х) : 2 = 1,68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,2х : 2 = 1,68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,2х = 1,68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∙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,2х = 3,36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 = 0,8.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0,8 – одно число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,2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∙ 0,8 = 2,56 – другое числ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Ответ: 0,8 и 2,5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оверка заданий на карточка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40 + 41,42 + 43,24 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+ 46,38 + 49,51) : 5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= 220,55 : 5 = 44,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: 44,1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23,7 + 24,1 + 24,9 + +25,2 + 25,6 ) : 5 = =123,5 : 5 = 24,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: 24,7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Итог урок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7704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Найдите среднее арифметическое первых семи натуральных чисел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) 1                б) 4                в)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Сумма пяти чисел 20,5. Каково среднее арифметическое этих чисел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) 4,1              б) 41              в) 4,0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реднее арифметическое четырех чисел равно 2,1. Найдите сумму этих чисел: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) 8,4          б) 0,525           в) 6,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Oval 4"/>
          <p:cNvSpPr/>
          <p:nvPr/>
        </p:nvSpPr>
        <p:spPr>
          <a:xfrm>
            <a:off x="4284720" y="3213000"/>
            <a:ext cx="792000" cy="36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Oval 5"/>
          <p:cNvSpPr/>
          <p:nvPr/>
        </p:nvSpPr>
        <p:spPr>
          <a:xfrm>
            <a:off x="2340000" y="4365720"/>
            <a:ext cx="863640" cy="35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4,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2700360" y="5516640"/>
            <a:ext cx="934920" cy="36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8,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Домашнее зада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. 38 повторить, №№ 1527, 1535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готовиться к тестированию по теме «Все действия с десятичными дробями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j0298897"/>
          <p:cNvPicPr/>
          <p:nvPr/>
        </p:nvPicPr>
        <p:blipFill>
          <a:blip r:embed="rId1">
            <a:lum bright="84000"/>
          </a:blip>
          <a:stretch/>
        </p:blipFill>
        <p:spPr>
          <a:xfrm>
            <a:off x="611280" y="836640"/>
            <a:ext cx="8028000" cy="53816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547640" y="2060640"/>
            <a:ext cx="64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195640" y="2781360"/>
            <a:ext cx="56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ahoma"/>
              </a:rPr>
              <a:t>Спасибо!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ый сч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ычисл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а) 1,45 + 0,15           б) 9,8 – 5,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∙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4                        :  1,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+ 0,8                     +  1,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:  0,8                       ∙ 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________________                           ____________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?                            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684360" y="5013360"/>
            <a:ext cx="660240" cy="1295280"/>
          </a:xfrm>
          <a:custGeom>
            <a:avLst/>
            <a:gdLst>
              <a:gd name="textAreaLeft" fmla="*/ 88200 w 660240"/>
              <a:gd name="textAreaRight" fmla="*/ 572040 w 66024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4500720" y="5084640"/>
            <a:ext cx="660240" cy="1295640"/>
          </a:xfrm>
          <a:custGeom>
            <a:avLst/>
            <a:gdLst>
              <a:gd name="textAreaLeft" fmla="*/ 88200 w 660240"/>
              <a:gd name="textAreaRight" fmla="*/ 572040 w 66024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Используя найденные ответы и данные в таблице, заполните пропуск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843120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«          и                    – основа порядка в голове»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. Песталоцц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981080"/>
          <a:ext cx="8640720" cy="1735200"/>
        </p:xfrm>
        <a:graphic>
          <a:graphicData uri="http://schemas.openxmlformats.org/drawingml/2006/table">
            <a:tbl>
              <a:tblPr/>
              <a:tblGrid>
                <a:gridCol w="1438200"/>
                <a:gridCol w="1442880"/>
                <a:gridCol w="1440000"/>
                <a:gridCol w="1366920"/>
                <a:gridCol w="1514160"/>
                <a:gridCol w="1438560"/>
              </a:tblGrid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ч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ач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чис-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н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aa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разо-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aa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нима-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aad1"/>
                    </a:solidFill>
                  </a:tcPr>
                </a:tc>
              </a:tr>
            </a:tbl>
          </a:graphicData>
        </a:graphic>
      </p:graphicFrame>
      <p:sp>
        <p:nvSpPr>
          <p:cNvPr id="110" name="Text Box 41"/>
          <p:cNvSpPr/>
          <p:nvPr/>
        </p:nvSpPr>
        <p:spPr>
          <a:xfrm flipV="1">
            <a:off x="395280" y="278208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63"/>
          <p:cNvSpPr/>
          <p:nvPr/>
        </p:nvSpPr>
        <p:spPr>
          <a:xfrm>
            <a:off x="826920" y="4653000"/>
            <a:ext cx="863640" cy="431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65"/>
          <p:cNvSpPr/>
          <p:nvPr/>
        </p:nvSpPr>
        <p:spPr>
          <a:xfrm>
            <a:off x="2411280" y="4653000"/>
            <a:ext cx="1727280" cy="431640"/>
          </a:xfrm>
          <a:prstGeom prst="rect">
            <a:avLst/>
          </a:prstGeom>
          <a:solidFill>
            <a:srgbClr val="ffa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70"/>
          <p:cNvSpPr/>
          <p:nvPr/>
        </p:nvSpPr>
        <p:spPr>
          <a:xfrm>
            <a:off x="755640" y="4581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ч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71"/>
          <p:cNvSpPr/>
          <p:nvPr/>
        </p:nvSpPr>
        <p:spPr>
          <a:xfrm>
            <a:off x="2340000" y="4653000"/>
            <a:ext cx="18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ним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Индивидуальная рабо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Задание 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Найти среднее арифметическое чисе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,9;   5,1;   3,8;    6,2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Задание 2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реднее  арифметическое двух чисел 9,3. Одно из чисел равно 6,7. Найти второе числ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Задание 3.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втомобиль ехал два часа со скоростью 45 км/ч и один час со скоростью 60 км/ч. Найти среднюю скорость автомобил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Среднее арифметическо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55640" y="1989000"/>
            <a:ext cx="819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84360" y="2565360"/>
            <a:ext cx="2160360" cy="1009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арифметическо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6378480" y="2822400"/>
                <a:ext cx="1344600" cy="250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3" name="Text Box 13"/>
          <p:cNvSpPr/>
          <p:nvPr/>
        </p:nvSpPr>
        <p:spPr>
          <a:xfrm>
            <a:off x="2987640" y="270828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3708360" y="2565360"/>
            <a:ext cx="2016000" cy="936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умма чисе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5724360" y="278136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6300720" y="2565360"/>
            <a:ext cx="2087640" cy="936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Количеств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лагаемы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755640" y="4365720"/>
            <a:ext cx="1944720" cy="98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умма чисе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635280" y="4437000"/>
            <a:ext cx="2087640" cy="100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арифметическо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6443640" y="4365720"/>
            <a:ext cx="2089080" cy="100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Количеств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чисе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23"/>
          <p:cNvSpPr/>
          <p:nvPr/>
        </p:nvSpPr>
        <p:spPr>
          <a:xfrm flipV="1">
            <a:off x="2916360" y="45756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24"/>
          <p:cNvSpPr/>
          <p:nvPr/>
        </p:nvSpPr>
        <p:spPr>
          <a:xfrm flipV="1">
            <a:off x="5796000" y="45756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755640" y="27082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826920" y="292428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29"/>
          <p:cNvSpPr/>
          <p:nvPr/>
        </p:nvSpPr>
        <p:spPr>
          <a:xfrm>
            <a:off x="3924360" y="278136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30"/>
          <p:cNvSpPr/>
          <p:nvPr/>
        </p:nvSpPr>
        <p:spPr>
          <a:xfrm>
            <a:off x="6516720" y="278136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31"/>
          <p:cNvSpPr/>
          <p:nvPr/>
        </p:nvSpPr>
        <p:spPr>
          <a:xfrm>
            <a:off x="826920" y="458136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32"/>
          <p:cNvSpPr/>
          <p:nvPr/>
        </p:nvSpPr>
        <p:spPr>
          <a:xfrm>
            <a:off x="3708360" y="465300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33"/>
          <p:cNvSpPr/>
          <p:nvPr/>
        </p:nvSpPr>
        <p:spPr>
          <a:xfrm>
            <a:off x="6659640" y="47242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Задач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реднее арифметическое пяти чисел 4,7, а сумма других трех чисел 25,14. Найдите среднее арифметическое всех этих восьми чисе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Задание на сообразительност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айдите среднее арифметическо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елосипеда и мотоцик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рамвая и поезд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пельсина и лим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уфельки и сапог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ианино и баян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Холодильника и вентилятор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084720" y="2565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Мопед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859280" y="314172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651640" y="37162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716360" y="306864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Электрич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5148360" y="364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Грейпфру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5003640" y="414972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4932360" y="4149720"/>
            <a:ext cx="18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4932360" y="414972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4932360" y="414972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932360" y="4149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Ботинок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4643280" y="465300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4643280" y="472428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4716360" y="4653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Аккордеон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20"/>
          <p:cNvSpPr/>
          <p:nvPr/>
        </p:nvSpPr>
        <p:spPr>
          <a:xfrm>
            <a:off x="1476360" y="5661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Кондиционер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ahoma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6:51:46Z</dcterms:created>
  <dc:creator>Лариса Викторовна</dc:creator>
  <dc:description/>
  <dc:language>en-US</dc:language>
  <cp:lastModifiedBy>Customer</cp:lastModifiedBy>
  <dcterms:modified xsi:type="dcterms:W3CDTF">2013-04-08T15:38:42Z</dcterms:modified>
  <cp:revision>11</cp:revision>
  <dc:subject/>
  <dc:title>Урок математики в 5 классе  по теме «Среднее арифметическое»</dc:title>
</cp:coreProperties>
</file>