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5C05-E483-4FA8-96D1-016BEEFB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ED85-1684-4055-93B1-50BB77F3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85BC-CCE7-47C9-925E-DD5F5DF75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E051-94A7-4C1A-9EB8-8E989AB3E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ED20-D9F3-4F26-B73F-4C4D91E3E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4BDA-CBCE-4802-BB1B-7A1FC8AF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DF46-E220-4C77-A45F-4CA502C7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6D52-C0B4-4506-91A2-E0C0F603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B471-E6E0-4764-A644-3CD7727C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C67A-7F51-4BC2-863F-0BDCEB61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0A48-FA7D-49E2-960B-B4672BAA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43BB-707C-4553-8509-2491226F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6C8D-9438-4EFA-A0E0-09559051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B34C-7769-4BE5-8F62-8305479A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A893-9DC3-4F7F-9094-6A7E03F7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183E-463A-4145-8EE6-6D092FE1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97CC-6802-407D-A840-CB72EFFDB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B39E-EAF8-4C0B-A526-EF6A354D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BC2E-47B0-455B-AAAD-0EE76821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2E8B-E863-4B62-B567-7BF48FAF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A6D3-06AC-44BA-A3ED-CEF76002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7C45-13F1-495E-8347-6B20953A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6227-959E-46FF-9C96-0799F00F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65F4-42AA-40F1-8F2F-5AA18937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9727-77BA-4E59-B06F-0FF85AA4BE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132D-2513-4200-BA91-475F9866DE4F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Урок математики в 5 классе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по теме «Среднее арифметическое»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ата проведения урок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06.04.20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547640" y="404640"/>
            <a:ext cx="65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У «Средня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. Большая Осиновка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124000" y="4869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Учитель математики Фомина Е.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амостоятельная работ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41004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ариант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Среднее арифметическое четырех чисел 1,4. А среднее арифметическое трех других чисел 2,1. Найдите среднее арифметическое этих семи чисел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Среднее арифметическое двух чисел 1,36. Одно число в 2,4 раза меньше другого. Найдите эти числ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16000" y="980640"/>
            <a:ext cx="4032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ариант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Среднее арифметическое пяти чисел 2,4. А среднее арифметическое трех других чисел 3,2. Найдите среднее арифметическое этих восьми чисел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Среднее арифметическое двух чисел 1,68. Одно из этих чисел в 3,2 раза больше другого. Найдите эти числ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роверк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40212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ариант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) 1,4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∙ 4 = 5,6 – сумма 4-х чисе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2) 2,1 ∙ 3 = 6,3 – сумма 3-х чисе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3) 5,6 + 6,3 = 11,9 – сумма семи чисе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4) 11,9 : 7 = 1,7 – среднее арифметическое семи чисе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Ответ: 1,7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44760" y="1844280"/>
            <a:ext cx="380988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ариант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) 2,4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∙ 5 = 12 – сумма пяти чисе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2) 3,2 ∙ 3 = 9,6 – сумма трех чисе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3) 12 + 9,6 = 21,6 – сумма восьми чисе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4) 21,6 : 8 = 2,7 – среднее арифметическое восьми чисе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Ответ: 2,7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оверк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31640" y="1844280"/>
            <a:ext cx="366084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ариант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усть меньшее число равно х, тогда большее – 2,4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х + 2,4х) : 2 = 1,36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,4х : 2 = 1,36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,4х = 1,36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∙ 2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3,4х = 2,72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х = 0,8.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0,8 – одно число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2,4 ∙ 0,8 = 1,92 – другое числ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Ответ: 0,8 и 1,9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76720" y="1773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ариант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усть меньшее число равно х, тогда большее – 3,2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х + 3,2х) : 2 = 1,68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,2х : 2 = 1,68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,2х = 1,68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∙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,2х = 3,36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 = 0,8.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0,8 – одно число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,2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∙ 0,8 = 2,56 – другое числ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Ответ: 0,8 и 2,56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роверка заданий на карточках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0328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40 + 41,42 + 43,24 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+ 46,38 + 49,51) : 5 =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= 220,55 : 5 = 44,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т: 44,1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23,7 + 24,1 + 24,9 + +25,2 + 25,6 ) : 5 = =123,5 : 5 = 24,7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т: 24,7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Итог урок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99640" y="2060280"/>
            <a:ext cx="7704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Найдите среднее арифметическое первых семи натуральных чисел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) 1                б) 4                в)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Сумма пяти чисел 20,5. Каково среднее арифметическое этих чисел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) 4,1              б) 41              в) 4,0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Среднее арифметическое четырех чисел равно 2,1. Найдите сумму этих чисел: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) 8,4          б) 0,525           в) 6,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Oval 4"/>
          <p:cNvSpPr/>
          <p:nvPr/>
        </p:nvSpPr>
        <p:spPr>
          <a:xfrm>
            <a:off x="4284720" y="3213000"/>
            <a:ext cx="792000" cy="3603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) 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Oval 5"/>
          <p:cNvSpPr/>
          <p:nvPr/>
        </p:nvSpPr>
        <p:spPr>
          <a:xfrm>
            <a:off x="2340000" y="4365720"/>
            <a:ext cx="863640" cy="35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) 4,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Oval 6"/>
          <p:cNvSpPr/>
          <p:nvPr/>
        </p:nvSpPr>
        <p:spPr>
          <a:xfrm>
            <a:off x="2700360" y="5516640"/>
            <a:ext cx="934920" cy="3603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) 8,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Домашнее задание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. 38 повторить, №№ 1527, 1535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дготовиться к тестированию по теме «Все действия с десятичными дробями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j0298897"/>
          <p:cNvPicPr/>
          <p:nvPr/>
        </p:nvPicPr>
        <p:blipFill>
          <a:blip r:embed="rId1">
            <a:lum bright="84000"/>
          </a:blip>
          <a:stretch/>
        </p:blipFill>
        <p:spPr>
          <a:xfrm>
            <a:off x="611280" y="836640"/>
            <a:ext cx="8028000" cy="538164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1547640" y="2060640"/>
            <a:ext cx="64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2195640" y="2781360"/>
            <a:ext cx="568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ahoma"/>
              </a:rPr>
              <a:t>Спасибо!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ый сче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Вычисл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а) 1,45 + 0,15           б) 9,8 – 5,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∙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4                        :  1,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+ 0,8                     +  1,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:  0,8                       ∙ 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________________                           _____________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?                            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684360" y="5013360"/>
            <a:ext cx="660240" cy="1295280"/>
          </a:xfrm>
          <a:custGeom>
            <a:avLst/>
            <a:gdLst>
              <a:gd name="textAreaLeft" fmla="*/ 88200 w 660240"/>
              <a:gd name="textAreaRight" fmla="*/ 572040 w 66024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4500720" y="5084640"/>
            <a:ext cx="660240" cy="1295640"/>
          </a:xfrm>
          <a:custGeom>
            <a:avLst/>
            <a:gdLst>
              <a:gd name="textAreaLeft" fmla="*/ 88200 w 660240"/>
              <a:gd name="textAreaRight" fmla="*/ 572040 w 660240"/>
              <a:gd name="textAreaTop" fmla="*/ 226800 h 1295640"/>
              <a:gd name="textAreaBottom" fmla="*/ 93960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Используя найденные ответы и данные в таблице, заполните пропуски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.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4581360"/>
            <a:ext cx="843120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«          и                    – основа порядка в голове»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. Песталоцц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24000" y="1981080"/>
          <a:ext cx="8640720" cy="1735200"/>
        </p:xfrm>
        <a:graphic>
          <a:graphicData uri="http://schemas.openxmlformats.org/drawingml/2006/table">
            <a:tbl>
              <a:tblPr/>
              <a:tblGrid>
                <a:gridCol w="1438200"/>
                <a:gridCol w="1442880"/>
                <a:gridCol w="1440000"/>
                <a:gridCol w="1366920"/>
                <a:gridCol w="1514160"/>
                <a:gridCol w="1438560"/>
              </a:tblGrid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ч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дач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чис-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н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aa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бразо-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aa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нима-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aad1"/>
                    </a:solidFill>
                  </a:tcPr>
                </a:tc>
              </a:tr>
            </a:tbl>
          </a:graphicData>
        </a:graphic>
      </p:graphicFrame>
      <p:sp>
        <p:nvSpPr>
          <p:cNvPr id="110" name="Text Box 41"/>
          <p:cNvSpPr/>
          <p:nvPr/>
        </p:nvSpPr>
        <p:spPr>
          <a:xfrm flipV="1">
            <a:off x="395280" y="2782080"/>
            <a:ext cx="12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63"/>
          <p:cNvSpPr/>
          <p:nvPr/>
        </p:nvSpPr>
        <p:spPr>
          <a:xfrm>
            <a:off x="826920" y="4653000"/>
            <a:ext cx="863640" cy="431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65"/>
          <p:cNvSpPr/>
          <p:nvPr/>
        </p:nvSpPr>
        <p:spPr>
          <a:xfrm>
            <a:off x="2411280" y="4653000"/>
            <a:ext cx="1727280" cy="431640"/>
          </a:xfrm>
          <a:prstGeom prst="rect">
            <a:avLst/>
          </a:prstGeom>
          <a:solidFill>
            <a:srgbClr val="ffa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70"/>
          <p:cNvSpPr/>
          <p:nvPr/>
        </p:nvSpPr>
        <p:spPr>
          <a:xfrm>
            <a:off x="755640" y="458136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ч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71"/>
          <p:cNvSpPr/>
          <p:nvPr/>
        </p:nvSpPr>
        <p:spPr>
          <a:xfrm>
            <a:off x="2340000" y="4653000"/>
            <a:ext cx="187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нима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ahoma"/>
              </a:rPr>
              <a:t>Молодцы!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f0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Индивидуальная работ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7487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Задание 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Найти среднее арифметическое чисе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,9;   5,1;   3,8;    6,2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Задание 2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реднее  арифметическое двух чисел 9,3. Одно из чисел равно 6,7. Найти второе числ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Задание 3.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втомобиль ехал два часа со скоростью 45 км/ч и один час со скоростью 60 км/ч. Найти среднюю скорость автомобил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Среднее арифметическо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755640" y="1989000"/>
            <a:ext cx="8199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84360" y="2565360"/>
            <a:ext cx="2160360" cy="1009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Средне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арифметическо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11"/>
              <p:cNvSpPr txBox="1"/>
              <p:nvPr/>
            </p:nvSpPr>
            <p:spPr>
              <a:xfrm>
                <a:off x="6378480" y="2822400"/>
                <a:ext cx="1344600" cy="250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3" name="Text Box 13"/>
          <p:cNvSpPr/>
          <p:nvPr/>
        </p:nvSpPr>
        <p:spPr>
          <a:xfrm>
            <a:off x="2987640" y="2708280"/>
            <a:ext cx="3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3708360" y="2565360"/>
            <a:ext cx="2016000" cy="936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Сумма чисе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5724360" y="2781360"/>
            <a:ext cx="2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6300720" y="2565360"/>
            <a:ext cx="2087640" cy="936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Количество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слагаемы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755640" y="4365720"/>
            <a:ext cx="1944720" cy="98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Сумма чисе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3635280" y="4437000"/>
            <a:ext cx="2087640" cy="1008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Средне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арифметическо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21"/>
          <p:cNvSpPr/>
          <p:nvPr/>
        </p:nvSpPr>
        <p:spPr>
          <a:xfrm>
            <a:off x="6443640" y="4365720"/>
            <a:ext cx="2089080" cy="1008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Количество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чисе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23"/>
          <p:cNvSpPr/>
          <p:nvPr/>
        </p:nvSpPr>
        <p:spPr>
          <a:xfrm flipV="1">
            <a:off x="2916360" y="45756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24"/>
          <p:cNvSpPr/>
          <p:nvPr/>
        </p:nvSpPr>
        <p:spPr>
          <a:xfrm flipV="1">
            <a:off x="5796000" y="45756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27"/>
          <p:cNvSpPr/>
          <p:nvPr/>
        </p:nvSpPr>
        <p:spPr>
          <a:xfrm>
            <a:off x="755640" y="270828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28"/>
          <p:cNvSpPr/>
          <p:nvPr/>
        </p:nvSpPr>
        <p:spPr>
          <a:xfrm>
            <a:off x="826920" y="2924280"/>
            <a:ext cx="19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29"/>
          <p:cNvSpPr/>
          <p:nvPr/>
        </p:nvSpPr>
        <p:spPr>
          <a:xfrm>
            <a:off x="3924360" y="278136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30"/>
          <p:cNvSpPr/>
          <p:nvPr/>
        </p:nvSpPr>
        <p:spPr>
          <a:xfrm>
            <a:off x="6516720" y="278136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31"/>
          <p:cNvSpPr/>
          <p:nvPr/>
        </p:nvSpPr>
        <p:spPr>
          <a:xfrm>
            <a:off x="826920" y="4581360"/>
            <a:ext cx="17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32"/>
          <p:cNvSpPr/>
          <p:nvPr/>
        </p:nvSpPr>
        <p:spPr>
          <a:xfrm>
            <a:off x="3708360" y="465300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33"/>
          <p:cNvSpPr/>
          <p:nvPr/>
        </p:nvSpPr>
        <p:spPr>
          <a:xfrm>
            <a:off x="6659640" y="472428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Задач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реднее арифметическое пяти чисел 4,7, а сумма других трех чисел 25,14. Найдите среднее арифметическое всех этих восьми чисе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Задание на сообразительность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Найдите среднее арифметическо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елосипеда и мотоцикл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рамвая и поезд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пельсина и лимо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уфельки и сапог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ианино и баян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Холодильника и вентилятор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6084720" y="256536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Мопед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4859280" y="314172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5651640" y="37162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4716360" y="306864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Электричк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5148360" y="3645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Грейпфрут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5003640" y="414972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4932360" y="4149720"/>
            <a:ext cx="187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4932360" y="414972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4932360" y="414972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4932360" y="414972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Ботинок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4643280" y="465300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4643280" y="472428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4716360" y="4653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Аккордеон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20"/>
          <p:cNvSpPr/>
          <p:nvPr/>
        </p:nvSpPr>
        <p:spPr>
          <a:xfrm>
            <a:off x="1476360" y="56610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Кондиционер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ahoma"/>
              </a:rPr>
              <a:t>Молодцы!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6:51:46Z</dcterms:created>
  <dc:creator>Лариса Викторовна</dc:creator>
  <dc:description/>
  <dc:language>en-US</dc:language>
  <cp:lastModifiedBy>Customer</cp:lastModifiedBy>
  <dcterms:modified xsi:type="dcterms:W3CDTF">2013-04-08T15:38:42Z</dcterms:modified>
  <cp:revision>11</cp:revision>
  <dc:subject/>
  <dc:title>Урок математики в 5 классе  по теме «Среднее арифметическое»</dc:title>
</cp:coreProperties>
</file>