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434-867E-49C0-B1DB-6258779C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EB8-1376-4881-ADB4-817104A3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556C-6EB4-40FC-8915-35F2F043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C32-97C7-4AAC-A241-38FB9A5A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307-686E-421B-969F-7FF1450D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406-E464-43AF-9396-D1F52F7E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E2B3-8D68-4C86-BC7D-1200236E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F1D-2AAF-43E1-A3A6-CAC26D95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A6D4-0850-4596-8D0A-6654664C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52A-3C0E-4B92-BAB9-AA225436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884-3611-4D67-B13A-805E9883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21A-CF14-4632-ACD3-80F8ADC9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AB4C-82E2-44A9-A200-D0DF13760A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324000" y="3571920"/>
            <a:ext cx="85341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иннигалиева Г. 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рентьева Ф.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ДОУ «ДС № 10» г. Уси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826920" y="1052640"/>
            <a:ext cx="770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  <a:ea typeface="BatangChe"/>
              </a:rPr>
              <a:t>Сказкотерап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  <a:ea typeface="BatangChe"/>
              </a:rPr>
              <a:t>в    работе с   дошкольни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межуточные результаты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915920"/>
            <a:ext cx="8136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азки  развивают воображение ребёнка, учат свободно, не страшась опасностей, импровизировать, дают детям чудесное умение использовать для решения проблем волшебную силу творчества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539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00320" y="213840"/>
            <a:ext cx="494964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560" y="333360"/>
            <a:ext cx="8893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азкотерап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ие практической психологии, которое, используя метафорические ресурсы сказки, позволяет людям развить самосознание, стать самими собой, и построить особые доверительные, близкие отношения с окружающи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пособ передачи индивидууму (чаще ребенку) необходимых моральных норм и прав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539640" y="2133720"/>
            <a:ext cx="7431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- закреплять коммуникативные навыки (умение выразить свою мысль, намерение, эмоцию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468360" y="260280"/>
            <a:ext cx="82803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- формировать личность ребенка (чувство ответственности за общее дело, желание заявить о себе среди сверстников и взрослы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539640" y="3844800"/>
            <a:ext cx="739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- развивать психические функции и творческое воображение (внимания, памяти, речи, восприят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539640" y="4857840"/>
            <a:ext cx="68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- воспитывать нравственные ка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571680" y="2643120"/>
            <a:ext cx="82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зки! Они с нами рядом всю жизнь. Одни из них учат уму-разуму, другие – добру и счастью, третьи волшебные, завораживают нас чудес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мы представляем себя то Иван- царевичем, то прекрасной принцессой, то доброй феей Сказк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я психологов показывают, что в любимых сказках запрограммирована жизнь ребенк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Скажи мне, какая твоя любимая сказка, и я скажу, кто ты"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ак перефразировали известную пословицу психоанали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2129040" cy="22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Администратор\Мои документы\Мои рисунки\Про театр\золушка.jpg"/>
          <p:cNvPicPr/>
          <p:nvPr/>
        </p:nvPicPr>
        <p:blipFill>
          <a:blip r:embed="rId2"/>
          <a:stretch/>
        </p:blipFill>
        <p:spPr>
          <a:xfrm>
            <a:off x="2928960" y="357120"/>
            <a:ext cx="3139920" cy="2071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6500880" y="181080"/>
            <a:ext cx="24652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571680" y="714240"/>
            <a:ext cx="7858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зки для сказкотерапии подбираются разны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народные и авторские, специально разработанные психокоррекционные и медитативные сказки, и многие другие. Часто взрослый предлагает малышу сочинить сказку самостоятельно. Сочинение сказок ребёнком и для ребёнка - основа сказкотерапии. Через сказку можно узнать о таких переживаниях детей, которые они сами толком не осознают, или стесняются обсуждать их со взросл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Администратор\Мои документы\Мои рисунки\Про театр\Буратино.jpg"/>
          <p:cNvPicPr/>
          <p:nvPr/>
        </p:nvPicPr>
        <p:blipFill>
          <a:blip r:embed="rId1"/>
          <a:stretch/>
        </p:blipFill>
        <p:spPr>
          <a:xfrm>
            <a:off x="108000" y="4818240"/>
            <a:ext cx="2357280" cy="1769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Администратор\Мои документы\Мои рисунки\Про театр\клоуны.jpg"/>
          <p:cNvPicPr/>
          <p:nvPr/>
        </p:nvPicPr>
        <p:blipFill>
          <a:blip r:embed="rId2"/>
          <a:stretch/>
        </p:blipFill>
        <p:spPr>
          <a:xfrm>
            <a:off x="3247920" y="4818240"/>
            <a:ext cx="2357640" cy="1769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Администратор\Мои документы\Мои рисунки\Про театр\люди икуклы.jpg"/>
          <p:cNvPicPr/>
          <p:nvPr/>
        </p:nvPicPr>
        <p:blipFill>
          <a:blip r:embed="rId3"/>
          <a:stretch/>
        </p:blipFill>
        <p:spPr>
          <a:xfrm>
            <a:off x="6224760" y="4818240"/>
            <a:ext cx="26622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296244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горитм работы: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этап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комство с разнообразием сказок. Чтение и беседа по сказке. Оценка поступков герое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G:\Фотоальбом\ФАИНА\фотоальбом\DSCN0081.JPG"/>
          <p:cNvPicPr/>
          <p:nvPr/>
        </p:nvPicPr>
        <p:blipFill>
          <a:blip r:embed="rId1"/>
          <a:stretch/>
        </p:blipFill>
        <p:spPr>
          <a:xfrm>
            <a:off x="3000240" y="1052640"/>
            <a:ext cx="60516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3500280" y="500040"/>
            <a:ext cx="2714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ование сюжета по сказ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пка любимых героев сказ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елки: маски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лфеточная апплик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H:\DSCN1056.JPG"/>
          <p:cNvPicPr/>
          <p:nvPr/>
        </p:nvPicPr>
        <p:blipFill>
          <a:blip r:embed="rId1"/>
          <a:stretch/>
        </p:blipFill>
        <p:spPr>
          <a:xfrm>
            <a:off x="142920" y="571680"/>
            <a:ext cx="3286080" cy="2786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:\DSCN1064.JPG"/>
          <p:cNvPicPr/>
          <p:nvPr/>
        </p:nvPicPr>
        <p:blipFill>
          <a:blip r:embed="rId2"/>
          <a:stretch/>
        </p:blipFill>
        <p:spPr>
          <a:xfrm>
            <a:off x="285840" y="3643200"/>
            <a:ext cx="3952800" cy="2946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:\DSCN1066.JPG"/>
          <p:cNvPicPr/>
          <p:nvPr/>
        </p:nvPicPr>
        <p:blipFill>
          <a:blip r:embed="rId3"/>
          <a:stretch/>
        </p:blipFill>
        <p:spPr>
          <a:xfrm>
            <a:off x="4500720" y="364320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:\DSCN1058.JPG"/>
          <p:cNvPicPr/>
          <p:nvPr/>
        </p:nvPicPr>
        <p:blipFill>
          <a:blip r:embed="rId4"/>
          <a:stretch/>
        </p:blipFill>
        <p:spPr>
          <a:xfrm>
            <a:off x="6000840" y="500040"/>
            <a:ext cx="300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500040" y="428760"/>
            <a:ext cx="371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зта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аматизация (проигрывание сказки в ролях). Настольный театр. Пальчиковый и теневой теа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User\Desktop\DSCN0947.JPG"/>
          <p:cNvPicPr/>
          <p:nvPr/>
        </p:nvPicPr>
        <p:blipFill>
          <a:blip r:embed="rId1"/>
          <a:stretch/>
        </p:blipFill>
        <p:spPr>
          <a:xfrm>
            <a:off x="4643280" y="285840"/>
            <a:ext cx="4214880" cy="2928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:\DSCN0913.JPG"/>
          <p:cNvPicPr/>
          <p:nvPr/>
        </p:nvPicPr>
        <p:blipFill>
          <a:blip r:embed="rId2"/>
          <a:stretch/>
        </p:blipFill>
        <p:spPr>
          <a:xfrm>
            <a:off x="500040" y="3286080"/>
            <a:ext cx="4336920" cy="32529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5072040" y="407196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начинаем играть в сказки и творить чудеса. Сказки помогают раскрыть творческие способности детей. В каждом ребенке можно открыть арт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4786200" y="57168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эт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сихокоррекционные ска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H:\DSCN0916.JPG"/>
          <p:cNvPicPr/>
          <p:nvPr/>
        </p:nvPicPr>
        <p:blipFill>
          <a:blip r:embed="rId1"/>
          <a:stretch/>
        </p:blipFill>
        <p:spPr>
          <a:xfrm>
            <a:off x="4429080" y="32860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:\RSCN3167.JPG"/>
          <p:cNvPicPr/>
          <p:nvPr/>
        </p:nvPicPr>
        <p:blipFill>
          <a:blip r:embed="rId2"/>
          <a:stretch/>
        </p:blipFill>
        <p:spPr>
          <a:xfrm>
            <a:off x="357120" y="357120"/>
            <a:ext cx="4000680" cy="30006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4714920" y="1214280"/>
            <a:ext cx="421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принцип подбора сказок – это направленность проблемной ситуации, характерной для данного возраста, нравственный урок, который дает сказка, доступный для осмысления детям старшего дошкольно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357120" y="4071960"/>
            <a:ext cx="385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о бы сказки ж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нами вечно чтоб друж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х девчонок и мальч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шь хорошему учил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3:49:18Z</dcterms:created>
  <dc:creator>XTreme</dc:creator>
  <dc:description/>
  <dc:language>en-US</dc:language>
  <cp:lastModifiedBy>1</cp:lastModifiedBy>
  <dcterms:modified xsi:type="dcterms:W3CDTF">2013-04-07T07:27:37Z</dcterms:modified>
  <cp:revision>100</cp:revision>
  <dc:subject/>
  <dc:title>Слайд 1</dc:title>
</cp:coreProperties>
</file>