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CA3-EBEC-4FEA-B708-1C951F2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058-8EDD-46A8-AE04-CA46324C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037-3BD7-4CD0-A010-252624B3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BF3-AEC7-45D1-BB13-809EB611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7C7-9AE7-48E4-BE05-9F9BBB2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F07-2D54-4725-8B5C-36C0086E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445-4D96-4141-B4B5-418BA03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CF6-6C45-42A9-98EF-FD8CE81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EEF-F164-45FB-913A-9642A5C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F68-C4B8-453E-B1FD-5C8E758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C56-D588-489B-8E3C-92A2156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E69-F3A2-4FD5-989A-FC9FA9E0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8D6-8B60-4507-B551-A24F595A8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324000" y="3571920"/>
            <a:ext cx="8534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ннигалиева Г. 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ентьева Ф.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ДОУ «ДС № 10» г. Ус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26920" y="1052640"/>
            <a:ext cx="770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BatangChe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BatangChe"/>
              </a:rPr>
              <a:t>в    работе с   дошколь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межуточные результат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915920"/>
            <a:ext cx="8136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азки  развивают воображение ребёнка, учат свободно, не страшась опасностей, импровизировать, дают детям чудесное умение использовать для решения проблем волшебную силу творчеств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53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00320" y="213840"/>
            <a:ext cx="49496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отерап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ие практической психологии, которое, используя метафорические ресурсы сказки, позволяет людям развить самосознание, стать самими собой, и построить особые доверительные, близкие отношения с окружающ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пособ передачи индивидууму (чаще ребенку) необходимых моральных норм и прав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539640" y="2133720"/>
            <a:ext cx="7431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закреплять коммуникативные навыки (умение выразить свою мысль, намерение, эмоци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68360" y="260280"/>
            <a:ext cx="8280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формировать личность ребенка (чувство ответственности за общее дело, желание заявить о себе среди сверстников и взросл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539640" y="3844800"/>
            <a:ext cx="73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развивать психические функции и творческое воображение (внимания, памяти, речи, воспри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539640" y="4857840"/>
            <a:ext cx="68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воспитывать нравствен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571680" y="2643120"/>
            <a:ext cx="82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ки! Они с нами рядом всю жизнь. Одни из них учат уму-разуму, другие – добру и счастью, третьи волшебные, завораживают нас чуде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ы представляем себя то Иван- царевичем, то прекрасной принцессой, то доброй феей Сказк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я психологов показывают, что в любимых сказках запрограммирована жизнь ребенк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Скажи мне, какая твоя любимая сказка, и я скажу, кто ты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ак перефразировали известную пословицу психоанал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2129040" cy="22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Администратор\Мои документы\Мои рисунки\Про театр\золушка.jpg"/>
          <p:cNvPicPr/>
          <p:nvPr/>
        </p:nvPicPr>
        <p:blipFill>
          <a:blip r:embed="rId2"/>
          <a:stretch/>
        </p:blipFill>
        <p:spPr>
          <a:xfrm>
            <a:off x="2928960" y="357120"/>
            <a:ext cx="313992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6500880" y="181080"/>
            <a:ext cx="24652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71680" y="71424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 для сказкотерапии подбираются разны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народные и авторские, специально разработанные психокоррекционные и медитативные сказки, и многие другие. Часто взрослый предлагает малышу сочинить сказку самостоятельно. Сочинение сказок ребёнком и для ребёнка - основа сказкотерапии. Через сказку можно узнать о таких переживаниях детей, которые они сами толком не осознают, или стесняются обсуждать их со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Администратор\Мои документы\Мои рисунки\Про театр\Буратино.jpg"/>
          <p:cNvPicPr/>
          <p:nvPr/>
        </p:nvPicPr>
        <p:blipFill>
          <a:blip r:embed="rId1"/>
          <a:stretch/>
        </p:blipFill>
        <p:spPr>
          <a:xfrm>
            <a:off x="108000" y="4818240"/>
            <a:ext cx="2357280" cy="176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Администратор\Мои документы\Мои рисунки\Про театр\клоуны.jpg"/>
          <p:cNvPicPr/>
          <p:nvPr/>
        </p:nvPicPr>
        <p:blipFill>
          <a:blip r:embed="rId2"/>
          <a:stretch/>
        </p:blipFill>
        <p:spPr>
          <a:xfrm>
            <a:off x="3247920" y="4818240"/>
            <a:ext cx="2357640" cy="176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Администратор\Мои документы\Мои рисунки\Про театр\люди икуклы.jpg"/>
          <p:cNvPicPr/>
          <p:nvPr/>
        </p:nvPicPr>
        <p:blipFill>
          <a:blip r:embed="rId3"/>
          <a:stretch/>
        </p:blipFill>
        <p:spPr>
          <a:xfrm>
            <a:off x="6224760" y="4818240"/>
            <a:ext cx="26622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296244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работы: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этап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комство с разнообразием сказок. Чтение и беседа по сказке. Оценка поступков геро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Фотоальбом\ФАИНА\фотоальбом\DSCN0081.JPG"/>
          <p:cNvPicPr/>
          <p:nvPr/>
        </p:nvPicPr>
        <p:blipFill>
          <a:blip r:embed="rId1"/>
          <a:stretch/>
        </p:blipFill>
        <p:spPr>
          <a:xfrm>
            <a:off x="3000240" y="1052640"/>
            <a:ext cx="60516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3500280" y="500040"/>
            <a:ext cx="271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сюжета по сказ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пка любимых героев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елки: маск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лфеточная аппл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H:\DSCN1056.JPG"/>
          <p:cNvPicPr/>
          <p:nvPr/>
        </p:nvPicPr>
        <p:blipFill>
          <a:blip r:embed="rId1"/>
          <a:stretch/>
        </p:blipFill>
        <p:spPr>
          <a:xfrm>
            <a:off x="142920" y="57168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:\DSCN1064.JPG"/>
          <p:cNvPicPr/>
          <p:nvPr/>
        </p:nvPicPr>
        <p:blipFill>
          <a:blip r:embed="rId2"/>
          <a:stretch/>
        </p:blipFill>
        <p:spPr>
          <a:xfrm>
            <a:off x="285840" y="3643200"/>
            <a:ext cx="3952800" cy="294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DSCN1066.JPG"/>
          <p:cNvPicPr/>
          <p:nvPr/>
        </p:nvPicPr>
        <p:blipFill>
          <a:blip r:embed="rId3"/>
          <a:stretch/>
        </p:blipFill>
        <p:spPr>
          <a:xfrm>
            <a:off x="4500720" y="364320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:\DSCN1058.JPG"/>
          <p:cNvPicPr/>
          <p:nvPr/>
        </p:nvPicPr>
        <p:blipFill>
          <a:blip r:embed="rId4"/>
          <a:stretch/>
        </p:blipFill>
        <p:spPr>
          <a:xfrm>
            <a:off x="6000840" y="500040"/>
            <a:ext cx="300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500040" y="42876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матизация (проигрывание сказки в ролях). Настольный театр. Пальчиковый и теневой теа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User\Desktop\DSCN0947.JPG"/>
          <p:cNvPicPr/>
          <p:nvPr/>
        </p:nvPicPr>
        <p:blipFill>
          <a:blip r:embed="rId1"/>
          <a:stretch/>
        </p:blipFill>
        <p:spPr>
          <a:xfrm>
            <a:off x="4643280" y="28584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:\DSCN0913.JPG"/>
          <p:cNvPicPr/>
          <p:nvPr/>
        </p:nvPicPr>
        <p:blipFill>
          <a:blip r:embed="rId2"/>
          <a:stretch/>
        </p:blipFill>
        <p:spPr>
          <a:xfrm>
            <a:off x="500040" y="3286080"/>
            <a:ext cx="4336920" cy="3252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5072040" y="407196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начинаем играть в сказки и творить чудеса. Сказки помогают раскрыть творческие способности детей. В каждом ребенке можно открыть арт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786200" y="5716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сихокоррекционные ск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:\DSCN0916.JPG"/>
          <p:cNvPicPr/>
          <p:nvPr/>
        </p:nvPicPr>
        <p:blipFill>
          <a:blip r:embed="rId1"/>
          <a:stretch/>
        </p:blipFill>
        <p:spPr>
          <a:xfrm>
            <a:off x="4429080" y="32860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RSCN3167.JPG"/>
          <p:cNvPicPr/>
          <p:nvPr/>
        </p:nvPicPr>
        <p:blipFill>
          <a:blip r:embed="rId2"/>
          <a:stretch/>
        </p:blipFill>
        <p:spPr>
          <a:xfrm>
            <a:off x="357120" y="357120"/>
            <a:ext cx="4000680" cy="30006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714920" y="1214280"/>
            <a:ext cx="42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принцип подбора сказок – это направленность проблемной ситуации, характерной для данного возраста, нравственный урок, который дает сказка, доступный для осмысления детям старшего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357120" y="407196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о бы сказки ж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ами вечно чтоб друж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х девчонок и мальч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ь хорошему учи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49:18Z</dcterms:created>
  <dc:creator>XTreme</dc:creator>
  <dc:description/>
  <dc:language>en-US</dc:language>
  <cp:lastModifiedBy>1</cp:lastModifiedBy>
  <dcterms:modified xsi:type="dcterms:W3CDTF">2013-04-07T07:27:37Z</dcterms:modified>
  <cp:revision>100</cp:revision>
  <dc:subject/>
  <dc:title>Слайд 1</dc:title>
</cp:coreProperties>
</file>