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912-B0F0-4CDB-A043-728D9F6F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EA0-1135-43AC-8B20-46E87AF9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DAD-59D5-449E-8116-4A8E333A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FCB-9EB3-4B1A-83D5-91751643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AB6-0C4D-4A36-8AA8-92295008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51D-05E5-49F6-B21B-50BA652A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E1D-9E54-46CB-BA9A-F693D524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1AE-DAF7-42C3-BF61-F2D6D38C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DA2-F631-46D1-AEE3-B78D0271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B6C-BC05-456F-B8C2-1BC7810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9D1-B2D3-40EC-A028-E9F55341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85C-706C-4510-A86A-9C612CA3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C734-0FAE-4C70-93AC-7E44CBB17F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люда\рисунки 500\PowerDVD 2009-02-02 22-44-55-0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Проблема исследован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82152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Во что превращается замёрзшая вода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люда\рисунки 500\снег\23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Цель исследов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560" y="1700280"/>
            <a:ext cx="900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Сходство и различие снега и ль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395280" y="32446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дача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324000" y="443700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зучить свойство снега и ль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люда\рисунки 500\снег\22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Гипотеза исследования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редположим, что при понижение температуры воздуха вода превращается в сне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редположим, что при понижение температуры воздуха вода превращается в лё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люда\рисунки 500\PowerDVD 2009-02-02 22-47-32-2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Организация и методика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одумать самостоятельно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Что вам известно о снеге и льд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онаблюд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ровести экспери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Сделать 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люда\рисунки 500\natur_R\5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наблюдать: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Записать информацию, полученную с помощью наблюд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Снег бел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Снег непрозрачны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Снег рыхл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Снег т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Лёд бесцветны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Лёд прозрач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Лёд хруп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Лёд т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люда\рисунки 500\PowerDVD 2009-02-02 19-28-01-7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ровести эксперимент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2560" y="214272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alibri"/>
              </a:rPr>
              <a:t>Что быстрее растает снег или лёд при комнатной температуре? Почему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люда\рисунки 500\снег\Копия 59393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0000"/>
                </a:solidFill>
                <a:latin typeface="Calibri"/>
              </a:rPr>
              <a:t>Защита:</a:t>
            </a:r>
            <a:br>
              <a:rPr sz="5900"/>
            </a:br>
            <a:r>
              <a:rPr b="0" lang="ru-RU" sz="5900" spc="-1" strike="noStrike">
                <a:solidFill>
                  <a:srgbClr val="ff0000"/>
                </a:solidFill>
                <a:latin typeface="Calibri"/>
              </a:rPr>
              <a:t>описание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57120" y="2500200"/>
            <a:ext cx="8786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нег- белый, непрозрачный, рыхлый, при повышение температуры та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Лёд- бесцветный, прозрачный, хрупкий, при повышение температуры та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люда\рисунки 500\PowerDVD 2009-02-03 07-44-31-9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57120" y="2500200"/>
            <a:ext cx="878688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Calibri"/>
              </a:rPr>
              <a:t>Снег и лёд – это замерзшая вод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7:22:34Z</dcterms:created>
  <dc:creator>sV_ereg@</dc:creator>
  <dc:description/>
  <dc:language>en-US</dc:language>
  <cp:lastModifiedBy>1</cp:lastModifiedBy>
  <dcterms:modified xsi:type="dcterms:W3CDTF">2013-04-08T11:44:17Z</dcterms:modified>
  <cp:revision>14</cp:revision>
  <dc:subject/>
  <dc:title>Проблема исследования</dc:title>
</cp:coreProperties>
</file>