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1B7-567C-4663-B90D-398AECD0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D7D-D185-4B17-B5A5-145511C4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C49-7F5A-42A6-A920-482B73FB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D5D-7FC6-41A8-AB2F-E7FE4724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C5E-A138-40B6-921E-C6702BAD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99B-9196-40E5-8FCF-0A6473BD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9F0-425C-498F-97EC-2F603844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1D1D-7056-459B-A278-92F72292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ECB-0E09-43A8-861B-3509BBE8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D79-DFBE-44DD-BD17-B96E6C11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778-49B0-4C26-A6DD-DC0A5010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108-DD21-4F1C-BC1D-189C213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9E74-CC27-465B-8F56-8D25922DA9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люда\рисунки 500\PowerDVD 2009-02-02 22-44-55-07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Проблема исследовани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82152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Во что превращается замёрзшая вода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люда\рисунки 500\снег\23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Цель исследов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560" y="1700280"/>
            <a:ext cx="900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Сходство и различие снега и ль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395280" y="32446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дача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324000" y="443700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Изучить свойство снега и ль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люда\рисунки 500\снег\22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Гипотеза исследования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редположим, что при понижение температуры воздуха вода превращается в сне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редположим, что при понижение температуры воздуха вода превращается в лё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люда\рисунки 500\PowerDVD 2009-02-02 22-47-32-2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Организация и методика исследова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одумать самостоятельно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Что вам известно о снеге и льд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онаблюд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Провести экспериме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Сделать 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люда\рисунки 500\natur_R\5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наблюдать: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Записать информацию, полученную с помощью наблюд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Снег бел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Снег непрозрачны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Снег рыхл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Снег та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Лёд бесцветны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Лёд прозрач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Лёд хруп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Лёд тае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люда\рисунки 500\PowerDVD 2009-02-02 19-28-01-7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ровести эксперимент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2560" y="214272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alibri"/>
              </a:rPr>
              <a:t>Что быстрее растает снег или лёд при комнатной температуре? Почему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люда\рисунки 500\снег\Копия 593931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0000"/>
                </a:solidFill>
                <a:latin typeface="Calibri"/>
              </a:rPr>
              <a:t>Защита:</a:t>
            </a:r>
            <a:br>
              <a:rPr sz="5900"/>
            </a:br>
            <a:r>
              <a:rPr b="0" lang="ru-RU" sz="5900" spc="-1" strike="noStrike">
                <a:solidFill>
                  <a:srgbClr val="ff0000"/>
                </a:solidFill>
                <a:latin typeface="Calibri"/>
              </a:rPr>
              <a:t>описание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57120" y="2500200"/>
            <a:ext cx="87868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нег- белый, непрозрачный, рыхлый, при повышение температуры тае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Лёд- бесцветный, прозрачный, хрупкий, при повышение температуры тае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:\люда\рисунки 500\PowerDVD 2009-02-03 07-44-31-9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Вывод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57120" y="2500200"/>
            <a:ext cx="878688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2060"/>
                </a:solidFill>
                <a:latin typeface="Calibri"/>
              </a:rPr>
              <a:t>Снег и лёд – это замерзшая вод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7:22:34Z</dcterms:created>
  <dc:creator>sV_ereg@</dc:creator>
  <dc:description/>
  <dc:language>en-US</dc:language>
  <cp:lastModifiedBy>1</cp:lastModifiedBy>
  <dcterms:modified xsi:type="dcterms:W3CDTF">2013-04-08T11:44:17Z</dcterms:modified>
  <cp:revision>14</cp:revision>
  <dc:subject/>
  <dc:title>Проблема исследования</dc:title>
</cp:coreProperties>
</file>