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27.jpeg" ContentType="image/jpeg"/>
  <Override PartName="/ppt/media/image30.wmf" ContentType="image/x-wmf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9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13.jpeg" ContentType="image/jpeg"/>
  <Override PartName="/ppt/media/image33.wmf" ContentType="image/x-wmf"/>
  <Override PartName="/ppt/media/image29.jpeg" ContentType="image/jpeg"/>
  <Override PartName="/ppt/media/image3.wmf" ContentType="image/x-wmf"/>
  <Override PartName="/ppt/media/image2.jpeg" ContentType="image/jpeg"/>
  <Override PartName="/ppt/media/image23.jpeg" ContentType="image/jpeg"/>
  <Override PartName="/ppt/media/image15.jpeg" ContentType="image/jpeg"/>
  <Override PartName="/ppt/media/image25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5.wmf" ContentType="image/x-wm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B76-51F5-410A-ADBC-B21B1033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FB1-DF86-4C82-89A2-8F54802E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DE5-39C5-495D-84E8-7820F4F3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66A-C1A8-4516-A5EB-FF6447F0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C8F5-73BB-4F42-977C-A8D18AF0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362B-92E7-465A-B06F-DA1D91FA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3B2A-2D36-4A6C-BFF7-9D86CA65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ECAA-9C20-48C4-8532-7F107C39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8E15-7729-47A6-9F8F-4997A4DD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2B0D-52E6-4154-B5FA-409EC81C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69FC-E7EB-453A-8901-DD3493F1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0C21-1D77-4FCE-AA77-5B9BECCA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20EC-B8B5-4568-BD59-DE747B1E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057D-4EE9-4E6B-94BF-F934FB1C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90C6-B4D3-4E32-B615-709206CF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9C88-D1EF-45A8-B5C3-4D845B66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0440-9463-421A-99CD-989373AF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5B7-0A24-4B37-9DAB-100AAF9C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9EA-0E55-4514-91C6-D479BF7C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8E0-1692-42E6-8F1D-4596E72D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B0C-0A1E-4F1F-A23E-33D16776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290-417A-4417-A201-40366098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8C2-2D52-49E4-AB02-B6CBC5AE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F68-DCCE-4AC2-9952-2C60B80F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3454-300A-454A-88EB-26141E2059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5048-7E41-44EA-A72B-B05D5A4C348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ема. Кто такие птицы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готовили учащиеся 3 класса Б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КОУ СОШ №7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уководитель. Клычева О. Ю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908000" y="2060640"/>
            <a:ext cx="40435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Кто такие </a:t>
            </a:r>
            <a:br>
              <a:rPr sz="6000"/>
            </a:b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птицы?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39337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ипотеза: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24000" y="4941720"/>
            <a:ext cx="8456400" cy="15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Птицы – животные, тело которых покрыто перьям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Вывод:</a:t>
            </a:r>
            <a:br>
              <a:rPr sz="4000"/>
            </a:br>
            <a:r>
              <a:rPr b="0" lang="ru-RU" sz="4000" spc="-1" strike="noStrike">
                <a:solidFill>
                  <a:srgbClr val="5e855b"/>
                </a:solidFill>
                <a:latin typeface="Arial"/>
              </a:rPr>
              <a:t>Перья самые разные по цвету.</a:t>
            </a:r>
            <a:br>
              <a:rPr sz="4000"/>
            </a:br>
            <a:r>
              <a:rPr b="0" lang="ru-RU" sz="4000" spc="-1" strike="noStrike">
                <a:solidFill>
                  <a:srgbClr val="5e855b"/>
                </a:solidFill>
                <a:latin typeface="Arial"/>
              </a:rPr>
              <a:t>Они украшают птиц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Picture 5" descr="райская птица"/>
          <p:cNvPicPr/>
          <p:nvPr/>
        </p:nvPicPr>
        <p:blipFill>
          <a:blip r:embed="rId1"/>
          <a:stretch/>
        </p:blipFill>
        <p:spPr>
          <a:xfrm>
            <a:off x="250920" y="2276640"/>
            <a:ext cx="2305080" cy="23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j0324156"/>
          <p:cNvPicPr/>
          <p:nvPr/>
        </p:nvPicPr>
        <p:blipFill>
          <a:blip r:embed="rId2"/>
          <a:stretch/>
        </p:blipFill>
        <p:spPr>
          <a:xfrm>
            <a:off x="6227640" y="292428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соловей"/>
          <p:cNvPicPr/>
          <p:nvPr/>
        </p:nvPicPr>
        <p:blipFill>
          <a:blip r:embed="rId3"/>
          <a:stretch/>
        </p:blipFill>
        <p:spPr>
          <a:xfrm>
            <a:off x="2843280" y="3645000"/>
            <a:ext cx="2506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азываетс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43164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 дятла между клювом и черепом и между  черепом и шейными позвонками стоят амортизаторы – пружинистая хрящевая ткань, поэтому ему не больно, когда он проделывает огромные дыры в стволе дерева и с мозгом у него в полном  порядк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6" descr="дятел"/>
          <p:cNvPicPr/>
          <p:nvPr/>
        </p:nvPicPr>
        <p:blipFill>
          <a:blip r:embed="rId1"/>
          <a:stretch/>
        </p:blipFill>
        <p:spPr>
          <a:xfrm>
            <a:off x="4859280" y="1413000"/>
            <a:ext cx="2449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азываетс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46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Журавли откладывают по два яйца, но птенец у них остаётся один. Вылупившиеся птенцы тут же начинают жестокую драку, пока один не убьёт другого, а родители стоят рядом и спокойно наблюдают за этим действ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27280" y="907920"/>
            <a:ext cx="45370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А страус прячет голову в песок не из-за страха, как принято считать, а с санитарно-профилактическими целями. Закрыв свои глаза и опустив голову в горячий песок, страус ждёт (сколько вытерпит), пока погибнут или сбегут с головы все паразиты. После этого он погружает в песок шею, грудь, взбивает песок крыльями, то есть принимает самые настоящие песочные ван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азываетс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Чемпионами по глубоководному нырянию являются представители Арктики и Антарктики. Представительницу Арктики гагару учёные наблюдали из батискафа на глубине 80 метров. Королевский пингвин – житель Антарктиды – ныряет до 200 метр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7" descr="пингвин"/>
          <p:cNvPicPr/>
          <p:nvPr/>
        </p:nvPicPr>
        <p:blipFill>
          <a:blip r:embed="rId1"/>
          <a:stretch/>
        </p:blipFill>
        <p:spPr>
          <a:xfrm>
            <a:off x="4643280" y="2852640"/>
            <a:ext cx="32418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00720" y="1267920"/>
            <a:ext cx="45352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амыми быстрокрылыми среди птиц считаются ласточки и стрижи: скорость их полёта может достигать 150 километров в час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3" name="Picture 7" descr="ласточка2"/>
          <p:cNvPicPr/>
          <p:nvPr/>
        </p:nvPicPr>
        <p:blipFill>
          <a:blip r:embed="rId1"/>
          <a:stretch/>
        </p:blipFill>
        <p:spPr>
          <a:xfrm>
            <a:off x="1619280" y="1557360"/>
            <a:ext cx="2736720" cy="2879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азываетс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264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Исследования 2 группы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прос родителей</a:t>
            </a:r>
            <a:br>
              <a:rPr sz="4000"/>
            </a:br>
            <a:r>
              <a:rPr b="1" i="1" lang="ru-RU" sz="4000" spc="-1" strike="noStrike">
                <a:solidFill>
                  <a:srgbClr val="eec85e"/>
                </a:solidFill>
                <a:latin typeface="Arial"/>
              </a:rPr>
              <a:t>Все ли птицы летают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33573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e855b"/>
                </a:solidFill>
                <a:latin typeface="Verdana"/>
              </a:rPr>
              <a:t>Опросили 14 мам и 9 пап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e855b"/>
                </a:solidFill>
                <a:latin typeface="Verdana"/>
              </a:rPr>
              <a:t>Оказалось, хотя все птицы имеют крылья, но не все умеют лет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пример, </a:t>
            </a: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африканский страус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н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меет летать, и крылья ему служа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ля украш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н имеет сильные ноги, на которых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егает так же быстро, как лошад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4" descr="j0215297"/>
          <p:cNvPicPr/>
          <p:nvPr/>
        </p:nvPicPr>
        <p:blipFill>
          <a:blip r:embed="rId1"/>
          <a:stretch/>
        </p:blipFill>
        <p:spPr>
          <a:xfrm>
            <a:off x="971640" y="4724280"/>
            <a:ext cx="17780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Verdana"/>
              </a:rPr>
              <a:t>Пингвин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тносится к числу птиц, хотя тоже не умеет летать, потому что вместо крыльев у него лапы-ласты, которые помогают ему плават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Picture 7" descr="пингвин2"/>
          <p:cNvPicPr/>
          <p:nvPr/>
        </p:nvPicPr>
        <p:blipFill>
          <a:blip r:embed="rId1"/>
          <a:stretch/>
        </p:blipFill>
        <p:spPr>
          <a:xfrm>
            <a:off x="2050920" y="1989000"/>
            <a:ext cx="2521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Исследования 3 группы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 ходе сбора информации мы задались вопросом: «А сколько перьев у птиц?» Мы выяснили, что орнитологи пересчитали и пришли к выводу, что у разных птиц разное количество перьев. Больше всего перьев у лебедя – 25тысяч, причём одна пятая их часть разместилась на голове и прекрасной «лебединой шее». У кряковой утки их 12 тысяч, а у голубя всего 2600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ы решили  провести опыты,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онаблюдать, исследовать перья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498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Мы рассмотрели перья, сравнили их по цвету, форме, размеру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ывод: перья разные по цвету, форме, размеру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1440" y="9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ша цел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2280" y="148392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учиться определять принадлежность животного к группе птиц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57200" y="30686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дачи исследования: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400536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Изучить строение птиц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Опросить родителей: «Все ли птицы летают?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Сравнить птиц с другими группами животных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роанализировать полученные данные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асширить представления о птицах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У всех перьев есть стержень, волоски. На них маленькие крючки. Этими крючками волоски цепляются друг за друга достаточно крепко, как застежка-молния. Отрезав кончик пера, рассмотрели срез. Он похож на пустую трубочку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ывод: значит, перо легкое, там воздух.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108000" y="3573360"/>
            <a:ext cx="8675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Мы положили перо  на ладонь 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одули на него. Перо взлетел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ывод:  Оно легкое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85672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Мы подержали перо около щеки 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ощутили тепл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ывод:  Перья согревают тело птиц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108000" y="2349360"/>
            <a:ext cx="8531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Исследовав перья, мы пришли к общему выводу, что они разные по цвету, форме, размеру. Перья птиц лёгкие. Они согревают  тело птиц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cc"/>
                </a:solidFill>
                <a:uFillTx/>
                <a:latin typeface="Arial"/>
              </a:rPr>
              <a:t>Исследования 4 группы.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А  теперь сравним птиц с другими животными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Verdana"/>
              </a:rPr>
              <a:t>Бабочка умеет летать, значит, она птица?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6" descr="j0180636"/>
          <p:cNvPicPr/>
          <p:nvPr/>
        </p:nvPicPr>
        <p:blipFill>
          <a:blip r:embed="rId1"/>
          <a:stretch/>
        </p:blipFill>
        <p:spPr>
          <a:xfrm>
            <a:off x="5364000" y="1916280"/>
            <a:ext cx="309744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03280" y="2420640"/>
            <a:ext cx="548316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У летучей мыши тоже есть крылья, значит, она птиц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7" descr="j0305491"/>
          <p:cNvPicPr/>
          <p:nvPr/>
        </p:nvPicPr>
        <p:blipFill>
          <a:blip r:embed="rId1"/>
          <a:stretch/>
        </p:blipFill>
        <p:spPr>
          <a:xfrm>
            <a:off x="611280" y="2421000"/>
            <a:ext cx="2762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8000" y="1599840"/>
            <a:ext cx="4387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Крокодил откладывает яйца, значит, он тоже птица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8" descr="471006"/>
          <p:cNvPicPr/>
          <p:nvPr/>
        </p:nvPicPr>
        <p:blipFill>
          <a:blip r:embed="rId1"/>
          <a:stretch/>
        </p:blipFill>
        <p:spPr>
          <a:xfrm>
            <a:off x="4402080" y="1844640"/>
            <a:ext cx="33386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ы сравнили птиц на примере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воробья с другими животными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08000" y="1600200"/>
          <a:ext cx="8928000" cy="5068800"/>
        </p:xfrm>
        <a:graphic>
          <a:graphicData uri="http://schemas.openxmlformats.org/drawingml/2006/table">
            <a:tbl>
              <a:tblPr/>
              <a:tblGrid>
                <a:gridCol w="1363680"/>
                <a:gridCol w="1266840"/>
                <a:gridCol w="1238040"/>
                <a:gridCol w="1598760"/>
                <a:gridCol w="1249200"/>
                <a:gridCol w="1177920"/>
                <a:gridCol w="10335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Назван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крыль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летае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откладывает яйц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строит гнезд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поё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перь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воробе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бабоч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ос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крокодил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дельфин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Мы пришли к выводу, что умение летать, нести яйца, вить гнёзда, петь не главные отличия птиц от других животных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0" name="Picture 6" descr="j0262840"/>
          <p:cNvPicPr/>
          <p:nvPr/>
        </p:nvPicPr>
        <p:blipFill>
          <a:blip r:embed="rId1"/>
          <a:stretch/>
        </p:blipFill>
        <p:spPr>
          <a:xfrm>
            <a:off x="6273720" y="1413000"/>
            <a:ext cx="2449440" cy="3456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457200" y="3357720"/>
            <a:ext cx="569916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Общий признак для птиц один – это оперение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Результаты исследовани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тицы - животные, тело которых покрыто перьям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тицы – народное достояние, их нужно охраня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бъект исследования: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Arial"/>
              </a:rPr>
              <a:t>Птицы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6" descr="471024"/>
          <p:cNvPicPr/>
          <p:nvPr/>
        </p:nvPicPr>
        <p:blipFill>
          <a:blip r:embed="rId1"/>
          <a:stretch/>
        </p:blipFill>
        <p:spPr>
          <a:xfrm>
            <a:off x="900000" y="1881360"/>
            <a:ext cx="2737080" cy="2411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42047"/>
          <p:cNvPicPr/>
          <p:nvPr/>
        </p:nvPicPr>
        <p:blipFill>
          <a:blip r:embed="rId2"/>
          <a:stretch/>
        </p:blipFill>
        <p:spPr>
          <a:xfrm>
            <a:off x="5219640" y="126828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457200" y="4292640"/>
            <a:ext cx="82296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855b"/>
                </a:solidFill>
                <a:latin typeface="Arial"/>
              </a:rPr>
              <a:t>Ход исследования: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52360" y="5245200"/>
            <a:ext cx="8435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ы решили разделиться на группы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Verdana"/>
              </a:rPr>
              <a:t>1 группа - ищет         </a:t>
            </a:r>
            <a:r>
              <a:rPr b="1" i="1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aeaea"/>
                </a:solidFill>
                <a:latin typeface="Verdana"/>
              </a:rPr>
              <a:t>информацию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Verdana"/>
              </a:rPr>
              <a:t>в книгах, в интерне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ec85e"/>
                </a:solidFill>
                <a:latin typeface="Arial"/>
              </a:rPr>
              <a:t>2 группа – опрашивает родителей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Рисунок11"/>
          <p:cNvPicPr/>
          <p:nvPr/>
        </p:nvPicPr>
        <p:blipFill>
          <a:blip r:embed="rId1"/>
          <a:stretch/>
        </p:blipFill>
        <p:spPr>
          <a:xfrm>
            <a:off x="6000840" y="3500280"/>
            <a:ext cx="2950920" cy="3095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81000" y="1628640"/>
            <a:ext cx="90360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ec85e"/>
                </a:solidFill>
                <a:latin typeface="Arial"/>
              </a:rPr>
              <a:t>3 группа – </a:t>
            </a:r>
            <a:br>
              <a:rPr sz="4000"/>
            </a:br>
            <a:r>
              <a:rPr b="1" i="1" lang="ru-RU" sz="4000" spc="-1" strike="noStrike">
                <a:solidFill>
                  <a:srgbClr val="eec85e"/>
                </a:solidFill>
                <a:latin typeface="Arial"/>
              </a:rPr>
              <a:t>проводит опыты, наблюдения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7480" y="3789360"/>
            <a:ext cx="8218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ec85e"/>
                </a:solidFill>
                <a:latin typeface="Arial"/>
              </a:rPr>
              <a:t>4 группа</a:t>
            </a:r>
            <a:r>
              <a:rPr b="0" lang="ru-RU" sz="2000" spc="-1" strike="noStrike">
                <a:solidFill>
                  <a:srgbClr val="eec85e"/>
                </a:solidFill>
                <a:latin typeface="Arial"/>
              </a:rPr>
              <a:t> – </a:t>
            </a:r>
            <a:r>
              <a:rPr b="1" i="1" lang="ru-RU" sz="2000" spc="-1" strike="noStrike">
                <a:solidFill>
                  <a:srgbClr val="eec85e"/>
                </a:solidFill>
                <a:latin typeface="Arial"/>
              </a:rPr>
              <a:t>обобщает и делает выводы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следования 1 группы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мире существует около 8600 различных видов птиц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j0201176"/>
          <p:cNvPicPr/>
          <p:nvPr/>
        </p:nvPicPr>
        <p:blipFill>
          <a:blip r:embed="rId1"/>
          <a:stretch/>
        </p:blipFill>
        <p:spPr>
          <a:xfrm>
            <a:off x="6300720" y="2852640"/>
            <a:ext cx="151128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j0292240"/>
          <p:cNvPicPr/>
          <p:nvPr/>
        </p:nvPicPr>
        <p:blipFill>
          <a:blip r:embed="rId2"/>
          <a:stretch/>
        </p:blipFill>
        <p:spPr>
          <a:xfrm>
            <a:off x="395280" y="2637000"/>
            <a:ext cx="2232000" cy="1539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королек1"/>
          <p:cNvPicPr/>
          <p:nvPr/>
        </p:nvPicPr>
        <p:blipFill>
          <a:blip r:embed="rId3"/>
          <a:stretch/>
        </p:blipFill>
        <p:spPr>
          <a:xfrm>
            <a:off x="3348000" y="2781360"/>
            <a:ext cx="208764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варакушка3"/>
          <p:cNvPicPr/>
          <p:nvPr/>
        </p:nvPicPr>
        <p:blipFill>
          <a:blip r:embed="rId4"/>
          <a:stretch/>
        </p:blipFill>
        <p:spPr>
          <a:xfrm>
            <a:off x="3708360" y="4797360"/>
            <a:ext cx="1944720" cy="1727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90520" y="16956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 всех птиц есть крылья, и большинство из них могут лет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4" descr="j0178747"/>
          <p:cNvPicPr/>
          <p:nvPr/>
        </p:nvPicPr>
        <p:blipFill>
          <a:blip r:embed="rId1"/>
          <a:stretch/>
        </p:blipFill>
        <p:spPr>
          <a:xfrm>
            <a:off x="3203640" y="1547640"/>
            <a:ext cx="2233440" cy="22323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72960" y="378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У всех птиц 2 ноги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куриа"/>
          <p:cNvPicPr/>
          <p:nvPr/>
        </p:nvPicPr>
        <p:blipFill>
          <a:blip r:embed="rId2"/>
          <a:stretch/>
        </p:blipFill>
        <p:spPr>
          <a:xfrm>
            <a:off x="3995640" y="4491000"/>
            <a:ext cx="1652760" cy="158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варакушка1"/>
          <p:cNvPicPr/>
          <p:nvPr/>
        </p:nvPicPr>
        <p:blipFill>
          <a:blip r:embed="rId3"/>
          <a:stretch/>
        </p:blipFill>
        <p:spPr>
          <a:xfrm>
            <a:off x="6948360" y="4816440"/>
            <a:ext cx="1866960" cy="1260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Дрофа"/>
          <p:cNvPicPr/>
          <p:nvPr/>
        </p:nvPicPr>
        <p:blipFill>
          <a:blip r:embed="rId4"/>
          <a:stretch/>
        </p:blipFill>
        <p:spPr>
          <a:xfrm>
            <a:off x="900000" y="4941720"/>
            <a:ext cx="2874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У птиц есть клюв, но нет зубов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тицы не жуют, они заглатывают пищу целиком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Picture 5" descr="свирестель1"/>
          <p:cNvPicPr/>
          <p:nvPr/>
        </p:nvPicPr>
        <p:blipFill>
          <a:blip r:embed="rId1"/>
          <a:stretch/>
        </p:blipFill>
        <p:spPr>
          <a:xfrm>
            <a:off x="5003640" y="2421000"/>
            <a:ext cx="3745080" cy="2809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42037"/>
          <p:cNvPicPr/>
          <p:nvPr/>
        </p:nvPicPr>
        <p:blipFill>
          <a:blip r:embed="rId2"/>
          <a:stretch/>
        </p:blipFill>
        <p:spPr>
          <a:xfrm>
            <a:off x="468360" y="2060640"/>
            <a:ext cx="2951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о форме птичьего клюва можно определить, чем питается птица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Picture 4" descr="пеликан"/>
          <p:cNvPicPr/>
          <p:nvPr/>
        </p:nvPicPr>
        <p:blipFill>
          <a:blip r:embed="rId1"/>
          <a:stretch/>
        </p:blipFill>
        <p:spPr>
          <a:xfrm>
            <a:off x="3924360" y="2637000"/>
            <a:ext cx="1439640" cy="1268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j0178898"/>
          <p:cNvPicPr/>
          <p:nvPr/>
        </p:nvPicPr>
        <p:blipFill>
          <a:blip r:embed="rId2"/>
          <a:stretch/>
        </p:blipFill>
        <p:spPr>
          <a:xfrm>
            <a:off x="468360" y="4797360"/>
            <a:ext cx="2087640" cy="1584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j0178767"/>
          <p:cNvPicPr/>
          <p:nvPr/>
        </p:nvPicPr>
        <p:blipFill>
          <a:blip r:embed="rId3"/>
          <a:stretch/>
        </p:blipFill>
        <p:spPr>
          <a:xfrm>
            <a:off x="7020000" y="4941720"/>
            <a:ext cx="1874880" cy="1366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Клест"/>
          <p:cNvPicPr/>
          <p:nvPr/>
        </p:nvPicPr>
        <p:blipFill>
          <a:blip r:embed="rId4"/>
          <a:stretch/>
        </p:blipFill>
        <p:spPr>
          <a:xfrm>
            <a:off x="3851280" y="5013360"/>
            <a:ext cx="1657440" cy="1440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5"/>
          <a:stretch/>
        </p:blipFill>
        <p:spPr>
          <a:xfrm>
            <a:off x="755640" y="1844640"/>
            <a:ext cx="2448000" cy="180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Альбатрос"/>
          <p:cNvPicPr/>
          <p:nvPr/>
        </p:nvPicPr>
        <p:blipFill>
          <a:blip r:embed="rId6"/>
          <a:stretch/>
        </p:blipFill>
        <p:spPr>
          <a:xfrm>
            <a:off x="6443640" y="2349360"/>
            <a:ext cx="12970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У птичек всё тело покрыто перьями.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Рассмотрим окраску перьев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Picture 5" descr="j0180524"/>
          <p:cNvPicPr/>
          <p:nvPr/>
        </p:nvPicPr>
        <p:blipFill>
          <a:blip r:embed="rId1"/>
          <a:stretch/>
        </p:blipFill>
        <p:spPr>
          <a:xfrm>
            <a:off x="3419640" y="1773360"/>
            <a:ext cx="1944360" cy="180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глухарь"/>
          <p:cNvPicPr/>
          <p:nvPr/>
        </p:nvPicPr>
        <p:blipFill>
          <a:blip r:embed="rId2"/>
          <a:stretch/>
        </p:blipFill>
        <p:spPr>
          <a:xfrm>
            <a:off x="6227640" y="1700280"/>
            <a:ext cx="2664000" cy="2376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471023"/>
          <p:cNvPicPr/>
          <p:nvPr/>
        </p:nvPicPr>
        <p:blipFill>
          <a:blip r:embed="rId3"/>
          <a:stretch/>
        </p:blipFill>
        <p:spPr>
          <a:xfrm>
            <a:off x="468360" y="2060640"/>
            <a:ext cx="2017800" cy="3025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574009"/>
          <p:cNvPicPr/>
          <p:nvPr/>
        </p:nvPicPr>
        <p:blipFill>
          <a:blip r:embed="rId4"/>
          <a:stretch/>
        </p:blipFill>
        <p:spPr>
          <a:xfrm>
            <a:off x="2917800" y="4724280"/>
            <a:ext cx="28782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7:09:22Z</dcterms:created>
  <dc:creator>09</dc:creator>
  <dc:description/>
  <dc:language>en-US</dc:language>
  <cp:lastModifiedBy>Школа -7 стол 2</cp:lastModifiedBy>
  <dcterms:modified xsi:type="dcterms:W3CDTF">2013-04-08T10:45:16Z</dcterms:modified>
  <cp:revision>46</cp:revision>
  <dc:subject/>
  <dc:title>Кто такие птицы?</dc:title>
</cp:coreProperties>
</file>