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854-F274-4883-93D9-D7EA7499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43F-EF6A-4485-B254-11A30AA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796-586D-4A1B-AB19-D8E036C5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905-851F-4B92-BCDA-AB59793F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967-10D3-49C1-B788-BCB32514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0B9-39D2-49A1-B058-9D350602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F66-597F-40F4-B870-EE796F8B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8CE-AE95-4178-98C1-98CA248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D4F-5B2E-4AE3-9F7E-3F36609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559-B1F2-4012-B4E5-F621191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830-180A-49B8-B6E1-5E94A62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0A9-2D6D-4CFC-990D-3448975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1112-8393-47C6-9818-5267D815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работы с одаренными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чинина В.Б.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1031760" y="1450800"/>
            <a:ext cx="1714680" cy="519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е предметные олимпи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892080" y="5191200"/>
            <a:ext cx="7201080" cy="55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х кружков, объединений, спецкурсов, факультати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0" y="5734080"/>
            <a:ext cx="9029880" cy="571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ьский лекторий для учителей и учащихся по актуальным проблемам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c5e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b3ac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7e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4b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e6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42920" y="620640"/>
          <a:ext cx="9286920" cy="6335640"/>
        </p:xfrm>
        <a:graphic>
          <a:graphicData uri="http://schemas.openxmlformats.org/drawingml/2006/table">
            <a:tbl>
              <a:tblPr/>
              <a:tblGrid>
                <a:gridCol w="1031760"/>
                <a:gridCol w="1032120"/>
                <a:gridCol w="1031760"/>
                <a:gridCol w="1031760"/>
                <a:gridCol w="1032120"/>
                <a:gridCol w="1031760"/>
                <a:gridCol w="1031760"/>
                <a:gridCol w="1032120"/>
                <a:gridCol w="1031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  <a:tr h="58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</a:tbl>
          </a:graphicData>
        </a:graphic>
      </p:graphicFrame>
      <p:sp>
        <p:nvSpPr>
          <p:cNvPr id="70" name="Text Box 148"/>
          <p:cNvSpPr/>
          <p:nvPr/>
        </p:nvSpPr>
        <p:spPr>
          <a:xfrm>
            <a:off x="539640" y="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довая циклограмма поддержки и развития одаренности детей по предмету «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0" y="1197000"/>
            <a:ext cx="1708200" cy="655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ВН «Математика Вокруг На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195640" y="119700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с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700360" y="4941720"/>
            <a:ext cx="1042920" cy="10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ый мараф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042920" y="3789360"/>
            <a:ext cx="60055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 не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>
            <a:hlinkClick r:id="" action="ppaction://hlinkshowjump?jump=nextslide"/>
          </p:cNvPr>
          <p:cNvSpPr/>
          <p:nvPr/>
        </p:nvSpPr>
        <p:spPr>
          <a:xfrm>
            <a:off x="0" y="2708280"/>
            <a:ext cx="9144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ятельность творческих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0" y="4365720"/>
            <a:ext cx="9144000" cy="52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Black"/>
                <a:ea typeface="Times New Roman"/>
                <a:hlinkClick r:id="rId1" action="ppaction://hlinksldjump"/>
              </a:rPr>
              <a:t>Участие в городских, областных и Всероссийских конкур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900000" y="6137280"/>
            <a:ext cx="40849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дение уроков с применением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9"/>
          <p:cNvSpPr/>
          <p:nvPr/>
        </p:nvSpPr>
        <p:spPr>
          <a:xfrm>
            <a:off x="971640" y="184464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Шко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1"/>
          <p:cNvSpPr/>
          <p:nvPr/>
        </p:nvSpPr>
        <p:spPr>
          <a:xfrm>
            <a:off x="6948360" y="1341360"/>
            <a:ext cx="2089440" cy="115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здоровительные лагеря с профильными отрядами по подготовке к ГИА и ЕГ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2"/>
          <p:cNvSpPr/>
          <p:nvPr/>
        </p:nvSpPr>
        <p:spPr>
          <a:xfrm>
            <a:off x="6012000" y="5661000"/>
            <a:ext cx="2089080" cy="1197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мат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3"/>
          <p:cNvSpPr/>
          <p:nvPr/>
        </p:nvSpPr>
        <p:spPr>
          <a:xfrm>
            <a:off x="3851280" y="4941720"/>
            <a:ext cx="3851280" cy="79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ская научная конференция совместно с ЮРГ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4"/>
          <p:cNvSpPr/>
          <p:nvPr/>
        </p:nvSpPr>
        <p:spPr>
          <a:xfrm>
            <a:off x="3995640" y="1844640"/>
            <a:ext cx="180036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ласт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5">
            <a:hlinkClick r:id="" action="ppaction://hlinkshowjump?jump=nextslide"/>
          </p:cNvPr>
          <p:cNvSpPr/>
          <p:nvPr/>
        </p:nvSpPr>
        <p:spPr>
          <a:xfrm>
            <a:off x="0" y="3213000"/>
            <a:ext cx="9144000" cy="503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ружок «Юный математик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, элективные кур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-10 клас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843280" y="76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9360" y="191160"/>
            <a:ext cx="913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пы учителей, которые обеспе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водящий ребенка в сферу учебного предмета и созда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мосферу эмоциональной вовлеченности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буждающей интерес к предмету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ладывающий основы мастерства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батывающий с ребенком технику исполнения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водящий на высокопрофессиональ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6732720" y="5013360"/>
            <a:ext cx="2004840" cy="1336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5280" y="551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Концепции  модернизации  Российского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я на период  до 2010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дернизация и инновационное развитие - единственный путь, который позволит России стать конкурентным обществом в мире 21-го века, обеспечить достойную жизнь всем нашим гражданам. В условиях решения этих стратегических задач важнейшими качествами личности становятся инициативность, способность творчески мыслить и находить нестандартные решения, умение выбирать профессиональный путь, готовность обучаться в течение всей жизн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19640" y="5516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  образовательная инициатива «Наша нов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"/>
          <p:cNvPicPr/>
          <p:nvPr/>
        </p:nvPicPr>
        <p:blipFill>
          <a:blip r:embed="rId1"/>
          <a:stretch/>
        </p:blipFill>
        <p:spPr>
          <a:xfrm>
            <a:off x="755640" y="5157720"/>
            <a:ext cx="18097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95280" y="333360"/>
            <a:ext cx="84978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ый ребе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сложное психическое образование, в котором переплетены познавательные, эмоциональная, волевая, мотивационная и психофизическая сферы психики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ая концепция одаренности // Одаренный ребенок. № 4, 2003. С.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33336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одаренности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широте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общая или спе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интенсивности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обая одаренность, одаренность, предодар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типу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теллектуальная, творческая, лидерская, художественная, техническая, спортивн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сформирова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ктуальная, потен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"/>
          <p:cNvPicPr/>
          <p:nvPr/>
        </p:nvPicPr>
        <p:blipFill>
          <a:blip r:embed="rId1"/>
          <a:stretch/>
        </p:blipFill>
        <p:spPr>
          <a:xfrm>
            <a:off x="6877080" y="5157720"/>
            <a:ext cx="15843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78850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0920" y="260280"/>
            <a:ext cx="889308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педагогическое наблюдение, основанное на инту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Метод педагогического наблюдения (учитель отслеживает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к обучени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тивационно-личностные характеристи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ворческие  способности (креативность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дерские 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педагогического наблюдения подкрепляем данными результатов анкетирования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Анкетирование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Метод экспертных оценок на основе опросника Дж. Рензул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етодика  оценки педагогической компетентности в проблеме воспитания детской одаренности (на сколько учителя качественно определили детскую одаренность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333360"/>
            <a:ext cx="79912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 тестирование для необходимости подтверждения данных, полученных методом наблюдения, анке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учащихся, проявивших определенную одаренность (по мнению учителе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гут быть использованы метод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бальный тест творческого мышления «Необычное использование». Щебланова Е.И., Аверина И.С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раткий тест творческого мышления. Фигурная форма. Аверина И.С., Щебланова Е.И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игурная форма теста творческого мышления Торренса (краткая форм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ст одаренности П.Торренса (рисун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260280"/>
            <a:ext cx="874872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ют и другие метод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ка Векслера «Измерение интеллекта детей», под редакцией Ю.З.Гильб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ультурно-свободный тест на интеллект Кетел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, созданная на основе тестов Гилфор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 Вильям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нсона, направленный на оценку и самооценку характеристик творческой лич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тест Вильямса для комплексной диагностики креативности у детей и подростков от 5 до 17 лет, оценивающий как характеристики, связанные с творческим мышлением, так и личностно- индивидные креативные характеристики  (адаптирован Е.Е. Туни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зефа С. Рензулли и Роберта К. Хартм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26028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ходы к построению образовательных программ для одаренных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060640"/>
            <a:ext cx="81374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Может достигаться как за счет «перескакивания» через класс, так и за счет построения индивидуальных программ прохождения различных школьных предм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богащение содержания обу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Это путь углубленного и расширенного изучения отдельных тем, проблем, предметов и целых научных областей, позволяющий одаренным детям продвигаться в освоении  интересующих их предметов и областей значительно дальше чем сверстни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5"/>
          <p:cNvPicPr/>
          <p:nvPr/>
        </p:nvPicPr>
        <p:blipFill>
          <a:blip r:embed="rId1"/>
          <a:stretch/>
        </p:blipFill>
        <p:spPr>
          <a:xfrm>
            <a:off x="7164360" y="333360"/>
            <a:ext cx="1271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02:42:16Z</dcterms:created>
  <dc:creator>Ирина</dc:creator>
  <dc:description/>
  <dc:language>en-US</dc:language>
  <cp:lastModifiedBy>Admin</cp:lastModifiedBy>
  <dcterms:modified xsi:type="dcterms:W3CDTF">2012-11-26T07:13:16Z</dcterms:modified>
  <cp:revision>18</cp:revision>
  <dc:subject/>
  <dc:title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  </dc:title>
</cp:coreProperties>
</file>