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878C-ED20-4DA0-AE4F-EAFF6DE9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553-293B-4E67-AED2-F17943FB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170F-3AF7-4497-A199-37152EAC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8705-6ADF-4208-9092-3B217E6D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514-E327-480E-8A9C-98D1137C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043-DE0D-45A3-BDBC-05AB41CD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27D-FB83-4846-8BFB-6D087AB2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237-5F15-4E7B-96D9-AAD5CE81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5E9-6B58-4F18-8281-6CBC540D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F2D-D804-48CF-BF71-FFB8B6AA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EC3-727C-4ABC-84DE-0E4EE191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20D-FD55-4C11-96B8-86F1892A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6F1B-D349-493B-ABD9-2BAB02B13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стема работы с одаренными деть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учинина В.Б.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У СОШ №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0"/>
          <p:cNvSpPr/>
          <p:nvPr/>
        </p:nvSpPr>
        <p:spPr>
          <a:xfrm>
            <a:off x="1031760" y="1450800"/>
            <a:ext cx="1714680" cy="519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Школьные предметные олимпиа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892080" y="5191200"/>
            <a:ext cx="7201080" cy="558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зентац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школьных кружков, объединений, спецкурсов, факультати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6"/>
          <p:cNvSpPr/>
          <p:nvPr/>
        </p:nvSpPr>
        <p:spPr>
          <a:xfrm>
            <a:off x="0" y="5734080"/>
            <a:ext cx="9029880" cy="5713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ветительский лекторий для учителей и учащихся по актуальным проблемам науки и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1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c5e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b3ac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0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a7eb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3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a4b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7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ffb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0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e6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142920" y="620640"/>
          <a:ext cx="9286920" cy="6335640"/>
        </p:xfrm>
        <a:graphic>
          <a:graphicData uri="http://schemas.openxmlformats.org/drawingml/2006/table">
            <a:tbl>
              <a:tblPr/>
              <a:tblGrid>
                <a:gridCol w="1031760"/>
                <a:gridCol w="1032120"/>
                <a:gridCol w="1031760"/>
                <a:gridCol w="1031760"/>
                <a:gridCol w="1032120"/>
                <a:gridCol w="1031760"/>
                <a:gridCol w="1031760"/>
                <a:gridCol w="1032120"/>
                <a:gridCol w="1031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f6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a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b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Ян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b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93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a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6cf"/>
                    </a:solidFill>
                  </a:tcPr>
                </a:tc>
              </a:tr>
              <a:tr h="58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f6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ac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b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b6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93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6cf"/>
                    </a:solidFill>
                  </a:tcPr>
                </a:tc>
              </a:tr>
            </a:tbl>
          </a:graphicData>
        </a:graphic>
      </p:graphicFrame>
      <p:sp>
        <p:nvSpPr>
          <p:cNvPr id="70" name="Text Box 148"/>
          <p:cNvSpPr/>
          <p:nvPr/>
        </p:nvSpPr>
        <p:spPr>
          <a:xfrm>
            <a:off x="539640" y="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довая циклограмма поддержки и развития одаренности детей по предмету «Математ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4"/>
          <p:cNvSpPr/>
          <p:nvPr/>
        </p:nvSpPr>
        <p:spPr>
          <a:xfrm>
            <a:off x="0" y="1197000"/>
            <a:ext cx="1708200" cy="655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КВН «Математика Вокруг Нас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9"/>
          <p:cNvSpPr/>
          <p:nvPr/>
        </p:nvSpPr>
        <p:spPr>
          <a:xfrm>
            <a:off x="2195640" y="1197000"/>
            <a:ext cx="1800000" cy="64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одс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мет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олимпиа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2700360" y="4941720"/>
            <a:ext cx="1042920" cy="108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ллектуальный марафо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2"/>
          <p:cNvSpPr/>
          <p:nvPr/>
        </p:nvSpPr>
        <p:spPr>
          <a:xfrm>
            <a:off x="1042920" y="3789360"/>
            <a:ext cx="600552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метные нед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1">
            <a:hlinkClick r:id="" action="ppaction://hlinkshowjump?jump=nextslide"/>
          </p:cNvPr>
          <p:cNvSpPr/>
          <p:nvPr/>
        </p:nvSpPr>
        <p:spPr>
          <a:xfrm>
            <a:off x="0" y="2708280"/>
            <a:ext cx="91440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еятельность творческих гру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5"/>
          <p:cNvSpPr/>
          <p:nvPr/>
        </p:nvSpPr>
        <p:spPr>
          <a:xfrm>
            <a:off x="0" y="4365720"/>
            <a:ext cx="9144000" cy="520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 Black"/>
                <a:ea typeface="Times New Roman"/>
                <a:hlinkClick r:id="rId1" action="ppaction://hlinksldjump"/>
              </a:rPr>
              <a:t>Участие в городских, областных и Всероссийских конкурс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900000" y="6137280"/>
            <a:ext cx="408492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ведение уроков с применением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49"/>
          <p:cNvSpPr/>
          <p:nvPr/>
        </p:nvSpPr>
        <p:spPr>
          <a:xfrm>
            <a:off x="971640" y="1844640"/>
            <a:ext cx="1800000" cy="64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Школь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мет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олимпиа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51"/>
          <p:cNvSpPr/>
          <p:nvPr/>
        </p:nvSpPr>
        <p:spPr>
          <a:xfrm>
            <a:off x="6948360" y="1341360"/>
            <a:ext cx="2089440" cy="1152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здоровительные лагеря с профильными отрядами по подготовке к ГИА и ЕГ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52"/>
          <p:cNvSpPr/>
          <p:nvPr/>
        </p:nvSpPr>
        <p:spPr>
          <a:xfrm>
            <a:off x="6012000" y="5661000"/>
            <a:ext cx="2089080" cy="1197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атематический фестив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53"/>
          <p:cNvSpPr/>
          <p:nvPr/>
        </p:nvSpPr>
        <p:spPr>
          <a:xfrm>
            <a:off x="3851280" y="4941720"/>
            <a:ext cx="3851280" cy="792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родская научная конференция совместно с ЮРГ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54"/>
          <p:cNvSpPr/>
          <p:nvPr/>
        </p:nvSpPr>
        <p:spPr>
          <a:xfrm>
            <a:off x="3995640" y="1844640"/>
            <a:ext cx="1800360" cy="64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бласт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мет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олимпиа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55">
            <a:hlinkClick r:id="" action="ppaction://hlinkshowjump?jump=nextslide"/>
          </p:cNvPr>
          <p:cNvSpPr/>
          <p:nvPr/>
        </p:nvSpPr>
        <p:spPr>
          <a:xfrm>
            <a:off x="0" y="3213000"/>
            <a:ext cx="9144000" cy="503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ружок «Юный математик»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5-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л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, элективные курс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8-10 класс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843280" y="765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9360" y="191160"/>
            <a:ext cx="9134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ипы учителей, которые обеспеч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тие детской одар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водящий ребенка в сферу учебного предмета и создающ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тмосферу эмоциональной вовлеченности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озбуждающей интерес к предмету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кладывающий основы мастерства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рабатывающий с ребенком технику исполнения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ыводящий на высокопрофессиональный уров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Развивающемуся обществу нужны современно образованные,  нравственные, предприимчивые      люди,     которые  могут самостоятельно   принимать   ответственные решения  в  ситуации  выбора,   прогнозируя их    возможные   последствия,    способны к сотрудничеству, отличаются  мобильностью, динамизмом,   конструктивностью, обладают развитым    чувством    ответственности за судьбу страны.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4"/>
          <p:cNvPicPr/>
          <p:nvPr/>
        </p:nvPicPr>
        <p:blipFill>
          <a:blip r:embed="rId1"/>
          <a:stretch/>
        </p:blipFill>
        <p:spPr>
          <a:xfrm>
            <a:off x="6732720" y="5013360"/>
            <a:ext cx="2004840" cy="13366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395280" y="5516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 «Концепции  модернизации  Российского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ования на период  до 2010 г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Модернизация и инновационное развитие - единственный путь, который позволит России стать конкурентным обществом в мире 21-го века, обеспечить достойную жизнь всем нашим гражданам. В условиях решения этих стратегических задач важнейшими качествами личности становятся инициативность, способность творчески мыслить и находить нестандартные решения, умение выбирать профессиональный путь, готовность обучаться в течение всей жизни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419640" y="551664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циональная  образовательная инициатива «Наша нов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2"/>
          <p:cNvPicPr/>
          <p:nvPr/>
        </p:nvPicPr>
        <p:blipFill>
          <a:blip r:embed="rId1"/>
          <a:stretch/>
        </p:blipFill>
        <p:spPr>
          <a:xfrm>
            <a:off x="755640" y="5157720"/>
            <a:ext cx="18097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395280" y="333360"/>
            <a:ext cx="849780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даренный ребен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ребенок, который выделяется яркими, очевидными, иногда выдающимися достижениями (или имеет внутренние предпосылки для таких достижений) в том или ином виде дея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дарен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сложное психическое образование, в котором переплетены познавательные, эмоциональная, волевая, мотивационная и психофизическая сферы психики чело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чая концепция одаренности // Одаренный ребенок. № 4, 2003. С. 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4000" y="333360"/>
            <a:ext cx="8208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одаренности де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широте прояв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-  общая или специаль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интенсивности прояв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собая одаренность, одаренность, предодар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типу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нтеллектуальная, творческая, лидерская, художественная, техническая, спортивна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степени сформирова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актуальная, потенциаль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3"/>
          <p:cNvPicPr/>
          <p:nvPr/>
        </p:nvPicPr>
        <p:blipFill>
          <a:blip r:embed="rId1"/>
          <a:stretch/>
        </p:blipFill>
        <p:spPr>
          <a:xfrm>
            <a:off x="6877080" y="5157720"/>
            <a:ext cx="1584360" cy="13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7885080" y="220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50920" y="260280"/>
            <a:ext cx="8893080" cy="62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диагностики и анализа детской одар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блок – педагогическое наблюдение, основанное на интуи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Метод педагогического наблюдения (учитель отслеживает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ность к обучению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тивационно-личностные характеристик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ворческие  способности (креативность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идерские способ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 педагогического наблюдения подкрепляем данными результатов анкетирования уч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Анкетирование уч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Метод экспертных оценок на основе опросника Дж. Рензул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Методика  оценки педагогической компетентности в проблеме воспитания детской одаренности (на сколько учителя качественно определили детскую одаренность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84360" y="333360"/>
            <a:ext cx="799128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диагностики и анализа детской одар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блок – тестиро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одим тестирование для необходимости подтверждения данных, полученных методом наблюдения, анкет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стирование учащихся, проявивших определенную одаренность (по мнению учителей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гут быть использованы методи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вербальный тест творческого мышления «Необычное использование». Щебланова Е.И., Аверина И.С.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краткий тест творческого мышления. Фигурная форма. Аверина И.С., Щебланова Е.И.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фигурная форма теста творческого мышления Торренса (краткая форм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тест одаренности П.Торренса (рисунк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95280" y="260280"/>
            <a:ext cx="8748720" cy="63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ществуют и другие метод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ика Векслера «Измерение интеллекта детей», под редакцией Ю.З.Гильбух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культурно-свободный тест на интеллект Кетел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батарея креативных тестов, созданная на основе тестов Гилфорд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батарея креативных тестов Вильямс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адаптированный вариант опросника креативности  Джонсона, направленный на оценку и самооценку характеристик творческой лич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адаптированный тест Вильямса для комплексной диагностики креативности у детей и подростков от 5 до 17 лет, оценивающий как характеристики, связанные с творческим мышлением, так и личностно- индивидные креативные характеристики  (адаптирован Е.Е. Туник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адаптированный вариант опросника креативности  Джозефа С. Рензулли и Роберта К. Хартма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39640" y="260280"/>
            <a:ext cx="7058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ходы к построению образовательных программ для одаренных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11280" y="2060640"/>
            <a:ext cx="8137440" cy="41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Ускоренное обуч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Может достигаться как за счет «перескакивания» через класс, так и за счет построения индивидуальных программ прохождения различных школьных предме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Обогащение содержания обуче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Это путь углубленного и расширенного изучения отдельных тем, проблем, предметов и целых научных областей, позволяющий одаренным детям продвигаться в освоении  интересующих их предметов и областей значительно дальше чем сверстник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5"/>
          <p:cNvPicPr/>
          <p:nvPr/>
        </p:nvPicPr>
        <p:blipFill>
          <a:blip r:embed="rId1"/>
          <a:stretch/>
        </p:blipFill>
        <p:spPr>
          <a:xfrm>
            <a:off x="7164360" y="333360"/>
            <a:ext cx="12715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3T02:42:16Z</dcterms:created>
  <dc:creator>Ирина</dc:creator>
  <dc:description/>
  <dc:language>en-US</dc:language>
  <cp:lastModifiedBy>Admin</cp:lastModifiedBy>
  <dcterms:modified xsi:type="dcterms:W3CDTF">2012-11-26T07:13:16Z</dcterms:modified>
  <cp:revision>18</cp:revision>
  <dc:subject/>
  <dc:title>«Развивающемуся обществу нужны современно образованные,  нравственные, предприимчивые      люди,     которые  могут самостоятельно   принимать   ответственные решения  в  ситуации  выбора,   прогнозируя их    возможные   последствия,    способны к сотрудничеству, отличаются  мобильностью, динамизмом,   конструктивностью, обладают развитым    чувством    ответственности за судьбу страны.»  </dc:title>
</cp:coreProperties>
</file>