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E66-A91E-4F47-BA5C-4449BA5F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7E0-6D12-44CE-8026-D850C88B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157-D1C1-4E04-94D2-6A8C90FD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C08-1FEC-431B-B9DB-17C12A4D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F7DA-1269-4AFF-890B-8F2D0493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0C45-0A7E-4CDE-A87A-CB9C58BE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8EFE-6CF7-47C5-A170-16C91400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F0E9-2479-4E24-9898-A0155F1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0D0B-6CF9-463E-9EAD-BBF1BD5F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60E8-7319-4A51-8704-2D28BED1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8C00-28FC-493F-874B-B2F7AB29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A59-4794-4D1C-8B76-DCB5DDC1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482B-6011-4C7C-83B6-5E24B34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BF65-036C-440E-8CEA-5B5BD3F1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518B-D743-4326-8F5E-EA5ED45D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CBCF-D0ED-49AF-A54C-99D9F4E0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8E17-78AF-4BA7-B682-5B08FB7F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92A-8B5C-4D1E-8F6C-B54E7C87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703-7D5F-4C3B-BFFE-3AE4E775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8F6-778F-4A76-ADCA-F419DA13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DEC-F6C8-4DCD-9977-6BAB90D6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88D-CDE4-4534-B40D-2A31421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1C3-015A-44A0-91B6-F28CA56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E79-27FF-4DFF-A91D-F25ABCC3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FAD7-D769-4C4E-9F87-46ABE98737C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59D5-9E60-4B23-AA9E-50C4B84887B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33"/>
                </a:solidFill>
                <a:latin typeface="Verdana"/>
              </a:rPr>
              <a:t>Развитие инновационной образовательной среды в МОУ «Барашевская средняя общеобразовательная школа»</a:t>
            </a:r>
            <a:endParaRPr b="1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47920" y="4267080"/>
            <a:ext cx="7084800" cy="211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 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cc00ff"/>
                </a:solidFill>
                <a:latin typeface="Monotype Corsiva"/>
              </a:rPr>
              <a:t>Районный семинар директоров школ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Monotype Corsiva"/>
              </a:rPr>
              <a:t>«Управление инновационной деятельностью ОУ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Monotype Corsiva"/>
              </a:rPr>
              <a:t>в условиях модернизации образования»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03.03.2011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Этапы внедрения ЛОО технолог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генерирование идеи по реализации ЛОО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ведение опытно-экспериментальной деятельности педагогами   по апробации данной технологии на уроках и внеурочной деятельности под руководством научного руководителя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здание в результате данной работы дидактического материала, в том числе с помощью ИКТ-средств, в технологии ЛОО, разработка конспектов уроков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исследование и выявление позитивных результатов использования технологии, а также решение проблем, возникающих при ее использовани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спространение опыта реализации технологии в образовательном пространстве за пределами  школ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тратегия развития  шко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«Реализация технологии личностно-ориентированного образования как условие обеспечения успешности индивидуализированного образовательного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процесса»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12" descr="j0343331"/>
          <p:cNvPicPr/>
          <p:nvPr/>
        </p:nvPicPr>
        <p:blipFill>
          <a:blip r:embed="rId2"/>
          <a:stretch/>
        </p:blipFill>
        <p:spPr>
          <a:xfrm>
            <a:off x="6948360" y="4797360"/>
            <a:ext cx="18208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ь деятельности  шко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еспечение условий для становления и расширения профессионального сообщества администрации, учителей в контексте концепции личностно-ориентированного образования (работа по распространению опыта ЛОО в рамках образовательного пространства   района)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адачи деятельности  шко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етрансляция модели личностно-ориентированного уро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нформирование о возможностях создания условий на уроках и внеурочной деятельности для раскрытия потенциальных возможностей каждого ученика, его субъектного опыта, уникального и неповторимого, с помощью которого можно быстрее и качественнее добиться усвоения знаний, умений и навык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4360" y="6206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организация и проведение лекций, практикумов, круглых столов с целью практической подготовки, оказания адресной помощи педагогическим работникам, реализующим личностно-ориентированную модель;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-накопление и распространение методических и дидактических материалов, концентрирующих в себе технологию работы в личностно-ориентированной образовательной среде;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публикация материалов педагогов, ведущих опытно-экспериментальную работу в технологии ЛОО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Инновационные организационные формы общественно-государственного управления в  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вет  Школы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дагогический совет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етодический  совет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щее собрание трудового коллектива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вет выпускников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кольный (ученический) Парламен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убличность деятельности  школ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крытая демонстрация образовательных результатов  школы(публичный отчет)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йт  школ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кольная газет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тупления  на родительских собрания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Verdana"/>
              </a:rPr>
              <a:t>Основные направления деятельности проекта «Школа – ВУЗ»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дготовка к поступлению в ВУЗ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дение   элективных курсов для учащихс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ведение научных конференций, семинаров, руководство в подготовке доклад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ведение  поэтапного внедрения в учебный процесс   новых информационных технологий, таких как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ие электронной почты для индивидуальных консультаций учащихся у преподавател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дение электронного журнал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66"/>
                </a:solidFill>
                <a:latin typeface="Verdana"/>
              </a:rPr>
              <a:t>Структура управления инновационным процессом 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135880" y="2060640"/>
            <a:ext cx="5486400" cy="3285720"/>
            <a:chOff x="2135880" y="2060640"/>
            <a:chExt cx="5486400" cy="3285720"/>
          </a:xfrm>
        </p:grpSpPr>
        <p:sp>
          <p:nvSpPr>
            <p:cNvPr id="208" name=""/>
            <p:cNvSpPr/>
            <p:nvPr/>
          </p:nvSpPr>
          <p:spPr>
            <a:xfrm>
              <a:off x="4308480" y="2060640"/>
              <a:ext cx="1028880" cy="74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Методиче-ский   совет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36880" y="2554560"/>
              <a:ext cx="1028160" cy="74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Учителя-экспери-ментаторы</a:t>
              </a:r>
              <a:endParaRPr b="0" lang="en-US" sz="11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4200" y="2554560"/>
              <a:ext cx="1028880" cy="74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0000" y="3420360"/>
              <a:ext cx="1142280" cy="74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Совет по планированию и  развитию</a:t>
              </a: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 </a:t>
              </a:r>
              <a:r>
                <a:rPr b="1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 школы</a:t>
              </a:r>
              <a:endParaRPr b="0" lang="en-US" sz="1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5880" y="3420360"/>
              <a:ext cx="1143000" cy="74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6666"/>
                  </a:solidFill>
                  <a:latin typeface="Arial"/>
                  <a:ea typeface="Arial"/>
                </a:rPr>
                <a:t>Научное общество  </a:t>
              </a:r>
              <a:endParaRPr b="0" lang="en-US" sz="11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08480" y="3667680"/>
              <a:ext cx="1028160" cy="86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Методиче-ская  служба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4360" y="2925360"/>
              <a:ext cx="1256400" cy="49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Зам. директора по УВР</a:t>
              </a:r>
              <a:endParaRPr b="0" lang="en-US" sz="1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964680" y="2307960"/>
              <a:ext cx="34308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936880" y="3297240"/>
              <a:ext cx="22824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07560" y="4161960"/>
              <a:ext cx="72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37560" y="4161960"/>
              <a:ext cx="720" cy="86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8240" y="3297240"/>
              <a:ext cx="22896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6640" y="2183760"/>
              <a:ext cx="45720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80160" y="28022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80160" y="342036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622680" y="3297240"/>
              <a:ext cx="685440" cy="7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79240" y="403884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164760" y="4038840"/>
              <a:ext cx="114300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116600" y="4038840"/>
              <a:ext cx="191520" cy="13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336640" y="3049560"/>
              <a:ext cx="45720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6640" y="3914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6640" y="3914640"/>
              <a:ext cx="914760" cy="12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6640" y="3914640"/>
              <a:ext cx="15120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457720" y="4746240"/>
            <a:ext cx="5322240" cy="1269360"/>
            <a:chOff x="2457720" y="4746240"/>
            <a:chExt cx="5322240" cy="1269360"/>
          </a:xfrm>
        </p:grpSpPr>
        <p:sp>
          <p:nvSpPr>
            <p:cNvPr id="232" name=""/>
            <p:cNvSpPr/>
            <p:nvPr/>
          </p:nvSpPr>
          <p:spPr>
            <a:xfrm>
              <a:off x="3846240" y="5253480"/>
              <a:ext cx="11563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6666"/>
                  </a:solidFill>
                  <a:latin typeface="Arial"/>
                  <a:ea typeface="Arial"/>
                </a:rPr>
                <a:t>Руководите-ли проектных групп</a:t>
              </a:r>
              <a:endParaRPr b="0" lang="en-US" sz="11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22920" y="4872960"/>
              <a:ext cx="115704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Экспертный совет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7720" y="4746240"/>
              <a:ext cx="1271520" cy="88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Лаборатория формирования ИКТ-компетентности</a:t>
              </a: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 </a:t>
              </a:r>
              <a:r>
                <a:rPr b="1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педагогов</a:t>
              </a:r>
              <a:endParaRPr b="0" lang="en-US" sz="1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49960" y="5253480"/>
              <a:ext cx="11570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6666"/>
                  </a:solidFill>
                  <a:latin typeface="Arial"/>
                  <a:ea typeface="Arial"/>
                </a:rPr>
                <a:t>Руководите-ли элективных курсов</a:t>
              </a:r>
              <a:endParaRPr b="0" lang="en-US" sz="11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29600" y="5508000"/>
              <a:ext cx="11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2560" y="5508000"/>
              <a:ext cx="34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07360" y="5508000"/>
              <a:ext cx="11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864040" y="275256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66"/>
                </a:solidFill>
                <a:latin typeface="Verdana"/>
              </a:rPr>
              <a:t>Директор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351000"/>
            <a:ext cx="84963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Verdana"/>
              </a:rPr>
              <a:t>Стратегическая цель государственной политики в области образования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ru-RU" sz="4000" spc="-1" strike="noStrike">
                <a:solidFill>
                  <a:srgbClr val="006699"/>
                </a:solidFill>
                <a:latin typeface="Monotype Corsiva"/>
              </a:rPr>
              <a:t>Повышение </a:t>
            </a: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доступности качественного образования</a:t>
            </a:r>
            <a:r>
              <a:rPr b="0" i="1" lang="ru-RU" sz="4000" spc="-1" strike="noStrike">
                <a:solidFill>
                  <a:srgbClr val="cc3300"/>
                </a:solidFill>
                <a:latin typeface="Monotype Corsiva"/>
              </a:rPr>
              <a:t>,</a:t>
            </a:r>
            <a:r>
              <a:rPr b="0" i="1" lang="ru-RU" sz="4000" spc="-1" strike="noStrike">
                <a:solidFill>
                  <a:srgbClr val="006699"/>
                </a:solidFill>
                <a:latin typeface="Monotype Corsiva"/>
              </a:rPr>
              <a:t> соответствующего требованиям инновационного развития экономики, современным потребностям общества и каждого гражданин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Эффективность внедрения инновац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для экономических инноваций есть однозначный измеритель – </a:t>
            </a: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прибыль</a:t>
            </a:r>
            <a:r>
              <a:rPr b="0" lang="ru-RU" sz="4800" spc="-1" strike="noStrike">
                <a:solidFill>
                  <a:srgbClr val="cc3300"/>
                </a:solidFill>
                <a:latin typeface="Monotype Corsiva"/>
              </a:rPr>
              <a:t>;</a:t>
            </a: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для педагогических инноваций - </a:t>
            </a: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«качество образования»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нновация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претворенная в жизнь творческая идея, способствующая достижению главной цели процесса обучения – обеспечение качества предоставляемых образовательных услуг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риоритетная задача современного образования -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обеспечение инновационного характера базового образования в соответствии с требованиями экономики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41" descr="j0198790"/>
          <p:cNvPicPr/>
          <p:nvPr/>
        </p:nvPicPr>
        <p:blipFill>
          <a:blip r:embed="rId2"/>
          <a:stretch/>
        </p:blipFill>
        <p:spPr>
          <a:xfrm>
            <a:off x="6804000" y="4724280"/>
            <a:ext cx="1701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МОУ « Барашевская средняя общеобразовательная школа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Победитель приоритетного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национального проекта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«Образование» в номинации«Школы, внедряющие инновационные программы» (2010г.районный уровень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13" descr="bs00979_"/>
          <p:cNvPicPr/>
          <p:nvPr/>
        </p:nvPicPr>
        <p:blipFill>
          <a:blip r:embed="rId2"/>
          <a:stretch/>
        </p:blipFill>
        <p:spPr>
          <a:xfrm>
            <a:off x="7164360" y="5029200"/>
            <a:ext cx="1712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Управление инновационным процессом в  школ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выявление уровня инновационной деятельности;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проектирование перспектив ее дальнейшего развития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2" descr="j0231641"/>
          <p:cNvPicPr/>
          <p:nvPr/>
        </p:nvPicPr>
        <p:blipFill>
          <a:blip r:embed="rId2"/>
          <a:stretch/>
        </p:blipFill>
        <p:spPr>
          <a:xfrm>
            <a:off x="5580000" y="4869000"/>
            <a:ext cx="1944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ный цент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Verdana"/>
              </a:rPr>
              <a:t>«Ретрансляция опыта реализации технологии личностно-ориентированного образования».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4" descr="j0233952"/>
          <p:cNvPicPr/>
          <p:nvPr/>
        </p:nvPicPr>
        <p:blipFill>
          <a:blip r:embed="rId2"/>
          <a:stretch/>
        </p:blipFill>
        <p:spPr>
          <a:xfrm>
            <a:off x="6443640" y="4221000"/>
            <a:ext cx="246708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6:11:08Z</dcterms:created>
  <dc:creator>СМИРНОВА ЕЛЕНА</dc:creator>
  <dc:description/>
  <cp:keywords/>
  <dc:language>en-US</dc:language>
  <cp:lastModifiedBy>Admin</cp:lastModifiedBy>
  <dcterms:modified xsi:type="dcterms:W3CDTF">2011-03-02T17:24:00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71049</vt:lpwstr>
  </property>
</Properties>
</file>