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182-6FDE-4714-A3C6-03D513F9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FE5-E420-4947-A3E6-0380A1DD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675-F5C5-468A-9B73-AD7BA9A5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3F7-9B60-4EB3-B85F-7AAB0AE7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C00-DDE0-4209-8C07-B2C26DFC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15C3-A811-46D3-ADB1-FFA56D6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EB5-AE85-4081-9BC1-254114D2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DCF2-58A0-435A-93D4-8D6C45AE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867-811A-48CF-B7E9-F9A452DC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66A-2F70-45D9-A7CA-D94B3146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466F-C613-4418-B24A-B77975D6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63D-B76E-497D-B295-84E37B83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BBB0-1550-4CD3-AF33-4787B992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0119-456E-4C09-8832-72C5CA0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4945-CBFA-4D91-B91A-ADB6CB39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4C46-606A-4160-8982-47FDC7F1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F84D-6A59-4B8A-B2AB-5483C0D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808-B271-4A78-B688-4FD03B0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A9F-2D03-487B-B292-00D9E81B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FB5-DEBD-4035-8951-F0E5A25D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A63-7E75-44BF-AB4D-DD43CB89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F56-25B8-4A55-AF1C-46458E3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873-08F0-49E9-BCC1-BC02E88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95F-F750-4957-AD45-AEF40199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A2B-5F29-4000-A2A2-D5C6D2E7705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B534-6F3F-41D2-9F78-0EFDC7871B0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33"/>
                </a:solidFill>
                <a:latin typeface="Verdana"/>
              </a:rPr>
              <a:t>Развитие инновационной образовательной среды в МОУ «Барашевская средняя общеобразовательная школа»</a:t>
            </a:r>
            <a:endParaRPr b="1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47920" y="4267080"/>
            <a:ext cx="7084800" cy="211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Районный семинар директоров школ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«Управление инновационной деятельностью ОУ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Monotype Corsiva"/>
              </a:rPr>
              <a:t>в условиях модернизации образования»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ff"/>
                </a:solidFill>
                <a:latin typeface="Monotype Corsiva"/>
              </a:rPr>
              <a:t>03.03.2011</a:t>
            </a:r>
            <a:r>
              <a:rPr b="1" lang="ru-RU" sz="28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Этапы внедрения ЛОО технолог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генерирование идеи по реализации ЛОО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ведение опытно-экспериментальной деятельности педагогами   по апробации данной технологии на уроках и внеурочной деятельности под руководством научного руководителя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оздание в результате данной работы дидактического материала, в том числе с помощью ИКТ-средств, в технологии ЛОО, разработка конспектов уроков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исследование и выявление позитивных результатов использования технологии, а также решение проблем, возникающих при ее использовании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спространение опыта реализации технологии в образовательном пространстве за пределами  школ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тратегия развития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«Реализация технологии личностно-ориентированного образования как условие обеспечения успешности индивидуализированного образовательного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3600" spc="-1" strike="noStrike">
                <a:solidFill>
                  <a:srgbClr val="006699"/>
                </a:solidFill>
                <a:latin typeface="Verdana"/>
              </a:rPr>
              <a:t>процесса»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12" descr="j0343331"/>
          <p:cNvPicPr/>
          <p:nvPr/>
        </p:nvPicPr>
        <p:blipFill>
          <a:blip r:embed="rId2"/>
          <a:stretch/>
        </p:blipFill>
        <p:spPr>
          <a:xfrm>
            <a:off x="6948360" y="4797360"/>
            <a:ext cx="18208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ель деятельности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еспечение условий для становления и расширения профессионального сообщества администрации, учителей в контексте концепции личностно-ориентированного образования (работа по распространению опыта ЛОО в рамках образовательного пространства   района)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адачи деятельности  шко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етрансляция модели личностно-ориентированного уро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нформирование о возможностях создания условий на уроках и внеурочной деятельности для раскрытия потенциальных возможностей каждого ученика, его субъектного опыта, уникального и неповторимого, с помощью которого можно быстрее и качественнее добиться усвоения знаний, умений и навык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4360" y="6206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организация и проведение лекций, практикумов, круглых столов с целью практической подготовки, оказания адресной помощи педагогическим работникам, реализующим личностно-ориентированную модель;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-накопление и распространение методических и дидактических материалов, концентрирующих в себе технологию работы в личностно-ориентированной образовательной среде;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-публикация материалов педагогов, ведущих опытно-экспериментальную работу в технологии ЛОО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Инновационные организационные формы общественно-государственного управления в  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ет  Школы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дагогический совет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етодический  совет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щее собрание трудового коллектива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вет выпускников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кольный (ученический) Парламен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убличность деятельности  школ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ткрытая демонстрация образовательных результатов  школы(публичный отчет)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айт  школы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школьная газет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тупления  на родительских собраниях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Основные направления деятельности проекта «Школа – ВУЗ»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дготовка к поступлению в ВУЗ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дение   элективных курсов для учащихс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ведение научных конференций, семинаров, руководство в подготовке докладов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ведение  поэтапного внедрения в учебный процесс   новых информационных технологий, таких как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ие электронной почты для индивидуальных консультаций учащихся у преподавател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едение электронного журнал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66"/>
                </a:solidFill>
                <a:latin typeface="Verdana"/>
              </a:rPr>
              <a:t>Структура управления инновационным процессом 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135880" y="2060640"/>
            <a:ext cx="5486400" cy="3285720"/>
            <a:chOff x="2135880" y="2060640"/>
            <a:chExt cx="5486400" cy="3285720"/>
          </a:xfrm>
        </p:grpSpPr>
        <p:sp>
          <p:nvSpPr>
            <p:cNvPr id="208" name=""/>
            <p:cNvSpPr/>
            <p:nvPr/>
          </p:nvSpPr>
          <p:spPr>
            <a:xfrm>
              <a:off x="4308480" y="2060640"/>
              <a:ext cx="1028880" cy="74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Методиче-ский   совет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36880" y="2554560"/>
              <a:ext cx="1028160" cy="74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3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Times New Roman"/>
                  <a:ea typeface="Arial"/>
                </a:rPr>
                <a:t>Учителя-экспери-ментаторы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4200" y="2554560"/>
              <a:ext cx="1028880" cy="74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0000" y="3420360"/>
              <a:ext cx="1142280" cy="74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Совет по планированию и  развитию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 школы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5880" y="3420360"/>
              <a:ext cx="1143000" cy="741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Научное общество  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08480" y="3667680"/>
              <a:ext cx="1028160" cy="86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Методиче-ская  служба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4360" y="2925360"/>
              <a:ext cx="1256400" cy="49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Зам. директора по УВР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964680" y="2307960"/>
              <a:ext cx="34308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936880" y="3297240"/>
              <a:ext cx="2282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07560" y="4161960"/>
              <a:ext cx="72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7560" y="4161960"/>
              <a:ext cx="720" cy="86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8240" y="3297240"/>
              <a:ext cx="22896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36640" y="2183760"/>
              <a:ext cx="457200" cy="6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80160" y="28022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80160" y="3420360"/>
              <a:ext cx="0" cy="24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622680" y="3297240"/>
              <a:ext cx="68544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79240" y="4038840"/>
              <a:ext cx="10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3164760" y="4038840"/>
              <a:ext cx="114300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116600" y="4038840"/>
              <a:ext cx="191520" cy="130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336640" y="3049560"/>
              <a:ext cx="45720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6640" y="3914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6640" y="3914640"/>
              <a:ext cx="914760" cy="12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6640" y="3914640"/>
              <a:ext cx="1512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57720" y="4746240"/>
            <a:ext cx="5322240" cy="1269360"/>
            <a:chOff x="2457720" y="4746240"/>
            <a:chExt cx="5322240" cy="1269360"/>
          </a:xfrm>
        </p:grpSpPr>
        <p:sp>
          <p:nvSpPr>
            <p:cNvPr id="232" name=""/>
            <p:cNvSpPr/>
            <p:nvPr/>
          </p:nvSpPr>
          <p:spPr>
            <a:xfrm>
              <a:off x="3846240" y="5253480"/>
              <a:ext cx="11563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Руководите-ли проектных групп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22920" y="4872960"/>
              <a:ext cx="1157040" cy="7621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Экспертный совет</a:t>
              </a:r>
              <a:endParaRPr b="0" lang="en-US" sz="12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7720" y="4746240"/>
              <a:ext cx="1271520" cy="88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Лаборатория формирования ИКТ-компетентности</a:t>
              </a:r>
              <a:r>
                <a:rPr b="1" lang="ru-RU" sz="1200" spc="-1" strike="noStrike">
                  <a:solidFill>
                    <a:srgbClr val="006666"/>
                  </a:solidFill>
                  <a:latin typeface="Arial"/>
                  <a:ea typeface="Arial"/>
                </a:rPr>
                <a:t> </a:t>
              </a:r>
              <a:r>
                <a:rPr b="1" lang="ru-RU" sz="1000" spc="-1" strike="noStrike">
                  <a:solidFill>
                    <a:srgbClr val="006666"/>
                  </a:solidFill>
                  <a:latin typeface="Arial"/>
                  <a:ea typeface="Arial"/>
                </a:rPr>
                <a:t>педагогов</a:t>
              </a:r>
              <a:endParaRPr b="0" lang="en-US" sz="10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49960" y="5253480"/>
              <a:ext cx="115704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6666"/>
                  </a:solidFill>
                  <a:latin typeface="Arial"/>
                  <a:ea typeface="Arial"/>
                </a:rPr>
                <a:t>Руководите-ли элективных курсов</a:t>
              </a:r>
              <a:endParaRPr b="0" lang="en-US" sz="11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29600" y="5508000"/>
              <a:ext cx="1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2560" y="5508000"/>
              <a:ext cx="3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07360" y="5508000"/>
              <a:ext cx="11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864040" y="2752560"/>
            <a:ext cx="77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6666"/>
                </a:solidFill>
                <a:latin typeface="Verdana"/>
              </a:rPr>
              <a:t>Директор</a:t>
            </a:r>
            <a:endParaRPr b="0" lang="en-US" sz="1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351000"/>
            <a:ext cx="849636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66"/>
                </a:solidFill>
                <a:latin typeface="Verdana"/>
              </a:rPr>
              <a:t>Стратегическая цель государственной политики в области образования</a:t>
            </a:r>
            <a:endParaRPr b="0" lang="en-US" sz="3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i="1" lang="ru-RU" sz="4000" spc="-1" strike="noStrike">
                <a:solidFill>
                  <a:srgbClr val="006699"/>
                </a:solidFill>
                <a:latin typeface="Monotype Corsiva"/>
              </a:rPr>
              <a:t>Повышение </a:t>
            </a:r>
            <a:r>
              <a:rPr b="1" i="1" lang="ru-RU" sz="4000" spc="-1" strike="noStrike">
                <a:solidFill>
                  <a:srgbClr val="cc3300"/>
                </a:solidFill>
                <a:latin typeface="Monotype Corsiva"/>
              </a:rPr>
              <a:t>доступности качественного образования</a:t>
            </a:r>
            <a:r>
              <a:rPr b="0" i="1" lang="ru-RU" sz="4000" spc="-1" strike="noStrike">
                <a:solidFill>
                  <a:srgbClr val="cc3300"/>
                </a:solidFill>
                <a:latin typeface="Monotype Corsiva"/>
              </a:rPr>
              <a:t>,</a:t>
            </a:r>
            <a:r>
              <a:rPr b="0" i="1" lang="ru-RU" sz="4000" spc="-1" strike="noStrike">
                <a:solidFill>
                  <a:srgbClr val="006699"/>
                </a:solidFill>
                <a:latin typeface="Monotype Corsiva"/>
              </a:rPr>
              <a:t> соответствующего требованиям инновационного развития экономики, современным потребностям общества и каждого гражданина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Эффективность внедрения инновац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ля экономических инноваций есть однозначный измеритель – </a:t>
            </a: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прибыль</a:t>
            </a:r>
            <a:r>
              <a:rPr b="0" lang="ru-RU" sz="4800" spc="-1" strike="noStrike">
                <a:solidFill>
                  <a:srgbClr val="cc3300"/>
                </a:solidFill>
                <a:latin typeface="Monotype Corsiva"/>
              </a:rPr>
              <a:t>;</a:t>
            </a: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99"/>
                </a:solidFill>
                <a:latin typeface="Monotype Corsiva"/>
              </a:rPr>
              <a:t>для педагогических инноваций - </a:t>
            </a: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«качество образования»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нновация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етворенная в жизнь творческая идея, способствующая достижению главной цели процесса обучения – обеспечение качества предоставляемых образовательных услуг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риоритетная задача современного образования -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обеспечение инновационного характера базового образования в соответствии с требованиями экономики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Picture 41" descr="j0198790"/>
          <p:cNvPicPr/>
          <p:nvPr/>
        </p:nvPicPr>
        <p:blipFill>
          <a:blip r:embed="rId2"/>
          <a:stretch/>
        </p:blipFill>
        <p:spPr>
          <a:xfrm>
            <a:off x="6804000" y="4724280"/>
            <a:ext cx="1701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МОУ « Барашевская средняя общеобразовательная школ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Победитель приоритетного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национального проекта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«Образование» в номинации«Школы, внедряющие инновационные программы» (2010г.районный уровень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13" descr="bs00979_"/>
          <p:cNvPicPr/>
          <p:nvPr/>
        </p:nvPicPr>
        <p:blipFill>
          <a:blip r:embed="rId2"/>
          <a:stretch/>
        </p:blipFill>
        <p:spPr>
          <a:xfrm>
            <a:off x="7164360" y="5029200"/>
            <a:ext cx="1712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Управление инновационным процессом в  школ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выявление уровня инновационной деятельности;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проектирование перспектив ее дальнейшего развития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2" descr="j0231641"/>
          <p:cNvPicPr/>
          <p:nvPr/>
        </p:nvPicPr>
        <p:blipFill>
          <a:blip r:embed="rId2"/>
          <a:stretch/>
        </p:blipFill>
        <p:spPr>
          <a:xfrm>
            <a:off x="5580000" y="4869000"/>
            <a:ext cx="19447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ный центр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99"/>
                </a:solidFill>
                <a:latin typeface="Verdana"/>
              </a:rPr>
              <a:t>«Ретрансляция опыта реализации технологии личностно-ориентированного образования».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4" descr="j0233952"/>
          <p:cNvPicPr/>
          <p:nvPr/>
        </p:nvPicPr>
        <p:blipFill>
          <a:blip r:embed="rId2"/>
          <a:stretch/>
        </p:blipFill>
        <p:spPr>
          <a:xfrm>
            <a:off x="6443640" y="4221000"/>
            <a:ext cx="246708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6:11:08Z</dcterms:created>
  <dc:creator>СМИРНОВА ЕЛЕНА</dc:creator>
  <dc:description/>
  <cp:keywords/>
  <dc:language>en-US</dc:language>
  <cp:lastModifiedBy>Admin</cp:lastModifiedBy>
  <dcterms:modified xsi:type="dcterms:W3CDTF">2011-03-02T17:24:00Z</dcterms:modified>
  <cp:revision>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471049</vt:lpwstr>
  </property>
</Properties>
</file>