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D52-A555-46D5-8987-5A1A57BB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1CD-A8D2-4D88-A3F2-94E7F6A6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820-FA06-4B00-8668-251E9936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75C-5303-4245-8D5B-7F117BA9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4B8A-C2D3-4872-AE25-A235C6E1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BF11-246D-4A4C-BC1C-ACD418CF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23B6-42EC-49CB-AD1B-A3BB329B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3430-77B7-48F4-8327-48A9A636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6035-FB75-4818-8A57-F1574051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0CE3-52C4-4912-9589-CFE50E48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FF8F-F62C-4316-87F8-835A0DD5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ABD-82A7-4D54-B807-BDFE6BD7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51C1-AD4F-4C8E-9DCD-1277EBFE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8B2F-39FA-43FD-9019-06474DD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5971-FC65-45CB-8B0E-8B32C655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D9A7-3B70-4555-A760-6EEAD66D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E859-7565-46F0-886A-60B7EDBF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1DE-A2DA-4305-B110-538EB5ED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135-6BD9-44C7-A5D7-0417F37A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75B-0CB1-4B7C-87E7-80764F6B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E15-441E-477D-8D17-B669EA4F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FF5-BBD4-47CB-AB3E-A7E4F470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229-80C4-4E9E-A615-20307682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10C-6579-42D4-8105-4EA6FEC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1" name="Group 62"/>
            <p:cNvGrpSpPr/>
            <p:nvPr/>
          </p:nvGrpSpPr>
          <p:grpSpPr>
            <a:xfrm>
              <a:off x="6967080" y="65160"/>
              <a:ext cx="2076120" cy="6590520"/>
              <a:chOff x="6967080" y="65160"/>
              <a:chExt cx="2076120" cy="659052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67080" y="66600"/>
                <a:ext cx="1975320" cy="6589080"/>
                <a:chOff x="6967080" y="66600"/>
                <a:chExt cx="1975320" cy="658908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72280" y="66600"/>
                  <a:ext cx="699840" cy="804600"/>
                  <a:chOff x="7172280" y="66600"/>
                  <a:chExt cx="699840" cy="80460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28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66240" y="153360"/>
                    <a:ext cx="506880" cy="63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6760" y="2261520"/>
                  <a:ext cx="1017360" cy="1116360"/>
                  <a:chOff x="7556760" y="2261520"/>
                  <a:chExt cx="1017360" cy="111636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2960" y="2299680"/>
                    <a:ext cx="9838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22000" y="2366640"/>
                    <a:ext cx="68616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79120" y="923760"/>
                  <a:ext cx="863280" cy="897840"/>
                  <a:chOff x="8079120" y="923760"/>
                  <a:chExt cx="863280" cy="89784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052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03320" y="10706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9240" y="3949920"/>
                  <a:ext cx="1004040" cy="1212840"/>
                  <a:chOff x="7329240" y="3949920"/>
                  <a:chExt cx="1004040" cy="121284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240" y="3949920"/>
                    <a:ext cx="100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9120" y="4060800"/>
                    <a:ext cx="75816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70000" y="5125320"/>
                  <a:ext cx="1333440" cy="1530360"/>
                  <a:chOff x="7470000" y="5125320"/>
                  <a:chExt cx="1333440" cy="153036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600" y="516276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43520" y="524484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67080" y="1839240"/>
                  <a:ext cx="863280" cy="897840"/>
                  <a:chOff x="6967080" y="1839240"/>
                  <a:chExt cx="863280" cy="89784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488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91280" y="198720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4880" y="92520"/>
                <a:ext cx="1408320" cy="5094000"/>
                <a:chOff x="7634880" y="92520"/>
                <a:chExt cx="1408320" cy="509400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3040" y="4004280"/>
                  <a:ext cx="970920" cy="1182240"/>
                  <a:chOff x="7853040" y="4004280"/>
                  <a:chExt cx="970920" cy="118224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0680" y="4012200"/>
                    <a:ext cx="932760" cy="11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84200"/>
                    <a:ext cx="707760" cy="10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4880" y="1022760"/>
                  <a:ext cx="1074960" cy="1130040"/>
                  <a:chOff x="7634880" y="1022760"/>
                  <a:chExt cx="1074960" cy="113004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0840" y="1025280"/>
                    <a:ext cx="92376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52320" y="1121040"/>
                    <a:ext cx="640080" cy="93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86760" y="92520"/>
                  <a:ext cx="856440" cy="960840"/>
                  <a:chOff x="8186760" y="92520"/>
                  <a:chExt cx="856440" cy="96084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120" y="121320"/>
                    <a:ext cx="76824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1200" y="173880"/>
                    <a:ext cx="54756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25360" y="3223080"/>
                  <a:ext cx="368640" cy="5367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17320" y="907200"/>
                  <a:ext cx="288360" cy="4197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4680" y="65160"/>
                <a:ext cx="1542600" cy="5990040"/>
                <a:chOff x="7474680" y="65160"/>
                <a:chExt cx="1542600" cy="599004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3440" y="4834800"/>
                  <a:ext cx="948240" cy="11606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92040" y="153360"/>
                  <a:ext cx="663840" cy="8103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400" y="3763440"/>
                  <a:ext cx="587160" cy="716400"/>
                </a:xfrm>
                <a:prstGeom prst="pie">
                  <a:avLst/>
                </a:pr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7200" y="1768320"/>
                  <a:ext cx="703800" cy="8535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36720" y="2695320"/>
              <a:ext cx="996120" cy="1370880"/>
              <a:chOff x="8136720" y="2695320"/>
              <a:chExt cx="996120" cy="13708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32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38240" y="280584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72960"/>
              <a:ext cx="1405080" cy="1089720"/>
              <a:chOff x="6558120" y="5772960"/>
              <a:chExt cx="1405080" cy="108972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2960"/>
                <a:ext cx="1405080" cy="108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68640" y="5889960"/>
                <a:ext cx="1183680" cy="85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08640" y="6195960"/>
              <a:ext cx="896040" cy="540360"/>
            </a:xfrm>
            <a:prstGeom prst="pie">
              <a:avLst/>
            </a:pr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12EA-AF72-4497-ACD5-63993B429C82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87" name="Group 62"/>
            <p:cNvGrpSpPr/>
            <p:nvPr/>
          </p:nvGrpSpPr>
          <p:grpSpPr>
            <a:xfrm>
              <a:off x="6967080" y="65160"/>
              <a:ext cx="2076120" cy="6590520"/>
              <a:chOff x="6967080" y="65160"/>
              <a:chExt cx="2076120" cy="659052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67080" y="66600"/>
                <a:ext cx="1975320" cy="6589080"/>
                <a:chOff x="6967080" y="66600"/>
                <a:chExt cx="1975320" cy="658908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72280" y="66600"/>
                  <a:ext cx="699840" cy="804600"/>
                  <a:chOff x="7172280" y="66600"/>
                  <a:chExt cx="699840" cy="80460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28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66240" y="153360"/>
                    <a:ext cx="506880" cy="63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6760" y="2261520"/>
                  <a:ext cx="1017360" cy="1116360"/>
                  <a:chOff x="7556760" y="2261520"/>
                  <a:chExt cx="1017360" cy="111636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2960" y="2299680"/>
                    <a:ext cx="9838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22000" y="2366640"/>
                    <a:ext cx="68616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79120" y="923760"/>
                  <a:ext cx="863280" cy="897840"/>
                  <a:chOff x="8079120" y="923760"/>
                  <a:chExt cx="863280" cy="89784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052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03320" y="10706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9240" y="3949920"/>
                  <a:ext cx="1004040" cy="1212840"/>
                  <a:chOff x="7329240" y="3949920"/>
                  <a:chExt cx="1004040" cy="121284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240" y="3949920"/>
                    <a:ext cx="100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9120" y="4060800"/>
                    <a:ext cx="75816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70000" y="5125320"/>
                  <a:ext cx="1333440" cy="1530360"/>
                  <a:chOff x="7470000" y="5125320"/>
                  <a:chExt cx="1333440" cy="153036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600" y="516276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43520" y="524484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67080" y="1839240"/>
                  <a:ext cx="863280" cy="897840"/>
                  <a:chOff x="6967080" y="1839240"/>
                  <a:chExt cx="863280" cy="89784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488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91280" y="198720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4880" y="92520"/>
                <a:ext cx="1408320" cy="5094000"/>
                <a:chOff x="7634880" y="92520"/>
                <a:chExt cx="1408320" cy="509400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3040" y="4004280"/>
                  <a:ext cx="970920" cy="1182240"/>
                  <a:chOff x="7853040" y="4004280"/>
                  <a:chExt cx="970920" cy="118224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0680" y="4012200"/>
                    <a:ext cx="932760" cy="11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84200"/>
                    <a:ext cx="707760" cy="10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4880" y="1022760"/>
                  <a:ext cx="1074960" cy="1130040"/>
                  <a:chOff x="7634880" y="1022760"/>
                  <a:chExt cx="1074960" cy="113004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0840" y="1025280"/>
                    <a:ext cx="92376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52320" y="1121040"/>
                    <a:ext cx="640080" cy="93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86760" y="92520"/>
                  <a:ext cx="856440" cy="960840"/>
                  <a:chOff x="8186760" y="92520"/>
                  <a:chExt cx="856440" cy="96084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120" y="121320"/>
                    <a:ext cx="76824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1200" y="173880"/>
                    <a:ext cx="54756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25360" y="3223080"/>
                  <a:ext cx="368640" cy="5367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17320" y="907200"/>
                  <a:ext cx="288360" cy="4197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4680" y="65160"/>
                <a:ext cx="1542600" cy="5990040"/>
                <a:chOff x="7474680" y="65160"/>
                <a:chExt cx="1542600" cy="599004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3440" y="4834800"/>
                  <a:ext cx="948240" cy="11606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92040" y="153360"/>
                  <a:ext cx="663840" cy="8103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400" y="3763440"/>
                  <a:ext cx="587160" cy="716400"/>
                </a:xfrm>
                <a:prstGeom prst="pie">
                  <a:avLst/>
                </a:pr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7200" y="1768320"/>
                  <a:ext cx="703800" cy="8535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36720" y="2695320"/>
              <a:ext cx="996120" cy="1370880"/>
              <a:chOff x="8136720" y="2695320"/>
              <a:chExt cx="996120" cy="13708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32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38240" y="280584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72960"/>
              <a:ext cx="1405080" cy="1089720"/>
              <a:chOff x="6558120" y="5772960"/>
              <a:chExt cx="1405080" cy="108972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2960"/>
                <a:ext cx="1405080" cy="108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68640" y="5889960"/>
                <a:ext cx="1183680" cy="85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08640" y="6195960"/>
              <a:ext cx="896040" cy="540360"/>
            </a:xfrm>
            <a:prstGeom prst="pie">
              <a:avLst/>
            </a:pr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27160" cy="1120680"/>
            <a:chOff x="5456160" y="1414440"/>
            <a:chExt cx="1127160" cy="112068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271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1560" cy="865080"/>
            <a:chOff x="5626080" y="1390680"/>
            <a:chExt cx="871560" cy="86508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15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33240" cy="646200"/>
            <a:chOff x="5237280" y="1871640"/>
            <a:chExt cx="6332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33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7200" y="1785960"/>
            <a:ext cx="517320" cy="523800"/>
            <a:chOff x="5407200" y="1785960"/>
            <a:chExt cx="517320" cy="52380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7200" y="1785960"/>
              <a:ext cx="5173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6760"/>
            <a:ext cx="285840" cy="285840"/>
            <a:chOff x="4700520" y="2066760"/>
            <a:chExt cx="285840" cy="2858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6760"/>
              <a:ext cx="2858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14960" y="969840"/>
            <a:ext cx="285840" cy="292320"/>
            <a:chOff x="6114960" y="969840"/>
            <a:chExt cx="285840" cy="2923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14960" y="969840"/>
              <a:ext cx="28584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41800" y="1878120"/>
            <a:ext cx="225360" cy="225360"/>
            <a:chOff x="5041800" y="1878120"/>
            <a:chExt cx="225360" cy="22536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41800" y="18781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32600" y="1042920"/>
            <a:ext cx="225360" cy="225360"/>
            <a:chOff x="6132600" y="1042920"/>
            <a:chExt cx="225360" cy="22536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32600" y="10429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5F93-E95C-4333-9B01-B1800DEA0800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028000" cy="43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300" spc="-1" strike="noStrike">
                <a:solidFill>
                  <a:srgbClr val="ffffff"/>
                </a:solidFill>
                <a:latin typeface="Verdana"/>
              </a:rPr>
              <a:t>Решение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300" spc="-1" strike="noStrike">
                <a:solidFill>
                  <a:srgbClr val="ffffff"/>
                </a:solidFill>
                <a:latin typeface="Verdana"/>
              </a:rPr>
              <a:t>задач на проценты </a:t>
            </a:r>
            <a:br>
              <a:rPr sz="7300"/>
            </a:br>
            <a:r>
              <a:rPr b="0" lang="ru-RU" sz="7300" spc="-1" strike="noStrike">
                <a:solidFill>
                  <a:srgbClr val="ffffff"/>
                </a:solidFill>
                <a:latin typeface="Verdana"/>
              </a:rPr>
              <a:t>(%)</a:t>
            </a:r>
            <a:br>
              <a:rPr sz="73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ыполнила Кобелева Али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971640" y="836640"/>
            <a:ext cx="712944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вец очень часто выступает на концертах. За каждый концерт он получает 35% от всей суммы, 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получен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а концерт. Сколько денег получит певец за месяц, если за один концерт средняя сумма всей прибыли составляет 120 000 рублей, и  у него бывает по 11 концертов в месяц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1042920" y="1197000"/>
            <a:ext cx="73454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20000:0,35=42000(руб.)-получает певец за один концер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2000*11=462000(руб.)-получает певец за 1 месяц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755640" y="234936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: за один месяц певец получает 462000 рубле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3:17:06Z</dcterms:created>
  <dc:creator>0011</dc:creator>
  <dc:description/>
  <dc:language>en-US</dc:language>
  <cp:lastModifiedBy>Kommander</cp:lastModifiedBy>
  <dcterms:modified xsi:type="dcterms:W3CDTF">2013-03-14T07:58:15Z</dcterms:modified>
  <cp:revision>10</cp:revision>
  <dc:subject/>
  <dc:title>Решение задач на проценты (%)</dc:title>
</cp:coreProperties>
</file>