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8BD6-F733-4832-970F-3D0014550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D098-016E-470D-8BA8-0CBBAFAE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ADDA-4738-45A9-BCB7-A65CF5A1E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A9A7-3015-47AB-B632-56CDB701E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9407-0627-4329-8D22-C5007C708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5C2B-3A6E-4EF4-ACF7-73FD7983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9009-DB42-42FC-9073-707B667E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A7F1-2936-4EF9-87F1-1EB2F53A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A9FBC-E44C-4C8C-A2A6-41ADEFF7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BE71-E41B-408D-A4BB-42D9BFE6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B223-7CF2-479F-B5BA-D40A0BC7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DF62-0BFA-4291-80EC-5A8D8071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390FD-879D-4134-8DD8-C7BEA228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5935-FEF0-4D8F-AAB0-A0218B60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BED0E-285A-4787-AC75-94929DD1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5FA4-8BDE-4257-9175-55416F02C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C832-17B8-42F4-98A1-702C9283A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5DFC-03BF-4C39-BFC1-05C62358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0E0B-1907-4CAD-B987-2D05F174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7AAA-79B4-4412-8700-12C18B3E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0121-0660-4641-9EC4-73DD0B76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604B-A9CA-40F2-B482-A32DF4EB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7147-4519-4C71-B90F-4A1FE663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D964-CE8E-4C93-973F-0096A3A0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slideLayout" Target="../slideLayouts/slideLayout13.xml"/><Relationship Id="rId22" Type="http://schemas.openxmlformats.org/officeDocument/2006/relationships/slideLayout" Target="../slideLayouts/slideLayout14.xml"/><Relationship Id="rId23" Type="http://schemas.openxmlformats.org/officeDocument/2006/relationships/slideLayout" Target="../slideLayouts/slideLayout15.xml"/><Relationship Id="rId24" Type="http://schemas.openxmlformats.org/officeDocument/2006/relationships/slideLayout" Target="../slideLayouts/slideLayout16.xml"/><Relationship Id="rId25" Type="http://schemas.openxmlformats.org/officeDocument/2006/relationships/slideLayout" Target="../slideLayouts/slideLayout17.xml"/><Relationship Id="rId26" Type="http://schemas.openxmlformats.org/officeDocument/2006/relationships/slideLayout" Target="../slideLayouts/slideLayout18.xml"/><Relationship Id="rId27" Type="http://schemas.openxmlformats.org/officeDocument/2006/relationships/slideLayout" Target="../slideLayouts/slideLayout19.xml"/><Relationship Id="rId28" Type="http://schemas.openxmlformats.org/officeDocument/2006/relationships/slideLayout" Target="../slideLayouts/slideLayout20.xml"/><Relationship Id="rId29" Type="http://schemas.openxmlformats.org/officeDocument/2006/relationships/slideLayout" Target="../slideLayouts/slideLayout21.xml"/><Relationship Id="rId30" Type="http://schemas.openxmlformats.org/officeDocument/2006/relationships/slideLayout" Target="../slideLayouts/slideLayout22.xml"/><Relationship Id="rId31" Type="http://schemas.openxmlformats.org/officeDocument/2006/relationships/slideLayout" Target="../slideLayouts/slideLayout23.xml"/><Relationship Id="rId3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b0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18"/>
          <p:cNvGrpSpPr/>
          <p:nvPr/>
        </p:nvGrpSpPr>
        <p:grpSpPr>
          <a:xfrm>
            <a:off x="6558120" y="65160"/>
            <a:ext cx="2574720" cy="6797520"/>
            <a:chOff x="6558120" y="65160"/>
            <a:chExt cx="2574720" cy="6797520"/>
          </a:xfrm>
        </p:grpSpPr>
        <p:grpSp>
          <p:nvGrpSpPr>
            <p:cNvPr id="1" name="Group 62"/>
            <p:cNvGrpSpPr/>
            <p:nvPr/>
          </p:nvGrpSpPr>
          <p:grpSpPr>
            <a:xfrm>
              <a:off x="6967080" y="65160"/>
              <a:ext cx="2076120" cy="6590520"/>
              <a:chOff x="6967080" y="65160"/>
              <a:chExt cx="2076120" cy="6590520"/>
            </a:xfrm>
          </p:grpSpPr>
          <p:grpSp>
            <p:nvGrpSpPr>
              <p:cNvPr id="2" name="Group 44"/>
              <p:cNvGrpSpPr/>
              <p:nvPr/>
            </p:nvGrpSpPr>
            <p:grpSpPr>
              <a:xfrm>
                <a:off x="6967080" y="66600"/>
                <a:ext cx="1975320" cy="6589080"/>
                <a:chOff x="6967080" y="66600"/>
                <a:chExt cx="1975320" cy="6589080"/>
              </a:xfrm>
            </p:grpSpPr>
            <p:grpSp>
              <p:nvGrpSpPr>
                <p:cNvPr id="3" name="Freeform 233"/>
                <p:cNvGrpSpPr/>
                <p:nvPr/>
              </p:nvGrpSpPr>
              <p:grpSpPr>
                <a:xfrm>
                  <a:off x="7172280" y="66600"/>
                  <a:ext cx="699840" cy="804600"/>
                  <a:chOff x="7172280" y="66600"/>
                  <a:chExt cx="699840" cy="804600"/>
                </a:xfrm>
              </p:grpSpPr>
              <p:pic>
                <p:nvPicPr>
                  <p:cNvPr id="4" name="Freeform 2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2280" y="66600"/>
                    <a:ext cx="69984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" name=""/>
                  <p:cNvSpPr/>
                  <p:nvPr/>
                </p:nvSpPr>
                <p:spPr>
                  <a:xfrm rot="879600">
                    <a:off x="7266240" y="153360"/>
                    <a:ext cx="506880" cy="63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" name="Freeform 25"/>
                <p:cNvGrpSpPr/>
                <p:nvPr/>
              </p:nvGrpSpPr>
              <p:grpSpPr>
                <a:xfrm>
                  <a:off x="7556760" y="2261520"/>
                  <a:ext cx="1017360" cy="1116360"/>
                  <a:chOff x="7556760" y="2261520"/>
                  <a:chExt cx="1017360" cy="1116360"/>
                </a:xfrm>
              </p:grpSpPr>
              <p:pic>
                <p:nvPicPr>
                  <p:cNvPr id="7" name="Freeform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72960" y="2299680"/>
                    <a:ext cx="983880" cy="10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" name=""/>
                  <p:cNvSpPr/>
                  <p:nvPr/>
                </p:nvSpPr>
                <p:spPr>
                  <a:xfrm rot="20016000">
                    <a:off x="7722000" y="2366640"/>
                    <a:ext cx="686160" cy="905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" name="Freeform 29"/>
                <p:cNvGrpSpPr/>
                <p:nvPr/>
              </p:nvGrpSpPr>
              <p:grpSpPr>
                <a:xfrm>
                  <a:off x="8079120" y="923760"/>
                  <a:ext cx="863280" cy="897840"/>
                  <a:chOff x="8079120" y="923760"/>
                  <a:chExt cx="863280" cy="897840"/>
                </a:xfrm>
              </p:grpSpPr>
              <p:pic>
                <p:nvPicPr>
                  <p:cNvPr id="10" name="Freeform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20520" y="923760"/>
                    <a:ext cx="781200" cy="89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" name=""/>
                  <p:cNvSpPr/>
                  <p:nvPr/>
                </p:nvSpPr>
                <p:spPr>
                  <a:xfrm rot="18879600">
                    <a:off x="8203320" y="1070640"/>
                    <a:ext cx="614160" cy="60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2" name="Freeform 33"/>
                <p:cNvGrpSpPr/>
                <p:nvPr/>
              </p:nvGrpSpPr>
              <p:grpSpPr>
                <a:xfrm>
                  <a:off x="7329240" y="3949920"/>
                  <a:ext cx="1004040" cy="1212840"/>
                  <a:chOff x="7329240" y="3949920"/>
                  <a:chExt cx="1004040" cy="1212840"/>
                </a:xfrm>
              </p:grpSpPr>
              <p:pic>
                <p:nvPicPr>
                  <p:cNvPr id="13" name="Freeform 3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29240" y="3949920"/>
                    <a:ext cx="100404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" name=""/>
                  <p:cNvSpPr/>
                  <p:nvPr/>
                </p:nvSpPr>
                <p:spPr>
                  <a:xfrm rot="21141600">
                    <a:off x="7449120" y="4060800"/>
                    <a:ext cx="758160" cy="988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5" name="Freeform 37"/>
                <p:cNvGrpSpPr/>
                <p:nvPr/>
              </p:nvGrpSpPr>
              <p:grpSpPr>
                <a:xfrm>
                  <a:off x="7470000" y="5125320"/>
                  <a:ext cx="1333440" cy="1530360"/>
                  <a:chOff x="7470000" y="5125320"/>
                  <a:chExt cx="1333440" cy="1530360"/>
                </a:xfrm>
              </p:grpSpPr>
              <p:pic>
                <p:nvPicPr>
                  <p:cNvPr id="16" name="Freeform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91600" y="5162760"/>
                    <a:ext cx="1293480" cy="14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" name=""/>
                  <p:cNvSpPr/>
                  <p:nvPr/>
                </p:nvSpPr>
                <p:spPr>
                  <a:xfrm rot="1068000">
                    <a:off x="7643520" y="5244840"/>
                    <a:ext cx="986040" cy="129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8" name="Freeform 29"/>
                <p:cNvGrpSpPr/>
                <p:nvPr/>
              </p:nvGrpSpPr>
              <p:grpSpPr>
                <a:xfrm>
                  <a:off x="6967080" y="1839240"/>
                  <a:ext cx="863280" cy="897840"/>
                  <a:chOff x="6967080" y="1839240"/>
                  <a:chExt cx="863280" cy="897840"/>
                </a:xfrm>
              </p:grpSpPr>
              <p:pic>
                <p:nvPicPr>
                  <p:cNvPr id="19" name="Freeform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004880" y="1839240"/>
                    <a:ext cx="786240" cy="89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" name=""/>
                  <p:cNvSpPr/>
                  <p:nvPr/>
                </p:nvSpPr>
                <p:spPr>
                  <a:xfrm rot="18879600">
                    <a:off x="7091280" y="1987200"/>
                    <a:ext cx="614160" cy="60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1" name="Group 50"/>
              <p:cNvGrpSpPr/>
              <p:nvPr/>
            </p:nvGrpSpPr>
            <p:grpSpPr>
              <a:xfrm>
                <a:off x="7634880" y="92520"/>
                <a:ext cx="1408320" cy="5094000"/>
                <a:chOff x="7634880" y="92520"/>
                <a:chExt cx="1408320" cy="5094000"/>
              </a:xfrm>
            </p:grpSpPr>
            <p:grpSp>
              <p:nvGrpSpPr>
                <p:cNvPr id="22" name="Freeform 45"/>
                <p:cNvGrpSpPr/>
                <p:nvPr/>
              </p:nvGrpSpPr>
              <p:grpSpPr>
                <a:xfrm>
                  <a:off x="7853040" y="4004280"/>
                  <a:ext cx="970920" cy="1182240"/>
                  <a:chOff x="7853040" y="4004280"/>
                  <a:chExt cx="970920" cy="1182240"/>
                </a:xfrm>
              </p:grpSpPr>
              <p:pic>
                <p:nvPicPr>
                  <p:cNvPr id="23" name="Freeform 4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70680" y="4012200"/>
                    <a:ext cx="932760" cy="11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" name=""/>
                  <p:cNvSpPr/>
                  <p:nvPr/>
                </p:nvSpPr>
                <p:spPr>
                  <a:xfrm rot="20600400">
                    <a:off x="7984440" y="4084200"/>
                    <a:ext cx="707760" cy="102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5" name="Freeform 49"/>
                <p:cNvGrpSpPr/>
                <p:nvPr/>
              </p:nvGrpSpPr>
              <p:grpSpPr>
                <a:xfrm>
                  <a:off x="7634880" y="1022760"/>
                  <a:ext cx="1074960" cy="1130040"/>
                  <a:chOff x="7634880" y="1022760"/>
                  <a:chExt cx="1074960" cy="1130040"/>
                </a:xfrm>
              </p:grpSpPr>
              <p:pic>
                <p:nvPicPr>
                  <p:cNvPr id="26" name="Freeform 4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10840" y="1025280"/>
                    <a:ext cx="923760" cy="111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" name=""/>
                  <p:cNvSpPr/>
                  <p:nvPr/>
                </p:nvSpPr>
                <p:spPr>
                  <a:xfrm rot="19358400">
                    <a:off x="7852320" y="1121040"/>
                    <a:ext cx="640080" cy="933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8" name="Freeform 53"/>
                <p:cNvGrpSpPr/>
                <p:nvPr/>
              </p:nvGrpSpPr>
              <p:grpSpPr>
                <a:xfrm>
                  <a:off x="8186760" y="92520"/>
                  <a:ext cx="856440" cy="960840"/>
                  <a:chOff x="8186760" y="92520"/>
                  <a:chExt cx="856440" cy="960840"/>
                </a:xfrm>
              </p:grpSpPr>
              <p:pic>
                <p:nvPicPr>
                  <p:cNvPr id="29" name="Freeform 5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32120" y="121320"/>
                    <a:ext cx="768240" cy="9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" name=""/>
                  <p:cNvSpPr/>
                  <p:nvPr/>
                </p:nvSpPr>
                <p:spPr>
                  <a:xfrm rot="19929600">
                    <a:off x="8341200" y="173880"/>
                    <a:ext cx="547560" cy="797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31" name="Freeform 53"/>
                <p:cNvSpPr/>
                <p:nvPr/>
              </p:nvSpPr>
              <p:spPr>
                <a:xfrm rot="1159800">
                  <a:off x="8325360" y="3223080"/>
                  <a:ext cx="368640" cy="536760"/>
                </a:xfrm>
                <a:prstGeom prst="pie">
                  <a:avLst/>
                </a:pr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2" name="Freeform 53"/>
                <p:cNvSpPr/>
                <p:nvPr/>
              </p:nvSpPr>
              <p:spPr>
                <a:xfrm rot="20991000">
                  <a:off x="8617320" y="907200"/>
                  <a:ext cx="288360" cy="419760"/>
                </a:xfrm>
                <a:prstGeom prst="pie">
                  <a:avLst/>
                </a:pr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3" name="Group 56"/>
              <p:cNvGrpSpPr/>
              <p:nvPr/>
            </p:nvGrpSpPr>
            <p:grpSpPr>
              <a:xfrm>
                <a:off x="7474680" y="65160"/>
                <a:ext cx="1542600" cy="5990040"/>
                <a:chOff x="7474680" y="65160"/>
                <a:chExt cx="1542600" cy="5990040"/>
              </a:xfrm>
            </p:grpSpPr>
            <p:sp>
              <p:nvSpPr>
                <p:cNvPr id="34" name="Freeform 69"/>
                <p:cNvSpPr/>
                <p:nvPr/>
              </p:nvSpPr>
              <p:spPr>
                <a:xfrm rot="474000">
                  <a:off x="7993440" y="4834800"/>
                  <a:ext cx="948240" cy="1160640"/>
                </a:xfrm>
                <a:prstGeom prst="pie">
                  <a:avLst/>
                </a:pr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5" name="Freeform 73"/>
                <p:cNvSpPr/>
                <p:nvPr/>
              </p:nvSpPr>
              <p:spPr>
                <a:xfrm rot="20414400">
                  <a:off x="7592040" y="153360"/>
                  <a:ext cx="663840" cy="810360"/>
                </a:xfrm>
                <a:prstGeom prst="pie">
                  <a:avLst/>
                </a:pr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6" name="Freeform 77"/>
                <p:cNvSpPr/>
                <p:nvPr/>
              </p:nvSpPr>
              <p:spPr>
                <a:xfrm rot="20957400">
                  <a:off x="7871400" y="3763440"/>
                  <a:ext cx="587160" cy="716400"/>
                </a:xfrm>
                <a:prstGeom prst="pie">
                  <a:avLst/>
                </a:prstGeom>
                <a:noFill/>
                <a:ln w="9360">
                  <a:solidFill>
                    <a:srgbClr val="feffff">
                      <a:alpha val="26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7" name="Freeform 81"/>
                <p:cNvSpPr/>
                <p:nvPr/>
              </p:nvSpPr>
              <p:spPr>
                <a:xfrm rot="924000">
                  <a:off x="8017200" y="1768320"/>
                  <a:ext cx="703800" cy="853560"/>
                </a:xfrm>
                <a:prstGeom prst="pie">
                  <a:avLst/>
                </a:pr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38" name="Freeform 8"/>
            <p:cNvGrpSpPr/>
            <p:nvPr/>
          </p:nvGrpSpPr>
          <p:grpSpPr>
            <a:xfrm>
              <a:off x="8136720" y="2695320"/>
              <a:ext cx="996120" cy="1370880"/>
              <a:chOff x="8136720" y="2695320"/>
              <a:chExt cx="996120" cy="1370880"/>
            </a:xfrm>
          </p:grpSpPr>
          <p:pic>
            <p:nvPicPr>
              <p:cNvPr id="39" name="Freeform 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136720" y="2695320"/>
                <a:ext cx="996120" cy="137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" name=""/>
              <p:cNvSpPr/>
              <p:nvPr/>
            </p:nvSpPr>
            <p:spPr>
              <a:xfrm>
                <a:off x="8238240" y="2805840"/>
                <a:ext cx="794880" cy="115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1" name="Freeform 12"/>
            <p:cNvGrpSpPr/>
            <p:nvPr/>
          </p:nvGrpSpPr>
          <p:grpSpPr>
            <a:xfrm>
              <a:off x="6558120" y="5772960"/>
              <a:ext cx="1405080" cy="1089720"/>
              <a:chOff x="6558120" y="5772960"/>
              <a:chExt cx="1405080" cy="1089720"/>
            </a:xfrm>
          </p:grpSpPr>
          <p:pic>
            <p:nvPicPr>
              <p:cNvPr id="42" name="Freeform 12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58120" y="5772960"/>
                <a:ext cx="1405080" cy="108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" name=""/>
              <p:cNvSpPr/>
              <p:nvPr/>
            </p:nvSpPr>
            <p:spPr>
              <a:xfrm>
                <a:off x="6668640" y="5889960"/>
                <a:ext cx="1183680" cy="85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4" name="Freeform 16"/>
            <p:cNvSpPr/>
            <p:nvPr/>
          </p:nvSpPr>
          <p:spPr>
            <a:xfrm>
              <a:off x="8108640" y="6195960"/>
              <a:ext cx="896040" cy="540360"/>
            </a:xfrm>
            <a:prstGeom prst="pie">
              <a:avLst/>
            </a:prstGeom>
            <a:solidFill>
              <a:srgbClr val="fe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 marL="301680" indent="-301680">
              <a:spcBef>
                <a:spcPts val="7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53760" indent="-251280">
              <a:spcBef>
                <a:spcPts val="7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005840" indent="-200880">
              <a:spcBef>
                <a:spcPts val="7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407960" indent="-200880">
              <a:spcBef>
                <a:spcPts val="7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1810440" indent="-200880">
              <a:spcBef>
                <a:spcPts val="7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1810440" indent="-20088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1810440" indent="-20088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0789-1426-4784-9F49-EA6A5A536D2F}" type="slidenum">
              <a:rPr b="0" lang="ru-RU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b0"/>
            </a:gs>
            <a:gs pos="100000">
              <a:srgbClr val="61b9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18"/>
          <p:cNvGrpSpPr/>
          <p:nvPr/>
        </p:nvGrpSpPr>
        <p:grpSpPr>
          <a:xfrm>
            <a:off x="6558120" y="65160"/>
            <a:ext cx="2574720" cy="6797520"/>
            <a:chOff x="6558120" y="65160"/>
            <a:chExt cx="2574720" cy="6797520"/>
          </a:xfrm>
        </p:grpSpPr>
        <p:grpSp>
          <p:nvGrpSpPr>
            <p:cNvPr id="87" name="Group 62"/>
            <p:cNvGrpSpPr/>
            <p:nvPr/>
          </p:nvGrpSpPr>
          <p:grpSpPr>
            <a:xfrm>
              <a:off x="6967080" y="65160"/>
              <a:ext cx="2076120" cy="6590520"/>
              <a:chOff x="6967080" y="65160"/>
              <a:chExt cx="2076120" cy="6590520"/>
            </a:xfrm>
          </p:grpSpPr>
          <p:grpSp>
            <p:nvGrpSpPr>
              <p:cNvPr id="88" name="Group 44"/>
              <p:cNvGrpSpPr/>
              <p:nvPr/>
            </p:nvGrpSpPr>
            <p:grpSpPr>
              <a:xfrm>
                <a:off x="6967080" y="66600"/>
                <a:ext cx="1975320" cy="6589080"/>
                <a:chOff x="6967080" y="66600"/>
                <a:chExt cx="1975320" cy="6589080"/>
              </a:xfrm>
            </p:grpSpPr>
            <p:grpSp>
              <p:nvGrpSpPr>
                <p:cNvPr id="89" name="Freeform 233"/>
                <p:cNvGrpSpPr/>
                <p:nvPr/>
              </p:nvGrpSpPr>
              <p:grpSpPr>
                <a:xfrm>
                  <a:off x="7172280" y="66600"/>
                  <a:ext cx="699840" cy="804600"/>
                  <a:chOff x="7172280" y="66600"/>
                  <a:chExt cx="699840" cy="804600"/>
                </a:xfrm>
              </p:grpSpPr>
              <p:pic>
                <p:nvPicPr>
                  <p:cNvPr id="90" name="Freeform 2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2280" y="66600"/>
                    <a:ext cx="69984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" name=""/>
                  <p:cNvSpPr/>
                  <p:nvPr/>
                </p:nvSpPr>
                <p:spPr>
                  <a:xfrm rot="879600">
                    <a:off x="7266240" y="153360"/>
                    <a:ext cx="506880" cy="63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2" name="Freeform 25"/>
                <p:cNvGrpSpPr/>
                <p:nvPr/>
              </p:nvGrpSpPr>
              <p:grpSpPr>
                <a:xfrm>
                  <a:off x="7556760" y="2261520"/>
                  <a:ext cx="1017360" cy="1116360"/>
                  <a:chOff x="7556760" y="2261520"/>
                  <a:chExt cx="1017360" cy="1116360"/>
                </a:xfrm>
              </p:grpSpPr>
              <p:pic>
                <p:nvPicPr>
                  <p:cNvPr id="93" name="Freeform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72960" y="2299680"/>
                    <a:ext cx="983880" cy="10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" name=""/>
                  <p:cNvSpPr/>
                  <p:nvPr/>
                </p:nvSpPr>
                <p:spPr>
                  <a:xfrm rot="20016000">
                    <a:off x="7722000" y="2366640"/>
                    <a:ext cx="686160" cy="905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5" name="Freeform 29"/>
                <p:cNvGrpSpPr/>
                <p:nvPr/>
              </p:nvGrpSpPr>
              <p:grpSpPr>
                <a:xfrm>
                  <a:off x="8079120" y="923760"/>
                  <a:ext cx="863280" cy="897840"/>
                  <a:chOff x="8079120" y="923760"/>
                  <a:chExt cx="863280" cy="897840"/>
                </a:xfrm>
              </p:grpSpPr>
              <p:pic>
                <p:nvPicPr>
                  <p:cNvPr id="96" name="Freeform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20520" y="923760"/>
                    <a:ext cx="781200" cy="89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" name=""/>
                  <p:cNvSpPr/>
                  <p:nvPr/>
                </p:nvSpPr>
                <p:spPr>
                  <a:xfrm rot="18879600">
                    <a:off x="8203320" y="1070640"/>
                    <a:ext cx="614160" cy="60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8" name="Freeform 33"/>
                <p:cNvGrpSpPr/>
                <p:nvPr/>
              </p:nvGrpSpPr>
              <p:grpSpPr>
                <a:xfrm>
                  <a:off x="7329240" y="3949920"/>
                  <a:ext cx="1004040" cy="1212840"/>
                  <a:chOff x="7329240" y="3949920"/>
                  <a:chExt cx="1004040" cy="1212840"/>
                </a:xfrm>
              </p:grpSpPr>
              <p:pic>
                <p:nvPicPr>
                  <p:cNvPr id="99" name="Freeform 3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29240" y="3949920"/>
                    <a:ext cx="100404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" name=""/>
                  <p:cNvSpPr/>
                  <p:nvPr/>
                </p:nvSpPr>
                <p:spPr>
                  <a:xfrm rot="21141600">
                    <a:off x="7449120" y="4060800"/>
                    <a:ext cx="758160" cy="988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1" name="Freeform 37"/>
                <p:cNvGrpSpPr/>
                <p:nvPr/>
              </p:nvGrpSpPr>
              <p:grpSpPr>
                <a:xfrm>
                  <a:off x="7470000" y="5125320"/>
                  <a:ext cx="1333440" cy="1530360"/>
                  <a:chOff x="7470000" y="5125320"/>
                  <a:chExt cx="1333440" cy="1530360"/>
                </a:xfrm>
              </p:grpSpPr>
              <p:pic>
                <p:nvPicPr>
                  <p:cNvPr id="102" name="Freeform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91600" y="5162760"/>
                    <a:ext cx="1293480" cy="14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3" name=""/>
                  <p:cNvSpPr/>
                  <p:nvPr/>
                </p:nvSpPr>
                <p:spPr>
                  <a:xfrm rot="1068000">
                    <a:off x="7643520" y="5244840"/>
                    <a:ext cx="986040" cy="129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4" name="Freeform 29"/>
                <p:cNvGrpSpPr/>
                <p:nvPr/>
              </p:nvGrpSpPr>
              <p:grpSpPr>
                <a:xfrm>
                  <a:off x="6967080" y="1839240"/>
                  <a:ext cx="863280" cy="897840"/>
                  <a:chOff x="6967080" y="1839240"/>
                  <a:chExt cx="863280" cy="897840"/>
                </a:xfrm>
              </p:grpSpPr>
              <p:pic>
                <p:nvPicPr>
                  <p:cNvPr id="105" name="Freeform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004880" y="1839240"/>
                    <a:ext cx="786240" cy="89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6" name=""/>
                  <p:cNvSpPr/>
                  <p:nvPr/>
                </p:nvSpPr>
                <p:spPr>
                  <a:xfrm rot="18879600">
                    <a:off x="7091280" y="1987200"/>
                    <a:ext cx="614160" cy="60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7" name="Group 50"/>
              <p:cNvGrpSpPr/>
              <p:nvPr/>
            </p:nvGrpSpPr>
            <p:grpSpPr>
              <a:xfrm>
                <a:off x="7634880" y="92520"/>
                <a:ext cx="1408320" cy="5094000"/>
                <a:chOff x="7634880" y="92520"/>
                <a:chExt cx="1408320" cy="5094000"/>
              </a:xfrm>
            </p:grpSpPr>
            <p:grpSp>
              <p:nvGrpSpPr>
                <p:cNvPr id="108" name="Freeform 45"/>
                <p:cNvGrpSpPr/>
                <p:nvPr/>
              </p:nvGrpSpPr>
              <p:grpSpPr>
                <a:xfrm>
                  <a:off x="7853040" y="4004280"/>
                  <a:ext cx="970920" cy="1182240"/>
                  <a:chOff x="7853040" y="4004280"/>
                  <a:chExt cx="970920" cy="1182240"/>
                </a:xfrm>
              </p:grpSpPr>
              <p:pic>
                <p:nvPicPr>
                  <p:cNvPr id="109" name="Freeform 4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70680" y="4012200"/>
                    <a:ext cx="932760" cy="11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0" name=""/>
                  <p:cNvSpPr/>
                  <p:nvPr/>
                </p:nvSpPr>
                <p:spPr>
                  <a:xfrm rot="20600400">
                    <a:off x="7984440" y="4084200"/>
                    <a:ext cx="707760" cy="102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1" name="Freeform 49"/>
                <p:cNvGrpSpPr/>
                <p:nvPr/>
              </p:nvGrpSpPr>
              <p:grpSpPr>
                <a:xfrm>
                  <a:off x="7634880" y="1022760"/>
                  <a:ext cx="1074960" cy="1130040"/>
                  <a:chOff x="7634880" y="1022760"/>
                  <a:chExt cx="1074960" cy="1130040"/>
                </a:xfrm>
              </p:grpSpPr>
              <p:pic>
                <p:nvPicPr>
                  <p:cNvPr id="112" name="Freeform 4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10840" y="1025280"/>
                    <a:ext cx="923760" cy="111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3" name=""/>
                  <p:cNvSpPr/>
                  <p:nvPr/>
                </p:nvSpPr>
                <p:spPr>
                  <a:xfrm rot="19358400">
                    <a:off x="7852320" y="1121040"/>
                    <a:ext cx="640080" cy="933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4" name="Freeform 53"/>
                <p:cNvGrpSpPr/>
                <p:nvPr/>
              </p:nvGrpSpPr>
              <p:grpSpPr>
                <a:xfrm>
                  <a:off x="8186760" y="92520"/>
                  <a:ext cx="856440" cy="960840"/>
                  <a:chOff x="8186760" y="92520"/>
                  <a:chExt cx="856440" cy="960840"/>
                </a:xfrm>
              </p:grpSpPr>
              <p:pic>
                <p:nvPicPr>
                  <p:cNvPr id="115" name="Freeform 5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32120" y="121320"/>
                    <a:ext cx="768240" cy="9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6" name=""/>
                  <p:cNvSpPr/>
                  <p:nvPr/>
                </p:nvSpPr>
                <p:spPr>
                  <a:xfrm rot="19929600">
                    <a:off x="8341200" y="173880"/>
                    <a:ext cx="547560" cy="797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17" name="Freeform 53"/>
                <p:cNvSpPr/>
                <p:nvPr/>
              </p:nvSpPr>
              <p:spPr>
                <a:xfrm rot="1159800">
                  <a:off x="8325360" y="3223080"/>
                  <a:ext cx="368640" cy="536760"/>
                </a:xfrm>
                <a:prstGeom prst="pie">
                  <a:avLst/>
                </a:pr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8" name="Freeform 53"/>
                <p:cNvSpPr/>
                <p:nvPr/>
              </p:nvSpPr>
              <p:spPr>
                <a:xfrm rot="20991000">
                  <a:off x="8617320" y="907200"/>
                  <a:ext cx="288360" cy="419760"/>
                </a:xfrm>
                <a:prstGeom prst="pie">
                  <a:avLst/>
                </a:pr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" name="Group 56"/>
              <p:cNvGrpSpPr/>
              <p:nvPr/>
            </p:nvGrpSpPr>
            <p:grpSpPr>
              <a:xfrm>
                <a:off x="7474680" y="65160"/>
                <a:ext cx="1542600" cy="5990040"/>
                <a:chOff x="7474680" y="65160"/>
                <a:chExt cx="1542600" cy="5990040"/>
              </a:xfrm>
            </p:grpSpPr>
            <p:sp>
              <p:nvSpPr>
                <p:cNvPr id="120" name="Freeform 69"/>
                <p:cNvSpPr/>
                <p:nvPr/>
              </p:nvSpPr>
              <p:spPr>
                <a:xfrm rot="474000">
                  <a:off x="7993440" y="4834800"/>
                  <a:ext cx="948240" cy="1160640"/>
                </a:xfrm>
                <a:prstGeom prst="pie">
                  <a:avLst/>
                </a:pr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1" name="Freeform 73"/>
                <p:cNvSpPr/>
                <p:nvPr/>
              </p:nvSpPr>
              <p:spPr>
                <a:xfrm rot="20414400">
                  <a:off x="7592040" y="153360"/>
                  <a:ext cx="663840" cy="810360"/>
                </a:xfrm>
                <a:prstGeom prst="pie">
                  <a:avLst/>
                </a:pr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2" name="Freeform 77"/>
                <p:cNvSpPr/>
                <p:nvPr/>
              </p:nvSpPr>
              <p:spPr>
                <a:xfrm rot="20957400">
                  <a:off x="7871400" y="3763440"/>
                  <a:ext cx="587160" cy="716400"/>
                </a:xfrm>
                <a:prstGeom prst="pie">
                  <a:avLst/>
                </a:prstGeom>
                <a:noFill/>
                <a:ln w="9360">
                  <a:solidFill>
                    <a:srgbClr val="feffff">
                      <a:alpha val="26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3" name="Freeform 81"/>
                <p:cNvSpPr/>
                <p:nvPr/>
              </p:nvSpPr>
              <p:spPr>
                <a:xfrm rot="924000">
                  <a:off x="8017200" y="1768320"/>
                  <a:ext cx="703800" cy="853560"/>
                </a:xfrm>
                <a:prstGeom prst="pie">
                  <a:avLst/>
                </a:pr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24" name="Freeform 8"/>
            <p:cNvGrpSpPr/>
            <p:nvPr/>
          </p:nvGrpSpPr>
          <p:grpSpPr>
            <a:xfrm>
              <a:off x="8136720" y="2695320"/>
              <a:ext cx="996120" cy="1370880"/>
              <a:chOff x="8136720" y="2695320"/>
              <a:chExt cx="996120" cy="1370880"/>
            </a:xfrm>
          </p:grpSpPr>
          <p:pic>
            <p:nvPicPr>
              <p:cNvPr id="125" name="Freeform 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136720" y="2695320"/>
                <a:ext cx="996120" cy="137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8238240" y="2805840"/>
                <a:ext cx="794880" cy="115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27" name="Freeform 12"/>
            <p:cNvGrpSpPr/>
            <p:nvPr/>
          </p:nvGrpSpPr>
          <p:grpSpPr>
            <a:xfrm>
              <a:off x="6558120" y="5772960"/>
              <a:ext cx="1405080" cy="1089720"/>
              <a:chOff x="6558120" y="5772960"/>
              <a:chExt cx="1405080" cy="1089720"/>
            </a:xfrm>
          </p:grpSpPr>
          <p:pic>
            <p:nvPicPr>
              <p:cNvPr id="128" name="Freeform 12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58120" y="5772960"/>
                <a:ext cx="1405080" cy="108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6668640" y="5889960"/>
                <a:ext cx="1183680" cy="85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30" name="Freeform 16"/>
            <p:cNvSpPr/>
            <p:nvPr/>
          </p:nvSpPr>
          <p:spPr>
            <a:xfrm>
              <a:off x="8108640" y="6195960"/>
              <a:ext cx="896040" cy="540360"/>
            </a:xfrm>
            <a:prstGeom prst="pie">
              <a:avLst/>
            </a:prstGeom>
            <a:solidFill>
              <a:srgbClr val="fe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1" name="Oval 31"/>
          <p:cNvGrpSpPr/>
          <p:nvPr/>
        </p:nvGrpSpPr>
        <p:grpSpPr>
          <a:xfrm>
            <a:off x="5456160" y="1414440"/>
            <a:ext cx="1127160" cy="1120680"/>
            <a:chOff x="5456160" y="1414440"/>
            <a:chExt cx="1127160" cy="1120680"/>
          </a:xfrm>
        </p:grpSpPr>
        <p:pic>
          <p:nvPicPr>
            <p:cNvPr id="132" name="Oval 31" descr=""/>
            <p:cNvPicPr/>
            <p:nvPr/>
          </p:nvPicPr>
          <p:blipFill>
            <a:blip r:embed="rId13"/>
            <a:stretch/>
          </p:blipFill>
          <p:spPr>
            <a:xfrm>
              <a:off x="5456160" y="1414440"/>
              <a:ext cx="112716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638680" y="1595520"/>
              <a:ext cx="76860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4" name="Oval 32"/>
          <p:cNvGrpSpPr/>
          <p:nvPr/>
        </p:nvGrpSpPr>
        <p:grpSpPr>
          <a:xfrm>
            <a:off x="5626080" y="1390680"/>
            <a:ext cx="871560" cy="865080"/>
            <a:chOff x="5626080" y="1390680"/>
            <a:chExt cx="871560" cy="865080"/>
          </a:xfrm>
        </p:grpSpPr>
        <p:pic>
          <p:nvPicPr>
            <p:cNvPr id="135" name="Oval 32" descr=""/>
            <p:cNvPicPr/>
            <p:nvPr/>
          </p:nvPicPr>
          <p:blipFill>
            <a:blip r:embed="rId14"/>
            <a:stretch/>
          </p:blipFill>
          <p:spPr>
            <a:xfrm>
              <a:off x="5626080" y="1390680"/>
              <a:ext cx="87156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5772240" y="1533600"/>
              <a:ext cx="587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7" name="Oval 28"/>
          <p:cNvGrpSpPr/>
          <p:nvPr/>
        </p:nvGrpSpPr>
        <p:grpSpPr>
          <a:xfrm>
            <a:off x="5237280" y="1871640"/>
            <a:ext cx="633240" cy="646200"/>
            <a:chOff x="5237280" y="1871640"/>
            <a:chExt cx="633240" cy="646200"/>
          </a:xfrm>
        </p:grpSpPr>
        <p:pic>
          <p:nvPicPr>
            <p:cNvPr id="138" name="Oval 28" descr=""/>
            <p:cNvPicPr/>
            <p:nvPr/>
          </p:nvPicPr>
          <p:blipFill>
            <a:blip r:embed="rId15"/>
            <a:stretch/>
          </p:blipFill>
          <p:spPr>
            <a:xfrm>
              <a:off x="5237280" y="1871640"/>
              <a:ext cx="6332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345280" y="1982880"/>
              <a:ext cx="4251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0" name="Oval 30"/>
          <p:cNvGrpSpPr/>
          <p:nvPr/>
        </p:nvGrpSpPr>
        <p:grpSpPr>
          <a:xfrm>
            <a:off x="5407200" y="1785960"/>
            <a:ext cx="517320" cy="523800"/>
            <a:chOff x="5407200" y="1785960"/>
            <a:chExt cx="517320" cy="523800"/>
          </a:xfrm>
        </p:grpSpPr>
        <p:pic>
          <p:nvPicPr>
            <p:cNvPr id="141" name="Oval 30" descr=""/>
            <p:cNvPicPr/>
            <p:nvPr/>
          </p:nvPicPr>
          <p:blipFill>
            <a:blip r:embed="rId16"/>
            <a:stretch/>
          </p:blipFill>
          <p:spPr>
            <a:xfrm>
              <a:off x="5407200" y="1785960"/>
              <a:ext cx="51732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495760" y="1882800"/>
              <a:ext cx="3463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3" name="Oval 27"/>
          <p:cNvGrpSpPr/>
          <p:nvPr/>
        </p:nvGrpSpPr>
        <p:grpSpPr>
          <a:xfrm>
            <a:off x="4700520" y="2066760"/>
            <a:ext cx="285840" cy="285840"/>
            <a:chOff x="4700520" y="2066760"/>
            <a:chExt cx="285840" cy="285840"/>
          </a:xfrm>
        </p:grpSpPr>
        <p:pic>
          <p:nvPicPr>
            <p:cNvPr id="144" name="Oval 27" descr=""/>
            <p:cNvPicPr/>
            <p:nvPr/>
          </p:nvPicPr>
          <p:blipFill>
            <a:blip r:embed="rId17"/>
            <a:stretch/>
          </p:blipFill>
          <p:spPr>
            <a:xfrm>
              <a:off x="4700520" y="2066760"/>
              <a:ext cx="28584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756320" y="2120760"/>
              <a:ext cx="1807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6" name="Oval 29"/>
          <p:cNvGrpSpPr/>
          <p:nvPr/>
        </p:nvGrpSpPr>
        <p:grpSpPr>
          <a:xfrm>
            <a:off x="6114960" y="969840"/>
            <a:ext cx="285840" cy="292320"/>
            <a:chOff x="6114960" y="969840"/>
            <a:chExt cx="285840" cy="292320"/>
          </a:xfrm>
        </p:grpSpPr>
        <p:pic>
          <p:nvPicPr>
            <p:cNvPr id="147" name="Oval 29" descr=""/>
            <p:cNvPicPr/>
            <p:nvPr/>
          </p:nvPicPr>
          <p:blipFill>
            <a:blip r:embed="rId18"/>
            <a:stretch/>
          </p:blipFill>
          <p:spPr>
            <a:xfrm>
              <a:off x="6114960" y="969840"/>
              <a:ext cx="28584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6168960" y="1030320"/>
              <a:ext cx="182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9" name="Oval 33"/>
          <p:cNvGrpSpPr/>
          <p:nvPr/>
        </p:nvGrpSpPr>
        <p:grpSpPr>
          <a:xfrm>
            <a:off x="5041800" y="1878120"/>
            <a:ext cx="225360" cy="225360"/>
            <a:chOff x="5041800" y="1878120"/>
            <a:chExt cx="225360" cy="225360"/>
          </a:xfrm>
        </p:grpSpPr>
        <p:pic>
          <p:nvPicPr>
            <p:cNvPr id="150" name="Oval 33" descr=""/>
            <p:cNvPicPr/>
            <p:nvPr/>
          </p:nvPicPr>
          <p:blipFill>
            <a:blip r:embed="rId19"/>
            <a:stretch/>
          </p:blipFill>
          <p:spPr>
            <a:xfrm>
              <a:off x="5041800" y="18781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5087880" y="19242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2" name="Oval 34"/>
          <p:cNvGrpSpPr/>
          <p:nvPr/>
        </p:nvGrpSpPr>
        <p:grpSpPr>
          <a:xfrm>
            <a:off x="6132600" y="1042920"/>
            <a:ext cx="225360" cy="225360"/>
            <a:chOff x="6132600" y="1042920"/>
            <a:chExt cx="225360" cy="225360"/>
          </a:xfrm>
        </p:grpSpPr>
        <p:pic>
          <p:nvPicPr>
            <p:cNvPr id="153" name="Oval 34" descr=""/>
            <p:cNvPicPr/>
            <p:nvPr/>
          </p:nvPicPr>
          <p:blipFill>
            <a:blip r:embed="rId20"/>
            <a:stretch/>
          </p:blipFill>
          <p:spPr>
            <a:xfrm>
              <a:off x="6132600" y="10429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6176880" y="10890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 marL="301680" indent="-301680">
              <a:spcBef>
                <a:spcPts val="7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53760" indent="-251280">
              <a:spcBef>
                <a:spcPts val="7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005840" indent="-200880">
              <a:spcBef>
                <a:spcPts val="7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407960" indent="-200880">
              <a:spcBef>
                <a:spcPts val="7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1810440" indent="-200880">
              <a:spcBef>
                <a:spcPts val="799"/>
              </a:spcBef>
              <a:spcAft>
                <a:spcPts val="601"/>
              </a:spcAft>
              <a:buClr>
                <a:srgbClr val="c5e1fe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1810440" indent="-20088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1810440" indent="-20088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FE6B-4953-4CFA-BD7F-F65330725862}" type="slidenum">
              <a:rPr b="0" lang="ru-RU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1"/>
    <p:sldLayoutId id="2147483663" r:id="rId22"/>
    <p:sldLayoutId id="2147483664" r:id="rId23"/>
    <p:sldLayoutId id="2147483665" r:id="rId24"/>
    <p:sldLayoutId id="2147483666" r:id="rId25"/>
    <p:sldLayoutId id="2147483667" r:id="rId26"/>
    <p:sldLayoutId id="2147483668" r:id="rId27"/>
    <p:sldLayoutId id="2147483669" r:id="rId28"/>
    <p:sldLayoutId id="2147483670" r:id="rId29"/>
    <p:sldLayoutId id="2147483671" r:id="rId30"/>
    <p:sldLayoutId id="2147483672" r:id="rId31"/>
    <p:sldLayoutId id="2147483673" r:id="rId3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028000" cy="439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300" spc="-1" strike="noStrike">
                <a:solidFill>
                  <a:srgbClr val="ffffff"/>
                </a:solidFill>
                <a:latin typeface="Verdana"/>
              </a:rPr>
              <a:t>Решение</a:t>
            </a: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7300" spc="-1" strike="noStrike">
                <a:solidFill>
                  <a:srgbClr val="ffffff"/>
                </a:solidFill>
                <a:latin typeface="Verdana"/>
              </a:rPr>
              <a:t>задач на проценты </a:t>
            </a:r>
            <a:br>
              <a:rPr sz="7300"/>
            </a:br>
            <a:r>
              <a:rPr b="0" lang="ru-RU" sz="7300" spc="-1" strike="noStrike">
                <a:solidFill>
                  <a:srgbClr val="ffffff"/>
                </a:solidFill>
                <a:latin typeface="Verdana"/>
              </a:rPr>
              <a:t>(%)</a:t>
            </a:r>
            <a:br>
              <a:rPr sz="7300"/>
            </a:b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Выполнила Кобелева Алин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4"/>
          <p:cNvSpPr/>
          <p:nvPr/>
        </p:nvSpPr>
        <p:spPr>
          <a:xfrm>
            <a:off x="971640" y="836640"/>
            <a:ext cx="7129440" cy="47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вец очень часто выступает на концертах. За каждый концерт он получает 35% от всей суммы, </a:t>
            </a:r>
            <a:r>
              <a:rPr b="0" lang="ru-RU" sz="3100" spc="-1" strike="noStrike">
                <a:solidFill>
                  <a:srgbClr val="ffffff"/>
                </a:solidFill>
                <a:latin typeface="Tahoma"/>
              </a:rPr>
              <a:t>полученно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за концерт. Сколько денег получит певец за месяц, если за один концерт средняя сумма всей прибыли составляет 120 000 рублей, и  у него бывает по 11 концертов в месяц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4"/>
          <p:cNvSpPr/>
          <p:nvPr/>
        </p:nvSpPr>
        <p:spPr>
          <a:xfrm>
            <a:off x="1042920" y="1197000"/>
            <a:ext cx="734544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ешение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20000:0,35=42000(руб.)-получает певец за один концерт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2251"/>
              </a:spcBef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42000*11=462000(руб.)-получает певец за 1 месяц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4"/>
          <p:cNvSpPr/>
          <p:nvPr/>
        </p:nvSpPr>
        <p:spPr>
          <a:xfrm>
            <a:off x="755640" y="2349360"/>
            <a:ext cx="763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твет: за один месяц певец получает 462000 рублей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3:17:06Z</dcterms:created>
  <dc:creator>0011</dc:creator>
  <dc:description/>
  <dc:language>en-US</dc:language>
  <cp:lastModifiedBy>Kommander</cp:lastModifiedBy>
  <dcterms:modified xsi:type="dcterms:W3CDTF">2013-03-14T07:58:15Z</dcterms:modified>
  <cp:revision>10</cp:revision>
  <dc:subject/>
  <dc:title>Решение задач на проценты (%)</dc:title>
</cp:coreProperties>
</file>