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444-7BED-4ADE-90EA-D308CE16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20" y="466092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5C6-23CD-48B6-98A7-298A83FC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376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2DD-ADC6-4CD5-8B10-0450EED6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7228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472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7228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917-1000-42BC-A524-700B66BA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70C6-4720-4BEC-A9C2-20CBF27D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D34E-3CD0-48BD-9923-6940A6A7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7155-2ACF-4F15-A61D-13FA4C41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DB1C-4C07-4FFC-9008-A914A052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8E04-3D15-435E-984D-E45C2325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04720" y="77616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ECED-8759-4838-B929-2088D8D6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3882-31C4-4F8D-ABFB-F5CD532D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AD3-C3D1-4284-A3FF-8EC07771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5376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F7FA-7210-419C-84B2-FB55A830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7D85-A192-46D0-9A84-0E021543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720" y="466092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A355-8438-4C24-A969-993ECA21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5376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AA1A-2DE6-4A94-9BF1-70E1C20B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7228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72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7228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938C-FD7F-4964-B206-6CD3FD4D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A8CD-056B-4306-AE72-E06FFB03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4075E-5B3B-4AE9-9018-13E34E7B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149DE-1BF2-4B6E-A300-9DB5EE1B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12981-3F4B-4644-BA4C-73B0AB9E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16A8-049B-4AE8-991C-6C9D35DC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4FF-3812-4799-A9AE-A0C41F3E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04720" y="77616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C6250-3597-45EC-8D96-C9BEB0B5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61BBD-96A0-412B-883E-B816BDAB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5376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4B9EA-8A7C-4CE6-AAD0-0CBFAC24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4403C-3F69-4023-926F-E315B62F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4720" y="466092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FF58A-6438-41E7-A7F9-4903C8B5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5376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485B9-CFFB-476B-A913-8ACB5DCC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7228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0472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7228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84921-C05F-4DCF-8590-5BB3F0E5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5B38C-0BC6-4E97-AFF5-DA4F7EC2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8820C-AD01-416A-9D32-C782BC5C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AD555-01D2-4017-B8E9-98AB020A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A55-196B-46A7-90D4-26E29BAA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1C2C4-021C-46A2-831D-5AA4EDBF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7AC3C-3EB3-4E3D-8E86-3FC27C1E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04720" y="77616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21D66-A3E2-40B7-A1BC-6189B5EA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869B-A332-4310-9367-5F8428D7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15376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18140-97AF-40B3-97DB-77CD382B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D8FAA-E3E3-4441-A4D9-CC808EE4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4720" y="466092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2C30A-98B5-48FD-B1E2-D13CB3AD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15376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CF5A0-17F5-4E2B-926E-E2C1DB88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7228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472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7228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1A235-A916-4D51-9871-87CBEEE6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5E5-B1D8-4D1E-BE98-ACAFBD44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04720" y="77616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B41-C9F5-4035-B9AC-F307E7C5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83E-92D4-4E7A-91DA-5FF7484D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376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206-671B-4F92-95C5-CB57D20C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B65-F957-438C-A3CC-D9D5EDF5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30196"/>
                </a:srgbClr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4360" y="7007040"/>
            <a:ext cx="23511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6120" y="7007040"/>
            <a:ext cx="8395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AA76-9F81-4401-9682-7F2A26BC34C4}" type="slidenum">
              <a:rPr b="0" lang="ru-RU" sz="13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31680" y="-16920"/>
            <a:ext cx="10139760" cy="1196280"/>
            <a:chOff x="-31680" y="-16920"/>
            <a:chExt cx="10139760" cy="1196280"/>
          </a:xfrm>
        </p:grpSpPr>
        <p:sp>
          <p:nvSpPr>
            <p:cNvPr id="8" name="Полилиния 11"/>
            <p:cNvSpPr/>
            <p:nvPr/>
          </p:nvSpPr>
          <p:spPr>
            <a:xfrm rot="21435600">
              <a:off x="-20160" y="223920"/>
              <a:ext cx="10101600" cy="714240"/>
            </a:xfrm>
            <a:custGeom>
              <a:avLst/>
              <a:gdLst>
                <a:gd name="textAreaLeft" fmla="*/ 0 w 10101600"/>
                <a:gd name="textAreaRight" fmla="*/ 10101960 w 10101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08abf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олилиния 12"/>
            <p:cNvSpPr/>
            <p:nvPr/>
          </p:nvSpPr>
          <p:spPr>
            <a:xfrm rot="21435600">
              <a:off x="-15480" y="304560"/>
              <a:ext cx="10115640" cy="584280"/>
            </a:xfrm>
            <a:custGeom>
              <a:avLst/>
              <a:gdLst>
                <a:gd name="textAreaLeft" fmla="*/ 0 w 10115640"/>
                <a:gd name="textAreaRight" fmla="*/ 10116000 w 10115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9dd9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30196"/>
                </a:srgbClr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1680" y="-16920"/>
            <a:ext cx="10139760" cy="1196280"/>
            <a:chOff x="-31680" y="-16920"/>
            <a:chExt cx="10139760" cy="119628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20160" y="223920"/>
              <a:ext cx="10101600" cy="714240"/>
            </a:xfrm>
            <a:custGeom>
              <a:avLst/>
              <a:gdLst>
                <a:gd name="textAreaLeft" fmla="*/ 0 w 10101600"/>
                <a:gd name="textAreaRight" fmla="*/ 10101960 w 10101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08abf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5480" y="304560"/>
              <a:ext cx="10115640" cy="584280"/>
            </a:xfrm>
            <a:custGeom>
              <a:avLst/>
              <a:gdLst>
                <a:gd name="textAreaLeft" fmla="*/ 0 w 10115640"/>
                <a:gd name="textAreaRight" fmla="*/ 10116000 w 10115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9dd9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04360" y="7007040"/>
            <a:ext cx="23511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736120" y="7007040"/>
            <a:ext cx="8395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CC66-2745-423C-B9C3-C92CB8FE94E3}" type="slidenum">
              <a:rPr b="0" lang="ru-RU" sz="13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30196"/>
                </a:srgbClr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31680" y="-16920"/>
            <a:ext cx="10139760" cy="1196280"/>
            <a:chOff x="-31680" y="-16920"/>
            <a:chExt cx="10139760" cy="119628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20160" y="223920"/>
              <a:ext cx="10101600" cy="714240"/>
            </a:xfrm>
            <a:custGeom>
              <a:avLst/>
              <a:gdLst>
                <a:gd name="textAreaLeft" fmla="*/ 0 w 10101600"/>
                <a:gd name="textAreaRight" fmla="*/ 10101960 w 10101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08abf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5480" y="304560"/>
              <a:ext cx="10115640" cy="584280"/>
            </a:xfrm>
            <a:custGeom>
              <a:avLst/>
              <a:gdLst>
                <a:gd name="textAreaLeft" fmla="*/ 0 w 10115640"/>
                <a:gd name="textAreaRight" fmla="*/ 10116000 w 10115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9dd9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504360" y="7007040"/>
            <a:ext cx="23511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736120" y="7007040"/>
            <a:ext cx="8395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324D-00D3-48A9-ACD2-C0A3D5B7A68C}" type="slidenum">
              <a:rPr b="0" lang="ru-RU" sz="13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с одним вырезанным скругленным углом 8"/>
          <p:cNvSpPr/>
          <p:nvPr/>
        </p:nvSpPr>
        <p:spPr>
          <a:xfrm flipV="1" rot="420600">
            <a:off x="3489120" y="1220760"/>
            <a:ext cx="5797440" cy="4536720"/>
          </a:xfrm>
          <a:custGeom>
            <a:avLst/>
            <a:gdLst>
              <a:gd name="textAreaLeft" fmla="*/ 0 w 5797440"/>
              <a:gd name="textAreaRight" fmla="*/ 5715000 w 5797440"/>
              <a:gd name="textAreaTop" fmla="*/ 360 h 4536720"/>
              <a:gd name="textAreaBottom" fmla="*/ 4537440 h 4536720"/>
            </a:gdLst>
            <a:ahLst/>
            <a:rect l="textAreaLeft" t="textAreaTop" r="textAreaRight" b="textAreaBottom"/>
            <a:pathLst>
              <a:path w="5797550" h="4537075">
                <a:moveTo>
                  <a:pt x="0" y="0"/>
                </a:moveTo>
                <a:lnTo>
                  <a:pt x="5632128" y="0"/>
                </a:lnTo>
                <a:lnTo>
                  <a:pt x="5797550" y="165422"/>
                </a:lnTo>
                <a:lnTo>
                  <a:pt x="5797550" y="4537075"/>
                </a:lnTo>
                <a:lnTo>
                  <a:pt x="0" y="453707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ый треугольник 11"/>
          <p:cNvSpPr/>
          <p:nvPr/>
        </p:nvSpPr>
        <p:spPr>
          <a:xfrm flipV="1" rot="420600">
            <a:off x="8823240" y="5907960"/>
            <a:ext cx="171360" cy="171360"/>
          </a:xfrm>
          <a:custGeom>
            <a:avLst/>
            <a:gdLst>
              <a:gd name="textAreaLeft" fmla="*/ 14040 w 171360"/>
              <a:gd name="textAreaRight" fmla="*/ 100080 w 171360"/>
              <a:gd name="textAreaTop" fmla="*/ 100440 h 171360"/>
              <a:gd name="textAreaBottom" fmla="*/ 157680 h 171360"/>
            </a:gdLst>
            <a:ahLst/>
            <a:rect l="textAreaLeft" t="textAreaTop" r="textAreaRight" b="textAreaBottom"/>
            <a:pathLst>
              <a:path w="171450" h="171450">
                <a:moveTo>
                  <a:pt x="0" y="171450"/>
                </a:moveTo>
                <a:lnTo>
                  <a:pt x="0" y="0"/>
                </a:lnTo>
                <a:lnTo>
                  <a:pt x="171450" y="17145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7200" bIns="72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3"/>
          <p:cNvSpPr/>
          <p:nvPr/>
        </p:nvSpPr>
        <p:spPr>
          <a:xfrm flipV="1">
            <a:off x="-10800" y="641196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360 h 1147680"/>
              <a:gd name="textAreaBottom" fmla="*/ 114840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олилиния 14"/>
          <p:cNvSpPr/>
          <p:nvPr/>
        </p:nvSpPr>
        <p:spPr>
          <a:xfrm flipV="1">
            <a:off x="4830840" y="685584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-360 h 703080"/>
              <a:gd name="textAreaBottom" fmla="*/ 70308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30196"/>
                </a:srgbClr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504360" y="7007040"/>
            <a:ext cx="23511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903880" y="7007040"/>
            <a:ext cx="6714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496B-C821-4FB7-98D6-C55A01C4EE4E}" type="slidenum">
              <a:rPr b="0" lang="ru-RU" sz="13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-1976400"/>
            <a:ext cx="9070920" cy="663264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6000" spc="-1" strike="noStrike" u="sng">
                <a:solidFill>
                  <a:srgbClr val="2323dc"/>
                </a:solidFill>
                <a:uFillTx/>
                <a:latin typeface="Arial Black"/>
              </a:rPr>
              <a:t>ЗАДАЧИ </a:t>
            </a:r>
            <a:br>
              <a:rPr sz="6000"/>
            </a:br>
            <a:r>
              <a:rPr b="1" lang="ru-RU" sz="6000" spc="-1" strike="noStrike" u="sng">
                <a:solidFill>
                  <a:srgbClr val="2323dc"/>
                </a:solidFill>
                <a:uFillTx/>
                <a:latin typeface="Arial Black"/>
              </a:rPr>
              <a:t>НА </a:t>
            </a:r>
            <a:br>
              <a:rPr sz="6000"/>
            </a:br>
            <a:r>
              <a:rPr b="1" lang="ru-RU" sz="6000" spc="-1" strike="noStrike" u="sng">
                <a:solidFill>
                  <a:srgbClr val="2323dc"/>
                </a:solidFill>
                <a:uFillTx/>
                <a:latin typeface="Arial Black"/>
              </a:rPr>
              <a:t>ПРОЦЕНТЫ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579760" y="1680840"/>
            <a:ext cx="7500960" cy="522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ru-RU" sz="3200" spc="-1" strike="noStrike">
                <a:solidFill>
                  <a:srgbClr val="0047ff"/>
                </a:solidFill>
                <a:latin typeface="Calibri"/>
                <a:ea typeface="Aharoni"/>
              </a:rPr>
              <a:t>Никулина Анна 5 «А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7ff"/>
                </a:solidFill>
                <a:latin typeface="Calibri"/>
                <a:ea typeface="Aharoni"/>
              </a:rPr>
              <a:t>                                  </a:t>
            </a:r>
            <a:r>
              <a:rPr b="0" lang="en-US" sz="3200" spc="-1" strike="noStrike">
                <a:solidFill>
                  <a:srgbClr val="0047ff"/>
                </a:solidFill>
                <a:latin typeface="Calibri"/>
                <a:ea typeface="Aharoni"/>
              </a:rPr>
              <a:t>                 </a:t>
            </a:r>
            <a:r>
              <a:rPr b="0" lang="ru-RU" sz="3200" spc="-1" strike="noStrike">
                <a:solidFill>
                  <a:srgbClr val="0047ff"/>
                </a:solidFill>
                <a:latin typeface="Calibri"/>
                <a:ea typeface="Aharoni"/>
              </a:rPr>
              <a:t> </a:t>
            </a:r>
            <a:r>
              <a:rPr b="0" lang="ru-RU" sz="3200" spc="-1" strike="noStrike">
                <a:solidFill>
                  <a:srgbClr val="0047ff"/>
                </a:solidFill>
                <a:latin typeface="Calibri"/>
                <a:ea typeface="Aharoni"/>
              </a:rPr>
              <a:t>Лицей № 8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3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374400"/>
            <a:ext cx="907272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300dc"/>
                </a:solidFill>
                <a:latin typeface="Calibri"/>
              </a:rPr>
              <a:t>                 </a:t>
            </a:r>
            <a:r>
              <a:rPr b="1" lang="ru-RU" sz="5500" spc="-1" strike="noStrike">
                <a:solidFill>
                  <a:srgbClr val="2300dc"/>
                </a:solidFill>
                <a:latin typeface="Calibri"/>
              </a:rPr>
              <a:t>ЗАДАЧА № 1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185076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     </a:t>
            </a:r>
            <a:r>
              <a:rPr b="1" lang="ru-RU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В магазин привезли виноград. Стандартная стоимость винограда — 50 рублей. Летом цена падает до 30 рублей, а зимой повышается до 80 рублей. Оцените в процентах изменение цены на виноград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3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79360"/>
            <a:ext cx="9072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323dc"/>
                </a:solidFill>
                <a:latin typeface="Calibri"/>
              </a:rPr>
              <a:t>	</a:t>
            </a:r>
            <a:r>
              <a:rPr b="1" lang="en-US" sz="5500" spc="-1" strike="noStrike">
                <a:solidFill>
                  <a:srgbClr val="2323dc"/>
                </a:solidFill>
                <a:latin typeface="Calibri"/>
              </a:rPr>
              <a:t>	</a:t>
            </a:r>
            <a:r>
              <a:rPr b="1" lang="en-US" sz="5500" spc="-1" strike="noStrike">
                <a:solidFill>
                  <a:srgbClr val="2323dc"/>
                </a:solidFill>
                <a:latin typeface="Calibri"/>
              </a:rPr>
              <a:t>	</a:t>
            </a:r>
            <a:r>
              <a:rPr b="1" lang="en-US" sz="5500" spc="-1" strike="noStrike">
                <a:solidFill>
                  <a:srgbClr val="2323dc"/>
                </a:solidFill>
                <a:latin typeface="Calibri"/>
              </a:rPr>
              <a:t>   </a:t>
            </a:r>
            <a:r>
              <a:rPr b="1" lang="ru-RU" sz="5500" spc="-1" strike="noStrike">
                <a:solidFill>
                  <a:srgbClr val="2323dc"/>
                </a:solidFill>
                <a:latin typeface="Calibri"/>
              </a:rPr>
              <a:t>РЕШЕНИЕ: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76832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7ff"/>
                </a:solidFill>
                <a:latin typeface="Arial"/>
                <a:ea typeface="Microsoft YaHei"/>
              </a:rPr>
              <a:t>1) 50 - 30 = 20 (руб.) - что составляе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7ff"/>
                </a:solidFill>
                <a:latin typeface="Arial"/>
                <a:ea typeface="Microsoft YaHei"/>
              </a:rPr>
              <a:t>20 : 50 = 0,4, т. е. 40%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7ff"/>
                </a:solidFill>
                <a:latin typeface="Arial"/>
                <a:ea typeface="Microsoft YaHei"/>
              </a:rPr>
              <a:t>2) 80 - 50 = 30 (руб.) - что составляе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7ff"/>
                </a:solidFill>
                <a:latin typeface="Arial"/>
                <a:ea typeface="Microsoft YaHei"/>
              </a:rPr>
              <a:t>30 : 50 = 0,6, т. е. 60%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47ff"/>
                </a:solidFill>
                <a:uFillTx/>
                <a:latin typeface="Arial"/>
                <a:ea typeface="Microsoft YaHei"/>
              </a:rPr>
              <a:t>Ответ:</a:t>
            </a:r>
            <a:r>
              <a:rPr b="1" lang="ru-RU" sz="3600" spc="-1" strike="noStrike" u="sng">
                <a:solidFill>
                  <a:srgbClr val="0047ff"/>
                </a:solidFill>
                <a:uFillTx/>
                <a:latin typeface="Arial"/>
                <a:ea typeface="Microsoft YaHei"/>
              </a:rPr>
              <a:t> Летом цена на виноград уменьшается  на 40%, зимой увеличивается на 60%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3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2"/>
          <p:cNvSpPr/>
          <p:nvPr/>
        </p:nvSpPr>
        <p:spPr>
          <a:xfrm>
            <a:off x="0" y="708120"/>
            <a:ext cx="10080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500" spc="-1" strike="noStrike">
                <a:solidFill>
                  <a:srgbClr val="0000cc"/>
                </a:solidFill>
                <a:latin typeface="Calibri"/>
              </a:rPr>
              <a:t>ЗАДАЧА № 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396720" y="2208240"/>
            <a:ext cx="968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   </a:t>
            </a:r>
            <a:r>
              <a:rPr b="1" lang="ru-RU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За первый год завод увеличил </a:t>
            </a:r>
            <a:r>
              <a:rPr b="1" lang="en-US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      </a:t>
            </a:r>
            <a:r>
              <a:rPr b="1" lang="ru-RU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выпуск на 10%. За второй год </a:t>
            </a:r>
            <a:r>
              <a:rPr b="1" lang="en-US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  </a:t>
            </a:r>
            <a:r>
              <a:rPr b="1" lang="ru-RU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уменьшил выпуск на 10% по сравнению с предыдущим годом. Как изменился выпуск за два года</a:t>
            </a:r>
            <a:r>
              <a:rPr b="1" lang="en-US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754200" y="565200"/>
            <a:ext cx="80722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2323dc"/>
                </a:solidFill>
                <a:latin typeface="Calibri"/>
              </a:rPr>
              <a:t>                 </a:t>
            </a:r>
            <a:r>
              <a:rPr b="1" lang="ru-RU" sz="5500" spc="-1" strike="noStrike">
                <a:solidFill>
                  <a:srgbClr val="2323dc"/>
                </a:solidFill>
                <a:latin typeface="Calibri"/>
              </a:rPr>
              <a:t>РЕШЕНИЕ: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0" y="2136600"/>
            <a:ext cx="10080720" cy="36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32364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1) 100% + 10% = 110% - за первый год</a:t>
            </a:r>
            <a:r>
              <a:rPr b="1" lang="en-US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2) 110% </a:t>
            </a:r>
            <a:r>
              <a:rPr b="1" lang="en-US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:</a:t>
            </a:r>
            <a:r>
              <a:rPr b="1" lang="ru-RU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 10% = 1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3) 11% - 10% = 1% - изменится выпуск</a:t>
            </a:r>
            <a:r>
              <a:rPr b="1" lang="en-US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47ff"/>
                </a:solidFill>
                <a:uFillTx/>
                <a:latin typeface="Arial"/>
                <a:ea typeface="Microsoft YaHei"/>
              </a:rPr>
              <a:t>Ответ</a:t>
            </a:r>
            <a:r>
              <a:rPr b="1" i="1" lang="en-US" sz="4000" spc="-1" strike="noStrike" u="sng">
                <a:solidFill>
                  <a:srgbClr val="0047ff"/>
                </a:solidFill>
                <a:uFillTx/>
                <a:latin typeface="Arial"/>
                <a:ea typeface="Microsoft YaHei"/>
              </a:rPr>
              <a:t>:</a:t>
            </a:r>
            <a:r>
              <a:rPr b="1" i="1" lang="ru-RU" sz="4000" spc="-1" strike="noStrike" u="sng">
                <a:solidFill>
                  <a:srgbClr val="0047ff"/>
                </a:solidFill>
                <a:uFillTx/>
                <a:latin typeface="Arial"/>
                <a:ea typeface="Microsoft YaHei"/>
              </a:rPr>
              <a:t> На 1% изменился выпуск за два года</a:t>
            </a:r>
            <a:r>
              <a:rPr b="1" i="1" lang="en-US" sz="4000" spc="-1" strike="noStrike" u="sng">
                <a:solidFill>
                  <a:srgbClr val="0047ff"/>
                </a:solidFill>
                <a:uFillTx/>
                <a:latin typeface="Arial"/>
                <a:ea typeface="Microsoft YaHe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19:29:39Z</dcterms:created>
  <dc:creator>alena</dc:creator>
  <dc:description/>
  <dc:language>en-US</dc:language>
  <cp:lastModifiedBy>alena</cp:lastModifiedBy>
  <dcterms:modified xsi:type="dcterms:W3CDTF">2013-03-13T17:09:42Z</dcterms:modified>
  <cp:revision>15</cp:revision>
  <dc:subject/>
  <dc:title>ЗАДАЧИ  НА  ПРОЦЕНТЫ</dc:title>
</cp:coreProperties>
</file>