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583-4C9D-43BF-BEE1-FEE655D6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3A3-B628-4141-8BFA-5037FEE4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6E6-1258-49C3-BACF-CA374D19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A84-60CB-4DBF-A195-85853E9B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0119-4A16-4FEC-B873-13E9E8AC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E0DF-E646-49BD-92ED-AF8C0B53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B7EF-23D2-45B5-86CC-9E8F8FCE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5BA1-21BB-47FB-B45C-6DCAC1E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36C1-0B5D-4AF7-BEDF-5BF96B3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C9C-5D1C-4D91-A384-2F1891BE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472B-8863-487E-94DC-3817C3A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CA0-88D0-40A1-8B4C-5747CFB4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D633-BFFE-4C22-97B3-F1FC1D6F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85C-CA41-48BB-9C1C-872E5FF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8C46-78F9-447E-9CEA-17CDC47C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B4BB-A4FB-4A7B-8E28-22FA29A2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1F9B-CC38-4295-8A2D-0F5B928A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B782-2E82-416A-B1BE-8D559547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78D7-604B-4603-B898-765EAE5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1264-18FD-4A3F-B486-812958E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8768-D689-49A4-A207-7DF4258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39FF3-73CD-4A26-82B4-C66ED24C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28BB-D981-47A3-B0FB-E435F4E4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B365-4D94-43A6-A317-AB84406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E6217-1D22-488A-B015-2F42E9F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33CF-C7EF-49E6-8762-7B3F2A0F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137A-5A8A-4CFA-B54A-6F0A38B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A544-70A6-4E25-90DF-67384F8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BF02-CC12-4F0A-AE7C-FA5BA519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BBBF-893F-4D52-A409-E431A5F4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91D1-F338-4790-A4C7-7975ED4D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CD1E-06C6-4637-B7D3-CFD539E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CCEF-0AB7-4671-AE4E-98C09DDC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746-6BB2-4F6B-8014-927CACC8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3837-AE69-4EBB-A83A-F1AB9E03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9761-13DD-4013-B875-3E6FFC3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EE9A-8314-4948-90B1-E907A407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7943-7703-417E-8FA3-D2A71CA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80D4-4466-46EB-AD9D-221AE80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1124-872B-4FD4-8A82-EB43CD7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B747-71CC-43CD-89A1-4C8DEA1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65D62-0D2F-4D9D-992E-45FEB8CC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7228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472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7228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04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7E47-3FEF-40BA-A00B-CE79A1CD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7AE-8BC9-4DDC-9076-9CA44AF6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4720" y="776160"/>
            <a:ext cx="90727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7A5-D211-4F65-BA41-8BA6070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79-94DE-43C0-90EC-1A36657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3760" y="466092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253-1957-4020-B617-1335077C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2133360"/>
            <a:ext cx="442728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720" y="4660920"/>
            <a:ext cx="907272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D73-53C8-454B-8D1E-F378813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1DDD-9C06-4BFD-8C26-88BD978CB880}" type="slidenum">
              <a:rPr b="0" lang="ru-RU" sz="13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8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A040-F7DD-429F-9BF8-0C72BB2F2F18}" type="slidenum">
              <a:rPr b="0" lang="ru-RU" sz="13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31680" y="-16920"/>
            <a:ext cx="10139760" cy="1196280"/>
            <a:chOff x="-31680" y="-16920"/>
            <a:chExt cx="10139760" cy="119628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20160" y="223920"/>
              <a:ext cx="10101600" cy="714240"/>
            </a:xfrm>
            <a:custGeom>
              <a:avLst/>
              <a:gdLst>
                <a:gd name="textAreaLeft" fmla="*/ 0 w 10101600"/>
                <a:gd name="textAreaRight" fmla="*/ 10101960 w 10101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5480" y="304560"/>
              <a:ext cx="10115640" cy="584280"/>
            </a:xfrm>
            <a:custGeom>
              <a:avLst/>
              <a:gdLst>
                <a:gd name="textAreaLeft" fmla="*/ 0 w 10115640"/>
                <a:gd name="textAreaRight" fmla="*/ 10116000 w 10115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736120" y="7007040"/>
            <a:ext cx="8395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B1A8-957C-423F-A2B7-D971910D1F0A}" type="slidenum">
              <a:rPr b="0" lang="ru-RU" sz="13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с одним вырезанным скругленным углом 8"/>
          <p:cNvSpPr/>
          <p:nvPr/>
        </p:nvSpPr>
        <p:spPr>
          <a:xfrm flipV="1" rot="420600">
            <a:off x="3489120" y="1220760"/>
            <a:ext cx="5797440" cy="4536720"/>
          </a:xfrm>
          <a:custGeom>
            <a:avLst/>
            <a:gdLst>
              <a:gd name="textAreaLeft" fmla="*/ 0 w 5797440"/>
              <a:gd name="textAreaRight" fmla="*/ 5715000 w 5797440"/>
              <a:gd name="textAreaTop" fmla="*/ 360 h 4536720"/>
              <a:gd name="textAreaBottom" fmla="*/ 4537440 h 4536720"/>
            </a:gdLst>
            <a:ahLst/>
            <a:rect l="textAreaLeft" t="textAreaTop" r="textAreaRight" b="textAreaBottom"/>
            <a:pathLst>
              <a:path w="5797550" h="4537075">
                <a:moveTo>
                  <a:pt x="0" y="0"/>
                </a:moveTo>
                <a:lnTo>
                  <a:pt x="5632128" y="0"/>
                </a:lnTo>
                <a:lnTo>
                  <a:pt x="5797550" y="165422"/>
                </a:lnTo>
                <a:lnTo>
                  <a:pt x="5797550" y="4537075"/>
                </a:lnTo>
                <a:lnTo>
                  <a:pt x="0" y="453707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ый треугольник 11"/>
          <p:cNvSpPr/>
          <p:nvPr/>
        </p:nvSpPr>
        <p:spPr>
          <a:xfrm flipV="1" rot="420600">
            <a:off x="8823240" y="5907960"/>
            <a:ext cx="171360" cy="171360"/>
          </a:xfrm>
          <a:custGeom>
            <a:avLst/>
            <a:gdLst>
              <a:gd name="textAreaLeft" fmla="*/ 14040 w 171360"/>
              <a:gd name="textAreaRight" fmla="*/ 100080 w 171360"/>
              <a:gd name="textAreaTop" fmla="*/ 100440 h 171360"/>
              <a:gd name="textAreaBottom" fmla="*/ 157680 h 171360"/>
            </a:gdLst>
            <a:ahLst/>
            <a:rect l="textAreaLeft" t="textAreaTop" r="textAreaRight" b="textAreaBottom"/>
            <a:pathLst>
              <a:path w="171450" h="171450">
                <a:moveTo>
                  <a:pt x="0" y="171450"/>
                </a:moveTo>
                <a:lnTo>
                  <a:pt x="0" y="0"/>
                </a:lnTo>
                <a:lnTo>
                  <a:pt x="171450" y="17145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7200" bIns="72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3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лилиния 14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30196"/>
                </a:srgbClr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4720" y="776160"/>
            <a:ext cx="90727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04720" y="2133360"/>
            <a:ext cx="907272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50436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903880" y="7007040"/>
            <a:ext cx="6714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A75-869E-4418-98C4-0BF92A4024D6}" type="slidenum">
              <a:rPr b="0" lang="ru-RU" sz="13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1976400"/>
            <a:ext cx="9070920" cy="663264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ЗАДАЧИ </a:t>
            </a:r>
            <a:br>
              <a:rPr sz="60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НА </a:t>
            </a:r>
            <a:br>
              <a:rPr sz="6000"/>
            </a:br>
            <a:r>
              <a:rPr b="1" lang="ru-RU" sz="6000" spc="-1" strike="noStrike" u="sng">
                <a:solidFill>
                  <a:srgbClr val="2323dc"/>
                </a:solidFill>
                <a:uFillTx/>
                <a:latin typeface="Arial Black"/>
              </a:rPr>
              <a:t>ПРОЦЕНТЫ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579760" y="1680840"/>
            <a:ext cx="7500960" cy="5227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Никулина Анна 5 «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                                  </a:t>
            </a:r>
            <a:r>
              <a:rPr b="0" lang="en-US" sz="3200" spc="-1" strike="noStrike">
                <a:solidFill>
                  <a:srgbClr val="0047ff"/>
                </a:solidFill>
                <a:latin typeface="Calibri"/>
                <a:ea typeface="Aharoni"/>
              </a:rPr>
              <a:t>                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 </a:t>
            </a:r>
            <a:r>
              <a:rPr b="0" lang="ru-RU" sz="3200" spc="-1" strike="noStrike">
                <a:solidFill>
                  <a:srgbClr val="0047ff"/>
                </a:solidFill>
                <a:latin typeface="Calibri"/>
                <a:ea typeface="Aharoni"/>
              </a:rPr>
              <a:t>Лицей № 8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374400"/>
            <a:ext cx="907272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300dc"/>
                </a:solidFill>
                <a:latin typeface="Calibri"/>
              </a:rPr>
              <a:t>                 </a:t>
            </a:r>
            <a:r>
              <a:rPr b="1" lang="ru-RU" sz="5500" spc="-1" strike="noStrike">
                <a:solidFill>
                  <a:srgbClr val="2300dc"/>
                </a:solidFill>
                <a:latin typeface="Calibri"/>
              </a:rPr>
              <a:t>ЗАДАЧА № 1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185076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В магазин привезли виноград. Стандартная стоимость винограда — 50 рублей. Летом цена падает до 30 рублей, а зимой повышается до 80 рублей. Оцените в процентах изменение цены на виноград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9360"/>
            <a:ext cx="9072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	</a:t>
            </a:r>
            <a:r>
              <a:rPr b="1" lang="en-US" sz="5500" spc="-1" strike="noStrike">
                <a:solidFill>
                  <a:srgbClr val="2323dc"/>
                </a:solidFill>
                <a:latin typeface="Calibri"/>
              </a:rPr>
              <a:t>   </a:t>
            </a: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РЕШЕНИЕ: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6832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1) 50 - 30 = 20 (руб.) - что составля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20 : 50 = 0,4, т. е. 4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2) 80 - 50 = 30 (руб.) - что составля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7ff"/>
                </a:solidFill>
                <a:latin typeface="Arial"/>
                <a:ea typeface="Microsoft YaHei"/>
              </a:rPr>
              <a:t>30 : 50 = 0,6, т. е. 6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Ответ:</a:t>
            </a:r>
            <a:r>
              <a:rPr b="1" lang="ru-RU" sz="36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 Летом цена на виноград уменьшается  на 40%, зимой увеличивается на 60%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164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2"/>
          <p:cNvSpPr/>
          <p:nvPr/>
        </p:nvSpPr>
        <p:spPr>
          <a:xfrm>
            <a:off x="0" y="708120"/>
            <a:ext cx="10080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500" spc="-1" strike="noStrike">
                <a:solidFill>
                  <a:srgbClr val="0000cc"/>
                </a:solidFill>
                <a:latin typeface="Calibri"/>
              </a:rPr>
              <a:t>ЗАДАЧА № 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396720" y="2208240"/>
            <a:ext cx="968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За первый год завод увеличил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  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выпуск на 10%. За второй год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 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уменьшил выпуск на 10% по сравнению с предыдущим годом. Как изменился выпуск за два года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754200" y="565200"/>
            <a:ext cx="8072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                 </a:t>
            </a:r>
            <a:r>
              <a:rPr b="1" lang="ru-RU" sz="5500" spc="-1" strike="noStrike">
                <a:solidFill>
                  <a:srgbClr val="2323dc"/>
                </a:solidFill>
                <a:latin typeface="Calibri"/>
              </a:rPr>
              <a:t>РЕШЕНИЕ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0" y="2136600"/>
            <a:ext cx="1008072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1) 100% + 10% = 110% - за первый год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2) 110% 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:</a:t>
            </a: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 10% = 1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3) 11% - 10% = 1% - изменится выпуск</a:t>
            </a:r>
            <a:r>
              <a:rPr b="1" lang="en-US" sz="4000" spc="-1" strike="noStrike">
                <a:solidFill>
                  <a:srgbClr val="0047ff"/>
                </a:solidFill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Ответ</a:t>
            </a:r>
            <a:r>
              <a:rPr b="1" i="1" lang="en-US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:</a:t>
            </a:r>
            <a:r>
              <a:rPr b="1" i="1" lang="ru-RU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 На 1% изменился выпуск за два года</a:t>
            </a:r>
            <a:r>
              <a:rPr b="1" i="1" lang="en-US" sz="4000" spc="-1" strike="noStrike" u="sng">
                <a:solidFill>
                  <a:srgbClr val="0047ff"/>
                </a:solidFill>
                <a:uFillTx/>
                <a:latin typeface="Arial"/>
                <a:ea typeface="Microsoft YaHe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9:29:39Z</dcterms:created>
  <dc:creator>alena</dc:creator>
  <dc:description/>
  <dc:language>en-US</dc:language>
  <cp:lastModifiedBy>alena</cp:lastModifiedBy>
  <dcterms:modified xsi:type="dcterms:W3CDTF">2013-03-13T17:09:42Z</dcterms:modified>
  <cp:revision>15</cp:revision>
  <dc:subject/>
  <dc:title>ЗАДАЧИ  НА  ПРОЦЕНТЫ</dc:title>
</cp:coreProperties>
</file>