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73A3-2433-410B-A5A4-A46E2D8B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D54D-1049-4399-9AD9-1FA87B18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DA9A-8B73-4CEE-ABBA-084CAF57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1EA6-2900-472D-BABA-690C9DC6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EE06-B769-4306-AA05-0AAB91DE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EB0B-3A31-41FD-9AF0-E31B4B78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F8B0-D516-4CB2-8D00-DE433F55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A8E7-0BB3-45B9-B90C-6248FBB5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BA22-338E-45E3-9A6A-1B487F3B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73DD-9ACA-4889-99D2-B0EEC2E2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0D4B-93B6-41EE-8E34-05672DEC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57A2-8E6D-4C08-8E69-57D74A7C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770D-0D53-4766-BB73-C4FE0FD4C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1268280"/>
            <a:ext cx="68421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chools all over the worl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41720"/>
            <a:ext cx="9144000" cy="287280"/>
          </a:xfrm>
          <a:prstGeom prst="rect">
            <a:avLst/>
          </a:prstGeom>
          <a:solidFill>
            <a:srgbClr val="e3ef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914400" y="1628640"/>
            <a:ext cx="6826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i-Lanka ['sri: 'læŋkə 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ylon  [sɪ'lɒ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ya  ['kenjə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odia  [ kæm'bəʋdıə 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 [dʒə'pæ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i-Lanka or Ceyl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ior secondary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ior secondary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g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ny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ary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bodi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ary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ary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ior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9:33:48Z</dcterms:created>
  <dc:creator>Ирина</dc:creator>
  <dc:description/>
  <dc:language>en-US</dc:language>
  <cp:lastModifiedBy>Ирина</cp:lastModifiedBy>
  <dcterms:modified xsi:type="dcterms:W3CDTF">2013-02-12T19:41:04Z</dcterms:modified>
  <cp:revision>2</cp:revision>
  <dc:subject/>
  <dc:title>Слайд 1</dc:title>
</cp:coreProperties>
</file>