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E9C9-21D0-4CBB-A775-F4981A27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E19A-F8AB-4584-8E28-E0AF3327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B2F-E452-4786-A897-AEC8D8FC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038F-D1B1-4EDE-B496-41ED42C0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DA63-1E2C-4311-9B6D-8B5C527F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B5C-AF1A-46E4-B14C-D8A051D0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E5F6-DD03-437A-AD3F-1001A44E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96AE-136E-4017-BB70-55BE2571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841-803A-4906-A2E9-135E3DB7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56A8-A015-4697-9494-E2F375F8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280-D142-47B1-A5A9-76437265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AEAA-A81F-4886-B694-EF3821A1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9C11-AC29-4E9E-8640-E0C3D6510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1268280"/>
            <a:ext cx="684216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chools all over the worl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41720"/>
            <a:ext cx="9144000" cy="287280"/>
          </a:xfrm>
          <a:prstGeom prst="rect">
            <a:avLst/>
          </a:prstGeom>
          <a:solidFill>
            <a:srgbClr val="e3e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14400" y="1628640"/>
            <a:ext cx="6826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i-Lanka ['sri: 'læŋkə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ylon  [sɪ'lɒ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ya  ['kenjə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odia  [ kæm'bəʋdıə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 [dʒə'pæn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i-Lanka or Ceyl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ior secondar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ior secondary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g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ary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bodia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ar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ar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ior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9:33:48Z</dcterms:created>
  <dc:creator>Ирина</dc:creator>
  <dc:description/>
  <dc:language>en-US</dc:language>
  <cp:lastModifiedBy>Ирина</cp:lastModifiedBy>
  <dcterms:modified xsi:type="dcterms:W3CDTF">2013-02-12T19:41:04Z</dcterms:modified>
  <cp:revision>2</cp:revision>
  <dc:subject/>
  <dc:title>Слайд 1</dc:title>
</cp:coreProperties>
</file>