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5CEB-3C4F-4032-8773-741C025B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6073-1C16-495C-927C-49406E99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5D0B-3A74-4142-BE53-5ECEDB9A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9087-D1E0-4B37-9DA5-5E822402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3F43-C9C6-4285-A0B0-102B0487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6DF5-152D-4BD9-8700-B9C8CAD0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69C4-4EF9-443C-A6AD-950C4451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AE9B-83A4-4B84-9C52-4894EC39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D606-9BD3-4B5F-B3A5-7AB41DB1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A978-BC14-4CAC-A0A8-58C8E807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CFE9-6D5B-4832-98EC-B3E3F270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2A81-F2C0-4ADF-82FB-CAF8BE8E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7F31-1BDD-4B73-AB39-5F8950CF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C6A4-DD94-4297-B278-054D3079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E3DB-54F0-4EEB-B98D-2CB296F5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6994-563F-4529-AD44-D2F7B405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B47C-92BD-4A76-AEBE-07756427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556E-85A8-43F2-86EF-F63CDEC7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40CC-6F5A-4854-B5DA-654ECD83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123F-1EE3-476B-B713-46D57952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2170-ACAF-4F3D-AE74-6EE27082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A75C-798A-4F03-9BCA-9366A573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29BC-92BF-4509-89B7-D58C6938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C4B9-5148-4DE5-BBEF-954378D9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7BC4-A5E9-4738-BAF2-EC0343E22E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1502-4AD4-4665-BD79-EF8E191270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53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ff"/>
                </a:solidFill>
                <a:latin typeface="Tahoma"/>
              </a:rPr>
              <a:t>Эпиграф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5280" y="2923920"/>
            <a:ext cx="820728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Те, кто не могут сварить суп, заваривают кашу»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Ситуации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Ира обижен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Вчера ты, Витя, шел мне навстречу и не поздоровался. Это невежлив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итя удивлен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А почему я должен здороваться? Ты меня первая увидела, вот бы и поздоровалас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то прав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Настя говорит: «Вовсе не обязательно здороваться со всеми знакомыми. Вот у нас соседка такая вредная, что я не хочу ей здоровья желать. Что же мне, притворяться?» Права ли Наст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Тебя обозвали. Твоя реакци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) Отделаюсь шуткой (демонстративно раскланяюсь и поблагодарю за «хорошие» слова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) Отблагодарю тем же (обзову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) Пожалуюсь старши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Вам не нравится, что ваш сосед по парте никогда не носит в школу учебников и пользуется вашими. Как будете действов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В твоей компании все курят. Ты не хочешь начинать. Но ребята смеются над тобой. Как тебе быть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 На перемене ты дал другу свой новенький, только что купленный мобильный телефон. Он вышел с ним в коридор, а ты остался в классе. Когда ты вышел в коридор, то увидел, что друг собирает с пола разломанный корпус твоего телефона. Оказывается, его толкнули пробегающие мимо ребята, и он уронил телефон, а сам он ни в чем не виноват. Ты знаешь, что тебя будут ругать родители. Что делать? Как не испортить отношения с другом? Как объяснить все родителя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Проигрывание ситуаци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Вам в киоске сказали, что у них горячие пирожки, вы купили, но пирожок оказался холодным. Вы возвращаете пирожок продавцу и говорите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Приятель сообщил, что рассказал кому-то вашу тайну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ff"/>
                </a:solidFill>
                <a:latin typeface="Tahoma"/>
              </a:rPr>
              <a:t>Как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ff"/>
                </a:solidFill>
                <a:latin typeface="Tahoma"/>
              </a:rPr>
              <a:t>предотвратить конфликты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700360" y="3429000"/>
            <a:ext cx="424512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Подруга взяла у вас на вечер ваши любимые брюки, а наутро возвращает их надорванными. Вы говорите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Игра «Комплимент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Игра «Речевой этикет»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Назовите слова приветств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Выскажите просьб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Какими словами лучше всего начать знакомство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Как принято извиняться в культурном обществе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Есть ли несколько слов утешения и ободрения у тебя в запасе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Слова благодар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. Как попрощаться, чтобы людям было приятно вновь встретить тебя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Сценк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Тест:</a:t>
            </a:r>
            <a:br>
              <a:rPr sz="4400"/>
            </a:b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«Как вы обычно ведете себя в конфликтной ситуации?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сли подобным образом ведете себя: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асто – 3 бал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 случая к случаю – 2 бал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дко – 1 ба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Ключ к тесту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981080"/>
          <a:ext cx="8229600" cy="41148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Копилка добрых советов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вет первый. Относитесь к другим людям так, как хотели бы, чтобы они относились к вам. (Как вы это понимаете?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вет второй. Помните о законе «отзеркаливания»: как вы к людям — так и они к вам. (Что необходимо сделать, чтобы «отзеркаливать» лучшее?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вет третий. Замечайте в людях только хорошее. Во всех людях без исключения. (Как вы понимаете этот совет?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вет четвертый. Не обижайтесь. (В чем смысл этого совета?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вет пятый. «Но, отходя ко сну, спроси себя, кого и чем порадовал ты за день?» (Как вы понимаете эти стихотворные строки?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юдей неинтересных в мире н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х судьбы — как истории план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каждой все особое, свое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нет планет, похожих не не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Е. Евтушенко.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&amp;IEcy;&amp;vcy;&amp;gcy;&amp;iecy;&amp;ncy;&amp;icy;&amp;jcy; &amp;IEcy;&amp;vcy;&amp;tcy;&amp;ucy;&amp;shcy;&amp;iecy;&amp;ncy;&amp;kcy;&amp;ocy;"/>
          <p:cNvPicPr/>
          <p:nvPr/>
        </p:nvPicPr>
        <p:blipFill>
          <a:blip r:embed="rId2"/>
          <a:stretch/>
        </p:blipFill>
        <p:spPr>
          <a:xfrm>
            <a:off x="6948360" y="1844640"/>
            <a:ext cx="19908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Итоговое упражнение «Подарок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Человек, который совершает не очень хороший поступок, рискует остаться в одиночестве и вызвать осуждение окружающих. И наоборот, бывают поступки, которые возвышают людей в глазах других. И в том, и в другом, находясь перед выбором, прежде чем что-то сделать, подумай о последствиях. И пусть решение окажется верным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Психологический опыт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юди хотели развить в себе качеств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веренности, решительности — 46 % опрошенны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держки, уравновешенности — 30 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целеустремленности, силы воли — 30 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ерпимости — 12 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оброжелательности — 10 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957320" y="1004760"/>
            <a:ext cx="522936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80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Психологический опыт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 вот окружающим людям все хотели бы добавить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оброты, человечности — 50 % опрошенны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стности, порядочности — 30 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заимопонимания, сочувствия — 22 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ерпимости — 16 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щедрости — 12 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А что такое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d2c11"/>
                </a:solidFill>
                <a:latin typeface="Tahoma"/>
              </a:rPr>
              <a:t>конфликт?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d2c11"/>
                </a:solidFill>
                <a:latin typeface="Tahoma"/>
              </a:rPr>
              <a:t>Конфликт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— это столкновение, противоречие, которое рождает враждебность, страх, ненависть между людьм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Как вы думаете, чем обусловлено возникновени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d2c11"/>
                </a:solidFill>
                <a:latin typeface="Tahoma"/>
              </a:rPr>
              <a:t>конфликта?</a:t>
            </a:r>
            <a:r>
              <a:rPr b="0" lang="en-US" sz="3600" spc="-1" strike="noStrike">
                <a:solidFill>
                  <a:srgbClr val="cd2c11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Упражнение  «Облака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&amp;Kcy;&amp;acy;&amp;rcy;&amp;tcy;&amp;icy;&amp;ncy;&amp;kcy;&amp;icy;, &amp;rcy;&amp;icy;&amp;scy;&amp;ucy;&amp;ncy;&amp;kcy;&amp;icy; &amp;Ncy;&amp;iecy;&amp;bcy;&amp;ocy;, &amp;ocy;&amp;bcy;&amp;lcy;&amp;acy;&amp;kcy;&amp;acy;"/>
          <p:cNvPicPr/>
          <p:nvPr/>
        </p:nvPicPr>
        <p:blipFill>
          <a:blip r:embed="rId2"/>
          <a:stretch/>
        </p:blipFill>
        <p:spPr>
          <a:xfrm>
            <a:off x="2195640" y="2708280"/>
            <a:ext cx="46814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дин из способов  предупреждения конфликтов – «мягкое противостояние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- это решительное возражение, высказанное в мягкой форме. Так можно отстоять свою позицию, и не обидеть другого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ругой способ называется «конструктивное предложение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- это попытка найти компромисс, т.е. выход, который мог бы устроить все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1:30:45Z</dcterms:created>
  <dc:creator>Психолог</dc:creator>
  <dc:description/>
  <dc:language>en-US</dc:language>
  <cp:lastModifiedBy>Психолог</cp:lastModifiedBy>
  <dcterms:modified xsi:type="dcterms:W3CDTF">2013-04-04T08:55:52Z</dcterms:modified>
  <cp:revision>5</cp:revision>
  <dc:subject/>
  <dc:title>Эпиграф</dc:title>
</cp:coreProperties>
</file>