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3AB-086F-4EA2-9A0B-3D37309E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186-ED51-4262-9DDE-5FBE2772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796-7F4C-41C7-BB00-6AA05F88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91F-ABBD-477A-B31B-7F919A7A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2B3E-AC76-405C-B4A4-E70F6205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3B72-E1E3-47F8-8667-2C81F5AB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AF7C-5A2F-48C9-9C86-8E398BF4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1E83-85F4-4D0C-A467-00F64C71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A45F-A92D-4770-B542-34B3D3DC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3326-02E4-4726-8F5C-D0FCB0C5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6205-5613-4B51-9F2F-2CE2F6B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82D-E88F-4D22-B101-9D19EDD2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3501-5D99-43CE-9AC7-6247C97F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58BE-C9EF-4223-940D-A32C2B7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D81F-CCFB-4128-8E3D-67AA497F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0B5E-A0AE-4293-AC4C-823C0B03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6018-FCBD-4B82-9B1F-A071F2F9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E57-57FC-4F38-A75B-8821985E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7B2-8681-4E50-98E4-D624E867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47D-E0C8-49AA-B22D-E13F3E5B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7BF-235C-4BC5-B69A-A49E6740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5E2-E9D0-4A33-A8AA-2C8B0B7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41C-BC0B-4404-9818-67F98627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DF4-9657-4317-955B-3AECC198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985D-6569-4F84-901A-615B508F7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8B92-B274-4607-93F1-1E160FD21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ff"/>
                </a:solidFill>
                <a:latin typeface="Tahoma"/>
              </a:rPr>
              <a:t>Эпиграф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5280" y="2923920"/>
            <a:ext cx="82072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Те, кто не могут сварить суп, заваривают кашу»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итуации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Ира обижен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чера ты, Витя, шел мне навстречу и не поздоровался. Это невежли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итя удивлен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А почему я должен здороваться? Ты меня первая увидела, вот бы и поздоровалас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то прав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Настя говорит: «Вовсе не обязательно здороваться со всеми знакомыми. Вот у нас соседка такая вредная, что я не хочу ей здоровья желать. Что же мне, притворяться?» Права ли Наст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Тебя обозвали. Твоя реакция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Отделаюсь шуткой (демонстративно раскланяюсь и поблагодарю за «хорошие» слова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) Отблагодарю тем же (обзову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) Пожалуюсь старш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Вам не нравится, что ваш сосед по парте никогда не носит в школу учебников и пользуется вашими. Как будете действов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В твоей компании все курят. Ты не хочешь начинать. Но ребята смеются над тобой. Как тебе быть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. На перемене ты дал другу свой новенький, только что купленный мобильный телефон. Он вышел с ним в коридор, а ты остался в классе. Когда ты вышел в коридор, то увидел, что друг собирает с пола разломанный корпус твоего телефона. Оказывается, его толкнули пробегающие мимо ребята, и он уронил телефон, а сам он ни в чем не виноват. Ты знаешь, что тебя будут ругать родители. Что делать? Как не испортить отношения с другом? Как объяснить все родителя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Проигрывание ситуаций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Вам в киоске сказали, что у них горячие пирожки, вы купили, но пирожок оказался холодным. Вы возвращаете пирожок продавцу и говорите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Приятель сообщил, что рассказал кому-то вашу тайну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Как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ccff"/>
                </a:solidFill>
                <a:latin typeface="Tahoma"/>
              </a:rPr>
              <a:t>предотвратить конфликты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42451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Подруга взяла у вас на вечер ваши любимые брюки, а наутро возвращает их надорванными. Вы говорите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Игра «Комплимент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Игра «Речевой этикет»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Назовите слова приветств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Выскажите просьб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Какими словами лучше всего начать знакомство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Как принято извиняться в культурном обществ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Есть ли несколько слов утешения и ободрения у тебя в запасе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Слова благодар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Как попрощаться, чтобы людям было приятно вновь встретить тебя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Сцен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Тест:</a:t>
            </a:r>
            <a:br>
              <a:rPr sz="4400"/>
            </a:b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«Как вы обычно ведете себя в конфликтной ситуации?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сли подобным образом ведете себя: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асто – 3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 случая к случаю – 2 бал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едко – 1 ба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Ключ к тесту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81080"/>
          <a:ext cx="8229600" cy="4114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Копилка добрых советов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первый. Относитесь к другим людям так, как хотели бы, чтобы они относились к вам. (Как вы это понимаете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второй. Помните о законе «отзеркаливания»: как вы к людям — так и они к вам. (Что необходимо сделать, чтобы «отзеркаливать» лучшее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третий. Замечайте в людях только хорошее. Во всех людях без исключения. (Как вы понимаете этот совет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четвертый. Не обижайтесь. (В чем смысл этого совета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т пятый. «Но, отходя ко сну, спроси себя, кого и чем порадовал ты за день?» (Как вы понимаете эти стихотворные строки?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дей неинтересных в мире н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х судьбы — как истории план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каждой все особое, сво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нет планет, похожих не не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Е. Евтушенко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&amp;IEcy;&amp;vcy;&amp;gcy;&amp;iecy;&amp;ncy;&amp;icy;&amp;jcy; &amp;IEcy;&amp;vcy;&amp;tcy;&amp;ucy;&amp;shcy;&amp;iecy;&amp;ncy;&amp;kcy;&amp;ocy;"/>
          <p:cNvPicPr/>
          <p:nvPr/>
        </p:nvPicPr>
        <p:blipFill>
          <a:blip r:embed="rId2"/>
          <a:stretch/>
        </p:blipFill>
        <p:spPr>
          <a:xfrm>
            <a:off x="6948360" y="1844640"/>
            <a:ext cx="1990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Итоговое упражнение «Подарок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Человек, который совершает не очень хороший поступок, рискует остаться в одиночестве и вызвать осуждение окружающих. И наоборот, бывают поступки, которые возвышают людей в глазах других. И в том, и в другом, находясь перед выбором, прежде чем что-то сделать, подумай о последствиях. И пусть решение окажется верны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сихологический опыт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юди хотели развить в себе качеств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веренности, решительности — 46 % опрошен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держки, уравновешенности — 30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целеустремленности, силы воли — 30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пимости — 12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брожелательности — 10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957320" y="1004760"/>
            <a:ext cx="52293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ffff"/>
                </a:solidFill>
                <a:latin typeface="Tahoma"/>
              </a:rPr>
              <a:t>Психологический опыт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 вот окружающим людям все хотели бы добавит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оброты, человечности — 50 % опрошен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стности, порядочности — 30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заимопонимания, сочувствия — 22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рпимости — 16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дрости — 12 %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А что такое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d2c11"/>
                </a:solidFill>
                <a:latin typeface="Tahoma"/>
              </a:rPr>
              <a:t>конфликт?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2c11"/>
                </a:solidFill>
                <a:latin typeface="Tahoma"/>
              </a:rPr>
              <a:t>Конфликт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— это столкновение, противоречие, которое рождает враждебность, страх, ненависть между людь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Как вы думаете, чем обусловлено возникнов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d2c11"/>
                </a:solidFill>
                <a:latin typeface="Tahoma"/>
              </a:rPr>
              <a:t>конфликта?</a:t>
            </a:r>
            <a:r>
              <a:rPr b="0" lang="en-US" sz="3600" spc="-1" strike="noStrike">
                <a:solidFill>
                  <a:srgbClr val="cd2c11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Упражнение  «Облак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&amp;Kcy;&amp;acy;&amp;rcy;&amp;tcy;&amp;icy;&amp;ncy;&amp;kcy;&amp;icy;, &amp;rcy;&amp;icy;&amp;scy;&amp;ucy;&amp;ncy;&amp;kcy;&amp;icy; &amp;Ncy;&amp;iecy;&amp;bcy;&amp;ocy;, &amp;ocy;&amp;bcy;&amp;lcy;&amp;acy;&amp;kcy;&amp;acy;"/>
          <p:cNvPicPr/>
          <p:nvPr/>
        </p:nvPicPr>
        <p:blipFill>
          <a:blip r:embed="rId2"/>
          <a:stretch/>
        </p:blipFill>
        <p:spPr>
          <a:xfrm>
            <a:off x="2195640" y="2708280"/>
            <a:ext cx="468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дин из способов  предупреждения конфликтов – «мягкое противостояние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- это решительное возражение, высказанное в мягкой форме. Так можно отстоять свою позицию, и не обидеть другого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Другой способ называется «конструктивное предложение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- это попытка найти компромисс, т.е. выход, который мог бы устроить все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1:30:45Z</dcterms:created>
  <dc:creator>Психолог</dc:creator>
  <dc:description/>
  <dc:language>en-US</dc:language>
  <cp:lastModifiedBy>Психолог</cp:lastModifiedBy>
  <dcterms:modified xsi:type="dcterms:W3CDTF">2013-04-04T08:55:52Z</dcterms:modified>
  <cp:revision>5</cp:revision>
  <dc:subject/>
  <dc:title>Эпиграф</dc:title>
</cp:coreProperties>
</file>