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C39-2AAC-4F73-BE38-F0794319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9AF-3F5C-4CFC-9E5B-20696285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9F496-AD63-4F8A-8199-F0AC94BA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EAFB0-B9CE-4E23-8996-CA1E4E3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18BB9-BDE8-4594-BFF8-F2B42E0B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F443-CE21-40DE-8DE2-78F4E584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8088A-AB0F-45D8-9281-0CA78F4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31D59-035B-4BEB-847F-426E34E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2F2E2-0D2B-49C9-987E-F541160F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9CA56-D42E-4B98-946E-E8CACCD1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2E3BF-C3DE-4D8A-BD85-A547E448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EE19A-DD7A-4D80-B186-B88FB34E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3FC-45FE-4CDF-B032-815AB188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EA6D2-A20F-41FD-859B-9D9CF2B4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2C255-AA1D-4260-ADD0-14066B86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81B0D-6CE8-45CA-B63E-3588B477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365DF-E3E3-4C88-9D6A-8947700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1461C-02FC-466D-B0D3-4D68696E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0B52C-5648-48E3-8505-0CF8E975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0B281-A9E6-4795-9615-A7D9BE8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E9039-0663-4F98-88AA-AB6A0E5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0002D-8938-4753-BABB-74AB745A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9E545-25CB-47EC-9B0B-BD511169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5CA-E2CE-4F24-8105-0CE20087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65F98-C89F-4001-80B6-B0CF527A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6E89-46A2-4756-9FA0-66C3DC3B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8E3E-0E11-44E7-A48C-42C9D4B8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1D4E-0CA9-40D1-8D4D-280DB2DA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CD30-2A49-4A6C-B330-929783F7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A593-378B-44A1-A14F-77E6B1F8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C326-83EF-4BC9-9517-A01CCC6F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57D9-CE53-43CE-B683-DD6A78FB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AFA-FC60-402F-B1EB-C0E5410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D697-DE3A-40B2-ADC5-AF16B8ED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5319-B021-4350-AC01-4EB10A1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8DAA-F614-4E01-9DBA-C496C0C0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64E5-284C-4091-B7A8-75DCB1B7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041C-670B-4839-A855-7A1EB0A2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488F-684F-453F-BB14-0AB01DD5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99A3-3ADF-4146-BCBE-2B84F8A4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30C1-13F3-4092-ADB4-46EB5A0B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246A-35A1-431B-B4FB-728742AD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8AD9-8B34-418E-897B-EE78CCF0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23B-9CA5-428A-AF06-9B1766A8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BB80-ADA1-4D1D-8197-656F275C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BBFD-6497-47AD-B9BA-6DADBC3A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701B-5A70-4336-9549-2914938F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7324-0DDE-42AF-996A-EB9B563D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1B69-43B7-4D67-9886-E2159601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0801-F83A-44E5-9196-A158CD86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773C-9FCD-4C73-AC09-56A5FE2B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2FD9-9E14-49FA-883A-902F3226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B660B-1361-49C1-A934-D3B9EA0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B7B84-3E5E-4B33-8A70-7A6F6BC4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DF8-9F19-45BF-9AF0-6E4A2BF4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B02B-33D9-49EB-A9CF-234DA5F9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8A175-9D30-4534-8076-E58BEB30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9DB6-F484-4B93-A20D-73CEB832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1312-3F02-40E8-AAC0-A2D155B3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5AE7-20B0-4CDE-B754-9BE1E207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7652C-023A-48FE-864B-3FC9C0B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AC00-E560-4365-B55C-4C810849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B4F6-2437-45A4-A120-280E8A7E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6579-FB9D-4ECB-BB81-B3B32676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B081-FE06-466D-AA84-AB256C92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DA5-0CA9-4703-BDA2-E1108219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65B99-26FC-4450-9D14-8FFF8CD7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BB740-4183-412F-94B8-05AE8445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FFF63-F9D2-45CB-9AED-958E2DE4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8BE1-2923-45DD-A130-5167A7C2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8DE66-1BFE-47B9-AD3B-79E1D72C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6645-0732-4EED-B3B4-561EFB7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EC3AB-43BC-4F1A-AF2F-2DE709B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9AE2-685A-4CC7-B638-78BB653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75F50-83D0-4688-B24A-C3BBAA7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AC165-614B-40CF-A9D9-ECB0783B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A65-19B6-4714-AD91-85820216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48C20-AFEA-4314-B6BF-1948159B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AC32-1E82-45C2-A8EE-ADE5A790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AF11B-51D5-417E-9BFC-BA48E38F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84EB3-0195-4D9A-8B50-EF903401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63C02-F878-4B4F-A465-A1C3550E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AAB3D-B360-4A22-B1E2-FEA432DE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BB9D1-3C2E-4B2B-ADD7-B73AB7FD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2ADC1-9EFF-4992-A1E3-BAA2831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4F103-54C4-4F3A-802F-8B24472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531E-D46A-4D0B-B617-AE2F3CB6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740-8E0F-423E-9559-FBF4594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BCE76-25C2-4A83-847F-FE8309B6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40E2-D964-4F70-9AE0-DE1D5071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8EE67-1FCD-43CD-9050-1C7E161D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4168-995F-49E8-BE22-CAE5BEA1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71FFC-6AE2-413F-AB48-E2B369B2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5234C-E856-4494-9D2F-6A819E52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08B5-1D9C-4837-B19B-71E930E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0FB36-24A7-4B9B-9926-8E6A7181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F98B-8CE6-440C-980A-4EA13C61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0D4AB-19C3-4106-8174-9BD86FD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DEC-91CC-4990-8702-728F88B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A1E7B-56B5-4573-82C4-81BBC0A4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6ECD-BD1A-41AA-8A09-846D8F35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DE1D0-65DF-4F36-BFEB-F9C6A7EB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FCB27-D919-4ACC-809A-295C52DB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14E7A-3033-4CEF-851C-44E67A0B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66FC7-ABCA-4251-9042-607850FD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45004-A0D4-4479-8D5E-9EA94CC2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AB2CB-07E2-41E0-9759-53D328AA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4CCF7-A893-41BC-9D3D-EF7FB8AE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C603B-A28F-4FFE-A1F3-230D979B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E53-393B-40D9-8679-9C5F9BE1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FA9E7-76FF-4130-BBD3-78DF7D9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78D3-E233-4EEB-BE0C-225C540D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DB679-7813-423D-A68C-DA924BD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66351-E424-4F78-81B9-EBB98900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1E7F0-09C2-4CDE-9321-FA1F1CC8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5A06B-759E-42BB-ADD6-EEE2680B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21880-DCEA-4DC9-8996-B1DF4A66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8D8FE-183F-4432-A0F8-E310FFE4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36479-F6AD-4A63-A023-D07F00E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3D533-6013-4B25-9A16-27F689A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F847-7D48-483B-A9C2-33349FD55A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514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515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529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533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537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41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45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7A9F-15A5-486E-BE59-EB51446F3CB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EB34-00A9-4573-A0A6-18BEA2373B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22C2-AB01-4F94-8C84-7D4008DFC5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F038-3B99-4D27-AFFE-86BE85BC44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8163-30D7-418D-935F-5694DC143E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8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CD01-59BC-4ABA-93AC-FC4119C460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21C1-2A6B-469C-9EB2-6E39ACD77B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8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8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9D2A-ADEA-40F0-9636-B7C3BC790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30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32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37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443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447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51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55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D7A5-00E7-4DF2-BB04-8A70B654CB5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Stencil"/>
              </a:rPr>
              <a:t>Коллекция слов с двумя корнями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626920" y="5257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ект подготовила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Шичкина Ксения (2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Ядовитый гриб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40000" y="6021360"/>
            <a:ext cx="86360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х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03200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97000" y="312480"/>
            <a:ext cx="7340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ппарат, который превращает мясо в фар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940360" y="5950080"/>
            <a:ext cx="7018560" cy="20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яс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392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Жилет, который защищает тело солдата от пуль как бро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292360" y="5876640"/>
            <a:ext cx="842004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ро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2051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ппарат, который может везде  прой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580000" y="5950080"/>
            <a:ext cx="3240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з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908000" y="1600200"/>
            <a:ext cx="482472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овушка для мыш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435640" y="5805360"/>
            <a:ext cx="8780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ыш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904000" cy="35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ппарат для тушения ог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219280" y="6021360"/>
            <a:ext cx="762948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г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уш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33116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зновидность мышей, которые роют  земл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508360" y="6021360"/>
            <a:ext cx="798804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89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728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Аппарат, который всасывает пыл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227280" y="5805360"/>
            <a:ext cx="7774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ы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456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идумайте сами 3-4 слова с двумя корня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71280" y="4581000"/>
            <a:ext cx="784836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Спасибо за внимание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В русском языке много слов образованных путём сложения  двух корне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дает снег – </a:t>
            </a:r>
            <a:r>
              <a:rPr b="0" lang="ru-RU" sz="4000" spc="-1" strike="noStrike">
                <a:solidFill>
                  <a:srgbClr val="336699"/>
                </a:solidFill>
                <a:latin typeface="Verdana"/>
              </a:rPr>
              <a:t>снегопа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ловек, который идет по дороге -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336699"/>
                </a:solidFill>
                <a:latin typeface="Verdana"/>
              </a:rPr>
              <a:t>пеше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ппарат, который сам летает - </a:t>
            </a:r>
            <a:r>
              <a:rPr b="0" lang="ru-RU" sz="4000" spc="-1" strike="noStrike">
                <a:solidFill>
                  <a:srgbClr val="336699"/>
                </a:solidFill>
                <a:latin typeface="Verdana"/>
              </a:rPr>
              <a:t>самолет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вод по обработке леса - </a:t>
            </a:r>
            <a:r>
              <a:rPr b="0" lang="ru-RU" sz="4000" spc="-1" strike="noStrike">
                <a:solidFill>
                  <a:srgbClr val="336699"/>
                </a:solidFill>
                <a:latin typeface="Verdana"/>
              </a:rPr>
              <a:t>лесозав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219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>
            <a:off x="3780000" y="1773360"/>
            <a:ext cx="115236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42920" y="2997360"/>
            <a:ext cx="107964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56000" y="2997360"/>
            <a:ext cx="86364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1773360"/>
            <a:ext cx="93672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42920" y="4149720"/>
            <a:ext cx="1008000" cy="142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16000" y="5300640"/>
            <a:ext cx="863640" cy="1461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340000" y="4149720"/>
            <a:ext cx="936720" cy="142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340000" y="5300640"/>
            <a:ext cx="151128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3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оллекция сл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00000" y="907920"/>
            <a:ext cx="3743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ореплават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чело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иномеханик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емлепаше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рхол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есопар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осв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егох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ртол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едоко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допро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ро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00360" y="907920"/>
            <a:ext cx="40338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истопис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озн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емлетряс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мнепа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рел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ноко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хметров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однев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ырехэтаж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роконож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нодорож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опередач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9009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Этими словами характеризуем  характер и внешность челове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55972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ивый, труд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ивый,    леж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ка, велик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ушный, слаб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ьный,  цел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ремлённый, серд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ный, туг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ум и т.д.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етл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осый, темн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жий, син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лазый, рыж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осый, черн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ровый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называется человек у которог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ягко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трый у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брая душ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убые глаз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ёмные волос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44760" y="2133720"/>
            <a:ext cx="38098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ягкосердеч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троум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бродуш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убоглаз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мноволос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4427640" y="299736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500720" y="3573360"/>
            <a:ext cx="720720" cy="144720"/>
          </a:xfrm>
          <a:prstGeom prst="rightArrow">
            <a:avLst>
              <a:gd name="adj1" fmla="val 50000"/>
              <a:gd name="adj2" fmla="val 1245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500720" y="4149000"/>
            <a:ext cx="720720" cy="142920"/>
          </a:xfrm>
          <a:prstGeom prst="rightArrow">
            <a:avLst>
              <a:gd name="adj1" fmla="val 50000"/>
              <a:gd name="adj2" fmla="val 1260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4572000" y="4724280"/>
            <a:ext cx="647640" cy="146160"/>
          </a:xfrm>
          <a:prstGeom prst="rightArrow">
            <a:avLst>
              <a:gd name="adj1" fmla="val 50000"/>
              <a:gd name="adj2" fmla="val 1107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00720" y="242100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772400" cy="403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Comic Sans MS"/>
              </a:rPr>
              <a:t>Замените одним</a:t>
            </a:r>
            <a:r>
              <a:rPr b="0" i="1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8800" spc="-1" strike="noStrike">
                <a:solidFill>
                  <a:srgbClr val="000000"/>
                </a:solidFill>
                <a:latin typeface="Comic Sans MS"/>
              </a:rPr>
              <a:t>словом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ток воды, который  падает с большой выс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11640" y="6165360"/>
            <a:ext cx="288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446400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ольшой чайник  на ножка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372360" y="6021000"/>
            <a:ext cx="76276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960720" cy="44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удно, приводимое в движение паровым двигателем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940000" y="6021000"/>
            <a:ext cx="320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61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06:30Z</dcterms:created>
  <dc:creator>Admin</dc:creator>
  <dc:description/>
  <dc:language>en-US</dc:language>
  <cp:lastModifiedBy>Admin</cp:lastModifiedBy>
  <dcterms:modified xsi:type="dcterms:W3CDTF">2011-12-13T19:57:25Z</dcterms:modified>
  <cp:revision>18</cp:revision>
  <dc:subject/>
  <dc:title>Слова с двумя корнями </dc:title>
</cp:coreProperties>
</file>