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717-0277-4EBC-82E0-C4AA5FA2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8EE-FEDF-4FD1-BCF0-A216AB7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3A56-0F2E-4D93-8E4A-C2131629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FA965-EB54-45AE-A532-62B30676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5EBDC-A51B-4177-A0E5-097CBEDA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E3A5-6BE6-45B8-9FCE-A20A9561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9B01C-8523-4738-A4BA-DD34E90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0F9D-E634-4463-A344-2406E0F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F027A-A4F0-45E8-B6A6-2967C8AE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D3591-E451-41FE-B213-9A1FB6B4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70FFB-2437-45E3-8B01-94250F31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8877F-9786-4329-909F-DE392C61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1F1C-AF3A-46A5-8972-2019886D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1E1C9-5644-4BA7-A703-8B583433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B9DA0-9305-4020-B2FA-D3083052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54837-D904-4364-A8E6-69349FE7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C3618-9723-44D9-A0FC-BC0AC9FB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0E1CB-A56D-4F86-8FFF-079CEF09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8981E-41DA-4CD8-9380-5B1162A2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4F619-B5DF-49DB-A453-702B672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13C7D-B4E3-47C9-982C-5AC6CFD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2F9E1-6FF0-4843-AF84-4F154A0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18B1-C70F-405F-9B46-B3CF7FC9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A78-480F-4D54-889C-AB2E31BF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1074A-7B32-4DA5-8451-8B2D4D70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FF5E-9339-41DF-8434-DFE8F070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41EC-0514-4624-A073-882EACF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1C96-B759-477B-B62A-A6078446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65F7-210F-45F3-B71A-4C52BF6A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135C-8AFC-42B7-96ED-C008CDA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E063-D5F8-4898-BE49-68AB513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242F-F11C-48A1-BA73-AB8933D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E92-9504-41F1-85D3-FF2ADE37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50FD-7614-4D21-96FB-BC036908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4E6C-0687-487B-9061-A594E01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367C-0C51-4B9F-B84B-9EF96320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12D-5BFE-4D5F-B1CB-E68BB157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071-5EAF-46C0-9EE5-928E7CD8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AF2A-F5F4-4A47-BA71-A3B05BB6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315D-0951-478C-AF18-5F7C8D79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FD0F-722F-47B3-9726-D2DF3762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CF8B-277A-4503-A08B-5D213A5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68D9-8473-4E6B-BF2F-11AA3E4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1B3-427D-4525-AD56-57E04F9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F827-3443-404C-A3AF-525B0E3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11C3-AF6E-4950-B7F9-945CF594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13387-270C-4ABB-BAE5-4A5AF56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34EB-86B0-409D-BAEB-9C0B328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D683-E20E-4B23-8B5B-79D66439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8241-1083-4041-98CE-8F998798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5C50-1E25-4B4B-A2DC-662F99BC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F604-A13E-4788-AA10-855423EB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42E36-803C-4FD6-98DC-66D06941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8D474-0322-4F70-B1C7-850CE674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EA5-22C6-4492-BBCD-2BCED7EB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FA69-FA32-4216-B5CC-44A1F48D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BAC2-EAE9-438C-9CD1-467EBE19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413B5-6E0C-4B4B-8356-09E1657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FDF68-5161-4FEA-9508-BFB220F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44DA-1000-44D4-B94C-89E3C1D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B6E23-95AE-4E41-B1EA-CF0D7AD9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27E3C-7D15-47B3-B8EC-F1E595E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FBED-BFC5-4D28-9929-FC82B79D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79ED-78CE-4AC8-A497-8E53D046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14986-9E14-4C70-AD99-E05E628B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54E-4468-4E51-93EF-2E153F3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5C7AE-3CE3-49FF-97D8-5463B152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239B-0DDF-4156-861E-6BFA7F98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539D-8609-40C1-9AF2-6E2BBF8C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2EE2A-E19D-46EE-931B-1492E834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64C6-85E5-4BCE-82BD-99D48F09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0715-2F6A-4A09-A45C-71B1187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27F1-EE15-4543-93F1-3D0BE698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E37E-8C40-4933-83C1-88E215AC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6699-1904-43CD-AF62-78E9B4E5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B04A2-400F-43C9-B329-903ED6F8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5A9-25F0-472A-BD20-C70AE9D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63D8E-05F9-4345-9546-C3AD967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24ECC-C699-4DBB-8836-49BB118F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C95DB-4DFE-4812-8799-2C9F547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A9F2-2F7E-45E1-854D-3364C33F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B4DF-577C-40A5-B8E1-8FC70D2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92B2-302F-46FB-9722-AD5C46ED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5FDDD-94B9-481A-B7ED-E17ABC42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DE22-1923-4631-9ADA-4DF9D021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F38B-B44A-416A-A9E3-31890064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B9B2-1A0C-43DB-997C-C6628C15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76A7-E62B-4F12-B5AA-5BC7FD9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BEBC-95B9-4E6E-831B-4D9455D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437D-AB92-4B05-8177-A581ADB5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3F399-D7CC-43E8-A445-0A373FBA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8E7FF-0F6B-4790-AED4-86FA73D7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E54D8-8268-4436-9B17-A21E1CC8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84FC4-C15E-4DDE-881E-0C7B539D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B1867-7BF5-4F41-9436-2BFA959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8F46F-D557-4D2A-9D29-89AAD1FE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6642-06DF-4BE8-8372-FAF07EFE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ACDD8-8E4B-4AF4-9D9D-2FCB7AB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1DD4-5FD1-4271-9E19-B3BB056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91025-1183-4E89-8102-6F1A82E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C65FC-82FB-4205-8F3F-6B8C745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E473A-E0AC-435F-B67E-8D1206F2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205E-0AE7-4B32-AC4D-F075135F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09C6B-E8CD-4621-AD77-6EEA5F40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D7BC1-5914-4464-93EE-1D21A7FD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27E9F-2255-493B-85B5-93D6860F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A20CC-3068-483B-8230-4885DDC0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C76CF-03F9-4481-84D4-D4FE59E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B0B1A-341D-4885-82B4-AC29FE1C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72A-0304-48DF-8B61-58374B04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D2435-FC2B-4292-AD12-CAC3C849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F58B-0C7B-4D89-8EF9-6CD2D16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0E728-2B6C-44B5-B6AC-65A1228D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65C28-8D22-4786-8941-53FD66D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CA675-CF16-41A9-A4FF-103908C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FBF31-4682-4822-8D8D-7AEC5E17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9325B-15BC-46AD-8568-B312A5E6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91342-EF91-4C86-9CAB-6FDDA99D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30C4B-9E84-4028-A319-0170BD56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8D839-8935-42E7-A388-9F1B87B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0ED7-25D7-4FDE-A8C1-2887AF1037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514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515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529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533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537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541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545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647F-B645-4922-AED4-033F5C00D6F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AD5-EC80-4DAD-97A2-1E82DD455E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B871-7D75-4A65-B348-34310DDA5D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4530-35A4-4E27-BDDD-DFAAAAA212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9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C621-EBDC-4407-BB38-E0D1923402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8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8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8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30BD-CEE7-4F1C-A69A-9A549AD01B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2A4-1B47-4C86-A68E-A119AA7DAA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8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8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AFEC-3B37-44A9-8838-D743849C87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30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32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37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443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447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51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1435-72BE-4C47-92A6-A79982E9657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Stencil"/>
              </a:rPr>
              <a:t>Коллекция слов с двумя корнями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2626920" y="52574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ект подготовила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ичкина Ксения (2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”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Ядовитый гри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40000" y="6021360"/>
            <a:ext cx="86360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х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0320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97000" y="312480"/>
            <a:ext cx="7340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, который превращает мясо в фарш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940360" y="5950080"/>
            <a:ext cx="701856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яс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у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392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Жилет, который защищает тело солдата от пуль как бро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292360" y="5876640"/>
            <a:ext cx="84200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ро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и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2051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, который может везде  пройт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580000" y="5950080"/>
            <a:ext cx="3240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з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1908000" y="1600200"/>
            <a:ext cx="482472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овушка для мыш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435640" y="5805360"/>
            <a:ext cx="8780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ыш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35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Аппарат для тушения огн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219280" y="6021360"/>
            <a:ext cx="76294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гн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уш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33116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Разновидность мышей, которые роют  земл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508360" y="6021360"/>
            <a:ext cx="79880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ем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89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728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Аппарат, который всасывает пыл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27280" y="5805360"/>
            <a:ext cx="7774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ы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456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ридумайте сами 3-4 слова с двумя корням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71280" y="4581000"/>
            <a:ext cx="784836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Спасибо за внимание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В русском языке много слов образованных путём сложения  двух корне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01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дает снег –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снегопа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ловек, который идет по дороге -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пеше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ппарат, который сам летает -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самоле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вод по обработке леса - </a:t>
            </a:r>
            <a:r>
              <a:rPr b="0" lang="ru-RU" sz="4000" spc="-1" strike="noStrike">
                <a:solidFill>
                  <a:srgbClr val="336699"/>
                </a:solidFill>
                <a:latin typeface="Verdana"/>
              </a:rPr>
              <a:t>лесозав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19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>
            <a:off x="3780000" y="1773360"/>
            <a:ext cx="115236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042920" y="2997360"/>
            <a:ext cx="1079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556000" y="2997360"/>
            <a:ext cx="86364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1773360"/>
            <a:ext cx="93672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42920" y="4149720"/>
            <a:ext cx="100800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16000" y="5300640"/>
            <a:ext cx="863640" cy="1461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340000" y="4149720"/>
            <a:ext cx="936720" cy="1429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340000" y="5300640"/>
            <a:ext cx="1511280" cy="144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ллекция сл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00000" y="907920"/>
            <a:ext cx="3743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реплавате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чел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иномеханик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емлепаше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хола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сопар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мосв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егох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ертол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доко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одопр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ров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00360" y="907920"/>
            <a:ext cx="40338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топис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зыкозн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емлетряс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мнепа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рел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ноко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хметров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дноднев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ырехэтаж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роконо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нодорож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опередач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9009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Этими словами характеризуем  характер и внешность челове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55972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ивый, труд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юбивый,    леж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ка, велик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шный, слаб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ьный,  цел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ремлённый, серд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ный, туг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ум и т.д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етл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, тем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жий, си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лазый, рыж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лосый, черн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ровый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называется человек у которог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38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о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ый у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ая душ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убые глаз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ёмные волос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44760" y="2133720"/>
            <a:ext cx="380988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ягкосердеч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троум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бродуш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лубоглаз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мноволос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4427640" y="299736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4500720" y="3573360"/>
            <a:ext cx="720720" cy="144720"/>
          </a:xfrm>
          <a:prstGeom prst="rightArrow">
            <a:avLst>
              <a:gd name="adj1" fmla="val 50000"/>
              <a:gd name="adj2" fmla="val 1245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500720" y="4149000"/>
            <a:ext cx="720720" cy="142920"/>
          </a:xfrm>
          <a:prstGeom prst="rightArrow">
            <a:avLst>
              <a:gd name="adj1" fmla="val 50000"/>
              <a:gd name="adj2" fmla="val 12607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4572000" y="4724280"/>
            <a:ext cx="647640" cy="146160"/>
          </a:xfrm>
          <a:prstGeom prst="rightArrow">
            <a:avLst>
              <a:gd name="adj1" fmla="val 50000"/>
              <a:gd name="adj2" fmla="val 1107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00720" y="2421000"/>
            <a:ext cx="718920" cy="144360"/>
          </a:xfrm>
          <a:prstGeom prst="rightArrow">
            <a:avLst>
              <a:gd name="adj1" fmla="val 50000"/>
              <a:gd name="adj2" fmla="val 12450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7772400" cy="4032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Comic Sans MS"/>
              </a:rPr>
              <a:t>Замените одним</a:t>
            </a:r>
            <a:r>
              <a:rPr b="0" i="1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8800" spc="-1" strike="noStrike">
                <a:solidFill>
                  <a:srgbClr val="000000"/>
                </a:solidFill>
                <a:latin typeface="Comic Sans MS"/>
              </a:rPr>
              <a:t>словом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оток воды, который  падает с большой высот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11640" y="6165360"/>
            <a:ext cx="288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446400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Большой чайник  на ножка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372360" y="6021000"/>
            <a:ext cx="76276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960720" cy="44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удно, приводимое в движение паровым двигателем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940000" y="6021000"/>
            <a:ext cx="320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06:30Z</dcterms:created>
  <dc:creator>Admin</dc:creator>
  <dc:description/>
  <dc:language>en-US</dc:language>
  <cp:lastModifiedBy>Admin</cp:lastModifiedBy>
  <dcterms:modified xsi:type="dcterms:W3CDTF">2011-12-13T19:57:25Z</dcterms:modified>
  <cp:revision>18</cp:revision>
  <dc:subject/>
  <dc:title>Слова с двумя корнями </dc:title>
</cp:coreProperties>
</file>